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breeze.wav" ContentType="audio/x-wav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wind.wav" ContentType="audio/x-wav"/>
  <Override PartName="/ppt/media/image16.jpeg" ContentType="image/jpeg"/>
  <Override PartName="/ppt/media/image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13.jpeg" ContentType="image/jpeg"/>
  <Override PartName="/ppt/media/cashreg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9F24-2044-4201-8192-515BE5740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A944-33FD-48CA-A003-07DDF6848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BB0-1FF2-48DA-91B9-0391647B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332-F6B4-48B7-91CF-AA2E702A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2B9-D005-488E-B35D-984C3455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9ED-36B8-48EE-A998-3D0DA57F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A48-7BC9-4C46-AC82-F640DAEB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B8E-DF54-458D-9864-09FF2F8D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D86-2780-4854-AAE1-5A2BAD82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3D4-2F0E-436F-A3B9-8AA33F22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40C-C5CD-4126-8933-DED53CE8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4C1-70D9-4361-9A7A-969171F0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A85-59FA-4C6D-84E0-17D845D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9F9-8A22-4E0D-BD80-7DCC6D3D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C786-8A84-4542-A190-1EA0F9AE1B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3129120" y="2575080"/>
            <a:ext cx="28857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ум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979640" y="4508640"/>
            <a:ext cx="5067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2060"/>
                  </a:solidFill>
                  <a:miter/>
                </a:ln>
                <a:solidFill>
                  <a:srgbClr val="e46c0a"/>
                </a:solidFill>
                <a:latin typeface="Arial"/>
              </a:rPr>
              <a:t>Интеллектуальная игра</a:t>
            </a:r>
            <a:endParaRPr b="0" lang="en-US" sz="1800" spc="1" strike="noStrike">
              <a:ln w="9360">
                <a:solidFill>
                  <a:srgbClr val="002060"/>
                </a:solidFill>
                <a:miter/>
              </a:ln>
              <a:solidFill>
                <a:srgbClr val="e46c0a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34495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Их в Голландии найдёте,</a:t>
            </a:r>
            <a:br>
              <a:rPr sz="2500"/>
            </a:b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Там везде они в почёте.</a:t>
            </a:r>
            <a:br>
              <a:rPr sz="2500"/>
            </a:b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Словно яркие стаканы, цветут</a:t>
            </a:r>
            <a:br>
              <a:rPr sz="2500"/>
            </a:b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в скверах и радуют окружающих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тюльпан"/>
          <p:cNvPicPr/>
          <p:nvPr/>
        </p:nvPicPr>
        <p:blipFill>
          <a:blip r:embed="rId1"/>
          <a:stretch/>
        </p:blipFill>
        <p:spPr>
          <a:xfrm>
            <a:off x="3995640" y="260280"/>
            <a:ext cx="46087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называется сильная буря на море?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843280" y="476280"/>
            <a:ext cx="38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 ту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Picture 5" descr="шторм"/>
          <p:cNvPicPr/>
          <p:nvPr/>
        </p:nvPicPr>
        <p:blipFill>
          <a:blip r:embed="rId1"/>
          <a:stretch/>
        </p:blipFill>
        <p:spPr>
          <a:xfrm>
            <a:off x="1042920" y="1989000"/>
            <a:ext cx="7243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ая рыба была приглашена в няньки  к глупому мышонку из сказки С. Марша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щука"/>
          <p:cNvPicPr/>
          <p:nvPr/>
        </p:nvPicPr>
        <p:blipFill>
          <a:blip r:embed="rId1"/>
          <a:stretch/>
        </p:blipFill>
        <p:spPr>
          <a:xfrm>
            <a:off x="1038240" y="2637000"/>
            <a:ext cx="70675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ак называется повар на кораб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кок"/>
          <p:cNvPicPr/>
          <p:nvPr/>
        </p:nvPicPr>
        <p:blipFill>
          <a:blip r:embed="rId1"/>
          <a:stretch/>
        </p:blipFill>
        <p:spPr>
          <a:xfrm>
            <a:off x="2190600" y="2205000"/>
            <a:ext cx="4762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Где пираты хранили свои сокровищ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сундук"/>
          <p:cNvPicPr/>
          <p:nvPr/>
        </p:nvPicPr>
        <p:blipFill>
          <a:blip r:embed="rId1"/>
          <a:stretch/>
        </p:blipFill>
        <p:spPr>
          <a:xfrm>
            <a:off x="1547640" y="1685880"/>
            <a:ext cx="6337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 помощью какого прибора определяют стороны све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компас"/>
          <p:cNvPicPr/>
          <p:nvPr/>
        </p:nvPicPr>
        <p:blipFill>
          <a:blip r:embed="rId1"/>
          <a:stretch/>
        </p:blipFill>
        <p:spPr>
          <a:xfrm>
            <a:off x="1692360" y="177336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5280" y="170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В каком городе жил волшебник, к которому отправилась Эл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2627280" y="404640"/>
            <a:ext cx="36576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 тур. Сказочны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" name="Picture 6" descr="http://img-fotki.yandex.ru/get/5701/kora-018.3e/0_4c0e4_41ea4382_orig.jpg"/>
          <p:cNvPicPr/>
          <p:nvPr/>
        </p:nvPicPr>
        <p:blipFill>
          <a:blip r:embed="rId3"/>
          <a:stretch/>
        </p:blipFill>
        <p:spPr>
          <a:xfrm>
            <a:off x="662040" y="2708280"/>
            <a:ext cx="79056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ак звали собаку Мальви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Артем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32"/>
          <p:cNvPicPr/>
          <p:nvPr/>
        </p:nvPicPr>
        <p:blipFill>
          <a:blip r:embed="rId1"/>
          <a:stretch/>
        </p:blipFill>
        <p:spPr>
          <a:xfrm>
            <a:off x="2987640" y="1413000"/>
            <a:ext cx="38098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475920"/>
            <a:ext cx="8424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ля мачехи стирала, и горох перебирала по ночам при свечке. А спала у пе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img0.liveinternet.ru/images/attach/c/2/67/849/67849421_F_10_CinderellaNearFireplace.jpg"/>
          <p:cNvPicPr/>
          <p:nvPr/>
        </p:nvPicPr>
        <p:blipFill>
          <a:blip r:embed="rId1"/>
          <a:stretch/>
        </p:blipFill>
        <p:spPr>
          <a:xfrm>
            <a:off x="1508040" y="1700280"/>
            <a:ext cx="59864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полни сказочное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5520" y="1657440"/>
            <a:ext cx="21700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376092"/>
                </a:solidFill>
                <a:latin typeface="Calibri"/>
              </a:rPr>
              <a:t>Сапоги</a:t>
            </a:r>
            <a:r>
              <a:rPr b="0" lang="ru-RU" sz="3000" spc="-1" strike="noStrike">
                <a:solidFill>
                  <a:srgbClr val="4a452a"/>
                </a:solidFill>
                <a:latin typeface="Calibri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631960" y="1628640"/>
            <a:ext cx="295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коро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mediasubs.ru/group/uploads/ho/hochu-vsyo-znyitpoleznyie-sovetyi/image2/gtZmU3ZTh.jpg"/>
          <p:cNvPicPr/>
          <p:nvPr/>
        </p:nvPicPr>
        <p:blipFill>
          <a:blip r:embed="rId1"/>
          <a:stretch/>
        </p:blipFill>
        <p:spPr>
          <a:xfrm>
            <a:off x="4643280" y="2349360"/>
            <a:ext cx="33134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58920" y="1915920"/>
            <a:ext cx="64008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бери лишнее слово: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Calibri"/>
              </a:rPr>
              <a:t>Див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Calibri"/>
              </a:rPr>
              <a:t>ст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Calibri"/>
              </a:rPr>
              <a:t>шк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Calibri"/>
              </a:rPr>
              <a:t>кре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4067280" y="476280"/>
            <a:ext cx="1285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-й ту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4335E-006 L 0.00069 -0.08485 E">
                                      <p:cBhvr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2400" y="312480"/>
            <a:ext cx="299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ков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img-fotki.yandex.ru/get/5803/ivan-duralei.c/0_614f2_86047495_XL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4356000" y="47628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46c0a"/>
                </a:solidFill>
                <a:latin typeface="Arial"/>
              </a:rPr>
              <a:t>самолё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18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скатерть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367240" y="5302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Arial"/>
              </a:rPr>
              <a:t>самобра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cs4468.userapi.com/u2206189/-5/x_39cb2fa7.jpg"/>
          <p:cNvPicPr/>
          <p:nvPr/>
        </p:nvPicPr>
        <p:blipFill>
          <a:blip r:embed="rId1"/>
          <a:stretch/>
        </p:blipFill>
        <p:spPr>
          <a:xfrm>
            <a:off x="1763640" y="2276640"/>
            <a:ext cx="575316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4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Calibri"/>
              </a:rPr>
              <a:t>Зимние сказ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 rot="10800000">
            <a:off x="511920" y="5433120"/>
            <a:ext cx="17172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2photo.ru/uploads/posts/4268/20081230/unknown/30_12_2008_0943119001230666257_unknown.jpg"/>
          <p:cNvPicPr/>
          <p:nvPr/>
        </p:nvPicPr>
        <p:blipFill>
          <a:blip r:embed="rId1"/>
          <a:stretch/>
        </p:blipFill>
        <p:spPr>
          <a:xfrm>
            <a:off x="216000" y="333360"/>
            <a:ext cx="8340480" cy="625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TextBox 1"/>
          <p:cNvSpPr/>
          <p:nvPr/>
        </p:nvSpPr>
        <p:spPr>
          <a:xfrm>
            <a:off x="216000" y="2276640"/>
            <a:ext cx="83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17375e"/>
                </a:solidFill>
                <a:latin typeface="Arial"/>
              </a:rPr>
              <a:t>Зимние сказ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920" y="981000"/>
            <a:ext cx="403236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«Тепло ли тебе красавица?»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Не хочется Насте старика огорчать: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«Тепло-тепло , батюшка», -шепчет, 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А у самой зуб на зуб не попада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teremok.in/images/Morozko011.jpg"/>
          <p:cNvPicPr/>
          <p:nvPr/>
        </p:nvPicPr>
        <p:blipFill>
          <a:blip r:embed="rId1"/>
          <a:stretch/>
        </p:blipFill>
        <p:spPr>
          <a:xfrm>
            <a:off x="3968640" y="282600"/>
            <a:ext cx="4564080" cy="60991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1631880" y="56545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оро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352908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Идут ведра по деревне, народ дивится,</a:t>
            </a:r>
            <a:br>
              <a:rPr sz="3200"/>
            </a:b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а Емеля идет сзади, посмеиваетс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artlib.ru/objects/gallery_402/artlib_gallery-201426-b.jpg"/>
          <p:cNvPicPr/>
          <p:nvPr/>
        </p:nvPicPr>
        <p:blipFill>
          <a:blip r:embed="rId1"/>
          <a:stretch/>
        </p:blipFill>
        <p:spPr>
          <a:xfrm>
            <a:off x="4067280" y="692280"/>
            <a:ext cx="4548240" cy="5452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125640" y="5475240"/>
            <a:ext cx="37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По щучьему ве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3228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от лисичка-сестричка сидит да потихоньку и говорит: «Битый небитого везе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old.prodalit.ru/images/490000/489528.jpg"/>
          <p:cNvPicPr/>
          <p:nvPr/>
        </p:nvPicPr>
        <p:blipFill>
          <a:blip r:embed="rId1"/>
          <a:stretch/>
        </p:blipFill>
        <p:spPr>
          <a:xfrm>
            <a:off x="3924360" y="109440"/>
            <a:ext cx="5103720" cy="65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374472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Это была высокая, статная , величавая женщина в ослепительно белой шубе и шапке из чистого снега. Мальчик сразу узнал 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dic.academic.ru/pictures/enc_pictures/i_425.jpg"/>
          <p:cNvPicPr/>
          <p:nvPr/>
        </p:nvPicPr>
        <p:blipFill>
          <a:blip r:embed="rId1"/>
          <a:stretch/>
        </p:blipFill>
        <p:spPr>
          <a:xfrm>
            <a:off x="3995640" y="476280"/>
            <a:ext cx="4411800" cy="5995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08000" y="6021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Снежная корол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381636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Рукодельница идет дальше. Смотрит: перед ней сидит старик…седой-седой, сидит он на ледяной скамеечке да снежные комочки ест; тряхнет головой- от волос иней сыплется; духом дохнет. Валит пар густ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alexgetti.narod.ru/imgu039.jpg"/>
          <p:cNvPicPr/>
          <p:nvPr/>
        </p:nvPicPr>
        <p:blipFill>
          <a:blip r:embed="rId1"/>
          <a:stretch/>
        </p:blipFill>
        <p:spPr>
          <a:xfrm>
            <a:off x="4241880" y="692280"/>
            <a:ext cx="43956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374328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 одной маленькой деревушке жила злая и скупая женщина с дочкой и падчерицей. Дочку она любила, а падчерица ничем ей угодить не могла. Однажды лютой зимой мачеха отправила падчерицу в лес за подснежник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ttp://s12.radikal.ru/i185/0912/c9/5433d0bf057e.jpg"/>
          <p:cNvPicPr/>
          <p:nvPr/>
        </p:nvPicPr>
        <p:blipFill>
          <a:blip r:embed="rId1"/>
          <a:stretch/>
        </p:blipFill>
        <p:spPr>
          <a:xfrm>
            <a:off x="4322880" y="333360"/>
            <a:ext cx="412884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4965120" y="605304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Двенадцать меся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Чаш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Тарел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Хле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Вил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5.20231E-007 L 0.00694 -0.08439 E">
                                      <p:cBhvr>
                                        <p:cTn id="6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Бара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Индю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Кор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Лошад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8.67052E-007 L -0.00434 -0.09295 E">
                                      <p:cBhvr>
                                        <p:cTn id="81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-0.01202 L -0.00747 -0.08509 E">
                                      <p:cBhvr>
                                        <p:cTn id="83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Морков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Свёкл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Крыжовни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Calibri"/>
              </a:rPr>
              <a:t>Картофел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16185E-006 L 0.00173 -0.07307 E">
                                      <p:cBhvr>
                                        <p:cTn id="102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0920" y="1773000"/>
            <a:ext cx="844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Ветка в гроздья одета фиолетового цв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340000" y="333360"/>
            <a:ext cx="42958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тур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чный хоров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5" descr="сирень"/>
          <p:cNvPicPr/>
          <p:nvPr/>
        </p:nvPicPr>
        <p:blipFill>
          <a:blip r:embed="rId1"/>
          <a:srcRect l="0" t="0" r="0" b="12598"/>
          <a:stretch/>
        </p:blipFill>
        <p:spPr>
          <a:xfrm>
            <a:off x="2050920" y="2781360"/>
            <a:ext cx="53373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0215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Вот чудесные цветы небывалой красоты.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Но нередко льются слезы тех , кто рвет 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роза"/>
          <p:cNvPicPr/>
          <p:nvPr/>
        </p:nvPicPr>
        <p:blipFill>
          <a:blip r:embed="rId1"/>
          <a:stretch/>
        </p:blipFill>
        <p:spPr>
          <a:xfrm>
            <a:off x="2595600" y="1413000"/>
            <a:ext cx="40734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3240" y="-360"/>
            <a:ext cx="47242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76092"/>
                </a:solidFill>
                <a:latin typeface="Calibri"/>
              </a:rPr>
              <a:t>Цветочек этот голубой </a:t>
            </a:r>
            <a:br>
              <a:rPr sz="2500"/>
            </a:br>
            <a:r>
              <a:rPr b="1" lang="ru-RU" sz="2500" spc="-1" strike="noStrike">
                <a:solidFill>
                  <a:srgbClr val="376092"/>
                </a:solidFill>
                <a:latin typeface="Calibri"/>
              </a:rPr>
              <a:t>Напоминает нам с тобой</a:t>
            </a:r>
            <a:br>
              <a:rPr sz="2500"/>
            </a:br>
            <a:r>
              <a:rPr b="1" lang="ru-RU" sz="2500" spc="-1" strike="noStrike">
                <a:solidFill>
                  <a:srgbClr val="376092"/>
                </a:solidFill>
                <a:latin typeface="Calibri"/>
              </a:rPr>
              <a:t>О небе — чистом-чистом,</a:t>
            </a:r>
            <a:br>
              <a:rPr sz="2500"/>
            </a:br>
            <a:r>
              <a:rPr b="1" lang="ru-RU" sz="2500" spc="-1" strike="noStrike">
                <a:solidFill>
                  <a:srgbClr val="376092"/>
                </a:solidFill>
                <a:latin typeface="Calibri"/>
              </a:rPr>
              <a:t>И солнышке лучистом</a:t>
            </a:r>
            <a:r>
              <a:rPr b="0" lang="ru-RU" sz="2500" spc="-1" strike="noStrike">
                <a:solidFill>
                  <a:srgbClr val="376092"/>
                </a:solidFill>
                <a:latin typeface="Calibri"/>
              </a:rPr>
              <a:t>!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незабудки"/>
          <p:cNvPicPr/>
          <p:nvPr/>
        </p:nvPicPr>
        <p:blipFill>
          <a:blip r:embed="rId1"/>
          <a:stretch/>
        </p:blipFill>
        <p:spPr>
          <a:xfrm>
            <a:off x="1547640" y="1700280"/>
            <a:ext cx="64962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0872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Как зовут меня скажи-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Часто прячусь я во ржи.</a:t>
            </a:r>
            <a:br>
              <a:rPr sz="2800"/>
            </a:b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Скромный синеглазый полевой цвет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VASILEK"/>
          <p:cNvPicPr/>
          <p:nvPr/>
        </p:nvPicPr>
        <p:blipFill>
          <a:blip r:embed="rId1"/>
          <a:stretch/>
        </p:blipFill>
        <p:spPr>
          <a:xfrm>
            <a:off x="1619280" y="1773360"/>
            <a:ext cx="6265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20:57:39Z</dcterms:created>
  <dc:creator>Dima</dc:creator>
  <dc:description/>
  <dc:language>en-US</dc:language>
  <cp:lastModifiedBy>Сергей</cp:lastModifiedBy>
  <dcterms:modified xsi:type="dcterms:W3CDTF">2013-01-25T08:17:06Z</dcterms:modified>
  <cp:revision>66</cp:revision>
  <dc:subject/>
  <dc:title> </dc:title>
</cp:coreProperties>
</file>