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AF3F-0D26-4596-9ECC-B2F06F18DB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4CE0-9D66-4F3A-8C24-F7E168604D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B146-95E4-43DA-95E1-040CF60974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D0DE-6111-487A-AA50-9F2B720F52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21C2-4F06-4AA0-9A7D-0B35974332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E2D5-BE2F-49D9-ACEE-C92A8C1E01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234-0708-46B5-864C-014B42755A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A886-F491-4404-B058-A3220387CC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6ED0-F20D-4ECF-8A8B-A3AF46CA5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E12E-EA75-46F9-9783-75729665BB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43C0-614D-4996-9C61-752A6DE5A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B4F-ADD0-45CF-8A37-F8590AEE0C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892-F988-41FC-B52D-AC63588F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817-B85F-461A-8496-4261500F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C10-20F8-4360-8B00-F8C8AEDE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530-BE21-4122-943B-D148C7B2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A87-55AB-48EA-9A47-37791406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EE5-37F3-4954-B118-FAEAF371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F4F0-062E-4B1A-9D5A-781F4F9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63D2-DC68-4CDC-8D14-5D79C23E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A6CB-27F7-40E3-9C25-CE2A0305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237C-A2CA-40D6-BC64-614D1250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0328-DCBC-4EFD-A2B6-49F59BD5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F5A-AC52-4142-886E-509C7619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C199-5DC0-4828-92E6-A8859D4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6DCC-1A3B-419E-8677-5ADCFD6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5C80-2A7C-48FE-ACF2-DB4AC283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C29E-24A5-406C-BA59-ECDF1A46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860-185D-4C05-B4D9-B08A0129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732-61A2-4E56-99F0-B4E22E0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D6E-3588-48C6-A885-A0A04A97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E89-A101-462B-B1E4-AF8833F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4D8-FD07-48DE-B4AD-320F2DAA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925-C701-46F5-A8B8-64ACAA4F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40F-50CE-432E-BB1E-8EE1DAF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612-BE98-4A97-A6A5-F43CF65F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9597"/>
            </a:gs>
            <a:gs pos="100000">
              <a:srgbClr val="2b88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366-3A1C-4D42-AEDB-CA94EF02A9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9597"/>
            </a:gs>
            <a:gs pos="100000">
              <a:srgbClr val="2b88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D85-9F02-4933-B297-AD1FA9D956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eo.1september.ru/" TargetMode="External"/><Relationship Id="rId2" Type="http://schemas.openxmlformats.org/officeDocument/2006/relationships/hyperlink" Target="http://www.geoport.ru/" TargetMode="External"/><Relationship Id="rId3" Type="http://schemas.openxmlformats.org/officeDocument/2006/relationships/hyperlink" Target="http://www.geosite.com.ru/" TargetMode="External"/><Relationship Id="rId4" Type="http://schemas.openxmlformats.org/officeDocument/2006/relationships/hyperlink" Target="http://www.geoman.ru/" TargetMode="External"/><Relationship Id="rId5" Type="http://schemas.openxmlformats.org/officeDocument/2006/relationships/hyperlink" Target="http://www.rgo.ru/" TargetMode="External"/><Relationship Id="rId6" Type="http://schemas.openxmlformats.org/officeDocument/2006/relationships/hyperlink" Target="http://www.georus.by.ru/" TargetMode="External"/><Relationship Id="rId7" Type="http://schemas.openxmlformats.org/officeDocument/2006/relationships/hyperlink" Target="http://geo2000.nm.ru/" TargetMode="External"/><Relationship Id="rId8" Type="http://schemas.openxmlformats.org/officeDocument/2006/relationships/hyperlink" Target="http://geo-tur.narod.ru/" TargetMode="External"/><Relationship Id="rId9" Type="http://schemas.openxmlformats.org/officeDocument/2006/relationships/hyperlink" Target="http://www.mirkart.ru/" TargetMode="External"/><Relationship Id="rId10" Type="http://schemas.openxmlformats.org/officeDocument/2006/relationships/hyperlink" Target="http://www.mojgorod.ru/" TargetMode="External"/><Relationship Id="rId11" Type="http://schemas.openxmlformats.org/officeDocument/2006/relationships/hyperlink" Target="http://www.wgeo.ru/" TargetMode="External"/><Relationship Id="rId12" Type="http://schemas.openxmlformats.org/officeDocument/2006/relationships/hyperlink" Target="http://www.flags.ru/" TargetMode="External"/><Relationship Id="rId13" Type="http://schemas.openxmlformats.org/officeDocument/2006/relationships/hyperlink" Target="http://www.karty.narod.ru/" TargetMode="External"/><Relationship Id="rId14" Type="http://schemas.openxmlformats.org/officeDocument/2006/relationships/hyperlink" Target="http://soils.narod.ru/" TargetMode="External"/><Relationship Id="rId15" Type="http://schemas.openxmlformats.org/officeDocument/2006/relationships/hyperlink" Target="http://www.meteoweb.ru/" TargetMode="External"/><Relationship Id="rId16" Type="http://schemas.openxmlformats.org/officeDocument/2006/relationships/hyperlink" Target="http://www.fmm.ru/" TargetMode="External"/><Relationship Id="rId17" Type="http://schemas.openxmlformats.org/officeDocument/2006/relationships/hyperlink" Target="http://www.outdoors.ru/general/" TargetMode="External"/><Relationship Id="rId18" Type="http://schemas.openxmlformats.org/officeDocument/2006/relationships/hyperlink" Target="http://www.rusngo.ru/news/index.shtml" TargetMode="External"/><Relationship Id="rId19" Type="http://schemas.openxmlformats.org/officeDocument/2006/relationships/hyperlink" Target="http://iklarin.narod.ru/" TargetMode="External"/><Relationship Id="rId20" Type="http://schemas.openxmlformats.org/officeDocument/2006/relationships/hyperlink" Target="http://geo.historic.ru/" TargetMode="External"/><Relationship Id="rId21" Type="http://schemas.openxmlformats.org/officeDocument/2006/relationships/hyperlink" Target="http://www.terrus.ru/" TargetMode="External"/><Relationship Id="rId22" Type="http://schemas.openxmlformats.org/officeDocument/2006/relationships/hyperlink" Target="http://afromberg.narod.ru/" TargetMode="External"/><Relationship Id="rId23" Type="http://schemas.openxmlformats.org/officeDocument/2006/relationships/hyperlink" Target="http://geo.metodist.ru/" TargetMode="External"/><Relationship Id="rId24" Type="http://schemas.openxmlformats.org/officeDocument/2006/relationships/hyperlink" Target="http://promeco.hl.ru/stati/" TargetMode="External"/><Relationship Id="rId25" Type="http://schemas.openxmlformats.org/officeDocument/2006/relationships/hyperlink" Target="http://europa.km.ru/" TargetMode="External"/><Relationship Id="rId26" Type="http://schemas.openxmlformats.org/officeDocument/2006/relationships/hyperlink" Target="http://kinderino.ru/vokrug/" TargetMode="External"/><Relationship Id="rId27" Type="http://schemas.openxmlformats.org/officeDocument/2006/relationships/hyperlink" Target="http://atlantida.agava.ru/weather" TargetMode="External"/><Relationship Id="rId28" Type="http://schemas.openxmlformats.org/officeDocument/2006/relationships/hyperlink" Target="http://www.geo.web.ru/" TargetMode="External"/><Relationship Id="rId29" Type="http://schemas.openxmlformats.org/officeDocument/2006/relationships/hyperlink" Target="http://www.yspu.yar.ru/vestnik/uchenue_praktikam/4_4/" TargetMode="External"/><Relationship Id="rId30" Type="http://schemas.openxmlformats.org/officeDocument/2006/relationships/hyperlink" Target="http://scholar.urc.ac.ru:8001/LANG=ru/courses/Geo_rus/index.html.ru" TargetMode="External"/><Relationship Id="rId31" Type="http://schemas.openxmlformats.org/officeDocument/2006/relationships/hyperlink" Target="http://www.geonews.ru/" TargetMode="External"/><Relationship Id="rId32" Type="http://schemas.openxmlformats.org/officeDocument/2006/relationships/hyperlink" Target="http://www.catalogmineralov.ru/" TargetMode="External"/><Relationship Id="rId33" Type="http://schemas.openxmlformats.org/officeDocument/2006/relationships/hyperlink" Target="http://www.myplanet-earth.com/" TargetMode="Externa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4;&#1072;&#1090;&#1077;&#1088;&#1080;&#1072;&#1083;&#1099;/&#1075;&#1088;&#1072;&#1092;&#1080;&#1082;.xls" TargetMode="External"/><Relationship Id="rId2" Type="http://schemas.openxmlformats.org/officeDocument/2006/relationships/hyperlink" Target="file:///&#1084;&#1072;&#1090;&#1077;&#1088;&#1080;&#1072;&#1083;&#1099;/&#1082;&#1083;&#1080;&#1084;&#1072;&#1090;&#1086;&#1075;&#1088;&#1072;&#1084;&#1084;&#1072;.xls" TargetMode="External"/><Relationship Id="rId3" Type="http://schemas.openxmlformats.org/officeDocument/2006/relationships/hyperlink" Target="file:///&#1084;&#1072;&#1090;&#1077;&#1088;&#1080;&#1072;&#1083;&#1099;/&#1082;&#1088;&#1086;&#1089;&#1089;&#1074;&#1086;&#1088;&#1076;.xls" TargetMode="External"/><Relationship Id="rId4" Type="http://schemas.openxmlformats.org/officeDocument/2006/relationships/hyperlink" Target="file:///&#1084;&#1072;&#1090;&#1077;&#1088;&#1080;&#1072;&#1083;&#1099;/&#1080;&#1085;&#1090;&#1077;&#1075;&#1088;&#1072;&#1094;&#1080;&#1103;%20&#1052;&#1061;/&#1058;&#1045;&#1057;&#1058;.xls" TargetMode="External"/><Relationship Id="rId5" Type="http://schemas.openxmlformats.org/officeDocument/2006/relationships/hyperlink" Target="file:///&#1084;&#1072;&#1090;&#1077;&#1088;&#1080;&#1072;&#1083;&#1099;/&#1091;&#1088;&#1086;&#1082;%2010.doc" TargetMode="External"/><Relationship Id="rId6" Type="http://schemas.openxmlformats.org/officeDocument/2006/relationships/hyperlink" Target="file:///&#1084;&#1072;&#1090;&#1077;&#1088;&#1080;&#1072;&#1083;&#1099;/&#1080;&#1085;&#1090;&#1077;&#1075;&#1088;&#1072;&#1094;&#1080;&#1103;%20&#1052;&#1061;/&#1058;&#1045;&#1057;&#1058;%20&#1052;&#1093;.doc" TargetMode="External"/><Relationship Id="rId7" Type="http://schemas.openxmlformats.org/officeDocument/2006/relationships/hyperlink" Target="file:///&#1084;&#1072;&#1090;&#1077;&#1088;&#1080;&#1072;&#1083;&#1099;/&#1055;&#1088;&#1077;&#1079;&#1077;&#1085;&#1090;&#1072;&#1094;&#1080;&#1103;%20&#1058;&#1048;&#1055;&#1054;&#1051;&#1054;&#1043;&#1048;&#1071;%20&#1057;&#1058;&#1056;&#1040;&#1053;%20&#1052;&#1048;&#1056;&#1040;.ppt" TargetMode="External"/><Relationship Id="rId8" Type="http://schemas.openxmlformats.org/officeDocument/2006/relationships/hyperlink" Target="file:///&#1084;&#1072;&#1090;&#1077;&#1088;&#1080;&#1072;&#1083;&#1099;/&#1080;&#1085;&#1090;&#1077;&#1075;&#1088;&#1072;&#1094;&#1080;&#1103;%20&#1052;&#1061;/&#1043;&#1083;&#1086;&#1073;&#1072;&#1083;&#1080;&#1079;&#1072;&#1094;&#1080;&#1103;%20&#1080;%20&#1080;&#1085;&#1090;&#1077;&#1075;&#1088;&#1072;&#1094;&#1080;&#1103;%20&#1084;&#1080;&#1088;&#1086;&#1074;&#1086;&#1075;&#1086;%20&#1093;&#1086;&#1079;&#1103;&#1081;&#1089;&#1090;&#1074;&#1072;%20&#1074;%20&#1101;&#1087;&#1086;&#1093;&#1091;%20&#1053;&#1058;&#1056;.ppt" TargetMode="External"/><Relationship Id="rId9" Type="http://schemas.openxmlformats.org/officeDocument/2006/relationships/hyperlink" Target="file:///&#1084;&#1072;&#1090;&#1077;&#1088;&#1080;&#1072;&#1083;&#1099;/&#1057;&#1077;&#1088;&#1091;&#1075;&#1085;&#1080;&#1085;&#1072;.ppt" TargetMode="External"/><Relationship Id="rId10" Type="http://schemas.openxmlformats.org/officeDocument/2006/relationships/hyperlink" Target="file:///&#1084;&#1072;&#1090;&#1077;&#1088;&#1080;&#1072;&#1083;&#1099;/&#1080;&#1085;&#1090;&#1077;&#1075;&#1088;&#1072;&#1094;&#1080;&#1103;%20&#1052;&#1061;/&#1054;&#1055;&#1045;&#1050;.bmp" TargetMode="External"/><Relationship Id="rId11" Type="http://schemas.openxmlformats.org/officeDocument/2006/relationships/hyperlink" Target="file:///&#1084;&#1072;&#1090;&#1077;&#1088;&#1080;&#1072;&#1083;&#1099;/&#1048;&#1079;&#1086;&#1073;&#1088;&#1072;&#1078;&#1077;&#1085;&#1080;&#1077;%20005.JPG" TargetMode="External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07280" cy="28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спользование информационных компьютерных технологий в обучении географ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780000" y="4365720"/>
            <a:ext cx="475128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нтернет-ресурсы по географ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39099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geo.1september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geoport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www.geosite.com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www.geoman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www.rgo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georus.by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geo2000.nm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://geo-tur.narod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http://www.mirkart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http://www.mojgorod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http://www.wgeo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http://www.flags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http://www.karty.narod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http://soils.narod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5"/>
              </a:rPr>
              <a:t>http://www.meteoweb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6"/>
              </a:rPr>
              <a:t>http://www.fmm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7"/>
              </a:rPr>
              <a:t>http://www.outdoors.ru/general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8"/>
              </a:rPr>
              <a:t>http://www.rusngo.ru/news/index.s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9"/>
              </a:rPr>
              <a:t>http://iklarin.narod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00720" y="1341000"/>
            <a:ext cx="434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0"/>
              </a:rPr>
              <a:t>http://geo.historic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1"/>
              </a:rPr>
              <a:t>http://www.terrus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2"/>
              </a:rPr>
              <a:t>http://afromberg.narod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3"/>
              </a:rPr>
              <a:t>http://geo.metodist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4"/>
              </a:rPr>
              <a:t>http://promeco.hl.ru/stati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5"/>
              </a:rPr>
              <a:t>http://europa.km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6"/>
              </a:rPr>
              <a:t>http://kinderino.ru/vokru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7"/>
              </a:rPr>
              <a:t>http://atlantida.agava.ru/weath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8"/>
              </a:rPr>
              <a:t>http://www.geo.web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9"/>
              </a:rPr>
              <a:t>http://www.yspu.yar.ru/vestnik/uchenue_praktikam/4_4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30"/>
              </a:rPr>
              <a:t>http://scholar.urc.ac.ru:8001/LANG=ru/courses/Geo_rus/index.html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31"/>
              </a:rPr>
              <a:t>http://www.geonews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32"/>
              </a:rPr>
              <a:t>http://www.catalogmineralov.r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33"/>
              </a:rPr>
              <a:t>http://www.myplanet-earth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katastroffi.narod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library.thinkquest.org/27130/ru/start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slovari.yandex.ru/dict/geograp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spelestology.narod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chronicl.chat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national-geographic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7956720" y="6308640"/>
            <a:ext cx="936360" cy="360360"/>
          </a:xfrm>
          <a:prstGeom prst="rect">
            <a:avLst/>
          </a:prstGeom>
          <a:solidFill>
            <a:srgbClr val="6fa9b7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j0292982"/>
          <p:cNvPicPr/>
          <p:nvPr/>
        </p:nvPicPr>
        <p:blipFill>
          <a:blip r:embed="rId1"/>
          <a:stretch/>
        </p:blipFill>
        <p:spPr>
          <a:xfrm>
            <a:off x="5651640" y="189000"/>
            <a:ext cx="3284280" cy="32432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1680" y="342900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Т позволяют представить учебный материал в разнообразных формах и содержании, что способствует повышению эффективности учебного процесса, оптимизации деятельности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тодические ц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изация и дифференциация процесса обучени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 знаний учащихся  с обратной связью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уществление самоконтроля с последующей коррекцией своих знани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ведение тренировки и самоподготовки учащимися в процессе усвоения учебного материал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свобождение учебного времени за счёт выполнения на компьютере трудоёмких вычислени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ышение качества усвоения за счёт удобства работы с информацией, визуализации изучаемого материала, моделирования исследуемых процессо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иление мотивации обучения благодаря использованию изобразительных средст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владение стратегией усвоения учебного материал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е определённого типа мышления (наглядно-образного, теоретического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ирование умения принимать оптимальные или вариативные решения в сложной ситуаци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ирование культуры учебной деятельности и информационной культуры обучаемого и обучающег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ункции учител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62881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я учебного процесса на уровне класса и предмета в целом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я внутриклассной активизации и координации работы учащих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блюдение за работой школьников, оказание индивидуальной помощи с использованием визуальных и слуховых образ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ка компонентов информационной среды в соответствии с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ным содержанием учебного кур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j0292020"/>
          <p:cNvPicPr/>
          <p:nvPr/>
        </p:nvPicPr>
        <p:blipFill>
          <a:blip r:embed="rId1"/>
          <a:stretch/>
        </p:blipFill>
        <p:spPr>
          <a:xfrm>
            <a:off x="5867280" y="1557360"/>
            <a:ext cx="291636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6"/>
          <p:cNvSpPr/>
          <p:nvPr/>
        </p:nvSpPr>
        <p:spPr>
          <a:xfrm flipH="1">
            <a:off x="610920" y="2708280"/>
            <a:ext cx="1368360" cy="288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правления использования компьютерных технолог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0" name="Group 24"/>
          <p:cNvGrpSpPr/>
          <p:nvPr/>
        </p:nvGrpSpPr>
        <p:grpSpPr>
          <a:xfrm>
            <a:off x="395280" y="1773360"/>
            <a:ext cx="8569440" cy="4608360"/>
            <a:chOff x="395280" y="1773360"/>
            <a:chExt cx="8569440" cy="4608360"/>
          </a:xfrm>
        </p:grpSpPr>
        <p:sp>
          <p:nvSpPr>
            <p:cNvPr id="401" name="Line 13"/>
            <p:cNvSpPr/>
            <p:nvPr/>
          </p:nvSpPr>
          <p:spPr>
            <a:xfrm flipH="1">
              <a:off x="610920" y="2708280"/>
              <a:ext cx="1368360" cy="2881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 flipV="1">
              <a:off x="2700360" y="2349000"/>
              <a:ext cx="3024000" cy="35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AutoShape 6"/>
            <p:cNvSpPr/>
            <p:nvPr/>
          </p:nvSpPr>
          <p:spPr>
            <a:xfrm>
              <a:off x="684360" y="1916280"/>
              <a:ext cx="7848360" cy="424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Rectangle 7"/>
            <p:cNvSpPr/>
            <p:nvPr/>
          </p:nvSpPr>
          <p:spPr>
            <a:xfrm>
              <a:off x="826920" y="1773360"/>
              <a:ext cx="2870280" cy="936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пьютерные технологи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Rectangle 8"/>
            <p:cNvSpPr/>
            <p:nvPr/>
          </p:nvSpPr>
          <p:spPr>
            <a:xfrm>
              <a:off x="5724360" y="1773360"/>
              <a:ext cx="3095640" cy="96516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Демонстрация материалов: наглядных пособий и карт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Rectangle 9"/>
            <p:cNvSpPr/>
            <p:nvPr/>
          </p:nvSpPr>
          <p:spPr>
            <a:xfrm>
              <a:off x="395280" y="5589720"/>
              <a:ext cx="2933640" cy="7747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амостоятельная работа учащихс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Rectangle 10"/>
            <p:cNvSpPr/>
            <p:nvPr/>
          </p:nvSpPr>
          <p:spPr>
            <a:xfrm>
              <a:off x="2556000" y="3141720"/>
              <a:ext cx="2927160" cy="58104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каз процессо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Rectangle 11"/>
            <p:cNvSpPr/>
            <p:nvPr/>
          </p:nvSpPr>
          <p:spPr>
            <a:xfrm>
              <a:off x="395280" y="4797360"/>
              <a:ext cx="2933640" cy="58284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оверка знан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Line 12"/>
            <p:cNvSpPr/>
            <p:nvPr/>
          </p:nvSpPr>
          <p:spPr>
            <a:xfrm>
              <a:off x="1979640" y="2708280"/>
              <a:ext cx="2016000" cy="433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>
              <a:off x="1979640" y="2708280"/>
              <a:ext cx="360360" cy="20890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Rectangle 17"/>
            <p:cNvSpPr/>
            <p:nvPr/>
          </p:nvSpPr>
          <p:spPr>
            <a:xfrm>
              <a:off x="6877080" y="2997360"/>
              <a:ext cx="2087640" cy="3384360"/>
            </a:xfrm>
            <a:prstGeom prst="rect">
              <a:avLst/>
            </a:prstGeom>
            <a:solidFill>
              <a:srgbClr val="6fa9b7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татичные 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динамичные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лоск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 объемные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эрокосмические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 фотоснимки,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хемы,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рафики и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диаграммы,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ильмы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терактивные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арт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Rectangle 18"/>
            <p:cNvSpPr/>
            <p:nvPr/>
          </p:nvSpPr>
          <p:spPr>
            <a:xfrm>
              <a:off x="3419640" y="4221000"/>
              <a:ext cx="3311280" cy="2160720"/>
            </a:xfrm>
            <a:prstGeom prst="rect">
              <a:avLst/>
            </a:prstGeom>
            <a:solidFill>
              <a:srgbClr val="6fa9b7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строение картографи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ческих проекц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строение изолиний и ста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истических поверхност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ьютерное составле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ие географических карт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опоставление явлений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4500720" y="3716280"/>
              <a:ext cx="0" cy="5047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Line 20"/>
            <p:cNvSpPr/>
            <p:nvPr/>
          </p:nvSpPr>
          <p:spPr>
            <a:xfrm>
              <a:off x="7667640" y="2708280"/>
              <a:ext cx="0" cy="2890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15" name="Picture 21" descr="j0335112"/>
            <p:cNvPicPr/>
            <p:nvPr/>
          </p:nvPicPr>
          <p:blipFill>
            <a:blip r:embed="rId1"/>
            <a:stretch/>
          </p:blipFill>
          <p:spPr>
            <a:xfrm>
              <a:off x="539640" y="2852640"/>
              <a:ext cx="1871640" cy="187164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</p:grpSp>
      <p:sp>
        <p:nvSpPr>
          <p:cNvPr id="416" name="Line 25"/>
          <p:cNvSpPr/>
          <p:nvPr/>
        </p:nvSpPr>
        <p:spPr>
          <a:xfrm flipV="1">
            <a:off x="3708360" y="2349360"/>
            <a:ext cx="2016000" cy="216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льтимедиа-программ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18" name="Group 30"/>
          <p:cNvGrpSpPr/>
          <p:nvPr/>
        </p:nvGrpSpPr>
        <p:grpSpPr>
          <a:xfrm>
            <a:off x="542880" y="1200240"/>
            <a:ext cx="8137440" cy="5661000"/>
            <a:chOff x="542880" y="1200240"/>
            <a:chExt cx="8137440" cy="5661000"/>
          </a:xfrm>
        </p:grpSpPr>
        <p:sp>
          <p:nvSpPr>
            <p:cNvPr id="419" name="AutoShape 5"/>
            <p:cNvSpPr/>
            <p:nvPr/>
          </p:nvSpPr>
          <p:spPr>
            <a:xfrm>
              <a:off x="542880" y="1200240"/>
              <a:ext cx="813744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AutoShape 6"/>
            <p:cNvSpPr/>
            <p:nvPr/>
          </p:nvSpPr>
          <p:spPr>
            <a:xfrm>
              <a:off x="2311560" y="1320840"/>
              <a:ext cx="4600440" cy="838080"/>
            </a:xfrm>
            <a:prstGeom prst="roundRect">
              <a:avLst>
                <a:gd name="adj" fmla="val 16667"/>
              </a:avLst>
            </a:prstGeom>
            <a:solidFill>
              <a:srgbClr val="5a5c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ВЫДЫ КОМПЬЮТЕРНЫХ ПРОГРАММ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AutoShape 7"/>
            <p:cNvSpPr/>
            <p:nvPr/>
          </p:nvSpPr>
          <p:spPr>
            <a:xfrm rot="10800000">
              <a:off x="1015920" y="2637000"/>
              <a:ext cx="588960" cy="3589200"/>
            </a:xfrm>
            <a:custGeom>
              <a:avLst/>
              <a:gdLst>
                <a:gd name="textAreaLeft" fmla="*/ 28440 w 588960"/>
                <a:gd name="textAreaRight" fmla="*/ 560520 w 588960"/>
                <a:gd name="textAreaTop" fmla="*/ 28440 h 3589200"/>
                <a:gd name="textAreaBottom" fmla="*/ 3560760 h 3589200"/>
              </a:gdLst>
              <a:ahLst/>
              <a:rect l="textAreaLeft" t="textAreaTop" r="textAreaRight" b="textAreaBottom"/>
              <a:pathLst>
                <a:path w="21600" h="131566">
                  <a:moveTo>
                    <a:pt x="3600" y="0"/>
                  </a:moveTo>
                  <a:arcTo wR="3600" hR="3600" stAng="16200000" swAng="-5400000"/>
                  <a:lnTo>
                    <a:pt x="0" y="127966"/>
                  </a:lnTo>
                  <a:arcTo wR="3600" hR="3600" stAng="10800000" swAng="-5400000"/>
                  <a:lnTo>
                    <a:pt x="18000" y="1315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AutoShape 8"/>
            <p:cNvSpPr/>
            <p:nvPr/>
          </p:nvSpPr>
          <p:spPr>
            <a:xfrm rot="10800000">
              <a:off x="1959120" y="2637000"/>
              <a:ext cx="588960" cy="3589200"/>
            </a:xfrm>
            <a:custGeom>
              <a:avLst/>
              <a:gdLst>
                <a:gd name="textAreaLeft" fmla="*/ 28440 w 588960"/>
                <a:gd name="textAreaRight" fmla="*/ 560520 w 588960"/>
                <a:gd name="textAreaTop" fmla="*/ 28440 h 3589200"/>
                <a:gd name="textAreaBottom" fmla="*/ 3560760 h 3589200"/>
              </a:gdLst>
              <a:ahLst/>
              <a:rect l="textAreaLeft" t="textAreaTop" r="textAreaRight" b="textAreaBottom"/>
              <a:pathLst>
                <a:path w="21600" h="131566">
                  <a:moveTo>
                    <a:pt x="3600" y="0"/>
                  </a:moveTo>
                  <a:arcTo wR="3600" hR="3600" stAng="16200000" swAng="-5400000"/>
                  <a:lnTo>
                    <a:pt x="0" y="127966"/>
                  </a:lnTo>
                  <a:arcTo wR="3600" hR="3600" stAng="10800000" swAng="-5400000"/>
                  <a:lnTo>
                    <a:pt x="18000" y="1315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РЕНАЖЁР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AutoShape 9"/>
            <p:cNvSpPr/>
            <p:nvPr/>
          </p:nvSpPr>
          <p:spPr>
            <a:xfrm rot="10800000">
              <a:off x="2901960" y="2637000"/>
              <a:ext cx="588960" cy="3589200"/>
            </a:xfrm>
            <a:custGeom>
              <a:avLst/>
              <a:gdLst>
                <a:gd name="textAreaLeft" fmla="*/ 28440 w 588960"/>
                <a:gd name="textAreaRight" fmla="*/ 560520 w 588960"/>
                <a:gd name="textAreaTop" fmla="*/ 28440 h 3589200"/>
                <a:gd name="textAreaBottom" fmla="*/ 3560760 h 3589200"/>
              </a:gdLst>
              <a:ahLst/>
              <a:rect l="textAreaLeft" t="textAreaTop" r="textAreaRight" b="textAreaBottom"/>
              <a:pathLst>
                <a:path w="21600" h="131566">
                  <a:moveTo>
                    <a:pt x="3600" y="0"/>
                  </a:moveTo>
                  <a:arcTo wR="3600" hR="3600" stAng="16200000" swAng="-5400000"/>
                  <a:lnTo>
                    <a:pt x="0" y="127966"/>
                  </a:lnTo>
                  <a:arcTo wR="3600" hR="3600" stAng="10800000" swAng="-5400000"/>
                  <a:lnTo>
                    <a:pt x="18000" y="1315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НТРОЛИРУЮЩ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AutoShape 10"/>
            <p:cNvSpPr/>
            <p:nvPr/>
          </p:nvSpPr>
          <p:spPr>
            <a:xfrm rot="10800000">
              <a:off x="3844800" y="2637000"/>
              <a:ext cx="588960" cy="3589200"/>
            </a:xfrm>
            <a:custGeom>
              <a:avLst/>
              <a:gdLst>
                <a:gd name="textAreaLeft" fmla="*/ 28440 w 588960"/>
                <a:gd name="textAreaRight" fmla="*/ 560520 w 588960"/>
                <a:gd name="textAreaTop" fmla="*/ 28440 h 3589200"/>
                <a:gd name="textAreaBottom" fmla="*/ 3560760 h 3589200"/>
              </a:gdLst>
              <a:ahLst/>
              <a:rect l="textAreaLeft" t="textAreaTop" r="textAreaRight" b="textAreaBottom"/>
              <a:pathLst>
                <a:path w="21600" h="131566">
                  <a:moveTo>
                    <a:pt x="3600" y="0"/>
                  </a:moveTo>
                  <a:arcTo wR="3600" hR="3600" stAng="16200000" swAng="-5400000"/>
                  <a:lnTo>
                    <a:pt x="0" y="127966"/>
                  </a:lnTo>
                  <a:arcTo wR="3600" hR="3600" stAng="10800000" swAng="-5400000"/>
                  <a:lnTo>
                    <a:pt x="18000" y="1315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Arial"/>
                </a:rPr>
                <a:t>ДЕМОНСТРАЦИОННЫЕ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AutoShape 11"/>
            <p:cNvSpPr/>
            <p:nvPr/>
          </p:nvSpPr>
          <p:spPr>
            <a:xfrm rot="10800000">
              <a:off x="4788000" y="2637000"/>
              <a:ext cx="588960" cy="3589200"/>
            </a:xfrm>
            <a:custGeom>
              <a:avLst/>
              <a:gdLst>
                <a:gd name="textAreaLeft" fmla="*/ 28440 w 588960"/>
                <a:gd name="textAreaRight" fmla="*/ 560520 w 588960"/>
                <a:gd name="textAreaTop" fmla="*/ 28440 h 3589200"/>
                <a:gd name="textAreaBottom" fmla="*/ 3560760 h 3589200"/>
              </a:gdLst>
              <a:ahLst/>
              <a:rect l="textAreaLeft" t="textAreaTop" r="textAreaRight" b="textAreaBottom"/>
              <a:pathLst>
                <a:path w="21600" h="131566">
                  <a:moveTo>
                    <a:pt x="3600" y="0"/>
                  </a:moveTo>
                  <a:arcTo wR="3600" hR="3600" stAng="16200000" swAng="-5400000"/>
                  <a:lnTo>
                    <a:pt x="0" y="127966"/>
                  </a:lnTo>
                  <a:arcTo wR="3600" hR="3600" stAng="10800000" swAng="-5400000"/>
                  <a:lnTo>
                    <a:pt x="18000" y="1315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МИТА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AutoShape 12"/>
            <p:cNvSpPr/>
            <p:nvPr/>
          </p:nvSpPr>
          <p:spPr>
            <a:xfrm rot="10800000">
              <a:off x="5732640" y="2637000"/>
              <a:ext cx="1062000" cy="3589200"/>
            </a:xfrm>
            <a:custGeom>
              <a:avLst/>
              <a:gdLst>
                <a:gd name="textAreaLeft" fmla="*/ 51840 w 1062000"/>
                <a:gd name="textAreaRight" fmla="*/ 1010160 w 1062000"/>
                <a:gd name="textAreaTop" fmla="*/ 51840 h 3589200"/>
                <a:gd name="textAreaBottom" fmla="*/ 3537360 h 3589200"/>
              </a:gdLst>
              <a:ahLst/>
              <a:rect l="textAreaLeft" t="textAreaTop" r="textAreaRight" b="textAreaBottom"/>
              <a:pathLst>
                <a:path w="21600" h="72983">
                  <a:moveTo>
                    <a:pt x="3600" y="0"/>
                  </a:moveTo>
                  <a:arcTo wR="3600" hR="3600" stAng="16200000" swAng="-5400000"/>
                  <a:lnTo>
                    <a:pt x="0" y="69383"/>
                  </a:lnTo>
                  <a:arcTo wR="3600" hR="3600" stAng="10800000" swAng="-5400000"/>
                  <a:lnTo>
                    <a:pt x="18000" y="729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ПРАВОЧНО-ИНФОРМАЦИО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AutoShape 13"/>
            <p:cNvSpPr/>
            <p:nvPr/>
          </p:nvSpPr>
          <p:spPr>
            <a:xfrm rot="10800000">
              <a:off x="7264440" y="2637000"/>
              <a:ext cx="1062000" cy="3589200"/>
            </a:xfrm>
            <a:custGeom>
              <a:avLst/>
              <a:gdLst>
                <a:gd name="textAreaLeft" fmla="*/ 51840 w 1062000"/>
                <a:gd name="textAreaRight" fmla="*/ 1010160 w 1062000"/>
                <a:gd name="textAreaTop" fmla="*/ 51840 h 3589200"/>
                <a:gd name="textAreaBottom" fmla="*/ 3537360 h 3589200"/>
              </a:gdLst>
              <a:ahLst/>
              <a:rect l="textAreaLeft" t="textAreaTop" r="textAreaRight" b="textAreaBottom"/>
              <a:pathLst>
                <a:path w="21600" h="72983">
                  <a:moveTo>
                    <a:pt x="3600" y="0"/>
                  </a:moveTo>
                  <a:arcTo wR="3600" hR="3600" stAng="16200000" swAng="-5400000"/>
                  <a:lnTo>
                    <a:pt x="0" y="69383"/>
                  </a:lnTo>
                  <a:arcTo wR="3600" hR="3600" stAng="10800000" swAng="-5400000"/>
                  <a:lnTo>
                    <a:pt x="18000" y="729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УЛЬТИМЕДИА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ЧЕБНИК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1248840" y="2157480"/>
              <a:ext cx="342108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4670280" y="2157480"/>
              <a:ext cx="306720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 flipH="1">
              <a:off x="2311560" y="2157480"/>
              <a:ext cx="235872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Line 17"/>
            <p:cNvSpPr/>
            <p:nvPr/>
          </p:nvSpPr>
          <p:spPr>
            <a:xfrm flipH="1">
              <a:off x="3255480" y="2157480"/>
              <a:ext cx="141444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 flipH="1">
              <a:off x="4198680" y="2157480"/>
              <a:ext cx="47124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4670280" y="2157480"/>
              <a:ext cx="35424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4670280" y="2157480"/>
              <a:ext cx="165132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>
              <a:off x="1257840" y="6632640"/>
              <a:ext cx="656964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1249200" y="6226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7854840" y="6226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2193840" y="6226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3138480" y="6226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081320" y="6226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5141880" y="6226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6203880" y="6226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8" descr="6"/>
          <p:cNvPicPr/>
          <p:nvPr/>
        </p:nvPicPr>
        <p:blipFill>
          <a:blip r:embed="rId1"/>
          <a:stretch/>
        </p:blipFill>
        <p:spPr>
          <a:xfrm>
            <a:off x="7093080" y="1197000"/>
            <a:ext cx="1655640" cy="16416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льтимедиа-учебн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Picture 9" descr="3"/>
          <p:cNvPicPr/>
          <p:nvPr/>
        </p:nvPicPr>
        <p:blipFill>
          <a:blip r:embed="rId2"/>
          <a:stretch/>
        </p:blipFill>
        <p:spPr>
          <a:xfrm>
            <a:off x="7308720" y="2997360"/>
            <a:ext cx="1584360" cy="15793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1"/>
          <p:cNvPicPr/>
          <p:nvPr/>
        </p:nvPicPr>
        <p:blipFill>
          <a:blip r:embed="rId3"/>
          <a:stretch/>
        </p:blipFill>
        <p:spPr>
          <a:xfrm>
            <a:off x="5219640" y="4797360"/>
            <a:ext cx="1728720" cy="16938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4"/>
          <p:cNvPicPr/>
          <p:nvPr/>
        </p:nvPicPr>
        <p:blipFill>
          <a:blip r:embed="rId4"/>
          <a:stretch/>
        </p:blipFill>
        <p:spPr>
          <a:xfrm>
            <a:off x="5292720" y="2060640"/>
            <a:ext cx="1693800" cy="1646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3" descr="2"/>
          <p:cNvPicPr/>
          <p:nvPr/>
        </p:nvPicPr>
        <p:blipFill>
          <a:blip r:embed="rId5"/>
          <a:stretch/>
        </p:blipFill>
        <p:spPr>
          <a:xfrm>
            <a:off x="7164360" y="4869000"/>
            <a:ext cx="1681200" cy="1652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6" descr="5"/>
          <p:cNvPicPr/>
          <p:nvPr/>
        </p:nvPicPr>
        <p:blipFill>
          <a:blip r:embed="rId6"/>
          <a:stretch/>
        </p:blipFill>
        <p:spPr>
          <a:xfrm>
            <a:off x="6156360" y="3357720"/>
            <a:ext cx="1631880" cy="16556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9"/>
          <p:cNvSpPr/>
          <p:nvPr/>
        </p:nvSpPr>
        <p:spPr>
          <a:xfrm>
            <a:off x="457200" y="1916280"/>
            <a:ext cx="4259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ственно иллюстрированный текст по темам и разделам кур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льтимедиакомпоненты (звук, видео, анимации, интерактивные карты и т.д.), поддерживающие соответствующие темы и разделы кур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ерактивный практику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вопросы и тес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рь терминов и понятий, список персоналий (чьи имена упомянуты в учебнике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лок дистанционного обу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сновные направления применения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ультимедиа-учебник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611280" y="1557360"/>
            <a:ext cx="81374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611280" y="1749600"/>
            <a:ext cx="3016080" cy="95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рганизация познавательной деятельности учащихся на уроке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5351400" y="1749600"/>
            <a:ext cx="3397320" cy="95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самостоятельной деятельности учащих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3578400" y="3186000"/>
            <a:ext cx="1714320" cy="1052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ка результатов обуч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9"/>
          <p:cNvSpPr/>
          <p:nvPr/>
        </p:nvSpPr>
        <p:spPr>
          <a:xfrm rot="10800000">
            <a:off x="706320" y="3186000"/>
            <a:ext cx="480960" cy="325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тивация обуч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Rectangle 10"/>
          <p:cNvSpPr/>
          <p:nvPr/>
        </p:nvSpPr>
        <p:spPr>
          <a:xfrm rot="10800000">
            <a:off x="1186920" y="3186000"/>
            <a:ext cx="668520" cy="325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учебной информ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11"/>
          <p:cNvSpPr/>
          <p:nvPr/>
        </p:nvSpPr>
        <p:spPr>
          <a:xfrm rot="10800000">
            <a:off x="1855440" y="3186000"/>
            <a:ext cx="765000" cy="325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монстрация наглядных материал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12"/>
          <p:cNvSpPr/>
          <p:nvPr/>
        </p:nvSpPr>
        <p:spPr>
          <a:xfrm rot="10800000">
            <a:off x="2620800" y="3186000"/>
            <a:ext cx="766800" cy="325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з, сопоставление процессов и явл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Rectangle 13"/>
          <p:cNvSpPr/>
          <p:nvPr/>
        </p:nvSpPr>
        <p:spPr>
          <a:xfrm rot="10800000">
            <a:off x="5508360" y="3186000"/>
            <a:ext cx="941400" cy="325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остоятельное приобретение знаний и ум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Rectangle 14"/>
          <p:cNvSpPr/>
          <p:nvPr/>
        </p:nvSpPr>
        <p:spPr>
          <a:xfrm rot="10800000">
            <a:off x="6450120" y="3186000"/>
            <a:ext cx="642960" cy="325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ка докладов и сообщ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Rectangle 15"/>
          <p:cNvSpPr/>
          <p:nvPr/>
        </p:nvSpPr>
        <p:spPr>
          <a:xfrm rot="10800000">
            <a:off x="7092720" y="3186000"/>
            <a:ext cx="890280" cy="325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уществление дифференцированного подх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Rectangle 16"/>
          <p:cNvSpPr/>
          <p:nvPr/>
        </p:nvSpPr>
        <p:spPr>
          <a:xfrm rot="10800000">
            <a:off x="7983360" y="3186000"/>
            <a:ext cx="765360" cy="325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глублённое изучение географ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17"/>
          <p:cNvSpPr/>
          <p:nvPr/>
        </p:nvSpPr>
        <p:spPr>
          <a:xfrm rot="10800000">
            <a:off x="3865680" y="4621320"/>
            <a:ext cx="574560" cy="172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18"/>
          <p:cNvSpPr/>
          <p:nvPr/>
        </p:nvSpPr>
        <p:spPr>
          <a:xfrm rot="10800000">
            <a:off x="4440240" y="4621320"/>
            <a:ext cx="573120" cy="172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ст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19"/>
          <p:cNvSpPr/>
          <p:nvPr/>
        </p:nvSpPr>
        <p:spPr>
          <a:xfrm flipH="1">
            <a:off x="3627000" y="1557360"/>
            <a:ext cx="862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3627360" y="2419200"/>
            <a:ext cx="43020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Line 21"/>
          <p:cNvSpPr/>
          <p:nvPr/>
        </p:nvSpPr>
        <p:spPr>
          <a:xfrm flipH="1">
            <a:off x="4919400" y="2419200"/>
            <a:ext cx="43164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22"/>
          <p:cNvSpPr/>
          <p:nvPr/>
        </p:nvSpPr>
        <p:spPr>
          <a:xfrm>
            <a:off x="99360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156852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Line 24"/>
          <p:cNvSpPr/>
          <p:nvPr/>
        </p:nvSpPr>
        <p:spPr>
          <a:xfrm>
            <a:off x="223848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Line 25"/>
          <p:cNvSpPr/>
          <p:nvPr/>
        </p:nvSpPr>
        <p:spPr>
          <a:xfrm>
            <a:off x="300348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4152960" y="42386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Line 27"/>
          <p:cNvSpPr/>
          <p:nvPr/>
        </p:nvSpPr>
        <p:spPr>
          <a:xfrm>
            <a:off x="4727520" y="42386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Line 28"/>
          <p:cNvSpPr/>
          <p:nvPr/>
        </p:nvSpPr>
        <p:spPr>
          <a:xfrm>
            <a:off x="597204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Line 29"/>
          <p:cNvSpPr/>
          <p:nvPr/>
        </p:nvSpPr>
        <p:spPr>
          <a:xfrm>
            <a:off x="683424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Line 30"/>
          <p:cNvSpPr/>
          <p:nvPr/>
        </p:nvSpPr>
        <p:spPr>
          <a:xfrm>
            <a:off x="759924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8271000" y="270684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Line 32"/>
          <p:cNvSpPr/>
          <p:nvPr/>
        </p:nvSpPr>
        <p:spPr>
          <a:xfrm>
            <a:off x="4489560" y="1557360"/>
            <a:ext cx="8618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4489560" y="1557360"/>
            <a:ext cx="1440" cy="16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иблиотека электронных наглядных пособи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айды с фотографиями конкретных географических объек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айды с фотографиями результатов действия того или иного географического процесса, яв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айды со схемами, диаграммами, таблицами, отображающие строение географических объектов, сущность географических явлений и процессов, их качественные и количественные характерист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деоролики, отображающие географические процессы или я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имации (мультипликации), при демонстрации которых моделируются географические процессы и яв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активные карты и карты-сх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9" descr="Антарктическая крачка"/>
          <p:cNvPicPr/>
          <p:nvPr/>
        </p:nvPicPr>
        <p:blipFill>
          <a:blip r:embed="rId1"/>
          <a:stretch/>
        </p:blipFill>
        <p:spPr>
          <a:xfrm>
            <a:off x="5543640" y="2344680"/>
            <a:ext cx="2178000" cy="1565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Витус Беринг"/>
          <p:cNvPicPr/>
          <p:nvPr/>
        </p:nvPicPr>
        <p:blipFill>
          <a:blip r:embed="rId2"/>
          <a:stretch/>
        </p:blipFill>
        <p:spPr>
          <a:xfrm>
            <a:off x="6804000" y="314172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" descr="Измерение высоты холма"/>
          <p:cNvPicPr/>
          <p:nvPr/>
        </p:nvPicPr>
        <p:blipFill>
          <a:blip r:embed="rId3"/>
          <a:stretch/>
        </p:blipFill>
        <p:spPr>
          <a:xfrm>
            <a:off x="6588000" y="4941720"/>
            <a:ext cx="2171880" cy="1629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6" descr="п"/>
          <p:cNvPicPr/>
          <p:nvPr/>
        </p:nvPicPr>
        <p:blipFill>
          <a:blip r:embed="rId4"/>
          <a:stretch/>
        </p:blipFill>
        <p:spPr>
          <a:xfrm>
            <a:off x="5468760" y="4349880"/>
            <a:ext cx="2316240" cy="1477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Азимут"/>
          <p:cNvPicPr/>
          <p:nvPr/>
        </p:nvPicPr>
        <p:blipFill>
          <a:blip r:embed="rId5"/>
          <a:stretch/>
        </p:blipFill>
        <p:spPr>
          <a:xfrm>
            <a:off x="6588000" y="1413000"/>
            <a:ext cx="2027520" cy="151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пользование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S Office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 преподавании географ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7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лектронная таблиц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crosoft Exc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Построение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графиков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диаграмм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, картограмм и картодиаграм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Анализ статистических данных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Кроссворды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те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кстовый редактор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crosoft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Тематические и поурочные пл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Карточки-зад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Тес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200" indent="-1602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кет презентаций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crosoft Power Poin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Создание сопровождения к уро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Совместные презентации учителя и учащих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Защита творческих проектов учащих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200" indent="-16020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афический редактор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in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Картосх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Сх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22360" indent="-1825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Контурные кар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948000" y="1844280"/>
            <a:ext cx="1954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S Visio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составление ЛОС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200" indent="-160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S Access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создание баз данных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200" indent="-160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S Map Point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ccc0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 внедрение геоинформационных сист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200" indent="-160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S Explorer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2" action="ppaction://hlinksldjump"/>
              </a:rPr>
              <a:t>просмотр Интернет-ресурсов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200" indent="-1602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S Outlook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cccc00"/>
                </a:solidFill>
                <a:latin typeface="Tahoma"/>
              </a:rPr>
              <a:t>создание и получение электронных писе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1:22:13Z</dcterms:created>
  <dc:creator>Schkul</dc:creator>
  <dc:description/>
  <dc:language>en-US</dc:language>
  <cp:lastModifiedBy>Гильмутдинов Ильяс</cp:lastModifiedBy>
  <dcterms:modified xsi:type="dcterms:W3CDTF">2013-01-25T04:45:11Z</dcterms:modified>
  <cp:revision>25</cp:revision>
  <dc:subject/>
  <dc:title>Использование информационных компьютерных технологий в преподавании географии</dc:title>
</cp:coreProperties>
</file>