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31F51-BD1F-4B7C-9FD1-19ABD7648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D200E-AD50-44CD-81C2-2C0F5FC2E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1A9D7-9377-418B-967F-B34DACE2D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8A1B1-BC37-4426-80C1-A53A4C24C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81105-018C-4307-A632-F4466DB2A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E24D1-C986-4755-837E-6ABAE22BB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398D7-AA3B-4125-BA8F-C80189DCF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8E9CA-F895-4DE6-99D0-375B02D7E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9D548-52A8-447A-AE3D-CB48FACBB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55526-CDC1-48B4-8469-771000589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2B242-0C6C-4659-8A09-934BEADD9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1932D-2C2B-480D-9CF9-8221BD38D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58379-7F18-4E9F-8345-13FD9777B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E9CFC-8555-4646-8D05-C77CC7525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6855A-227E-4AE7-899E-A312E5B6E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5F9A5-FB21-47F3-BCE7-6D376631C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EE600-8178-4B14-BBC9-B8D3A1973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8072B-64D0-4FF7-9FBD-38B48BB4D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D6926-7D4B-4D33-B3DD-CC5BDF22C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DB8C3-DE07-49E4-94D4-5F656997D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9D09B-632A-4746-BE17-C13C46B06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EDD3E-07E7-49D9-AFFC-B63078C52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A15CA-F3AD-401B-B1BA-2DD5560DF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91841-8166-40FA-852E-73BC623DE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© Vasilyeva E.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390C6-7567-466F-95BA-F4FB8D514DA4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© Vasilyeva E.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23808-B2DB-4D53-89F2-9E049DE1EE21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0"/>
          <p:cNvSpPr/>
          <p:nvPr/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© Vasilyeva E.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Arial"/>
              </a:rPr>
              <a:t>Калининградская область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5796000" y="4076280"/>
            <a:ext cx="1900080" cy="104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сильева Е.А. – учитель географии МБОУ СОШ п. Солидарность Елецкого муниципального района Липецкой обла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© Vasilyeva E.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Географическое положение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алининградская область — самый западный регион России. Расположена в Центральной Европе. Отделена от остальной России территорией Латвии, Литвы и Белоруссии. Поэтому является анклавом Росс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аксимальная протяжённость области с запада на восток — 205 км, с севера на юг — 108 км. Протяженность границ области, являющихся одновременно и государственной границей Российской Федерации, составляет 540 км. Из них 410 км приходится на сухопутные — примерно поровну на границу с Польшей и Литвой и 140-километровая морская граница по побережью Балтийского мор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6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388620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© Vasilyeva E.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Рельеф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Picture 4" descr=""/>
          <p:cNvPicPr/>
          <p:nvPr/>
        </p:nvPicPr>
        <p:blipFill>
          <a:blip r:embed="rId1"/>
          <a:stretch/>
        </p:blipFill>
        <p:spPr>
          <a:xfrm>
            <a:off x="609480" y="1600200"/>
            <a:ext cx="3886200" cy="44197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64796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ельеф области — всхолмлённая равнина, отдельные участки которой находятся ниже уровня моря. На востоке области рельеф более неровный, здесь расположена возвышенность с высотами до 230 метров над уровнем моря.   В области много низменных территорий. Это так называемые польдеры — земли постоянно находящиеся под угрозой затопления и огороженные дамбами. Площадь калининградских польдеров около тысячи квадратных километров, что составляет более половины всех польдеров бывшего СССР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редняя абсолютная высота поверхности суши Калининградской области над уровнем Мирового океана составляет 15 метр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збыточное увлажнение при плоском низменном рельефе требует больших мелиоративных работ. Поэтому почти вся территория области покрыта осушительными мелиоративными каналам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© Vasilyeva E.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Климат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лимат Калининградской области обусловлен её географическим положением и является переходным от морского к умеренно-континентальном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лияние Балтийского моря приводит к тому, что среднегодовые температуры увеличиваются с 6,5 °C на северо-востоке области до 7,5 °C на юго-западе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Жара и морозы в области непродолжительны, снежный покров долго не держится. Средняя температура воздуха в области около +8 °C. Самый холодный месяц — январь, средняя температура −2… −4 °C, самый тёплый месяц — июль, его средняя температура +17…+18 °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одовое количество осадков колеблется по территории области от 600 до 740 мм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осенний период часто над областью проходят западные штормовые ветры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© Vasilyeva E.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Полезные ископаемые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ным природным богатством области является </a:t>
            </a:r>
            <a:r>
              <a:rPr b="0" lang="ru-RU" sz="1200" spc="-1" strike="noStrike">
                <a:solidFill>
                  <a:srgbClr val="9999ff"/>
                </a:solidFill>
                <a:latin typeface="Arial"/>
              </a:rPr>
              <a:t>янтар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Калининградскую область называют Янтарным краем, поскольку на её территории расположено более 90 % разведанных мировых запасов этого удивительного минерала.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ласть располагает несколькими малыми </a:t>
            </a:r>
            <a:r>
              <a:rPr b="0" lang="ru-RU" sz="1200" spc="-1" strike="noStrike">
                <a:solidFill>
                  <a:srgbClr val="9999ff"/>
                </a:solidFill>
                <a:latin typeface="Arial"/>
              </a:rPr>
              <a:t>нефтяным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месторождениями на суше и на шельф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территории Калининградской области имеются значительные запасы высококачественной </a:t>
            </a:r>
            <a:r>
              <a:rPr b="0" lang="ru-RU" sz="1200" spc="-1" strike="noStrike">
                <a:solidFill>
                  <a:srgbClr val="9999ff"/>
                </a:solidFill>
                <a:latin typeface="Arial"/>
              </a:rPr>
              <a:t>каменной сол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и </a:t>
            </a:r>
            <a:r>
              <a:rPr b="0" lang="ru-RU" sz="1200" spc="-1" strike="noStrike">
                <a:solidFill>
                  <a:srgbClr val="9999ff"/>
                </a:solidFill>
                <a:latin typeface="Arial"/>
              </a:rPr>
              <a:t>торф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 Торф используется преимущественно для нужд сельского хозяйства в качестве органического удобр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ласть обеспечивает себя такими строительными материалами как </a:t>
            </a:r>
            <a:r>
              <a:rPr b="0" lang="ru-RU" sz="1200" spc="-1" strike="noStrike">
                <a:solidFill>
                  <a:srgbClr val="9999ff"/>
                </a:solidFill>
                <a:latin typeface="Arial"/>
              </a:rPr>
              <a:t>песок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200" spc="-1" strike="noStrike">
                <a:solidFill>
                  <a:srgbClr val="9999ff"/>
                </a:solidFill>
                <a:latin typeface="Arial"/>
              </a:rPr>
              <a:t>глин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200" spc="-1" strike="noStrike">
                <a:solidFill>
                  <a:srgbClr val="9999ff"/>
                </a:solidFill>
                <a:latin typeface="Arial"/>
              </a:rPr>
              <a:t>гравийно-песчаные смес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у побережья области выявлены тяжёлые пески, содержащие титан, цирконий и железо-марганцевые конкре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положенные на больших глубинах минеральные воды с высокой степенью минерализации широко используются в пищевой промышленности и здравоохранении региона. На курортах области используются местные лечебные гряз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4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3886200" cy="21337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5" descr=""/>
          <p:cNvPicPr/>
          <p:nvPr/>
        </p:nvPicPr>
        <p:blipFill>
          <a:blip r:embed="rId2"/>
          <a:stretch/>
        </p:blipFill>
        <p:spPr>
          <a:xfrm>
            <a:off x="4648320" y="3886200"/>
            <a:ext cx="388620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Промышленность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Picture 4" descr=""/>
          <p:cNvPicPr/>
          <p:nvPr/>
        </p:nvPicPr>
        <p:blipFill>
          <a:blip r:embed="rId1"/>
          <a:stretch/>
        </p:blipFill>
        <p:spPr>
          <a:xfrm>
            <a:off x="676440" y="2538360"/>
            <a:ext cx="3752640" cy="254340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4796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обыча полезных ископаемых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азвито промышленное рыболовство, рыбные порты расположены в Калининграде, Пионерском и Светло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 территории области проходит газопровод Россия — Беларусь — Польша с отводами на Черняховск, Зеленоградск, Гусев, Советск и Светлый. Газ используется для обеспечения работы ТЭЦ и потребностей коммунально-бытового хозяйств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Калининграде, Пионерском и Балтийске крупные незамерзающие морские порты, крупнейший из них — в Калининграде. Балтийск связан с Санкт-Петербургом паромной переправой и с Гданьском пассажирской линией (эксплуатируется польским пароходством). В г. Светлый действует нефтетерминал мощностью 6 млн т. нефти и нефтепродукт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© Vasilyeva E.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© Vasilyeva E.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Домашнее задание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§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3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Презентаци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1. Хозяйственная деятельность людей на Европейском Север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2. Баренцево и Белое мор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2T19:56:57Z</dcterms:created>
  <dc:creator>User</dc:creator>
  <dc:description/>
  <dc:language>en-US</dc:language>
  <cp:lastModifiedBy>User</cp:lastModifiedBy>
  <dcterms:modified xsi:type="dcterms:W3CDTF">2013-01-25T20:26:51Z</dcterms:modified>
  <cp:revision>5</cp:revision>
  <dc:subject/>
  <dc:title>Калининградская область</dc:title>
</cp:coreProperties>
</file>