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423-EC5F-4E62-8BE5-BB791D19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1EE-67BB-467A-A33A-24DCC8A1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2F8-4673-40ED-B9DF-AC1F0544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3B1-327B-4862-A2A1-8BF47D13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8FF8-D62D-4340-927A-3816AA65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F387-49C2-4BA4-9A4F-8FD60132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0046-6030-4A16-8363-049415D8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9098-26C5-44F8-8A8A-A6E566CF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2413-0BE2-4C41-8CCE-756CD27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CF30-C2F4-4B82-80C4-6CE9983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A816-BE94-4198-A2B3-88F38A66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016-CE89-47F3-86C4-E930EF7F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0494-9577-45A2-A980-7CBA3B51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EA3D-0BF0-4C1F-B17F-18764B38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032D-D2B8-470C-AC4E-1B834B04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DEB3-D89D-4194-A98F-D269469C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102A-F46C-401F-B2EA-C25F6B96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9A2-C9E3-44A1-94EC-D3A1538C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294-D003-4123-8FC2-EBBD2923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201-B3A2-46B4-B8F8-628A552F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190-890D-421F-B2EE-17128A3A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1F1-4985-4517-8342-45862CD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0C6-B42D-4902-9DCD-34CB2124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18F-318D-4E37-A352-61A6A29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0E8B-1572-432F-A6C3-A55E1393D0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965B-80F3-42AC-99E5-DB503AA677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МАРИНА ЦВЕТАЕВ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4000" y="234900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дна – из всех - за всех -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тиву всех!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 ученица 11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узкова Татья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 Купорева Т.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2448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5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5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5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5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5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.Цветаева с мужем и дочерью Ариадно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1684440"/>
            <a:ext cx="2492640" cy="438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7622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ВЕРШИЛАСЬ ОКТЯБРЬСКАЯ РЕВОЛЮЦИЯ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рон воевал  в Крыму в армии Деник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имея никаких средств для существования Цветаева отдала обеих девочек в подмосковный при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коре забрала оттуда тяжело заболевшую Алю, а в феврале 1920г. потеряла маленькую Ирину, погибшую от истощения и тос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75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600"/>
                            </p:stCondLst>
                            <p:childTnLst>
                              <p:par>
                                <p:cTn id="1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75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675"/>
                            </p:stCondLst>
                            <p:childTnLst>
                              <p:par>
                                <p:cTn id="1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75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ЕЗДКА ЗА ГРАНИЦ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4 июня 1921г. получила весть от мужа и решила ехать к нему  в Чехи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года и три месяца проведенных в Чехии, Цветаева изъездила почти всю стра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февраля 1925г. у Марины Ивановны родился сын. Она назвала его Георгием по-домашнему – Мур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3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3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3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 сыном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81400" y="1720800"/>
            <a:ext cx="25812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ИДЦАТЫЕ ГО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вное место в творчестве Цветаевой стала занимать проз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а Цветаева заявляла: «эмиграция делает меня прозаиком», - она имела в виду, что стихотворные произведения труднее устроить в печать, над ними дольше и труднее работать («Стихи не  кормят, кормит проза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425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75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ЮНЬ ! 1941год. ВОЙН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ытие привело поэта в состояние паники, безумного страха за сына, полной безысходности. Тогда-то и начала слабеть ее воля к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вис ужас остаться без работы. Марина Ивановна съездила в Чистополь, получила согласие на прописку и оставила заявление, в Совет Литфон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ын М. Цветаевой  Георг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362400" y="1893960"/>
            <a:ext cx="24192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ХОД ИЗ ЖИЗ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31-го августа, в воскресенье, когда все ушли из дому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записки Марины Цветаев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0"/>
                            </p:stCondLst>
                            <p:childTnLst>
                              <p:par>
                                <p:cTn id="2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800"/>
                            </p:stCondLst>
                            <p:childTnLst>
                              <p:par>
                                <p:cTn id="2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 ЖИЗНИ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им стихам , как драгоценным винам настанет свой чере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рина Ивановна Цветае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94120" y="1600200"/>
            <a:ext cx="3154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УДЬБА. ХАРАКТЕР. ПОЭЗ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лась в Москве 26 сентября 1892 год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лась она много, но довольно бессистемно: в музыкальной школе, в католических пансионах, в ялтинской женской гимназии, в московских частных пансионат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7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725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25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дители М. Цветаев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86400" y="2000160"/>
            <a:ext cx="2521080" cy="4079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249876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АРАК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Марина Цветаева  совмещала в себе старомодную учтивость и бунтарство, пиетет перед гармонией   и любовью к душевному косноязычию, предельною гордость и предельную простоту. Ее жизнь была клубком прозрений и ошибок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лья Эренбур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ЭЗ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чала писать с шести лет ( не только по-русски, но и по-французски, по-немецки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чала печататься с шестнадцати л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ВЫЕ СТИХ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обращение к матер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разговор с сестрой Асей, с подруга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изнание в любв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размышления о смерти, любви, жизн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Это тождество между личностью, жизнью и сло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8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3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ВЕЧЕРНИЙ АЛЬБОМ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дан в 1910 год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мечен и одобрен критиками: В.Брюсов, Н. Гумилев, М. Волоши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есомненно талантливая Марина Цветаева может дать нам настоящую поэзию интимной жизни и может, при той легкости, с какой она, как кажется, пишет стихи, растратить все свои дарования на ненужные, хотя бы изящные безделушки».       В. Брю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0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 ЛИЧНОЙ ЖИЗ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январе 1912 года Цветаева вышла замуж за Сергея Яковлевича Эфро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ентябре 1912года родила дочь Ариад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апреле 1917 года у нее родилась вторая дочь Ир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7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75"/>
                            </p:stCondLst>
                            <p:childTnLst>
                              <p:par>
                                <p:cTn id="1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975"/>
                            </p:stCondLst>
                            <p:childTnLst>
                              <p:par>
                                <p:cTn id="15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975"/>
                            </p:stCondLst>
                            <p:childTnLst>
                              <p:par>
                                <p:cTn id="1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3:12:17Z</dcterms:created>
  <dc:creator>43</dc:creator>
  <dc:description/>
  <dc:language>en-US</dc:language>
  <cp:lastModifiedBy>Томик</cp:lastModifiedBy>
  <dcterms:modified xsi:type="dcterms:W3CDTF">2012-05-14T17:46:59Z</dcterms:modified>
  <cp:revision>35</cp:revision>
  <dc:subject/>
  <dc:title>МАРИНА ЦВЕТАЕВА</dc:title>
</cp:coreProperties>
</file>