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chimes.wav" ContentType="audio/x-wav"/>
  <Override PartName="/ppt/media/image7.wmf" ContentType="image/x-wmf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929DCA-5A08-4C4C-8963-44D4758916C4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350-4889-4C62-81C3-D908993C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593-CADE-4E25-8B5F-9C26F929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FE9-5104-4FD3-ACC5-2D71AF35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2F8-A09C-49B7-B5B5-BA92554E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B8BC-0505-4639-A6BA-8265DB7E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FCCF-E3CB-4DDB-9955-14F64903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116C-6D01-4AA1-87E4-F257FFFA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EC55-BD64-4E98-A277-D5716CF4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9502-2AC1-4857-A31A-082EA641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2B73-215A-4E50-945F-676FEC32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26D1-75E0-40ED-8781-27040CB7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7EC-2400-4F2F-AE18-68AD9CD4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E578-944F-4670-8132-B088C7E1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C3DF-F849-4BE1-84D6-D504A749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A522-A603-4B74-AF50-581232F3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B6CE-1713-4BA1-BF03-A3C06F2E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A5AE-75F6-42E6-8453-72AB792B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130-442C-458A-A927-C3674C6A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3E4-2C1D-4772-9430-B8F159EF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550-2BE3-4E4B-8E37-700EB5F4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B56-FE36-4FE3-99B3-6DE783F1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2B8-8535-414D-8810-4E5C913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1B3-A0D3-470C-A224-481FFA3C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44E-DE27-4EE5-8D0F-6A91F648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73FAF3-82B5-4971-9BF1-A134C983FA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102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36520" y="637380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80" y="634356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7C8770-A6D0-498B-B169-42A7E9EF7B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Нуклеиновые кислот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40000" y="5445000"/>
            <a:ext cx="4608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 Стацевич Н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. Москва школа №19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2492280"/>
            <a:ext cx="88200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914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Сравнительная характеристика ДНК и РН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1483920"/>
            <a:ext cx="4659480" cy="52182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/>
          </a:bodyPr>
          <a:p>
            <a:pPr marL="457200" indent="-455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иологический полим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ономе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нуклеот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4 типа азотистых основа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аденин, тимин, гуанин, цитоз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мплементарные пары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денин-тимин, гуанин-цито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стонахожд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яд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хранение наследственной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хар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зоксириб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0" y="1484280"/>
            <a:ext cx="4572000" cy="5184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457200" indent="-455760"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Н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иологический полим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оном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нуклеот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4 типа азотистых основан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 аденин, гуанин, цитозин, ураци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мплементарные пары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аденин-урацил, гуанин-цитоз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естонахожд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ядро, цитопла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перенос, передача наследственной информ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ахар - риб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5760"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рипл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907920"/>
            <a:ext cx="9036000" cy="608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риплет – три последовательно расположенных нуклеотида. Последовательность триплетов определяет последовательность аминокислот в белк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Расположенные друг за другом триплеты, обуславливающие структуру одной белковой молекулы, представляют собой ГЕ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369756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5201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2060"/>
                </a:solidFill>
                <a:uFillTx/>
                <a:latin typeface="Calibri"/>
              </a:rPr>
              <a:t>Хромосо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484280"/>
            <a:ext cx="8893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 algn="ctr"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5400" spc="-1" strike="noStrike" u="sng">
                <a:solidFill>
                  <a:srgbClr val="c00000"/>
                </a:solidFill>
                <a:uFillTx/>
                <a:latin typeface="Calibri"/>
              </a:rPr>
              <a:t>Белок + ДНК = хромосом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9362F0-5EA6-4E39-BBF4-70EF6728CF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равнительная характеристика 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836640"/>
          <a:ext cx="8424720" cy="5954760"/>
        </p:xfrm>
        <a:graphic>
          <a:graphicData uri="http://schemas.openxmlformats.org/drawingml/2006/table">
            <a:tbl>
              <a:tblPr/>
              <a:tblGrid>
                <a:gridCol w="2125800"/>
                <a:gridCol w="3263760"/>
                <a:gridCol w="303516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  <a:ea typeface="SimSun"/>
                        </a:rPr>
                        <a:t>Нахождение в клет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Ядро, митохондрии, рибосомы, хлоропласт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Ядр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итохондрии, хлоропласт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  <a:ea typeface="SimSun"/>
                        </a:rPr>
                        <a:t>Нахождение в яд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Ядрышк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Хромосо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27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  <a:ea typeface="SimSun"/>
                        </a:rPr>
                        <a:t>3.Состав нуклеоти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Одинарная полинуклеотидная цепочка, кроме виру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Двойная, свернутая правозакрученная спираль (Дж.Уотсон и Ф.Крик в 1953г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0379BD-2FEF-448E-AE09-C2B35735F8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Calibri"/>
              </a:rPr>
              <a:t>Сравнительная характеристика НК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836640"/>
          <a:ext cx="8569080" cy="5952960"/>
        </p:xfrm>
        <a:graphic>
          <a:graphicData uri="http://schemas.openxmlformats.org/drawingml/2006/table">
            <a:tbl>
              <a:tblPr/>
              <a:tblGrid>
                <a:gridCol w="2314440"/>
                <a:gridCol w="3006720"/>
                <a:gridCol w="3247920"/>
              </a:tblGrid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  <a:ea typeface="SimSun"/>
                        </a:rPr>
                        <a:t>4.Состав нуклеоти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Азотистое осно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А-адени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У-урацил,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Г-гуанин,Ц-цитози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Углевод риб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Остаток фосфорной кисл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Азотистое осно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А-адени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, Т-тимин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Г-гуанин,Ц-цитози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Углевод дезоксирибоза 3.Остаток фосфорной кисл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E46503-6246-4AEE-93E3-93EE87E471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Calibri"/>
              </a:rPr>
              <a:t>сравнени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722160"/>
          <a:ext cx="9036000" cy="6637320"/>
        </p:xfrm>
        <a:graphic>
          <a:graphicData uri="http://schemas.openxmlformats.org/drawingml/2006/table">
            <a:tbl>
              <a:tblPr/>
              <a:tblGrid>
                <a:gridCol w="1836720"/>
                <a:gridCol w="3922560"/>
                <a:gridCol w="327672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  <a:ea typeface="SimSun"/>
                        </a:rPr>
                        <a:t>5.Свой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Не способна к самоудвоени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Лабиль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Способна к самоудвоению по принципу компли-ментарности:А-Т; Т-А; Г-Ц;Ц-Г. Стабильн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4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  <a:ea typeface="SimSun"/>
                        </a:rPr>
                        <a:t>6.Фун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и-РНК (или м-РНК)определяет порядок расположения АК в белк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Т-РНК- подносит АК к месту синтеза белка(к рибосомам);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РНК определяет структуру рибосо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Химическая основа гена. Хранение и передача наследственной информации о структуре бел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FC8D35-67EA-402D-9B8C-A2F7DFE62F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пиш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956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НК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ойная спира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Ж.Уотсон, Ф. Крик-1953г.Нобелевская прем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А=Т, Г=Ц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лиментар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Функции: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хра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воспроиз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передач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следственн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Н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иночная цеп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А,У,Ц,Г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уклеоти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ы РН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- Р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Т- Р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- Р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интез бе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8" descr="MCj02171020000[1]"/>
          <p:cNvPicPr/>
          <p:nvPr/>
        </p:nvPicPr>
        <p:blipFill>
          <a:blip r:embed="rId1"/>
          <a:stretch/>
        </p:blipFill>
        <p:spPr>
          <a:xfrm>
            <a:off x="7236000" y="189000"/>
            <a:ext cx="16570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12FBFE-7A63-4AB3-9C33-78A38D31A5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Одна из цепей фрагмента молекулы ДНК имеет следующее строение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Г-Г-Г-А-Т-А-А-Ц-А-Г-А-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Укажите строение противоположной цеп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Укажите последовательность нуклеотидов в молекуле и-РНК, построенной на этом участке цепи ДН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0B090F-320A-460F-B592-C631B4CEAC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цепь ДНК Г-Г-Г-А-Т-А-А-Ц-А-Г-А-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Ц-Ц-Ц-Т-А-Т-Т-Г-Т-Ц-Т-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(по принципу комплементар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и-РНК     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Г-Г-Г-А-У-А-А-Ц-А-Г-Ц-У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419640" y="20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78000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06728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4500720" y="206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788000" y="20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5148360" y="20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5508720" y="1989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5867280" y="206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6300720" y="206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6588000" y="20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694836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7308720" y="20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applaus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0916FD-1983-4A01-816B-AF527D81E2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АТФ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очему АТФ называют «аккумулятором» клетк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Ф-аденозинтрифосфорная кисл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Organization Chart 7"/>
          <p:cNvGrpSpPr/>
          <p:nvPr/>
        </p:nvGrpSpPr>
        <p:grpSpPr>
          <a:xfrm>
            <a:off x="250920" y="2060640"/>
            <a:ext cx="8713080" cy="4462560"/>
            <a:chOff x="250920" y="2060640"/>
            <a:chExt cx="8713080" cy="446256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685480" y="2766240"/>
              <a:ext cx="893160" cy="30502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607280" y="3844800"/>
              <a:ext cx="324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635920" y="2766240"/>
              <a:ext cx="893160" cy="30502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300480" y="2060640"/>
              <a:ext cx="2613960" cy="1784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АТФ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(нуклеотид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250920" y="4738320"/>
              <a:ext cx="2613960" cy="1784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Азотистое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основани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300480" y="4738320"/>
              <a:ext cx="2613960" cy="1784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углево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350040" y="4738320"/>
              <a:ext cx="2613960" cy="1784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3 молекул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PO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 и задачи уро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знакомство с видами нуклеиновых кисл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ассмотреть строение и особенности их стро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значение нуклеиновых кислот для всех живых организ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103525-938E-4AF7-8B5E-24BB6F0945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Структура молекулы АТ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2349360"/>
            <a:ext cx="1657440" cy="7527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SimSun"/>
              </a:rPr>
              <a:t>аден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248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98764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298764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3"/>
          <p:cNvSpPr/>
          <p:nvPr/>
        </p:nvSpPr>
        <p:spPr>
          <a:xfrm flipV="1">
            <a:off x="2987640" y="270792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4"/>
          <p:cNvSpPr/>
          <p:nvPr/>
        </p:nvSpPr>
        <p:spPr>
          <a:xfrm flipH="1" flipV="1">
            <a:off x="3634920" y="2707920"/>
            <a:ext cx="289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3348000" y="256536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392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4427640" y="2421000"/>
            <a:ext cx="64908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18"/>
          <p:cNvSpPr/>
          <p:nvPr/>
        </p:nvSpPr>
        <p:spPr>
          <a:xfrm>
            <a:off x="5508720" y="2421000"/>
            <a:ext cx="64764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val 19"/>
          <p:cNvSpPr/>
          <p:nvPr/>
        </p:nvSpPr>
        <p:spPr>
          <a:xfrm>
            <a:off x="6659640" y="2421000"/>
            <a:ext cx="64908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AutoShape 20"/>
          <p:cNvCxnSpPr/>
          <p:nvPr/>
        </p:nvCxnSpPr>
        <p:spPr>
          <a:xfrm flipH="1" rot="16200000">
            <a:off x="4497480" y="1773000"/>
            <a:ext cx="2160" cy="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AutoShape 21"/>
          <p:cNvCxnSpPr/>
          <p:nvPr/>
        </p:nvCxnSpPr>
        <p:spPr>
          <a:xfrm flipH="1" rot="16200000">
            <a:off x="4497480" y="177300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AutoShape 22"/>
          <p:cNvCxnSpPr/>
          <p:nvPr/>
        </p:nvCxnSpPr>
        <p:spPr>
          <a:xfrm flipH="1" rot="16200000">
            <a:off x="4497480" y="177300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6" name="Line 23"/>
          <p:cNvSpPr/>
          <p:nvPr/>
        </p:nvSpPr>
        <p:spPr>
          <a:xfrm>
            <a:off x="4716360" y="2852640"/>
            <a:ext cx="1150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24"/>
          <p:cNvSpPr/>
          <p:nvPr/>
        </p:nvSpPr>
        <p:spPr>
          <a:xfrm flipH="1">
            <a:off x="5866920" y="2852640"/>
            <a:ext cx="1081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0"/>
          <p:cNvSpPr/>
          <p:nvPr/>
        </p:nvSpPr>
        <p:spPr>
          <a:xfrm>
            <a:off x="2987640" y="321300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Риб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5484240" y="402444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Макроэргические связ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1"/>
          <p:cNvSpPr/>
          <p:nvPr/>
        </p:nvSpPr>
        <p:spPr>
          <a:xfrm>
            <a:off x="1403280" y="485928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АТФ+Н </a:t>
            </a:r>
            <a:r>
              <a:rPr b="1" lang="ru-RU" sz="1000" spc="-1" strike="noStrike">
                <a:solidFill>
                  <a:srgbClr val="0000ff"/>
                </a:solidFill>
                <a:latin typeface="Times New Roman"/>
                <a:ea typeface="SimSun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О        АДФ+Ф+Е(40кДж/моль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2.   АДФ+Н 2О       АМФ+Ф+Е(40кДж/мол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2"/>
          <p:cNvSpPr/>
          <p:nvPr/>
        </p:nvSpPr>
        <p:spPr>
          <a:xfrm>
            <a:off x="2916360" y="50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4"/>
          <p:cNvSpPr/>
          <p:nvPr/>
        </p:nvSpPr>
        <p:spPr>
          <a:xfrm>
            <a:off x="755640" y="4941720"/>
            <a:ext cx="64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1455840" y="524844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66"/>
          <p:cNvSpPr/>
          <p:nvPr/>
        </p:nvSpPr>
        <p:spPr>
          <a:xfrm>
            <a:off x="1547640" y="5229360"/>
            <a:ext cx="671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80"/>
          <p:cNvSpPr/>
          <p:nvPr/>
        </p:nvSpPr>
        <p:spPr>
          <a:xfrm>
            <a:off x="298764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81"/>
          <p:cNvSpPr/>
          <p:nvPr/>
        </p:nvSpPr>
        <p:spPr>
          <a:xfrm>
            <a:off x="971640" y="57531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SimSun"/>
              </a:rPr>
              <a:t>Энергетическая эффективность 2-ух макроэргических связей -80кДж/м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6F0A7A-8615-4E85-8C9A-85D944C0CD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5716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Запомн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j0299125"/>
          <p:cNvPicPr/>
          <p:nvPr/>
        </p:nvPicPr>
        <p:blipFill>
          <a:blip r:embed="rId1"/>
          <a:stretch/>
        </p:blipFill>
        <p:spPr>
          <a:xfrm>
            <a:off x="900000" y="1620720"/>
            <a:ext cx="1368360" cy="13035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2843280" y="1197000"/>
            <a:ext cx="597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АТФ Образуется в митохондриях клеток животных и хлоропластах раст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36504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Энергия АТФ используется на движение, биосинтез, деление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36504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Средняя продолжительность жизни1 молекулы АТФ менее 1мин, т.к. она расщепляется и восстанавливается 2400раз в су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машнее задание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араграф 2.6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 подготовиться к зачету по химическому соста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C:\Documents and Settings\Администратор\Рабочий стол\растения и цветы\CAA7C1AV.jpg"/>
          <p:cNvPicPr/>
          <p:nvPr/>
        </p:nvPicPr>
        <p:blipFill>
          <a:blip r:embed="rId1"/>
          <a:stretch/>
        </p:blipFill>
        <p:spPr>
          <a:xfrm>
            <a:off x="2627280" y="3645000"/>
            <a:ext cx="410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F8B7B5-7850-456A-842C-D49D157D8E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Нуклеиновые кисло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уклеус»- от лат. –ядро. НК-биополимер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первые были обнаружены в ядре. Играют важную роль в синтезе белков в клетке, в мутациях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номеры НК-нуклеотид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наружены в ядрах лейкоцитов в 1869г. Ф.Мишер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2468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89000"/>
            <a:ext cx="8001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1125000"/>
            <a:ext cx="8736120" cy="595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ycleus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- ядр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первые ДНК и РНК были извлечены из ядра клетки. Поэтому их называют нуклеиновыми кислот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роение и выполняемые функции нуклеиновых кислот изучили американский биолог Дж. Уотсон и английский физик Ф. Кр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alibri"/>
              </a:rPr>
              <a:t>Нуклеиновые кисло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1844280"/>
            <a:ext cx="83757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ДНК (дезоксирибонуклеиновая кислота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РНК (рибонуклеиновая кислота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91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начение нуклеиновых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ранение, перенос и передача по наследству информации о структуре белковых молеку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абильность НК- важнейшее условие нормальной жизнедеятельности клеток и целых организм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менение структуры НК- изменение структуры клеток или физиологических процессов- изменение жизнедеятель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20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Строение ДН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475128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НК- биополимер, состоящий из полинуклеотидных цепей, соединенных друг с другом. ДНК- полимер с очень большой молекулярной масс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НК- полимер, состоящий из мономеров- нуклеоти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002200" y="2362320"/>
            <a:ext cx="3902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914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роение нуклеот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7640" y="1197000"/>
            <a:ext cx="8785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зотистое основа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хар пентоза остаток фосфорной кисл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90720" y="3505320"/>
            <a:ext cx="1676160" cy="2514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352680" y="3657600"/>
            <a:ext cx="2819520" cy="2057400"/>
          </a:xfrm>
          <a:prstGeom prst="pentagon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6400800" y="3657600"/>
            <a:ext cx="2286000" cy="23623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127160" y="308916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226880" y="39625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SimSun"/>
              </a:rPr>
              <a:t>аден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228680" y="44197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SimSun"/>
              </a:rPr>
              <a:t>тим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226880" y="495288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SimSun"/>
              </a:rPr>
              <a:t>гун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152360" y="54100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SimSun"/>
              </a:rPr>
              <a:t>цито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657600" y="4495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SimSun"/>
              </a:rPr>
              <a:t>Дезоксириб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804000" y="4343400"/>
            <a:ext cx="1440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SimSun"/>
              </a:rPr>
              <a:t>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  <a:ea typeface="SimSun"/>
              </a:rPr>
              <a:t>3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SimSun"/>
              </a:rPr>
              <a:t>PO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imes New Roman"/>
                <a:ea typeface="SimSu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  <a:ea typeface="SimSun"/>
              </a:rPr>
              <a:t>(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SimSun"/>
              </a:rPr>
              <a:t>остато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4356000" y="1413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8172360" y="1413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_413</cp:lastModifiedBy>
  <dcterms:modified xsi:type="dcterms:W3CDTF">2013-01-24T13:39:37Z</dcterms:modified>
  <cp:revision>26</cp:revision>
  <dc:subject/>
  <dc:title>Биологические полимеры- нуклеиновые кислоты</dc:title>
</cp:coreProperties>
</file>