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AAE-E828-4738-BA72-B2608321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A9B-2FF6-4A91-A8E9-097DF8D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6A1-A7A4-4E93-AA74-2CE670CC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A2B-2558-40B5-AB04-1D25437A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A93-A6C5-43F1-927F-7B4739C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077-ABBE-46A8-80B6-76EA8C01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547-9C72-48A0-9176-7AC1533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0CB-A26C-4133-9DBB-883FC43E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314-3C7D-49BA-9ED7-3AE0AA24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CF7-E062-4E82-81D3-5482842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14B-7E9D-4669-BCFF-9C5E42E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AB2-A0DB-4BD6-8D6B-2679267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6FE-A413-41E6-8A26-980A6FD71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2622416840XgfQ7.jpg"/>
          <p:cNvPicPr/>
          <p:nvPr/>
        </p:nvPicPr>
        <p:blipFill>
          <a:blip r:embed="rId1"/>
          <a:srcRect l="2835" t="0" r="0" b="7922"/>
          <a:stretch/>
        </p:blipFill>
        <p:spPr>
          <a:xfrm>
            <a:off x="0" y="1379520"/>
            <a:ext cx="6588000" cy="5478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33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тивная и долговременная память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433840" y="5934240"/>
            <a:ext cx="37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Орлова Елена Альберто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СОШ № 451,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85840" y="185724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§ 2.2.4, 2.2.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уст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2.1, 2.2  письменно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Box 1" descr=""/>
          <p:cNvPicPr/>
          <p:nvPr/>
        </p:nvPicPr>
        <p:blipFill>
          <a:blip r:embed="rId1"/>
          <a:stretch/>
        </p:blipFill>
        <p:spPr>
          <a:xfrm>
            <a:off x="1073160" y="1542960"/>
            <a:ext cx="63086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023840" y="26431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reat.az/index.php?newsid=81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00080" y="16430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b.rus.ec/b/331980/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000080" y="21430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.all.biz/g67215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43200" y="571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тив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286160" y="1500120"/>
          <a:ext cx="4357800" cy="453096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ячей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я в ячей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73 741 8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4"/>
          <p:cNvSpPr/>
          <p:nvPr/>
        </p:nvSpPr>
        <p:spPr>
          <a:xfrm>
            <a:off x="428760" y="1500120"/>
            <a:ext cx="36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ая память представляет собой последовательность пронумерованных, начиная с нуля, яче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71680" y="44290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й ячейке может храниться двоичный код, длиной восемь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8"/>
          <p:cNvCxnSpPr/>
          <p:nvPr/>
        </p:nvCxnSpPr>
        <p:spPr>
          <a:xfrm flipV="1">
            <a:off x="2857320" y="5214960"/>
            <a:ext cx="3786840" cy="643320"/>
          </a:xfrm>
          <a:prstGeom prst="straightConnector1">
            <a:avLst/>
          </a:prstGeom>
          <a:ln w="158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15"/>
          <p:cNvCxnSpPr/>
          <p:nvPr/>
        </p:nvCxnSpPr>
        <p:spPr>
          <a:xfrm>
            <a:off x="2428560" y="3429000"/>
            <a:ext cx="2786760" cy="2358000"/>
          </a:xfrm>
          <a:prstGeom prst="straightConnector1">
            <a:avLst/>
          </a:prstGeom>
          <a:ln w="158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тив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14200" y="1071720"/>
            <a:ext cx="871560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оперативной памяти компьютера можно определ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формул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оп 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яч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я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личество информации, хранящейся в ячей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яче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3441600"/>
            <a:ext cx="90010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 компьютере количество ячеек памяти равно 1 073 741 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личество информации в каждой ячейке,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Arial"/>
              </a:rPr>
              <a:t>яч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= 8 битов = 1 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огда информационный объём оперативной памяти данного компьютера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Arial"/>
              </a:rPr>
              <a:t>оп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Arial"/>
              </a:rPr>
              <a:t>яч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=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1 байт * 1 073 741 824 =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1 073 741 824 байтов/1024 =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1 048 576 Кбайт/1024 =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1024 Мбайт =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1 Г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ератив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28760" y="12859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ая память изготавливается в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800pxddr2rammounted.jpg"/>
          <p:cNvPicPr/>
          <p:nvPr/>
        </p:nvPicPr>
        <p:blipFill>
          <a:blip r:embed="rId1"/>
          <a:stretch/>
        </p:blipFill>
        <p:spPr>
          <a:xfrm>
            <a:off x="285840" y="2857680"/>
            <a:ext cx="5729040" cy="3824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572160" y="442908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и памяти устанавливаются в специальные разъёмы на системной плате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9" descr="mem.jpg"/>
          <p:cNvPicPr/>
          <p:nvPr/>
        </p:nvPicPr>
        <p:blipFill>
          <a:blip r:embed="rId2"/>
          <a:stretch/>
        </p:blipFill>
        <p:spPr>
          <a:xfrm>
            <a:off x="6215040" y="1785960"/>
            <a:ext cx="2714760" cy="1417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2"/>
          <p:cNvSpPr/>
          <p:nvPr/>
        </p:nvSpPr>
        <p:spPr>
          <a:xfrm>
            <a:off x="5857920" y="1285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е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3"/>
          <p:cNvSpPr/>
          <p:nvPr/>
        </p:nvSpPr>
        <p:spPr>
          <a:xfrm>
            <a:off x="6858000" y="17859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6"/>
          <p:cNvSpPr/>
          <p:nvPr/>
        </p:nvSpPr>
        <p:spPr>
          <a:xfrm rot="5400000">
            <a:off x="5821920" y="5107680"/>
            <a:ext cx="214200" cy="1143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mph" presetID="27" repeatCount="3000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времен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1561404.jpg"/>
          <p:cNvPicPr/>
          <p:nvPr/>
        </p:nvPicPr>
        <p:blipFill>
          <a:blip r:embed="rId1"/>
          <a:stretch/>
        </p:blipFill>
        <p:spPr>
          <a:xfrm>
            <a:off x="714240" y="1285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cd1.jpg"/>
          <p:cNvPicPr/>
          <p:nvPr/>
        </p:nvPicPr>
        <p:blipFill>
          <a:blip r:embed="rId2"/>
          <a:stretch/>
        </p:blipFill>
        <p:spPr>
          <a:xfrm>
            <a:off x="5786280" y="1571760"/>
            <a:ext cx="2500560" cy="187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4GBKINGSTONE.jpg"/>
          <p:cNvPicPr/>
          <p:nvPr/>
        </p:nvPicPr>
        <p:blipFill>
          <a:blip r:embed="rId3"/>
          <a:stretch/>
        </p:blipFill>
        <p:spPr>
          <a:xfrm>
            <a:off x="928800" y="4500720"/>
            <a:ext cx="2071440" cy="1682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slide0037_image011.jpg"/>
          <p:cNvPicPr/>
          <p:nvPr/>
        </p:nvPicPr>
        <p:blipFill>
          <a:blip r:embed="rId4"/>
          <a:stretch/>
        </p:blipFill>
        <p:spPr>
          <a:xfrm>
            <a:off x="6429240" y="4143240"/>
            <a:ext cx="2300400" cy="207648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500120" y="3643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сткий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215040" y="36432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ий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0040" y="62150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памят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857760" y="507204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3" descr="flash-disk-1gb-usb-20-kingston--1177489_enl.jpg"/>
          <p:cNvPicPr/>
          <p:nvPr/>
        </p:nvPicPr>
        <p:blipFill>
          <a:blip r:embed="rId5"/>
          <a:srcRect l="0" t="23078" r="0" b="24176"/>
          <a:stretch/>
        </p:blipFill>
        <p:spPr>
          <a:xfrm>
            <a:off x="3286080" y="3857760"/>
            <a:ext cx="270828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4"/>
          <p:cNvSpPr/>
          <p:nvPr/>
        </p:nvSpPr>
        <p:spPr>
          <a:xfrm>
            <a:off x="7073640" y="62150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времен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200640" cy="4429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143000" y="114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ёсткий магнитный 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времен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143000" y="114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тический д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5486540.jpg"/>
          <p:cNvPicPr/>
          <p:nvPr/>
        </p:nvPicPr>
        <p:blipFill>
          <a:blip r:embed="rId1"/>
          <a:stretch/>
        </p:blipFill>
        <p:spPr>
          <a:xfrm>
            <a:off x="428760" y="2071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4" descr="1318163663_6.jpg"/>
          <p:cNvPicPr/>
          <p:nvPr/>
        </p:nvPicPr>
        <p:blipFill>
          <a:blip r:embed="rId2"/>
          <a:stretch/>
        </p:blipFill>
        <p:spPr>
          <a:xfrm>
            <a:off x="3714840" y="1928880"/>
            <a:ext cx="4775040" cy="3124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8"/>
          <p:cNvSpPr/>
          <p:nvPr/>
        </p:nvSpPr>
        <p:spPr>
          <a:xfrm>
            <a:off x="285840" y="522612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ь оптического диска имеет участки с различной отражающей способностью.  Луч лазера дисковода падает на поверхность диска, отражается и преобразуется в цифровой компьютерный код (отражает – 1, не отражает –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времен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143000" y="114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нергонезависимая память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143240" y="2214720"/>
            <a:ext cx="500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диск изнут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USB-разъ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Микроконтрол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Контрольные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Микросхема Flash-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 Кварцевый резон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 Светод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 Переключатель «защита от запис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 Место для дополнительной микросхемы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043cc0be086f55d452857db7eaec_grande.jpg"/>
          <p:cNvPicPr/>
          <p:nvPr/>
        </p:nvPicPr>
        <p:blipFill>
          <a:blip r:embed="rId1"/>
          <a:stretch/>
        </p:blipFill>
        <p:spPr>
          <a:xfrm>
            <a:off x="214200" y="2214720"/>
            <a:ext cx="3943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лговременная 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43000" y="114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нергонезависимая память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SD-2GB-inside.jpg"/>
          <p:cNvPicPr/>
          <p:nvPr/>
        </p:nvPicPr>
        <p:blipFill>
          <a:blip r:embed="rId1"/>
          <a:stretch/>
        </p:blipFill>
        <p:spPr>
          <a:xfrm>
            <a:off x="500040" y="1785960"/>
            <a:ext cx="2357640" cy="3087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071880" y="235728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т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большую интегральную схему (БИС), помещенную в миниатюрный плоский корп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cardreader3d.jpg"/>
          <p:cNvPicPr/>
          <p:nvPr/>
        </p:nvPicPr>
        <p:blipFill>
          <a:blip r:embed="rId2"/>
          <a:stretch/>
        </p:blipFill>
        <p:spPr>
          <a:xfrm>
            <a:off x="5715000" y="4071960"/>
            <a:ext cx="3230640" cy="2639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214200" y="5357880"/>
            <a:ext cx="60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читывания информации с карт памяти используются специальные адапт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46:56Z</dcterms:created>
  <dc:creator>Laki1</dc:creator>
  <dc:description/>
  <dc:language>en-US</dc:language>
  <cp:lastModifiedBy>Laki1</cp:lastModifiedBy>
  <dcterms:modified xsi:type="dcterms:W3CDTF">2012-01-04T18:47:05Z</dcterms:modified>
  <cp:revision>45</cp:revision>
  <dc:subject/>
  <dc:title>Слайд 1</dc:title>
</cp:coreProperties>
</file>