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23E-2D30-4E44-9381-8F0A8AF1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249-5B44-44C5-8952-72BAADEB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79A-1376-42AC-A97A-6B30932A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F50-9DAE-4B11-A4E2-CFE8E7B4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D3E-2851-4F93-BA8A-630B3F12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C56-F3FC-49CD-8739-044E8597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7C0-9B58-4C8E-8BF4-6E81BC4F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1B2-F9EB-4CBA-A3DA-792A3B6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588-59F5-4237-B16D-5D55CC3F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F98-6224-4F07-87B9-89955D50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E23-08F7-436D-96F1-3DD72002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515-02E4-4CF4-8170-278CE33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E309-C7BB-4211-8ABC-5C4BDED88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:\Documents and Settings\Admin\Рабочий стол\карт\01.jpg"/>
          <p:cNvPicPr/>
          <p:nvPr/>
        </p:nvPicPr>
        <p:blipFill>
          <a:blip r:embed="rId1"/>
          <a:stretch/>
        </p:blipFill>
        <p:spPr>
          <a:xfrm>
            <a:off x="2484360" y="333360"/>
            <a:ext cx="6184800" cy="58723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"/>
          <p:cNvGrpSpPr/>
          <p:nvPr/>
        </p:nvGrpSpPr>
        <p:grpSpPr>
          <a:xfrm>
            <a:off x="0" y="360"/>
            <a:ext cx="2493720" cy="3014280"/>
            <a:chOff x="0" y="360"/>
            <a:chExt cx="2493720" cy="3014280"/>
          </a:xfrm>
        </p:grpSpPr>
        <p:sp>
          <p:nvSpPr>
            <p:cNvPr id="43" name="Puzzle3"/>
            <p:cNvSpPr/>
            <p:nvPr/>
          </p:nvSpPr>
          <p:spPr>
            <a:xfrm rot="16200000">
              <a:off x="70200" y="291240"/>
              <a:ext cx="1184760" cy="1325520"/>
            </a:xfrm>
            <a:custGeom>
              <a:avLst/>
              <a:gdLst>
                <a:gd name="textAreaLeft" fmla="*/ 124200 w 1184760"/>
                <a:gd name="textAreaRight" fmla="*/ 1050840 w 1184760"/>
                <a:gd name="textAreaTop" fmla="*/ 473400 h 1325520"/>
                <a:gd name="textAreaBottom" fmla="*/ 1241640 h 13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Puzzle2"/>
            <p:cNvSpPr/>
            <p:nvPr/>
          </p:nvSpPr>
          <p:spPr>
            <a:xfrm rot="16200000">
              <a:off x="623520" y="342360"/>
              <a:ext cx="1891080" cy="1207080"/>
            </a:xfrm>
            <a:custGeom>
              <a:avLst/>
              <a:gdLst>
                <a:gd name="textAreaLeft" fmla="*/ 472320 w 1891080"/>
                <a:gd name="textAreaRight" fmla="*/ 1416960 w 1891080"/>
                <a:gd name="textAreaTop" fmla="*/ 376200 h 1207080"/>
                <a:gd name="textAreaBottom" fmla="*/ 1142640 h 12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00ffff"/>
            </a:solidFill>
            <a:ln w="284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Puzzle4"/>
            <p:cNvSpPr/>
            <p:nvPr/>
          </p:nvSpPr>
          <p:spPr>
            <a:xfrm rot="16200000">
              <a:off x="1152000" y="1281600"/>
              <a:ext cx="1140120" cy="1543320"/>
            </a:xfrm>
            <a:custGeom>
              <a:avLst/>
              <a:gdLst>
                <a:gd name="textAreaLeft" fmla="*/ 109440 w 1140120"/>
                <a:gd name="textAreaRight" fmla="*/ 1067040 w 1140120"/>
                <a:gd name="textAreaTop" fmla="*/ 404280 h 1543320"/>
                <a:gd name="textAreaBottom" fmla="*/ 1141560 h 15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996600"/>
            </a:solidFill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Puzzle1"/>
            <p:cNvSpPr/>
            <p:nvPr/>
          </p:nvSpPr>
          <p:spPr>
            <a:xfrm rot="16200000">
              <a:off x="-96480" y="1597320"/>
              <a:ext cx="1914840" cy="919800"/>
            </a:xfrm>
            <a:custGeom>
              <a:avLst/>
              <a:gdLst>
                <a:gd name="textAreaLeft" fmla="*/ 539280 w 1914840"/>
                <a:gd name="textAreaRight" fmla="*/ 1429920 w 1914840"/>
                <a:gd name="textAreaTop" fmla="*/ 109080 h 919800"/>
                <a:gd name="textAreaBottom" fmla="*/ 832320 h 91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3366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Monotype Corsiva"/>
              </a:rPr>
              <a:t>Отрицательное воздействие Интернета на здоровье челове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1332000" y="1327320"/>
            <a:ext cx="6335640" cy="387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 rot="20361000">
            <a:off x="130320" y="642600"/>
            <a:ext cx="5722920" cy="2927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3348000" y="2949480"/>
            <a:ext cx="5796000" cy="3648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971640" y="177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708360" y="3645000"/>
            <a:ext cx="5256360" cy="31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Где куются ключи к судьбе?</a:t>
            </a:r>
            <a:br>
              <a:rPr sz="2800"/>
            </a:b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Лишь в тебе!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Monotype Corsiva"/>
              </a:rPr>
              <a:t>Чем расплатишься ты за проигранный бой?</a:t>
            </a:r>
            <a:br>
              <a:rPr sz="2800"/>
            </a:b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Лишь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8"/>
          <p:cNvSpPr/>
          <p:nvPr/>
        </p:nvSpPr>
        <p:spPr>
          <a:xfrm rot="20117400">
            <a:off x="824040" y="112608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Кто воздвигнет тебя к небесам?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Только 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9"/>
          <p:cNvSpPr/>
          <p:nvPr/>
        </p:nvSpPr>
        <p:spPr>
          <a:xfrm rot="20013000">
            <a:off x="2189880" y="2673360"/>
            <a:ext cx="567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Monotype Corsiva"/>
              </a:rPr>
              <a:t>Кто низвергнет тебя с высоты?</a:t>
            </a:r>
            <a:br>
              <a:rPr sz="3200"/>
            </a:b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175280" cy="255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4788000" cy="2927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3348000" y="2949480"/>
            <a:ext cx="5796000" cy="3648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71640" y="1773360"/>
            <a:ext cx="37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Monotype Corsiva"/>
              </a:rPr>
              <a:t>СПАСИБ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635280" y="278136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Monotype Corsiva"/>
              </a:rPr>
              <a:t>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07664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Monotype Corsiva"/>
              </a:rPr>
              <a:t>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3300"/>
                </a:solidFill>
                <a:uFillTx/>
                <a:latin typeface="Monotype Corsiva"/>
              </a:rPr>
              <a:t>Зр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\Рабочий стол\карт\10ap22.jpg"/>
          <p:cNvPicPr/>
          <p:nvPr/>
        </p:nvPicPr>
        <p:blipFill>
          <a:blip r:embed="rId1"/>
          <a:stretch/>
        </p:blipFill>
        <p:spPr>
          <a:xfrm>
            <a:off x="3419640" y="981000"/>
            <a:ext cx="5545080" cy="554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4681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Если работать на компьютере достаточно долго, то зрительное переутомление может привести к устойчивому снижению остроты зрения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Documents and Settings\Admin\Рабочий стол\карт\5-Surprising-Ways-Stress-Affects-Health_full_article_vertical.jpg"/>
          <p:cNvPicPr/>
          <p:nvPr/>
        </p:nvPicPr>
        <p:blipFill>
          <a:blip r:embed="rId2"/>
          <a:stretch/>
        </p:blipFill>
        <p:spPr>
          <a:xfrm>
            <a:off x="3995640" y="620640"/>
            <a:ext cx="4921200" cy="583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5113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Первый и самый главный</a:t>
            </a: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редный влияющий фактор - это </a:t>
            </a: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нагрузка на зрение</a:t>
            </a: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.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менно из-за нагрузки на зрение через некоторое время может возникнуть </a:t>
            </a: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головная боль и головокружение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BD18241_"/>
          <p:cNvPicPr/>
          <p:nvPr/>
        </p:nvPicPr>
        <p:blipFill>
          <a:blip r:embed="rId1"/>
          <a:stretch/>
        </p:blipFill>
        <p:spPr>
          <a:xfrm>
            <a:off x="1209600" y="3978360"/>
            <a:ext cx="2930760" cy="253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j0229385"/>
          <p:cNvPicPr/>
          <p:nvPr/>
        </p:nvPicPr>
        <p:blipFill>
          <a:blip r:embed="rId3"/>
          <a:stretch/>
        </p:blipFill>
        <p:spPr>
          <a:xfrm>
            <a:off x="1563840" y="2101680"/>
            <a:ext cx="2287440" cy="157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j0229389"/>
          <p:cNvPicPr/>
          <p:nvPr/>
        </p:nvPicPr>
        <p:blipFill>
          <a:blip r:embed="rId4"/>
          <a:stretch/>
        </p:blipFill>
        <p:spPr>
          <a:xfrm>
            <a:off x="5664240" y="1822320"/>
            <a:ext cx="1866960" cy="196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C:\Documents and Settings\Admin\Рабочий стол\карт\4385c39e75d8t.jpg"/>
          <p:cNvPicPr/>
          <p:nvPr/>
        </p:nvPicPr>
        <p:blipFill>
          <a:blip r:embed="rId5"/>
          <a:stretch/>
        </p:blipFill>
        <p:spPr>
          <a:xfrm>
            <a:off x="5580000" y="2997360"/>
            <a:ext cx="3384720" cy="36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Настоящие убийцы глаза - </a:t>
            </a:r>
            <a:r>
              <a:rPr b="1" lang="ru-RU" sz="6000" spc="-1" strike="noStrike">
                <a:solidFill>
                  <a:srgbClr val="7030a0"/>
                </a:solidFill>
                <a:latin typeface="Monotype Corsiva"/>
              </a:rPr>
              <a:t>это игры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. Движущееся изображение, мелкие элементы - все это приводит </a:t>
            </a:r>
            <a:r>
              <a:rPr b="1" lang="ru-RU" sz="6000" spc="-1" strike="noStrike">
                <a:solidFill>
                  <a:srgbClr val="7030a0"/>
                </a:solidFill>
                <a:latin typeface="Monotype Corsiva"/>
              </a:rPr>
              <a:t>к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такому </a:t>
            </a:r>
            <a:r>
              <a:rPr b="1" lang="ru-RU" sz="6000" spc="-1" strike="noStrike">
                <a:solidFill>
                  <a:srgbClr val="7030a0"/>
                </a:solidFill>
                <a:latin typeface="Monotype Corsiva"/>
              </a:rPr>
              <a:t>переутомлению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, которое снимается очень нескоро. 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1378080"/>
            <a:ext cx="8964720" cy="5479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Вторым по вредности фактором</a:t>
            </a:r>
            <a:r>
              <a:rPr b="0" lang="ru-RU" sz="4000" spc="-1" strike="noStrike">
                <a:solidFill>
                  <a:srgbClr val="c00000"/>
                </a:solidFill>
                <a:latin typeface="Monotype Corsiva"/>
              </a:rPr>
              <a:t>, влияющим на здоровье, является 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тесненная поза </a:t>
            </a:r>
            <a:r>
              <a:rPr b="0" lang="ru-RU" sz="4000" spc="-1" strike="noStrike">
                <a:solidFill>
                  <a:srgbClr val="c00000"/>
                </a:solidFill>
                <a:latin typeface="Monotype Corsiva"/>
              </a:rPr>
              <a:t> при занятиях на ПК, что приводит к следующим нарушения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*  </a:t>
            </a: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затрудненное дыхание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    </a:t>
            </a: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*  остеохондроз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    </a:t>
            </a: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*  заболевания сустав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                             </a:t>
            </a: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кистей  ру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2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66ff"/>
                </a:solidFill>
                <a:uFillTx/>
                <a:latin typeface="Monotype Corsiva"/>
              </a:rPr>
              <a:t>Нагрузка на психику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23" descr="C:\Documents and Settings\Admin\Рабочий стол\карт\0_4fb5_ea63b7af_XL.jpg"/>
          <p:cNvPicPr/>
          <p:nvPr/>
        </p:nvPicPr>
        <p:blipFill>
          <a:blip r:embed="rId2"/>
          <a:stretch/>
        </p:blipFill>
        <p:spPr>
          <a:xfrm>
            <a:off x="1258920" y="1341360"/>
            <a:ext cx="6919920" cy="51879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0"/>
          <p:cNvSpPr/>
          <p:nvPr/>
        </p:nvSpPr>
        <p:spPr>
          <a:xfrm>
            <a:off x="179280" y="836640"/>
            <a:ext cx="87854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Monotype Corsiva"/>
              </a:rPr>
              <a:t>Компьютер требу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Monotype Corsiva"/>
              </a:rPr>
              <a:t>не меньшей сосредоточенности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Monotype Corsiva"/>
              </a:rPr>
              <a:t>чем вождение автомобиля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2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66ff"/>
                </a:solidFill>
                <a:uFillTx/>
                <a:latin typeface="Monotype Corsiva"/>
              </a:rPr>
              <a:t>Нагрузка на психику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Таблица 10" descr="sigoesperando.jpg"/>
          <p:cNvPicPr/>
          <p:nvPr/>
        </p:nvPicPr>
        <p:blipFill>
          <a:blip r:embed="rId2"/>
          <a:stretch/>
        </p:blipFill>
        <p:spPr>
          <a:xfrm>
            <a:off x="3564000" y="2276640"/>
            <a:ext cx="5305320" cy="43862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0"/>
          <p:cNvSpPr/>
          <p:nvPr/>
        </p:nvSpPr>
        <p:spPr>
          <a:xfrm>
            <a:off x="179280" y="620640"/>
            <a:ext cx="87854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9900"/>
                </a:solidFill>
                <a:latin typeface="Monotype Corsiva"/>
              </a:rPr>
              <a:t>Не заменяй живое общение виртуальным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4" descr="j0291984"/>
          <p:cNvPicPr/>
          <p:nvPr/>
        </p:nvPicPr>
        <p:blipFill>
          <a:blip r:embed="rId1"/>
          <a:stretch/>
        </p:blipFill>
        <p:spPr>
          <a:xfrm>
            <a:off x="243000" y="4898880"/>
            <a:ext cx="1807920" cy="191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705800" cy="4248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ff"/>
                </a:solidFill>
                <a:uFillTx/>
                <a:latin typeface="Monotype Corsiva"/>
              </a:rPr>
              <a:t>Излуч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Organization Chart 4"/>
          <p:cNvGrpSpPr/>
          <p:nvPr/>
        </p:nvGrpSpPr>
        <p:grpSpPr>
          <a:xfrm>
            <a:off x="457200" y="907920"/>
            <a:ext cx="8228880" cy="5217120"/>
            <a:chOff x="457200" y="907920"/>
            <a:chExt cx="8228880" cy="5217120"/>
          </a:xfrm>
        </p:grpSpPr>
        <p:cxnSp>
          <p:nvCxnSpPr>
            <p:cNvPr id="75" name="_s1028"/>
            <p:cNvCxnSpPr>
              <a:stCxn id="76" idx="0"/>
              <a:endCxn id="77" idx="2"/>
            </p:cNvCxnSpPr>
            <p:nvPr/>
          </p:nvCxnSpPr>
          <p:spPr>
            <a:xfrm flipV="1" rot="16200000">
              <a:off x="6913080" y="3961800"/>
              <a:ext cx="652680" cy="1065240"/>
            </a:xfrm>
            <a:prstGeom prst="bentConnector3">
              <a:avLst>
                <a:gd name="adj1" fmla="val 204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1029"/>
            <p:cNvCxnSpPr>
              <a:stCxn id="79" idx="0"/>
              <a:endCxn id="77" idx="2"/>
            </p:cNvCxnSpPr>
            <p:nvPr/>
          </p:nvCxnSpPr>
          <p:spPr>
            <a:xfrm flipH="1" flipV="1" rot="5400000">
              <a:off x="5846760" y="3959640"/>
              <a:ext cx="652680" cy="1069560"/>
            </a:xfrm>
            <a:prstGeom prst="bentConnector3">
              <a:avLst>
                <a:gd name="adj1" fmla="val 204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30"/>
            <p:cNvCxnSpPr>
              <a:stCxn id="81" idx="0"/>
              <a:endCxn id="82" idx="2"/>
            </p:cNvCxnSpPr>
            <p:nvPr/>
          </p:nvCxnSpPr>
          <p:spPr>
            <a:xfrm flipV="1" rot="16200000">
              <a:off x="2646000" y="3959640"/>
              <a:ext cx="652680" cy="1069560"/>
            </a:xfrm>
            <a:prstGeom prst="bentConnector3">
              <a:avLst>
                <a:gd name="adj1" fmla="val 204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1"/>
            <p:cNvCxnSpPr>
              <a:stCxn id="84" idx="0"/>
              <a:endCxn id="82" idx="2"/>
            </p:cNvCxnSpPr>
            <p:nvPr/>
          </p:nvCxnSpPr>
          <p:spPr>
            <a:xfrm flipH="1" flipV="1" rot="5400000">
              <a:off x="1578240" y="3960720"/>
              <a:ext cx="652680" cy="1067400"/>
            </a:xfrm>
            <a:prstGeom prst="bentConnector3">
              <a:avLst>
                <a:gd name="adj1" fmla="val 204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2"/>
            <p:cNvCxnSpPr>
              <a:stCxn id="77" idx="0"/>
              <a:endCxn id="86" idx="2"/>
            </p:cNvCxnSpPr>
            <p:nvPr/>
          </p:nvCxnSpPr>
          <p:spPr>
            <a:xfrm flipV="1" rot="16200000">
              <a:off x="5312880" y="1469880"/>
              <a:ext cx="652680" cy="2135880"/>
            </a:xfrm>
            <a:prstGeom prst="bentConnector3">
              <a:avLst>
                <a:gd name="adj1" fmla="val 204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33"/>
            <p:cNvCxnSpPr>
              <a:stCxn id="88" idx="0"/>
              <a:endCxn id="86" idx="2"/>
            </p:cNvCxnSpPr>
            <p:nvPr/>
          </p:nvCxnSpPr>
          <p:spPr>
            <a:xfrm flipV="1">
              <a:off x="4571640" y="2211480"/>
              <a:ext cx="2520" cy="65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34"/>
            <p:cNvCxnSpPr>
              <a:stCxn id="82" idx="0"/>
              <a:endCxn id="86" idx="2"/>
            </p:cNvCxnSpPr>
            <p:nvPr/>
          </p:nvCxnSpPr>
          <p:spPr>
            <a:xfrm flipH="1" flipV="1" rot="5400000">
              <a:off x="3178800" y="1470960"/>
              <a:ext cx="652680" cy="2134080"/>
            </a:xfrm>
            <a:prstGeom prst="bentConnector3">
              <a:avLst>
                <a:gd name="adj1" fmla="val 204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1035"/>
            <p:cNvSpPr/>
            <p:nvPr/>
          </p:nvSpPr>
          <p:spPr>
            <a:xfrm>
              <a:off x="3657600" y="907920"/>
              <a:ext cx="1828440" cy="1304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6"/>
            <p:cNvSpPr/>
            <p:nvPr/>
          </p:nvSpPr>
          <p:spPr>
            <a:xfrm>
              <a:off x="1523880" y="2864160"/>
              <a:ext cx="1828440" cy="1304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7"/>
            <p:cNvSpPr/>
            <p:nvPr/>
          </p:nvSpPr>
          <p:spPr>
            <a:xfrm>
              <a:off x="3657600" y="2864160"/>
              <a:ext cx="1828440" cy="1304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8"/>
            <p:cNvSpPr/>
            <p:nvPr/>
          </p:nvSpPr>
          <p:spPr>
            <a:xfrm>
              <a:off x="5791320" y="2864160"/>
              <a:ext cx="1828440" cy="1304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39"/>
            <p:cNvSpPr/>
            <p:nvPr/>
          </p:nvSpPr>
          <p:spPr>
            <a:xfrm>
              <a:off x="457200" y="4820760"/>
              <a:ext cx="1828440" cy="130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0"/>
            <p:cNvSpPr/>
            <p:nvPr/>
          </p:nvSpPr>
          <p:spPr>
            <a:xfrm>
              <a:off x="2590560" y="4820760"/>
              <a:ext cx="1828440" cy="130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0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1"/>
            <p:cNvSpPr/>
            <p:nvPr/>
          </p:nvSpPr>
          <p:spPr>
            <a:xfrm>
              <a:off x="4724280" y="4820760"/>
              <a:ext cx="1828440" cy="130428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6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2"/>
            <p:cNvSpPr/>
            <p:nvPr/>
          </p:nvSpPr>
          <p:spPr>
            <a:xfrm>
              <a:off x="6857640" y="4820760"/>
              <a:ext cx="1828440" cy="130428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6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Прямоугольник 7"/>
          <p:cNvSpPr/>
          <p:nvPr/>
        </p:nvSpPr>
        <p:spPr>
          <a:xfrm>
            <a:off x="179280" y="692280"/>
            <a:ext cx="8569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Уменьшить вредное влияние излучения  и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снизить вредное влияние ПК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ожно такими способами: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1619280" y="2708280"/>
            <a:ext cx="165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становка ионизатора воздуха в поме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3780000" y="2924280"/>
            <a:ext cx="158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лажная уборка в поме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5867280" y="2708280"/>
            <a:ext cx="17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становка монитора задней стен-кой к ст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2627280" y="4724280"/>
            <a:ext cx="18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ограничение времени игры и работы 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4716360" y="4508640"/>
            <a:ext cx="18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регулярные перерывы по 15 минут через каждые 3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6875640" y="450864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правильное расстояние от глаз до дисплея (45-60 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468360" y="4653000"/>
            <a:ext cx="18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умывание холодной водой посл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j0291984"/>
          <p:cNvPicPr/>
          <p:nvPr/>
        </p:nvPicPr>
        <p:blipFill>
          <a:blip r:embed="rId1"/>
          <a:stretch/>
        </p:blipFill>
        <p:spPr>
          <a:xfrm>
            <a:off x="243000" y="4898880"/>
            <a:ext cx="1807920" cy="1914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3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ff"/>
                </a:solidFill>
                <a:uFillTx/>
                <a:latin typeface="Monotype Corsiva"/>
              </a:rPr>
              <a:t>Социологический опр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179280" y="-74520"/>
            <a:ext cx="4680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12, 2 % - общаюсь в се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   18, 1 % - читаю кни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   30,1 % - посещаю кружки, с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4.   44, 9 % - играют в компьютерные иг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5.   43, 7 % - общаюсь по телефо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   71,1 % провожу время с друзь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7.   74, 2 % - смотрю телевиз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C:\Documents and Settings\Admin\Рабочий стол\Влияние компьютера на психику человека.jpg"/>
          <p:cNvPicPr/>
          <p:nvPr/>
        </p:nvPicPr>
        <p:blipFill>
          <a:blip r:embed="rId2"/>
          <a:stretch/>
        </p:blipFill>
        <p:spPr>
          <a:xfrm>
            <a:off x="6443640" y="260280"/>
            <a:ext cx="2521080" cy="1630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6"/>
          <p:cNvSpPr/>
          <p:nvPr/>
        </p:nvSpPr>
        <p:spPr>
          <a:xfrm>
            <a:off x="4932360" y="2421000"/>
            <a:ext cx="4032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5003640" y="1844640"/>
            <a:ext cx="38163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резь в глазах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головная боль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повышенная нервозность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утомленность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расстройство памяти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нарушение сна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выпадение волос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сухость и покраснение кожи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экзема и аллергия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боль в животе и пояснице, вызванные неправильной посадкой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Monotype Corsiva"/>
              </a:rPr>
              <a:t>* боль в запястье и пальцах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8:41:24Z</dcterms:created>
  <dc:creator>user</dc:creator>
  <dc:description/>
  <dc:language>en-US</dc:language>
  <cp:lastModifiedBy>Анатолий</cp:lastModifiedBy>
  <dcterms:modified xsi:type="dcterms:W3CDTF">2011-03-16T08:42:46Z</dcterms:modified>
  <cp:revision>35</cp:revision>
  <dc:subject/>
  <dc:title>Слайд 1</dc:title>
</cp:coreProperties>
</file>