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9489-2E67-4761-B471-54BE89F0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B545-A6FA-4E4C-B339-5BEACA52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52081-A86C-4EAC-904D-0709AC6D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52EB-3695-4CC2-AB1E-5185FD16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44D4-88A6-49B8-8433-16293CA5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CC82-29DD-4134-B633-BB172764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64C4-6459-4915-9040-B0C7F78B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4E74-4206-4B66-B49B-36EE1D14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D079-F6BB-4BD6-BF70-00CB6F84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3E30-A590-4F7A-A6AB-393B54D8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BCC6-82E8-483B-89BC-807E48A7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29434-0B92-44DD-AE88-65FA4A99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5436-2E83-4EDC-882C-5634AB12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D7D6-77EE-4927-8B9E-55E45974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B645-282A-499B-B5DF-7881490D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BD97-AD57-4240-A26B-105392E1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C89B-7F21-4C76-ACA2-CFA78A2B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2DA80-E0F3-4B85-9ADB-DC6939E9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82403-A504-419F-9543-1A9FEE07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DFBF-D470-4F65-BBAF-C60AE9E1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A36B8-A0A5-4E09-B19B-F79E46CB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A274-9B12-4292-AC00-29225A25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8F3D-0835-4EEE-8E30-0A2E58C6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73139-1A69-49D1-8A6D-35D239CC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7F87-3DC4-40B2-83DE-6FCE6C9FE4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5AAF-E1F9-4924-B4AD-F6EA4E8EC2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Подготовка к контрольной работе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по теме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ЕХАНИ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44040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0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Автор: Лисовская И.А. СПб, гимназия №148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85680"/>
          </a:xfrm>
          <a:prstGeom prst="rect">
            <a:avLst/>
          </a:prstGeom>
          <a:noFill/>
          <a:ln w="0">
            <a:noFill/>
          </a:ln>
        </p:spPr>
        <p:txBody>
          <a:bodyPr tIns="39960" bIns="39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Выберите правильные утверждения, используя график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56000" y="404640"/>
            <a:ext cx="4788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рвое тело движется равномерно, а второе  - равнозамедленно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рез 10 с тела встретятс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ла двигались в противоположных направлениях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дуль ускорения второго тела больш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10 с тела прошли одинаковые пу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рез 15 с скорость второго тела станет равной 10 м/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ВЕТ:  4 и 6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7" descr="Безымянный"/>
          <p:cNvPicPr/>
          <p:nvPr/>
        </p:nvPicPr>
        <p:blipFill>
          <a:blip r:embed="rId1"/>
          <a:stretch/>
        </p:blipFill>
        <p:spPr>
          <a:xfrm>
            <a:off x="179280" y="1557360"/>
            <a:ext cx="4032360" cy="431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Выберите правильные утверждения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3743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2. Уравнение движения тела имеет ви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X = 3 – 5 t + 2 t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ло движется равноускоренно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чальная координата тела равна 3 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дуль ускорения тела равен 2 м/с</a:t>
            </a:r>
            <a:r>
              <a:rPr b="0" lang="ru-RU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рез 1 с координата тела станет равной 0 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рез 2 с скорость тела станет равной 2 м/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вет: 1, 2 и 4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Выберите правильные утверждения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362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3. Птица массой 500 г летит по прямой на высоте 500 м с постоянной скоростью 20 м/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птицу не действует сила тяже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мпульс птицы равен 10 000 кг м/с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умма всех сил, действующих на птицу, равна 0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лная механическая энергия птицы равна 2,6 кДж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внодействующая всех сил, приложенных к птице, постоянна и отлична от 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вет: 3 и 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Выберите правильное утверждение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4. Камень массой 500 г свободно падает. Сопротивлением воздуха пренебреч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с камня равен 5 Н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скорение камня возрастает во время паде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инетическая энергия возрастает во время паде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внодействующая сил, приложенных к камню, увеличиваетс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момент приземления импульс камня максимале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вет: 3 и 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Выберите правильные утверждения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507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Орбитальная станция вращается с постоянной по величине скоростью по круговой орбите вокруг Земл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скорение станции равно ускорению свободного падения у поверхности Земл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танция находится в состоянии невесом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ла тяжести на станцию не действует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орость станции направлена по касательной к орбит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сли станция перейдет на более низкую орбиту, ее скорость увеличитс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емля притягивает станцию с большей силой, чем станция Земл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вет: 2, 4 и 5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ешите задач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Тело лежало на поверхности Земли. Затем его бросили в океан, и оно затонуло на глубине 2 км. Сравните силу тяжести, действующую на это тело на поверхности Земли и на глубине 2 к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вет: На глубине 2 км увеличится ускорение свободного падения (ближе к центру Земли), поэтому сила тяжести там будет больше, чем на поверхности Зем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ешите задач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2. Тело свободно падает с высоты 180 м. Определите его скорость в момент удара о Землю. Найдите его перемещение в последнюю секунду поле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вет: 60 м/с;  55 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ешите задач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3. Человек массой 70 кг бежит со скоростью 2 м/с навстречу тележке, катящейся со скоростью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м/с и вскакивает на нее. После этого они движутся по направлению движения тележки со скоростью 1 м/с. Найдите массу тележ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вет: 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0 к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9:37:42Z</dcterms:created>
  <dc:creator>Admin</dc:creator>
  <dc:description/>
  <dc:language>en-US</dc:language>
  <cp:lastModifiedBy>без имени</cp:lastModifiedBy>
  <dcterms:modified xsi:type="dcterms:W3CDTF">2013-01-24T23:05:55Z</dcterms:modified>
  <cp:revision>6</cp:revision>
  <dc:subject/>
  <dc:title>Подготовка к контрольной работе  по теме   МЕХАНИКА</dc:title>
</cp:coreProperties>
</file>