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44B-F995-4686-971D-63E3D852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BCB-6882-47E3-BF82-0A578D24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E4E-FAB4-4CFE-86E3-02328263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FD4-ABF2-48AB-BDC9-B6761708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6F7-9E10-4BF6-8F1F-735246C4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F86-2C49-4614-8FDF-F209F923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98A-48A4-4DEC-B8E8-3A61702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325-5063-4FAF-B3B3-3B764D5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288-7EC8-4601-AB52-06F0ED74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BDE-446A-4B52-B329-4DDE290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817-4488-4AFE-83C7-5C7A65C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883-2234-45CA-AF93-B69541F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4DCF-A7F1-482C-B767-6DCCB5B77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квартира твоя высо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добираться домой нелегк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ьзуйся лифтом, но только уч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 лифт с незнакомыми - не захо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гут обидеть тебя, напугать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шь серьёзно, мой друг, пострадат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дь осторожней, всегда берег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И с незнакомцами в лифт не сади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Копия (2) 5"/>
          <p:cNvPicPr/>
          <p:nvPr/>
        </p:nvPicPr>
        <p:blipFill>
          <a:blip r:embed="rId2"/>
          <a:stretch/>
        </p:blipFill>
        <p:spPr>
          <a:xfrm>
            <a:off x="5796000" y="692280"/>
            <a:ext cx="2808360" cy="2217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8700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принимай никаких приглашений незнакомца и не садись к нему в маш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артинка0003"/>
          <p:cNvPicPr/>
          <p:nvPr/>
        </p:nvPicPr>
        <p:blipFill>
          <a:blip r:embed="rId2"/>
          <a:stretch/>
        </p:blipFill>
        <p:spPr>
          <a:xfrm>
            <a:off x="1042920" y="1197000"/>
            <a:ext cx="7129440" cy="36212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уда никогда не ходи с незнакомыми людьми. Если кто-то силой пытается увести тебя, вырывайся и громко зови на 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0010"/>
          <p:cNvPicPr/>
          <p:nvPr/>
        </p:nvPicPr>
        <p:blipFill>
          <a:blip r:embed="rId2"/>
          <a:stretch/>
        </p:blipFill>
        <p:spPr>
          <a:xfrm>
            <a:off x="1332000" y="981000"/>
            <a:ext cx="652788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63640" y="1557000"/>
            <a:ext cx="5435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 1-ый абзац текста «Потерялась»  на стр. 38-3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нужно делать тому, кто потеря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gfj"/>
          <p:cNvPicPr/>
          <p:nvPr/>
        </p:nvPicPr>
        <p:blipFill>
          <a:blip r:embed="rId2"/>
          <a:stretch/>
        </p:blipFill>
        <p:spPr>
          <a:xfrm>
            <a:off x="468360" y="1628640"/>
            <a:ext cx="2944800" cy="388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1" name="Picture 5" descr="Копия картинка0004"/>
          <p:cNvPicPr/>
          <p:nvPr/>
        </p:nvPicPr>
        <p:blipFill>
          <a:blip r:embed="rId3"/>
          <a:stretch/>
        </p:blipFill>
        <p:spPr>
          <a:xfrm>
            <a:off x="539640" y="1341360"/>
            <a:ext cx="3436920" cy="4680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Если ты потеря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52718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чше всего обратиться за помощ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милицион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9"/>
          <p:cNvPicPr/>
          <p:nvPr/>
        </p:nvPicPr>
        <p:blipFill>
          <a:blip r:embed="rId2"/>
          <a:stretch/>
        </p:blipFill>
        <p:spPr>
          <a:xfrm>
            <a:off x="1763640" y="1268280"/>
            <a:ext cx="5307120" cy="39718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Если ты потеря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22720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но подойти к мамам и бабушкам, которые гуляют с дет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"/>
          <p:cNvPicPr/>
          <p:nvPr/>
        </p:nvPicPr>
        <p:blipFill>
          <a:blip r:embed="rId2"/>
          <a:stretch/>
        </p:blipFill>
        <p:spPr>
          <a:xfrm>
            <a:off x="2124000" y="1244520"/>
            <a:ext cx="4680000" cy="3868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Если ты потеря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ты потерялся в большом магазине – подойди к продавц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ли касс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"/>
          <p:cNvPicPr/>
          <p:nvPr/>
        </p:nvPicPr>
        <p:blipFill>
          <a:blip r:embed="rId2"/>
          <a:stretch/>
        </p:blipFill>
        <p:spPr>
          <a:xfrm>
            <a:off x="4572000" y="1413000"/>
            <a:ext cx="2913120" cy="339228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9"/>
          <p:cNvGrpSpPr/>
          <p:nvPr/>
        </p:nvGrpSpPr>
        <p:grpSpPr>
          <a:xfrm>
            <a:off x="1692360" y="1268280"/>
            <a:ext cx="1798560" cy="3652920"/>
            <a:chOff x="1692360" y="1268280"/>
            <a:chExt cx="1798560" cy="3652920"/>
          </a:xfrm>
        </p:grpSpPr>
        <p:pic>
          <p:nvPicPr>
            <p:cNvPr id="102" name="Picture 5" descr="4"/>
            <p:cNvPicPr/>
            <p:nvPr/>
          </p:nvPicPr>
          <p:blipFill>
            <a:blip r:embed="rId3"/>
            <a:stretch/>
          </p:blipFill>
          <p:spPr>
            <a:xfrm flipH="1">
              <a:off x="1692360" y="1268280"/>
              <a:ext cx="17445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7"/>
            <p:cNvSpPr/>
            <p:nvPr/>
          </p:nvSpPr>
          <p:spPr>
            <a:xfrm>
              <a:off x="1835280" y="4221000"/>
              <a:ext cx="43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059280" y="4221000"/>
              <a:ext cx="43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08000" y="2494080"/>
            <a:ext cx="54356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ь на вопросы и выполни задания на стр.4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84360" y="3789360"/>
            <a:ext cx="4546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торожней буд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илые ребя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знакомым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верять не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39640" y="1197000"/>
            <a:ext cx="8136000" cy="2023920"/>
            <a:chOff x="539640" y="1197000"/>
            <a:chExt cx="8136000" cy="2023920"/>
          </a:xfrm>
        </p:grpSpPr>
        <p:pic>
          <p:nvPicPr>
            <p:cNvPr id="110" name="Picture 4" descr="1"/>
            <p:cNvPicPr/>
            <p:nvPr/>
          </p:nvPicPr>
          <p:blipFill>
            <a:blip r:embed="rId2"/>
            <a:stretch/>
          </p:blipFill>
          <p:spPr>
            <a:xfrm>
              <a:off x="539640" y="1197000"/>
              <a:ext cx="2521080" cy="20239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1" name="Picture 5" descr="Копия Копия 1"/>
            <p:cNvPicPr/>
            <p:nvPr/>
          </p:nvPicPr>
          <p:blipFill>
            <a:blip r:embed="rId3"/>
            <a:stretch/>
          </p:blipFill>
          <p:spPr>
            <a:xfrm>
              <a:off x="3348000" y="1197000"/>
              <a:ext cx="2519280" cy="2016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12" name="Picture 6" descr="Копия 1"/>
            <p:cNvPicPr/>
            <p:nvPr/>
          </p:nvPicPr>
          <p:blipFill>
            <a:blip r:embed="rId4"/>
            <a:stretch/>
          </p:blipFill>
          <p:spPr>
            <a:xfrm>
              <a:off x="6156360" y="1197000"/>
              <a:ext cx="2519280" cy="2016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5184720"/>
            <a:ext cx="82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 живём с вами в обычном городе,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 окружают множество разных люде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6"/>
          <p:cNvPicPr/>
          <p:nvPr/>
        </p:nvPicPr>
        <p:blipFill>
          <a:blip r:embed="rId2"/>
          <a:stretch/>
        </p:blipFill>
        <p:spPr>
          <a:xfrm>
            <a:off x="2340000" y="476280"/>
            <a:ext cx="4680000" cy="4576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1640" y="1197000"/>
            <a:ext cx="4681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сожалению не все люди желают нам доб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этому надо знать, как вести себя в различных ситу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иях с незнако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опия 4"/>
          <p:cNvPicPr/>
          <p:nvPr/>
        </p:nvPicPr>
        <p:blipFill>
          <a:blip r:embed="rId2"/>
          <a:stretch/>
        </p:blipFill>
        <p:spPr>
          <a:xfrm>
            <a:off x="324000" y="981000"/>
            <a:ext cx="4124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а0007"/>
          <p:cNvPicPr/>
          <p:nvPr/>
        </p:nvPicPr>
        <p:blipFill>
          <a:blip r:embed="rId2"/>
          <a:stretch/>
        </p:blipFill>
        <p:spPr>
          <a:xfrm>
            <a:off x="324000" y="1700280"/>
            <a:ext cx="5048280" cy="3143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Звонок в две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402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позвонил зв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мотри сперва в глаз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гости кто пришел, узн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ужим - не открыв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934920" y="4869000"/>
            <a:ext cx="550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нет глазка, тог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Кто же там?» - спроси  всегд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не станут отвеча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верь не надо откры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9960" y="5386320"/>
            <a:ext cx="840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ы дома один. Раздаётся звонок в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ты поступ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Если звонит телеф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5013360"/>
            <a:ext cx="792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ы один дома. Что следует ответить на телефонный звонок с вопросом , дома л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3"/>
          <p:cNvPicPr/>
          <p:nvPr/>
        </p:nvPicPr>
        <p:blipFill>
          <a:blip r:embed="rId2"/>
          <a:stretch/>
        </p:blipFill>
        <p:spPr>
          <a:xfrm>
            <a:off x="2124000" y="1268280"/>
            <a:ext cx="4687920" cy="354348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57" name="Text Box 9"/>
          <p:cNvSpPr/>
          <p:nvPr/>
        </p:nvSpPr>
        <p:spPr>
          <a:xfrm>
            <a:off x="3503880" y="3798720"/>
            <a:ext cx="518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телефон зв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-то в трубку говор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И куда же я попал?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мер я какой набрал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тебя зовут, малыш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ма с кем сейчас сидишь?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3"/>
          <p:cNvPicPr/>
          <p:nvPr/>
        </p:nvPicPr>
        <p:blipFill>
          <a:blip r:embed="rId3"/>
          <a:stretch/>
        </p:blipFill>
        <p:spPr>
          <a:xfrm>
            <a:off x="468360" y="1197000"/>
            <a:ext cx="3462120" cy="2617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59" name="Text Box 11"/>
          <p:cNvSpPr/>
          <p:nvPr/>
        </p:nvSpPr>
        <p:spPr>
          <a:xfrm>
            <a:off x="3597120" y="3860640"/>
            <a:ext cx="482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чего не отвеч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сто маму подзы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сли взрослых дома 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 веди не с кем бесе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До свидания!» - скаж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ыстро трубку полож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7"/>
          <p:cNvPicPr/>
          <p:nvPr/>
        </p:nvPicPr>
        <p:blipFill>
          <a:blip r:embed="rId4"/>
          <a:stretch/>
        </p:blipFill>
        <p:spPr>
          <a:xfrm>
            <a:off x="5435640" y="1413000"/>
            <a:ext cx="22446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5435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 рисунки на стр. 36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показано на этих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надо вести себя в подобных ситуаци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fj"/>
          <p:cNvPicPr/>
          <p:nvPr/>
        </p:nvPicPr>
        <p:blipFill>
          <a:blip r:embed="rId2"/>
          <a:stretch/>
        </p:blipFill>
        <p:spPr>
          <a:xfrm>
            <a:off x="611280" y="1628640"/>
            <a:ext cx="2944800" cy="388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гда не гуля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наступлением темн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539640" y="1700280"/>
            <a:ext cx="7921800" cy="2997000"/>
            <a:chOff x="539640" y="1700280"/>
            <a:chExt cx="7921800" cy="2997000"/>
          </a:xfrm>
        </p:grpSpPr>
        <p:pic>
          <p:nvPicPr>
            <p:cNvPr id="67" name="Picture 4" descr="Копия 5"/>
            <p:cNvPicPr/>
            <p:nvPr/>
          </p:nvPicPr>
          <p:blipFill>
            <a:blip r:embed="rId2"/>
            <a:stretch/>
          </p:blipFill>
          <p:spPr>
            <a:xfrm>
              <a:off x="539640" y="1700280"/>
              <a:ext cx="3800520" cy="2990880"/>
            </a:xfrm>
            <a:prstGeom prst="rect">
              <a:avLst/>
            </a:prstGeom>
            <a:ln w="38160">
              <a:solidFill>
                <a:srgbClr val="333399"/>
              </a:solidFill>
              <a:miter/>
            </a:ln>
          </p:spPr>
        </p:pic>
        <p:pic>
          <p:nvPicPr>
            <p:cNvPr id="68" name="Picture 5" descr="Копия (2) 5"/>
            <p:cNvPicPr/>
            <p:nvPr/>
          </p:nvPicPr>
          <p:blipFill>
            <a:blip r:embed="rId3"/>
            <a:stretch/>
          </p:blipFill>
          <p:spPr>
            <a:xfrm>
              <a:off x="4716360" y="1700280"/>
              <a:ext cx="3745080" cy="299700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идишь подозрительных лиц, быстро проходи мимо, не обращая на них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468360" y="1484280"/>
            <a:ext cx="8020080" cy="3078360"/>
            <a:chOff x="468360" y="1484280"/>
            <a:chExt cx="8020080" cy="3078360"/>
          </a:xfrm>
        </p:grpSpPr>
        <p:pic>
          <p:nvPicPr>
            <p:cNvPr id="72" name="Picture 4" descr="Копия (2) 5"/>
            <p:cNvPicPr/>
            <p:nvPr/>
          </p:nvPicPr>
          <p:blipFill>
            <a:blip r:embed="rId2"/>
            <a:stretch/>
          </p:blipFill>
          <p:spPr>
            <a:xfrm>
              <a:off x="4643280" y="1484280"/>
              <a:ext cx="3845160" cy="307836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  <p:pic>
          <p:nvPicPr>
            <p:cNvPr id="73" name="Picture 5" descr="Копия 5"/>
            <p:cNvPicPr/>
            <p:nvPr/>
          </p:nvPicPr>
          <p:blipFill>
            <a:blip r:embed="rId3"/>
            <a:stretch/>
          </p:blipFill>
          <p:spPr>
            <a:xfrm>
              <a:off x="468360" y="1484280"/>
              <a:ext cx="3887640" cy="305424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4437000"/>
            <a:ext cx="87138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заходи в лифт, если в нём незнакомый тебе человек. А если какой-то незна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ц захочет зайти с тобой в лиф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 безопаснее идти по лест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539640" y="1268280"/>
            <a:ext cx="8064720" cy="3013200"/>
            <a:chOff x="539640" y="1268280"/>
            <a:chExt cx="8064720" cy="3013200"/>
          </a:xfrm>
        </p:grpSpPr>
        <p:pic>
          <p:nvPicPr>
            <p:cNvPr id="77" name="Picture 4" descr="Копия 5"/>
            <p:cNvPicPr/>
            <p:nvPr/>
          </p:nvPicPr>
          <p:blipFill>
            <a:blip r:embed="rId2"/>
            <a:stretch/>
          </p:blipFill>
          <p:spPr>
            <a:xfrm>
              <a:off x="4859280" y="1268280"/>
              <a:ext cx="3745080" cy="30006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78" name="Picture 5" descr="Копия (2) 5"/>
            <p:cNvPicPr/>
            <p:nvPr/>
          </p:nvPicPr>
          <p:blipFill>
            <a:blip r:embed="rId3"/>
            <a:stretch/>
          </p:blipFill>
          <p:spPr>
            <a:xfrm>
              <a:off x="539640" y="1268280"/>
              <a:ext cx="3816360" cy="30132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13:16Z</dcterms:created>
  <dc:creator>мама</dc:creator>
  <dc:description/>
  <dc:language>en-US</dc:language>
  <cp:lastModifiedBy>Челышева</cp:lastModifiedBy>
  <dcterms:modified xsi:type="dcterms:W3CDTF">2013-01-25T07:03:11Z</dcterms:modified>
  <cp:revision>9</cp:revision>
  <dc:subject/>
  <dc:title>Слайд 1</dc:title>
</cp:coreProperties>
</file>