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9.jpeg" ContentType="image/jpeg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21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0D43-BCF8-47C1-812F-E83A3588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150-D2BC-4E4C-9913-29D53A61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3C87-9758-4AD9-A351-AE6B1B2F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668-1999-43DA-898F-84963E76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3AB6-0F05-4176-858C-F94C3909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CB59-F47A-40F6-BDFB-19DF689E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0AF6-8061-4724-835F-CB7ADB76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A686-E493-44DB-8175-AF6AA5BE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6C19-62B2-4F57-B452-A49D3BBE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D549-4538-4012-97BB-CF22A429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A4CE-D2F9-4F43-BBAF-F2AD65A4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D32-896B-4A5A-9AC2-78DB314B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77E4-999E-41F8-81F0-15661C52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6A50-A85B-4A06-BCEA-4505B975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4A38-3DB5-445C-9422-1445C5A9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A9AE-6EEB-4779-B9D2-ED1B61DE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6CA6-B327-4004-9C5F-DB621626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694FA-D0FD-4C6B-9593-A4490828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5BFD3-E8C8-4C6C-BE5E-D0804685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A1826-8AB7-49EA-AE8E-0126CEFD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E80CA-E227-4638-84CB-042E1B75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81C7A-A414-45CB-A8E6-BF915A3C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951-7690-4AA1-AC81-E1E61742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4312-9353-415E-8E9C-27DC6386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C6292-EFBD-410C-AD21-EB5EE926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CDA85-8F94-4D5D-92E7-E2B0B3AC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7093D-3E84-4F64-A526-9E662122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3574A-56DF-4F12-ABD3-41E584E0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56BC5-937F-4431-94B7-E0BE2918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CCD6-EDC3-4D22-BA2C-A3B812D5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D2273-B399-44EF-8CEE-CFE12036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695E1-15DB-462B-9A75-6097D454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F3BD6-675E-48FB-9C0D-A581C6AF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DA8-2CAE-4D27-8BF1-94EF80D5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7E0A9-C0CB-4485-AA78-0E726D36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B14C8-2BC4-4393-9BFD-69F93DEB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222CD-0A35-4283-864C-20464535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7958C-D208-4EFF-A0D8-0F817F71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AD0D2-E4A0-4CB7-9868-1E49DB03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C69F4-51C5-40FD-BFED-2D3DF2C9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A413-9176-4537-996F-4611054C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82BDE-EBA7-4402-8CA2-2B005C38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88569-0E95-4956-AEB8-2AB20F0B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41592-7402-437A-8D07-D3F65493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F31-7999-46CC-95BF-49C086B0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4071B-82A9-4BF7-BA86-5213CBFC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E5C6D-ACFE-4612-8B5C-024265E2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E9C42-25D3-4AE7-B6BA-58673AC0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28E7E-BAB0-4EB2-B858-1509CFC0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0A96F-3AFD-470D-837C-23412ABB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9C54C-AE4F-42C4-8AC0-44A13D24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01400-74AD-4608-BEBC-BB862C2A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3822-4BCE-4B8C-825E-BB3FFC8C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A6161-92DB-44B9-AC02-96068109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A4BA0-03CD-4919-BDA6-384AC528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D30-DCFB-4B5F-80DF-A4BC1DC7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5AAEA-9F8A-4AC9-9DEE-FE327C3D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253-CD9A-448B-9E0D-AE5E88E7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88E-BE62-4699-8D7B-36EB438B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7D7-8E44-42AA-A3BB-248B34D4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0E7A-5189-4DCD-9FBF-6C8779AB4732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5EA4-F196-4B0A-A82F-B752AC22F545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E275-2587-4E4B-9EAA-AE70B69603ED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4ADA-49DE-4907-9255-DF380D0B5E4F}" type="slidenum">
              <a:rPr b="0" lang="ru-RU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E03D-A2EF-46FB-BDF9-EC2F067E2946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4"/>
          <p:cNvSpPr txBox="1"/>
          <p:nvPr/>
        </p:nvSpPr>
        <p:spPr>
          <a:xfrm>
            <a:off x="380880" y="380880"/>
            <a:ext cx="8534520" cy="28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216" name="Picture 5" descr="school2206"/>
          <p:cNvPicPr/>
          <p:nvPr/>
        </p:nvPicPr>
        <p:blipFill>
          <a:blip r:embed="rId1"/>
          <a:stretch/>
        </p:blipFill>
        <p:spPr>
          <a:xfrm>
            <a:off x="3048120" y="3613320"/>
            <a:ext cx="3149640" cy="324468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7"/>
          <p:cNvSpPr/>
          <p:nvPr/>
        </p:nvSpPr>
        <p:spPr>
          <a:xfrm>
            <a:off x="838080" y="38088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а контроля и оценивания на уроке русского языка, как самостоятельная учебная 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Овал 1"/>
          <p:cNvSpPr/>
          <p:nvPr/>
        </p:nvSpPr>
        <p:spPr>
          <a:xfrm>
            <a:off x="95400" y="152280"/>
            <a:ext cx="3124080" cy="2200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троль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4419720" y="228600"/>
            <a:ext cx="4603680" cy="8859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Соответствовать целям и задачам, этапам обучен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3352680" y="152280"/>
            <a:ext cx="914400" cy="308016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4419720" y="1285920"/>
            <a:ext cx="4603680" cy="855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Являться неотъемлемой частью учебной деятельнос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4446720" y="2286000"/>
            <a:ext cx="4576680" cy="855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Стать для ребёнка осмысленным действие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111240" y="3352680"/>
            <a:ext cx="8912160" cy="474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Направлены на отслеживания динамики роста учащихс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111240" y="4038480"/>
            <a:ext cx="8912160" cy="855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Проводиться в целях диагностики и выявления уровня развития знан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Овал 1"/>
          <p:cNvSpPr/>
          <p:nvPr/>
        </p:nvSpPr>
        <p:spPr>
          <a:xfrm>
            <a:off x="95400" y="152280"/>
            <a:ext cx="3409920" cy="29019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езультаты  обучающих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4724280" y="168120"/>
            <a:ext cx="4343400" cy="12819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Контролировать процесс и результаты своей де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3664080" y="152280"/>
            <a:ext cx="914400" cy="350676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4724280" y="1654200"/>
            <a:ext cx="4343400" cy="855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екватно воспринимать оценки и отметк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4727520" y="2666880"/>
            <a:ext cx="4340160" cy="12366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Различать объективную трудность задачи и субъективную сложност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228600" y="4102200"/>
            <a:ext cx="8839080" cy="855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Взаимодействовать со взрослыми и со сверстниками в учебной деятельно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Овал 1"/>
          <p:cNvSpPr/>
          <p:nvPr/>
        </p:nvSpPr>
        <p:spPr>
          <a:xfrm>
            <a:off x="95400" y="152280"/>
            <a:ext cx="3028680" cy="23425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одите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4495680" y="192240"/>
            <a:ext cx="4343400" cy="12819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отслеживать процесс обучения и развития своего ребё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3352680" y="168120"/>
            <a:ext cx="914400" cy="478656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C:\Users\user\AppData\Local\Microsoft\Windows\Temporary Internet Files\Content.IE5\USN03YAD\MC900412042[1].wmf"/>
          <p:cNvPicPr/>
          <p:nvPr/>
        </p:nvPicPr>
        <p:blipFill>
          <a:blip r:embed="rId1"/>
          <a:stretch/>
        </p:blipFill>
        <p:spPr>
          <a:xfrm>
            <a:off x="442800" y="2651040"/>
            <a:ext cx="2657520" cy="2028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C:\Users\user\AppData\Local\Microsoft\Windows\Temporary Internet Files\Content.IE5\QVODJCZQ\MP900399402[1].jpg"/>
          <p:cNvPicPr/>
          <p:nvPr/>
        </p:nvPicPr>
        <p:blipFill>
          <a:blip r:embed="rId2"/>
          <a:stretch/>
        </p:blipFill>
        <p:spPr>
          <a:xfrm>
            <a:off x="5707080" y="167652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1"/>
          <p:cNvSpPr/>
          <p:nvPr/>
        </p:nvSpPr>
        <p:spPr>
          <a:xfrm>
            <a:off x="95400" y="152280"/>
            <a:ext cx="3028680" cy="25578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4495680" y="192240"/>
            <a:ext cx="4343400" cy="8859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суждения об эффективности 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3352680" y="168120"/>
            <a:ext cx="914400" cy="478656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C:\Users\user\AppData\Local\Microsoft\Windows\Temporary Internet Files\Content.IE5\WZQ34R3W\MP900426540[1].jpg"/>
          <p:cNvPicPr/>
          <p:nvPr/>
        </p:nvPicPr>
        <p:blipFill>
          <a:blip r:embed="rId1"/>
          <a:stretch/>
        </p:blipFill>
        <p:spPr>
          <a:xfrm>
            <a:off x="5257800" y="1220760"/>
            <a:ext cx="3616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Овал 1"/>
          <p:cNvSpPr/>
          <p:nvPr/>
        </p:nvSpPr>
        <p:spPr>
          <a:xfrm>
            <a:off x="95400" y="152280"/>
            <a:ext cx="4324320" cy="40222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ёмы в работе для достижения поставленных результа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4495680" y="192240"/>
            <a:ext cx="4343400" cy="12819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вление настроения у обучающихся с помощью выбора рисунк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C:\Users\user\AppData\Local\Microsoft\Windows\Temporary Internet Files\Content.IE5\BFL3WANY\MC900397917[1].wmf"/>
          <p:cNvPicPr/>
          <p:nvPr/>
        </p:nvPicPr>
        <p:blipFill>
          <a:blip r:embed="rId1"/>
          <a:stretch/>
        </p:blipFill>
        <p:spPr>
          <a:xfrm>
            <a:off x="6605640" y="1857240"/>
            <a:ext cx="1447920" cy="1495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C:\Users\user\AppData\Local\Microsoft\Windows\Temporary Internet Files\Content.IE5\USN03YAD\MC900441809[1].png"/>
          <p:cNvPicPr/>
          <p:nvPr/>
        </p:nvPicPr>
        <p:blipFill>
          <a:blip r:embed="rId2"/>
          <a:stretch/>
        </p:blipFill>
        <p:spPr>
          <a:xfrm>
            <a:off x="5638680" y="34434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C:\Users\user\AppData\Local\Microsoft\Windows\Temporary Internet Files\Content.IE5\USN03YAD\MC900438205[1].wmf"/>
          <p:cNvPicPr/>
          <p:nvPr/>
        </p:nvPicPr>
        <p:blipFill>
          <a:blip r:embed="rId3"/>
          <a:stretch/>
        </p:blipFill>
        <p:spPr>
          <a:xfrm>
            <a:off x="4495680" y="1690560"/>
            <a:ext cx="1825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32925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КАРТОЧКА-ВОПРОС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4114800" y="1143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C:\Users\user\AppData\Local\Microsoft\Windows\Temporary Internet Files\Content.IE5\QVODJCZQ\MC900311030[1].wmf"/>
          <p:cNvPicPr/>
          <p:nvPr/>
        </p:nvPicPr>
        <p:blipFill>
          <a:blip r:embed="rId1"/>
          <a:stretch/>
        </p:blipFill>
        <p:spPr>
          <a:xfrm>
            <a:off x="579600" y="1295280"/>
            <a:ext cx="2984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3063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КАРТОЧКА-ОТВЕ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TextBox 2"/>
          <p:cNvSpPr/>
          <p:nvPr/>
        </p:nvSpPr>
        <p:spPr>
          <a:xfrm>
            <a:off x="4724280" y="1371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Users\user\AppData\Local\Microsoft\Windows\Temporary Internet Files\Content.IE5\BFL3WANY\MC900424802[1].wmf"/>
          <p:cNvPicPr/>
          <p:nvPr/>
        </p:nvPicPr>
        <p:blipFill>
          <a:blip r:embed="rId1"/>
          <a:stretch/>
        </p:blipFill>
        <p:spPr>
          <a:xfrm>
            <a:off x="914400" y="2209680"/>
            <a:ext cx="18414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5273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ИНФОРМАЦИОННАЯ КАРТОЧ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TextBox 2"/>
          <p:cNvSpPr/>
          <p:nvPr/>
        </p:nvSpPr>
        <p:spPr>
          <a:xfrm>
            <a:off x="3657600" y="1295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C:\Users\user\AppData\Local\Microsoft\Windows\Temporary Internet Files\Content.IE5\WZQ34R3W\MC900396332[1].wmf"/>
          <p:cNvPicPr/>
          <p:nvPr/>
        </p:nvPicPr>
        <p:blipFill>
          <a:blip r:embed="rId1"/>
          <a:stretch/>
        </p:blipFill>
        <p:spPr>
          <a:xfrm>
            <a:off x="838080" y="2043000"/>
            <a:ext cx="188136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АЛГОРИТМЫ САМООЦЕНКИ УСТНОГО КОНТРОЛЯ: </a:t>
            </a:r>
            <a:br>
              <a:rPr sz="28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Ы УЗНАЛ НА УРОКЕ?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ЕМУ НАУЧИЛСЯ?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 ЧТО СЕБЯ МОЖЕШЬ ПОХВАЛИТЬ?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Д ЧЕМ ЕЩЕ НАДО ПОРАБОТАТЬ?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ИЕ ЗАДАНИЯ ТЕБЕ ПОНРАВИЛИСЬ?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ИЕ ЗАДАНИЯ ОКАЗАЛИСЬ ТРУДНЫМИ?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СТИГ ЛИ ТЫ ПОСТАВЛЕННУЮ В НАЧАЛЕ УРОКА ЦЕЛЬ?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АЛГОРИТМЫ САМООЦЕНКИ УСТНОГО КОНТРОЛЯ: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Е УМЕНИЕ РАЗВИВАЛИ ПРИ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ВЫПОЛНЕНИИ ЗАДАНИЯ?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ОВ БЫЛ УРОВЕНЬ ЗАДАНИЯ?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ИЛСЯ ПРАВИЛЬНО ИЛИ С НЕЗНАЧИТЕЛЬНОЙ ОШИБКОЙ (КАКОЙ, В ЧЕМ)?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ИЛСЯ САМОСТОЯТЕЛЬНО ИЛИ С НЕБОЛЬШОЙ ПОМОЩЬЮ (КТО ПОМОГАЛ, В ЧЕМ)?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ОЦЕНКА ТВОРЧЕСКОГО ДЕЛ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ЭТОГО ДЕЛА У МЕНЯ БЫЛА ЦЕЛЬ… 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БЕННО ХОРОШО МНЕ УДАЛОСЬ …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СЛЕДУЮЩИЙ РАЗ Я ПОСТАРАЮСЬ СДЕЛАТЬ ЛУЧШЕ …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ОЙ РЕЗУЛЬТАТ МОГУ ОЦЕНИТЬ ТАК (НА ВЫБОР)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ТАБЛИЦА ТРЕБОВАНИЙ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85800" y="1371600"/>
          <a:ext cx="7601040" cy="2540160"/>
        </p:xfrm>
        <a:graphic>
          <a:graphicData uri="http://schemas.openxmlformats.org/drawingml/2006/table">
            <a:tbl>
              <a:tblPr/>
              <a:tblGrid>
                <a:gridCol w="1519200"/>
                <a:gridCol w="1376280"/>
                <a:gridCol w="1663920"/>
                <a:gridCol w="1520640"/>
                <a:gridCol w="1521000"/>
              </a:tblGrid>
              <a:tr h="2286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авить уда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елить кор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ь есть ли  в корне безударная глас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обрать проверочное с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тавить безударную гласну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КРИТЕРИИ ОЦЕНКИ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«УСТНЫЙ ОТВЕТ»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Заголовок 1"/>
          <p:cNvSpPr/>
          <p:nvPr/>
        </p:nvSpPr>
        <p:spPr>
          <a:xfrm>
            <a:off x="4495680" y="2514600"/>
            <a:ext cx="426744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Franklin Gothic Medium"/>
              </a:rPr>
              <a:t>ПРАВИЛЬНОСТЬ ОТВЕТА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Franklin Gothic Medium"/>
              </a:rPr>
              <a:t>- ЕГО ПОЛНОТА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Franklin Gothic Medium"/>
              </a:rPr>
              <a:t>- НАЛИЧИЕ ПРИМ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C:\Users\user\AppData\Local\Microsoft\Windows\Temporary Internet Files\Content.IE5\WZQ34R3W\MC900230083[1].wmf"/>
          <p:cNvPicPr/>
          <p:nvPr/>
        </p:nvPicPr>
        <p:blipFill>
          <a:blip r:embed="rId1"/>
          <a:stretch/>
        </p:blipFill>
        <p:spPr>
          <a:xfrm>
            <a:off x="1219320" y="1979640"/>
            <a:ext cx="17906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0600" y="4233600"/>
            <a:ext cx="378144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УЧИТЕЛЬ СОГЛАСЕН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3" name="Picture 3" descr="C:\Users\user\Pictures\критерии-1.jpg"/>
          <p:cNvPicPr/>
          <p:nvPr/>
        </p:nvPicPr>
        <p:blipFill>
          <a:blip r:embed="rId1"/>
          <a:stretch/>
        </p:blipFill>
        <p:spPr>
          <a:xfrm>
            <a:off x="304920" y="762120"/>
            <a:ext cx="3952800" cy="3457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:\Users\user\Pictures\критерии.jpg"/>
          <p:cNvPicPr/>
          <p:nvPr/>
        </p:nvPicPr>
        <p:blipFill>
          <a:blip r:embed="rId2"/>
          <a:stretch/>
        </p:blipFill>
        <p:spPr>
          <a:xfrm>
            <a:off x="4724280" y="797040"/>
            <a:ext cx="3953160" cy="3457440"/>
          </a:xfrm>
          <a:prstGeom prst="rect">
            <a:avLst/>
          </a:prstGeom>
          <a:ln w="0">
            <a:noFill/>
          </a:ln>
        </p:spPr>
      </p:pic>
      <p:sp>
        <p:nvSpPr>
          <p:cNvPr id="295" name="Заголовок 1"/>
          <p:cNvSpPr/>
          <p:nvPr/>
        </p:nvSpPr>
        <p:spPr>
          <a:xfrm>
            <a:off x="4718160" y="4268880"/>
            <a:ext cx="378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УЧИТЕЛЬ НЕ СОГЛА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Прямая со стрелкой 3"/>
          <p:cNvCxnSpPr/>
          <p:nvPr/>
        </p:nvCxnSpPr>
        <p:spPr>
          <a:xfrm flipH="1" flipV="1">
            <a:off x="5790960" y="3733200"/>
            <a:ext cx="457920" cy="610200"/>
          </a:xfrm>
          <a:prstGeom prst="straightConnector1">
            <a:avLst/>
          </a:prstGeom>
          <a:ln w="41400">
            <a:solidFill>
              <a:srgbClr val="0033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ДИАГНОСТИКА УРОВНЯ ОБУЧЕННОСТ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8" name="Диаграмма 4" descr=""/>
          <p:cNvPicPr/>
          <p:nvPr/>
        </p:nvPicPr>
        <p:blipFill>
          <a:blip r:embed="rId1"/>
          <a:stretch/>
        </p:blipFill>
        <p:spPr>
          <a:xfrm>
            <a:off x="841320" y="993600"/>
            <a:ext cx="7613640" cy="39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«КАЖДЫЙ РЕБЁНОК ЕСТЬ ОДНАЖДЫ СЛУЧАЮЩЕЕСЯ ЧУДО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                                                               Э. ИЛЬЕНКОВ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00" name="Picture 3" descr="C:\Users\user\AppData\Local\Microsoft\Windows\Temporary Internet Files\Content.IE5\BFL3WANY\MP900409652[1].jpg"/>
          <p:cNvPicPr/>
          <p:nvPr/>
        </p:nvPicPr>
        <p:blipFill>
          <a:blip r:embed="rId1"/>
          <a:stretch/>
        </p:blipFill>
        <p:spPr>
          <a:xfrm>
            <a:off x="609480" y="190512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Овал 1"/>
          <p:cNvSpPr/>
          <p:nvPr/>
        </p:nvSpPr>
        <p:spPr>
          <a:xfrm>
            <a:off x="324000" y="189000"/>
            <a:ext cx="3168360" cy="28897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стема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4427640" y="47628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Что оцени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3849840" y="1457280"/>
            <a:ext cx="489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99"/>
                </a:solidFill>
                <a:uFillTx/>
                <a:latin typeface="Arial"/>
              </a:rPr>
              <a:t>Оцениваем результаты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- предметны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- метапредмет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- личнос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Users\user\AppData\Local\Microsoft\Windows\Temporary Internet Files\Content.IE5\WZQ34R3W\MP900409594[1].jpg"/>
          <p:cNvPicPr/>
          <p:nvPr/>
        </p:nvPicPr>
        <p:blipFill>
          <a:blip r:embed="rId1"/>
          <a:stretch/>
        </p:blipFill>
        <p:spPr>
          <a:xfrm>
            <a:off x="1036800" y="3209760"/>
            <a:ext cx="174276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Овал 1"/>
          <p:cNvSpPr/>
          <p:nvPr/>
        </p:nvSpPr>
        <p:spPr>
          <a:xfrm>
            <a:off x="324000" y="189000"/>
            <a:ext cx="3168360" cy="28897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стема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4427640" y="47628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то оценив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3849840" y="1457280"/>
            <a:ext cx="489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99"/>
                </a:solidFill>
                <a:uFillTx/>
                <a:latin typeface="Arial"/>
              </a:rPr>
              <a:t>Учитель и уче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Вместе определяют оценку и отмет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C:\Users\user\AppData\Local\Microsoft\Windows\Temporary Internet Files\Content.IE5\QVODJCZQ\MC900089000[1].wmf"/>
          <p:cNvPicPr/>
          <p:nvPr/>
        </p:nvPicPr>
        <p:blipFill>
          <a:blip r:embed="rId1"/>
          <a:stretch/>
        </p:blipFill>
        <p:spPr>
          <a:xfrm>
            <a:off x="1066680" y="3416400"/>
            <a:ext cx="1797120" cy="11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Овал 1"/>
          <p:cNvSpPr/>
          <p:nvPr/>
        </p:nvSpPr>
        <p:spPr>
          <a:xfrm>
            <a:off x="324000" y="189000"/>
            <a:ext cx="3168360" cy="28897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стема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4427640" y="476280"/>
            <a:ext cx="456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колько ставить отме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3492360" y="1600200"/>
            <a:ext cx="534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Arial"/>
              </a:rPr>
              <a:t>Отметка может ставиться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311040" y="31320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за каждую учебную задач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за группу заданий, объединённых конкретным учебным дейст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Овал 1"/>
          <p:cNvSpPr/>
          <p:nvPr/>
        </p:nvSpPr>
        <p:spPr>
          <a:xfrm>
            <a:off x="324000" y="189000"/>
            <a:ext cx="3168360" cy="28897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стема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4127400" y="476280"/>
            <a:ext cx="47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Где накапливать оценки и отмет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267080" y="1654200"/>
            <a:ext cx="42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Arial"/>
              </a:rPr>
              <a:t>В «Портфеле достижен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C:\Users\user\AppData\Local\Microsoft\Windows\Temporary Internet Files\Content.IE5\USN03YAD\MC900440396[1].png"/>
          <p:cNvPicPr/>
          <p:nvPr/>
        </p:nvPicPr>
        <p:blipFill>
          <a:blip r:embed="rId1"/>
          <a:stretch/>
        </p:blipFill>
        <p:spPr>
          <a:xfrm>
            <a:off x="2590920" y="28558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Овал 1"/>
          <p:cNvSpPr/>
          <p:nvPr/>
        </p:nvSpPr>
        <p:spPr>
          <a:xfrm>
            <a:off x="324000" y="189000"/>
            <a:ext cx="3168360" cy="28897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стема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4127400" y="476280"/>
            <a:ext cx="47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Когда ставить отмет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3429000" y="1654200"/>
            <a:ext cx="5638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Текущие - по желани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За темат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и проверочные -          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  обязат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C:\Users\user\AppData\Local\Microsoft\Windows\Temporary Internet Files\Content.IE5\WZQ34R3W\MC900234083[1].wmf"/>
          <p:cNvPicPr/>
          <p:nvPr/>
        </p:nvPicPr>
        <p:blipFill>
          <a:blip r:embed="rId1"/>
          <a:stretch/>
        </p:blipFill>
        <p:spPr>
          <a:xfrm>
            <a:off x="816120" y="3429000"/>
            <a:ext cx="27129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Овал 1"/>
          <p:cNvSpPr/>
          <p:nvPr/>
        </p:nvSpPr>
        <p:spPr>
          <a:xfrm>
            <a:off x="324000" y="189000"/>
            <a:ext cx="3168360" cy="28897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стема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3529080" y="476280"/>
            <a:ext cx="55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По каким критериям оцени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3067200" y="1219320"/>
            <a:ext cx="6476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Необходимый уровень (базов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вышенный уровень (программн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ксимальный уров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( НЕ обязательн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Users\user\AppData\Local\Microsoft\Windows\Temporary Internet Files\Content.IE5\BFL3WANY\MC900404277[1].wmf"/>
          <p:cNvPicPr/>
          <p:nvPr/>
        </p:nvPicPr>
        <p:blipFill>
          <a:blip r:embed="rId1"/>
          <a:stretch/>
        </p:blipFill>
        <p:spPr>
          <a:xfrm>
            <a:off x="1101600" y="3200400"/>
            <a:ext cx="17719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Овал 1"/>
          <p:cNvSpPr/>
          <p:nvPr/>
        </p:nvSpPr>
        <p:spPr>
          <a:xfrm>
            <a:off x="324000" y="189000"/>
            <a:ext cx="3168360" cy="28897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стема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529080" y="476280"/>
            <a:ext cx="55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Как определять итоговые оцен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3067200" y="1522440"/>
            <a:ext cx="6476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едметные четверт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ценки/ отме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пределяются по таблицам предметных результа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тоговая оценка за ступень начальной шко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C:\Users\user\AppData\Local\Microsoft\Windows\Temporary Internet Files\Content.IE5\USN03YAD\MC900435773[1].wmf"/>
          <p:cNvPicPr/>
          <p:nvPr/>
        </p:nvPicPr>
        <p:blipFill>
          <a:blip r:embed="rId1"/>
          <a:stretch/>
        </p:blipFill>
        <p:spPr>
          <a:xfrm>
            <a:off x="990720" y="3271680"/>
            <a:ext cx="13716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3-01-22T12:11:14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