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A002-047F-4D60-ACA1-875E7F22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EBF-CAEB-4FD9-82D4-8E2F9E17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CBE8-A87E-4E6A-86AC-3C61DC1D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991-0DEE-4716-B792-2E4B1C2C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9A45-CE2C-4AF5-BC8D-8796DD83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0A44-39C4-4253-AE62-1A8216A9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489E-B9ED-44E7-BA80-7738BF0D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3AD4-349D-4480-94C4-9AC5DEFD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72DB-4AEC-4DE9-9B35-5D7AFA35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D3E2-08F4-4C19-A441-287E1E5E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A528-D97A-4189-85E0-2A711A84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A23-26D4-4038-9A3A-113F8754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17CE-0A06-43B4-8CD4-D81C5204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C3E3-74D9-4329-A668-6A07174F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1379-37CD-400D-AB69-3F076410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13AA-C9A8-4043-98F7-3B179EB8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5F35-A79F-4C75-B2DA-0E61132C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70C-4E16-40AB-B665-F49B43BF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C29-E33D-466D-8732-25161091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7C6-43FB-45AD-8CD9-8E7B066F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47B-5D8E-481E-8EAA-8BCC7943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3685-6EAD-4369-BBA9-25647711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C47-C091-4E88-9320-F6837064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678-84B4-4FE2-BDB9-CFEB4CD0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623A-6CEA-4D4A-9C02-027AFD24A0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79F9-9062-4E0A-A0D8-3E03885B90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11280" y="1413000"/>
            <a:ext cx="74898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 проектов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географическом образован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Метод проектов и исследовательская деятельность учащихс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26920" y="2565360"/>
            <a:ext cx="4176720" cy="3888000"/>
          </a:xfrm>
          <a:prstGeom prst="rect">
            <a:avLst/>
          </a:prstGeom>
          <a:solidFill>
            <a:srgbClr val="d9b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Учащиеся учатся работать с информацией, собирая материал из различных источников, проявляют свою творческую фантазию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Развивают умения анализа, синтеза, обобщения. Таким образом, помимо знаний, у детей формируются навыки социального поведения и интереса к другому, как источнику позн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48360" y="2637000"/>
            <a:ext cx="374472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49600" y="544320"/>
            <a:ext cx="7902000" cy="944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ель использования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метода проект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d9b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амостоятельное постижение учащимися географических проблем, имеющих жизненный смысл для учащихс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Решение проблем развития у учащихся самостоятельности, творческого отношения к дел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16480" y="314640"/>
            <a:ext cx="7815240" cy="755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Характерные типы проект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268280"/>
          <a:ext cx="8785440" cy="5400360"/>
        </p:xfrm>
        <a:graphic>
          <a:graphicData uri="http://schemas.openxmlformats.org/drawingml/2006/table">
            <a:tbl>
              <a:tblPr/>
              <a:tblGrid>
                <a:gridCol w="2140200"/>
                <a:gridCol w="6645240"/>
              </a:tblGrid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ипы проек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</a:tr>
              <a:tr h="58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кологические, физико-географические, социально-экономические, краеведческие, историко-географичесик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</a:tr>
              <a:tr h="124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ровень интеграци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онопредметные (выполняются на материале географии)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жпредметные (учитывающие содержание нескольких предметовпо смежной тематике)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дпредметные (на основе сведений не входящих в школьную программу)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</a:tr>
              <a:tr h="91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должительность выполнения проек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ини-проект (несколько недель)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редней продолжительности (несколько месяцев)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олгосрочные (в течение года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</a:tr>
              <a:tr h="58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личество участников проек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дивидуальные, групповые, коллективны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</a:tr>
              <a:tr h="81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особ преобладающей деятельност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знавательные, творческие, игровые, практико-ориентированные, исследовательск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</a:tr>
              <a:tr h="91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спользование средств обуче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радиционные средства обучения (печатные, наглядные, технические)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формационные и коммуникативные (компьютерны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</a:tr>
            </a:tbl>
          </a:graphicData>
        </a:graphic>
      </p:graphicFrame>
    </p:spTree>
  </p:cSld>
  <p:transition spd="slow">
    <p:diamond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011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ассификация типов проект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420640"/>
            <a:ext cx="7693200" cy="4032360"/>
          </a:xfrm>
          <a:prstGeom prst="rect">
            <a:avLst/>
          </a:prstGeom>
          <a:solidFill>
            <a:srgbClr val="d9b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о количеству участник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о способу преобладающей де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сследовательские проек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гровые проек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о уровню интегр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Творческие проек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ознавательные проек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актико-ориентирован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011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тапы работы над проекто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0920" y="2362320"/>
          <a:ext cx="8713800" cy="4346280"/>
        </p:xfrm>
        <a:graphic>
          <a:graphicData uri="http://schemas.openxmlformats.org/drawingml/2006/table">
            <a:tbl>
              <a:tblPr/>
              <a:tblGrid>
                <a:gridCol w="2271600"/>
                <a:gridCol w="3587760"/>
                <a:gridCol w="2854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ятельность учащихс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</a:tr>
              <a:tr h="73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Ценностно-ориентированный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рганизация учащихся по созданию проект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ознание мотива деятельност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Конструктивный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бъединение учащихся в группы, консультация учащихс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оставление плана работы, сбор материалов, поиск литературы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Оценочно-рефлексивный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тимулирование и консультирование учащихс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амооценка своей деятельности, оформление проекта в выбранной форм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Презентативный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рганизация дискуссии по обсуждению проекта, проектирование формы презентаци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щита проекта в коллективной или индивидуальной форм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d9b3ff"/>
                    </a:solidFill>
                  </a:tcPr>
                </a:tc>
              </a:tr>
            </a:tbl>
          </a:graphicData>
        </a:graphic>
      </p:graphicFrame>
    </p:spTree>
  </p:cSld>
  <p:transition spd="slow">
    <p:diamond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ели и задачи работы над проектом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d9b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Цель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создание условий для формирования исследовательских умений учащихся, способствующих развитию творческих способностей и логического мышле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Задач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развитие познавательных способностей учащихся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совершенствование способностей к самообразовани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развитие умения ориентироваться в информационном пространстве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формирование умений публичных выступлений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развитие критического мышлен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такое проект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2809800"/>
            <a:ext cx="3589560" cy="3355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0" y="2492280"/>
            <a:ext cx="4392720" cy="3889440"/>
          </a:xfrm>
          <a:prstGeom prst="rect">
            <a:avLst/>
          </a:prstGeom>
          <a:solidFill>
            <a:srgbClr val="d9b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Каждый проект – это творчество, это личностное знание, он расскажет о своем создателе гораздо больше, чем безликая оценк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Проекты особенно интересны и результативны в тесной взаимосвязи урочной и факультативной работ, что, однако, требует особенно тщательной работы учителя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етод проектов и учащиес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360" y="2276280"/>
            <a:ext cx="4392360" cy="4392360"/>
          </a:xfrm>
          <a:prstGeom prst="rect">
            <a:avLst/>
          </a:prstGeom>
          <a:solidFill>
            <a:srgbClr val="d9b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Метод проекта – это одна из личностно-ориентированных технологий, способ организации самостоятельной деятельности учащих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Благодаря возможностям исследовательского характера урока, ученик из объекта педагогической деятельности (“меня учат”) превращается в её субъект (“я учусь”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2565360"/>
            <a:ext cx="358956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85960" y="821520"/>
            <a:ext cx="7741080" cy="819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етод проектов как технолог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solidFill>
            <a:srgbClr val="d9b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етод проекта – это одна из личностно-ориентированных технологий, способ организации самостоятельной деятельности учащихся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87640" y="2349360"/>
            <a:ext cx="3770280" cy="372456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4932360" y="2637000"/>
            <a:ext cx="4211640" cy="3744720"/>
            <a:chOff x="4932360" y="2637000"/>
            <a:chExt cx="4211640" cy="3744720"/>
          </a:xfrm>
        </p:grpSpPr>
        <p:sp>
          <p:nvSpPr>
            <p:cNvPr id="116" name=""/>
            <p:cNvSpPr/>
            <p:nvPr/>
          </p:nvSpPr>
          <p:spPr>
            <a:xfrm>
              <a:off x="4932360" y="5648040"/>
              <a:ext cx="4211640" cy="7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Любимый уголок природы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17" name="26088" descr=""/>
            <p:cNvPicPr/>
            <p:nvPr/>
          </p:nvPicPr>
          <p:blipFill>
            <a:blip r:embed="rId2"/>
            <a:stretch/>
          </p:blipFill>
          <p:spPr>
            <a:xfrm>
              <a:off x="4932360" y="2637000"/>
              <a:ext cx="3872160" cy="3011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7:28:44Z</dcterms:created>
  <dc:creator>Люба</dc:creator>
  <dc:description/>
  <dc:language>en-US</dc:language>
  <cp:lastModifiedBy>Люба</cp:lastModifiedBy>
  <dcterms:modified xsi:type="dcterms:W3CDTF">2007-11-05T12:23:51Z</dcterms:modified>
  <cp:revision>20</cp:revision>
  <dc:subject/>
  <dc:title>Слайд 1</dc:title>
</cp:coreProperties>
</file>