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 проек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41E7-3451-4ACC-B205-1FEA7EEEED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B340-423B-4A59-8892-BFF35BF84E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Дата 4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 проек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99B-7E3B-4F21-AFA2-549E4DDA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7D6-9909-4F06-A3F1-503FB94E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3B3-7838-4A88-A043-66B6819A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543-3885-45D8-A252-172A4ADA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5946-CC2C-484B-84A6-F856F707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93B1-EA37-4F34-9E80-6ECA61D3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3BA5-4AAE-463E-97BA-BC898EA7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FDC2-F720-4318-BCDB-448BF7AA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32B4-362B-4DBA-AB32-4F31B7F4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0D47-8E3E-4DD3-B19A-2FE4BFF0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DED4-23D0-4D86-B81E-D9B46E69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3A7-2EC5-4D3E-B6A7-EE52D12B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5E57-1524-4B24-B540-FAD04457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BA14-561B-4000-97C4-2928A6AB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585F-C7FE-45E2-A5C1-0FD0CF51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309B-EF1E-44C4-8B88-243B2E47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5D3C-8821-4B90-8E25-E28375C6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C7F6-9E72-4350-9A46-0E8B6F68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DBE7-54CC-4B4B-83EF-E3B34B66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A4D0-F934-4717-9A97-23092E3E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223B-CAB0-4125-B278-1349C6C6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BE67-8553-45D5-89E7-F7998310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6AA-82A1-47E8-B006-A5775C86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FC18-4BC6-4D22-978D-9B234231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5397-1037-4A7E-8B45-9B73D74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3BFC-E463-4EA4-AEE7-92197C5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D7C65-8F9B-4580-A10E-5486D979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A56BB-A3E2-4C84-A74A-38F50AF8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F91B-EE42-4F4C-AF59-8BB19C7F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7F4F-2F68-4C3C-990D-40BE4EC2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8E3-02AD-4B25-BB10-13234A7B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CAA-803C-49F6-9D95-85731BBC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5BF-E9D9-4D44-8753-D33ACF30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586-FA42-4412-BC09-10D77AEB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9B8-FB33-4664-BD90-B1EB5487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FEA-94C0-4EEE-BD54-218A4DE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6BAA-F5D3-4E1D-A3BF-C1AC58F49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CFA3-0CDF-487C-8B4E-D0E4312C8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6A91-8BA9-4927-8CF0-2A969E887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6324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Arial"/>
              </a:rPr>
              <a:t>ПОВЕРХНОСТИ МНОГОГРАН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352320" y="464832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8457"/>
                </a:solidFill>
                <a:latin typeface="Arial"/>
              </a:rPr>
              <a:t>проектная деятельность на уроке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8457"/>
                </a:solidFill>
                <a:latin typeface="Arial"/>
              </a:rPr>
              <a:t>МБОУ  «Леон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8457"/>
                </a:solidFill>
                <a:latin typeface="Arial"/>
              </a:rPr>
              <a:t>Учитель математики: Бондаренко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6172200" y="304920"/>
            <a:ext cx="2631960" cy="2644560"/>
            <a:chOff x="6172200" y="304920"/>
            <a:chExt cx="2631960" cy="2644560"/>
          </a:xfrm>
        </p:grpSpPr>
        <p:sp>
          <p:nvSpPr>
            <p:cNvPr id="133" name="AutoShape 5"/>
            <p:cNvSpPr/>
            <p:nvPr/>
          </p:nvSpPr>
          <p:spPr>
            <a:xfrm>
              <a:off x="6172200" y="304920"/>
              <a:ext cx="2519280" cy="26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6"/>
            <p:cNvGrpSpPr/>
            <p:nvPr/>
          </p:nvGrpSpPr>
          <p:grpSpPr>
            <a:xfrm>
              <a:off x="6272280" y="304920"/>
              <a:ext cx="2518560" cy="1405080"/>
              <a:chOff x="6272280" y="304920"/>
              <a:chExt cx="2518560" cy="1405080"/>
            </a:xfrm>
          </p:grpSpPr>
          <p:grpSp>
            <p:nvGrpSpPr>
              <p:cNvPr id="135" name="Group 7"/>
              <p:cNvGrpSpPr/>
              <p:nvPr/>
            </p:nvGrpSpPr>
            <p:grpSpPr>
              <a:xfrm>
                <a:off x="6272280" y="304920"/>
                <a:ext cx="2518560" cy="1073520"/>
                <a:chOff x="6272280" y="304920"/>
                <a:chExt cx="2518560" cy="1073520"/>
              </a:xfrm>
            </p:grpSpPr>
            <p:grpSp>
              <p:nvGrpSpPr>
                <p:cNvPr id="136" name="Group 8"/>
                <p:cNvGrpSpPr/>
                <p:nvPr/>
              </p:nvGrpSpPr>
              <p:grpSpPr>
                <a:xfrm>
                  <a:off x="6272280" y="304920"/>
                  <a:ext cx="909000" cy="1073520"/>
                  <a:chOff x="6272280" y="304920"/>
                  <a:chExt cx="909000" cy="1073520"/>
                </a:xfrm>
              </p:grpSpPr>
              <p:sp>
                <p:nvSpPr>
                  <p:cNvPr id="137" name="Freeform 9"/>
                  <p:cNvSpPr/>
                  <p:nvPr/>
                </p:nvSpPr>
                <p:spPr>
                  <a:xfrm>
                    <a:off x="6276240" y="304920"/>
                    <a:ext cx="518760" cy="1073520"/>
                  </a:xfrm>
                  <a:prstGeom prst="pie">
                    <a:avLst/>
                  </a:prstGeom>
                  <a:solidFill>
                    <a:srgbClr val="ccffcc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0"/>
                  <p:cNvSpPr/>
                  <p:nvPr/>
                </p:nvSpPr>
                <p:spPr>
                  <a:xfrm>
                    <a:off x="6584400" y="304920"/>
                    <a:ext cx="596880" cy="1065600"/>
                  </a:xfrm>
                  <a:prstGeom prst="pie">
                    <a:avLst/>
                  </a:prstGeom>
                  <a:solidFill>
                    <a:srgbClr val="339966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11"/>
                  <p:cNvSpPr/>
                  <p:nvPr/>
                </p:nvSpPr>
                <p:spPr>
                  <a:xfrm flipV="1">
                    <a:off x="6272280" y="760680"/>
                    <a:ext cx="905040" cy="234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2"/>
                <p:cNvGrpSpPr/>
                <p:nvPr/>
              </p:nvGrpSpPr>
              <p:grpSpPr>
                <a:xfrm>
                  <a:off x="7366680" y="395280"/>
                  <a:ext cx="1424160" cy="883080"/>
                  <a:chOff x="7366680" y="395280"/>
                  <a:chExt cx="1424160" cy="883080"/>
                </a:xfrm>
              </p:grpSpPr>
              <p:sp>
                <p:nvSpPr>
                  <p:cNvPr id="141" name="Rectangle 13"/>
                  <p:cNvSpPr/>
                  <p:nvPr/>
                </p:nvSpPr>
                <p:spPr>
                  <a:xfrm>
                    <a:off x="7920000" y="399600"/>
                    <a:ext cx="590040" cy="579960"/>
                  </a:xfrm>
                  <a:prstGeom prst="rect">
                    <a:avLst/>
                  </a:prstGeom>
                  <a:solidFill>
                    <a:srgbClr val="00ffcc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14"/>
                  <p:cNvSpPr/>
                  <p:nvPr/>
                </p:nvSpPr>
                <p:spPr>
                  <a:xfrm>
                    <a:off x="7648560" y="698400"/>
                    <a:ext cx="590040" cy="579960"/>
                  </a:xfrm>
                  <a:prstGeom prst="rect">
                    <a:avLst/>
                  </a:prstGeom>
                  <a:solidFill>
                    <a:srgbClr val="33cccc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5"/>
                  <p:cNvSpPr/>
                  <p:nvPr/>
                </p:nvSpPr>
                <p:spPr>
                  <a:xfrm rot="18672000">
                    <a:off x="7958160" y="646560"/>
                    <a:ext cx="829800" cy="384120"/>
                  </a:xfrm>
                  <a:prstGeom prst="parallelogram">
                    <a:avLst>
                      <a:gd name="adj" fmla="val 112764"/>
                    </a:avLst>
                  </a:prstGeom>
                  <a:solidFill>
                    <a:srgbClr val="00ffcc">
                      <a:alpha val="49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6"/>
                  <p:cNvSpPr/>
                  <p:nvPr/>
                </p:nvSpPr>
                <p:spPr>
                  <a:xfrm rot="18672000">
                    <a:off x="7369560" y="641520"/>
                    <a:ext cx="829800" cy="384120"/>
                  </a:xfrm>
                  <a:prstGeom prst="parallelogram">
                    <a:avLst>
                      <a:gd name="adj" fmla="val 112764"/>
                    </a:avLst>
                  </a:prstGeom>
                  <a:solidFill>
                    <a:srgbClr val="00cc99">
                      <a:alpha val="49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5" name="Text Box 17"/>
              <p:cNvSpPr/>
              <p:nvPr/>
            </p:nvSpPr>
            <p:spPr>
              <a:xfrm>
                <a:off x="6474240" y="1499400"/>
                <a:ext cx="17776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18"/>
            <p:cNvGrpSpPr/>
            <p:nvPr/>
          </p:nvGrpSpPr>
          <p:grpSpPr>
            <a:xfrm>
              <a:off x="6245640" y="1825560"/>
              <a:ext cx="2558520" cy="1123560"/>
              <a:chOff x="6245640" y="1825560"/>
              <a:chExt cx="2558520" cy="1123560"/>
            </a:xfrm>
          </p:grpSpPr>
          <p:grpSp>
            <p:nvGrpSpPr>
              <p:cNvPr id="147" name="Group 19"/>
              <p:cNvGrpSpPr/>
              <p:nvPr/>
            </p:nvGrpSpPr>
            <p:grpSpPr>
              <a:xfrm>
                <a:off x="7453440" y="1837440"/>
                <a:ext cx="1350720" cy="920520"/>
                <a:chOff x="7453440" y="1837440"/>
                <a:chExt cx="1350720" cy="920520"/>
              </a:xfrm>
            </p:grpSpPr>
            <p:sp>
              <p:nvSpPr>
                <p:cNvPr id="148" name="AutoShape 20"/>
                <p:cNvSpPr/>
                <p:nvPr/>
              </p:nvSpPr>
              <p:spPr>
                <a:xfrm flipH="1">
                  <a:off x="7911000" y="1843200"/>
                  <a:ext cx="628200" cy="661680"/>
                </a:xfrm>
                <a:prstGeom prst="parallelogram">
                  <a:avLst>
                    <a:gd name="adj" fmla="val 25259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21"/>
                <p:cNvSpPr/>
                <p:nvPr/>
              </p:nvSpPr>
              <p:spPr>
                <a:xfrm rot="18964800">
                  <a:off x="7562880" y="1984680"/>
                  <a:ext cx="659520" cy="582480"/>
                </a:xfrm>
                <a:prstGeom prst="parallelogram">
                  <a:avLst>
                    <a:gd name="adj" fmla="val 60518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AutoShape 22"/>
                <p:cNvSpPr/>
                <p:nvPr/>
              </p:nvSpPr>
              <p:spPr>
                <a:xfrm rot="18453000">
                  <a:off x="8075880" y="2000880"/>
                  <a:ext cx="640080" cy="536760"/>
                </a:xfrm>
                <a:prstGeom prst="parallelogram">
                  <a:avLst>
                    <a:gd name="adj" fmla="val 79140"/>
                  </a:avLst>
                </a:prstGeom>
                <a:solidFill>
                  <a:srgbClr val="00cc99">
                    <a:alpha val="5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23"/>
                <p:cNvSpPr/>
                <p:nvPr/>
              </p:nvSpPr>
              <p:spPr>
                <a:xfrm flipH="1" rot="11445600">
                  <a:off x="7640640" y="2095200"/>
                  <a:ext cx="496080" cy="620640"/>
                </a:xfrm>
                <a:prstGeom prst="parallelogram">
                  <a:avLst>
                    <a:gd name="adj" fmla="val 56292"/>
                  </a:avLst>
                </a:prstGeom>
                <a:solidFill>
                  <a:srgbClr val="99ff99">
                    <a:alpha val="5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 rot="20797800">
                  <a:off x="7991640" y="2047680"/>
                  <a:ext cx="343440" cy="679680"/>
                </a:xfrm>
                <a:prstGeom prst="rect">
                  <a:avLst/>
                </a:prstGeom>
                <a:solidFill>
                  <a:srgbClr val="00ff99">
                    <a:alpha val="5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5"/>
              <p:cNvGrpSpPr/>
              <p:nvPr/>
            </p:nvGrpSpPr>
            <p:grpSpPr>
              <a:xfrm>
                <a:off x="6245640" y="1825560"/>
                <a:ext cx="1083240" cy="834840"/>
                <a:chOff x="6245640" y="1825560"/>
                <a:chExt cx="1083240" cy="834840"/>
              </a:xfrm>
            </p:grpSpPr>
            <p:sp>
              <p:nvSpPr>
                <p:cNvPr id="154" name="AutoShape 26"/>
                <p:cNvSpPr/>
                <p:nvPr/>
              </p:nvSpPr>
              <p:spPr>
                <a:xfrm>
                  <a:off x="6456600" y="1937160"/>
                  <a:ext cx="389880" cy="718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ff99">
                    <a:alpha val="5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7"/>
                <p:cNvSpPr/>
                <p:nvPr/>
              </p:nvSpPr>
              <p:spPr>
                <a:xfrm rot="19830600">
                  <a:off x="6639480" y="1892520"/>
                  <a:ext cx="389880" cy="718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>
                    <a:alpha val="48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8"/>
                <p:cNvSpPr/>
                <p:nvPr/>
              </p:nvSpPr>
              <p:spPr>
                <a:xfrm rot="18416400">
                  <a:off x="6820560" y="1777320"/>
                  <a:ext cx="255960" cy="75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9"/>
                <p:cNvSpPr/>
                <p:nvPr/>
              </p:nvSpPr>
              <p:spPr>
                <a:xfrm rot="1387200">
                  <a:off x="6383160" y="1902960"/>
                  <a:ext cx="240480" cy="735840"/>
                </a:xfrm>
                <a:prstGeom prst="triangle">
                  <a:avLst>
                    <a:gd name="adj" fmla="val 51606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30"/>
                <p:cNvSpPr/>
                <p:nvPr/>
              </p:nvSpPr>
              <p:spPr>
                <a:xfrm flipV="1">
                  <a:off x="6245640" y="2272320"/>
                  <a:ext cx="1083240" cy="289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31"/>
              <p:cNvSpPr/>
              <p:nvPr/>
            </p:nvSpPr>
            <p:spPr>
              <a:xfrm>
                <a:off x="6296760" y="2738880"/>
                <a:ext cx="20606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Задача, выполненная группой «Бухгалте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00240" y="1600200"/>
            <a:ext cx="38862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ить площадь поверхности большого и малого бетонных столбов, выполнить денежный расчёт косметического ремонта забора различными видами кра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ТОГ работы групп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 расхода денежных средств при различных вариантах покраски поверхности стол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PIC_0012"/>
          <p:cNvPicPr/>
          <p:nvPr/>
        </p:nvPicPr>
        <p:blipFill>
          <a:blip r:embed="rId3"/>
          <a:stretch/>
        </p:blipFill>
        <p:spPr>
          <a:xfrm>
            <a:off x="380880" y="167652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Задача, выполненная группой «Бухгалте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1676520"/>
          <a:ext cx="8382240" cy="4565520"/>
        </p:xfrm>
        <a:graphic>
          <a:graphicData uri="http://schemas.openxmlformats.org/drawingml/2006/table">
            <a:tbl>
              <a:tblPr/>
              <a:tblGrid>
                <a:gridCol w="1463760"/>
                <a:gridCol w="924120"/>
                <a:gridCol w="1000080"/>
                <a:gridCol w="927000"/>
                <a:gridCol w="1116000"/>
                <a:gridCol w="925560"/>
                <a:gridCol w="928800"/>
                <a:gridCol w="1096920"/>
              </a:tblGrid>
              <a:tr h="163980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кра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 м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лых стол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х стол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. кра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г кра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рубл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111924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а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вер-155П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 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  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  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4  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3 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8,8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70164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л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 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  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  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4  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5 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 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110484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риловая крас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-лю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 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 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  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 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4  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 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 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,4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Задача, выполненная группой «Статис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8229600" cy="2971800"/>
        </p:xfrm>
        <a:graphic>
          <a:graphicData uri="http://schemas.openxmlformats.org/drawingml/2006/table">
            <a:tbl>
              <a:tblPr/>
              <a:tblGrid>
                <a:gridCol w="2473200"/>
                <a:gridCol w="1919520"/>
                <a:gridCol w="1917720"/>
                <a:gridCol w="1919160"/>
              </a:tblGrid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покрыт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ремон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ремон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л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7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4,7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ал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8,8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2,8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рил. крас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,4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2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524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сать аналитическую справку о преимуществе использования какого-либо вида крас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ИТОГ работы группы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помощью программ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soft Wor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ли таблицу 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четы по ремонту на период 25 лет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Задача, выполненная группой «Координаторы, оформители проек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952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овать реализацию проекта, передачу чертежей, аналитических справок от группы к группе. Оформить презентацию и буклет по теме проект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ТОГ работы групп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 успешно реализован, оформлен в виде презентации. Для привлечения внимания к вопросу проекта создан бук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228600" y="2286000"/>
            <a:ext cx="4029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Подведение итогов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C:\Documents and Settings\Лихарева СА\Рабочий стол\100MEDIA\PIC_0005.JPG"/>
          <p:cNvPicPr/>
          <p:nvPr/>
        </p:nvPicPr>
        <p:blipFill>
          <a:blip r:embed="rId2"/>
          <a:stretch/>
        </p:blipFill>
        <p:spPr>
          <a:xfrm>
            <a:off x="228600" y="1143000"/>
            <a:ext cx="3386160" cy="2436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4267080" cy="4724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заключение   реализации проекта был проведен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«круглый стол»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на котором представитель каждой группы сообщил задачу, которая стояла перед его командой, оценил качество ее реш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ходе подведения итогов каждая группа заполнила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лист оцен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еятельности каждой группы в отдельности и всего проекта в цел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PIC_0019"/>
          <p:cNvPicPr/>
          <p:nvPr/>
        </p:nvPicPr>
        <p:blipFill>
          <a:blip r:embed="rId4"/>
          <a:stretch/>
        </p:blipFill>
        <p:spPr>
          <a:xfrm>
            <a:off x="955800" y="3635280"/>
            <a:ext cx="34639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Отчет учеников о проделанной рабо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419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ходе проведения проекта ученики, используя необходимые знания по геометрии и информацию в Интернете,  представили отчет о проделанной работе в виде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ЕЗЕНТАЦИИ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го, чтобы обратить внимание учащихся школы к своей работе, создатели проекта распространили среди учеников школы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УКЛЕ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зданный ими. С помощью этого буклета они хотели обратить внимание учеников школы  к практической направленности знаний по геомет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Выводы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учен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5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считаем, что знания, которые мы приобретаем на уроках геометрии имеют прикладное значение, потому что каждому из нас, например, придётся в дальнейшей жизни решать задачи, связанные с ремонтом дома или дачного участ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ая геометрию только у классной доски, мы не привыкли замечать знакомые геометрические фигуры в окружающем нас мире, не научились пользоваться приобретенными геометрическими знаниями на прак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ение данного проект разбудило в нас интерес к геометрии, как к предмету более жизненному и интерес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ИТОГИ РАБОТЫ НАД ПРОЕК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полнении проекта учащиеся показали знания предмета геометрии, умение применять их на прак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боте с программой «Компас» на ПК, ученики увидели эффективность этой программы для построения чертеж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полнении проекта ученики класса показали свое умение работать в группах, распределить обязанности. Проявили  сплоченность и взаимопомощь, ответственность за порученную работ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имела конечный практический результат, который был представлен на школьной научно-исследовательской конфе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учение предмета «Геометрия» имеет практическое прилож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ение ПК и Интернет-ресурсов позволяют качественно решать поставленные задач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рупповая работа объединяет и побуждает к творческой рабо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чет стоимости косметического ремонта школьного забора позволил ученикам профильного социально-экономического класса интегрировать экономику и геометрию в одном проек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3886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С.Атанасян, Геометрия 7-9,10-11. Издательство «Просвещение» 200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.В.Брыкова, Т.В.Громова, Проектная деятельность в учебном процессе. М. «Чистые пруды» 2006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-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йс-листы торговых магаз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«Компас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hkola.edu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6400800" y="5029200"/>
            <a:ext cx="22860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Рассчитать стоимость косметического ремонта бетонных элементов школьного забор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ОСНОВНАЯ ЗАДА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рактическое применение знаний по геометрии для решения задачи экономическ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1640" y="2209680"/>
            <a:ext cx="4267080" cy="3764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ПРОБЛЕМ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ть необходимые измерения и построить чертеж бетонных столбов, входящих в конструкцию заб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няя геометрические формулы вычислить площадь поверхности бетонного стол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ть денежный расчет косметического ремонта бетонных столбов различными видами крас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исать аналитическую справку о преимуществе использования какого-либо покрытия при ремон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PIC_0023"/>
          <p:cNvPicPr/>
          <p:nvPr/>
        </p:nvPicPr>
        <p:blipFill>
          <a:blip r:embed="rId3"/>
          <a:stretch/>
        </p:blipFill>
        <p:spPr>
          <a:xfrm>
            <a:off x="457200" y="220968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Структура проведения проекта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 проведения проекта: урочное, внеуро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80"/>
                </a:solidFill>
                <a:latin typeface="Times New Roman"/>
              </a:rPr>
              <a:t>ПРОЕК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ыполнен учениками 10 класса, который был разбит на 5 групп. Каждая группа, выполнив свою часть работы, передавала выполненные чертежи, таблицы, аналитические справки для дальнейшей обработ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атериалов следующей коман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Organization Chart 8"/>
          <p:cNvGrpSpPr/>
          <p:nvPr/>
        </p:nvGrpSpPr>
        <p:grpSpPr>
          <a:xfrm>
            <a:off x="457200" y="3048120"/>
            <a:ext cx="8305560" cy="3049920"/>
            <a:chOff x="457200" y="3048120"/>
            <a:chExt cx="8305560" cy="3049920"/>
          </a:xfrm>
        </p:grpSpPr>
        <p:cxnSp>
          <p:nvCxnSpPr>
            <p:cNvPr id="170" name="_s1028"/>
            <p:cNvCxnSpPr>
              <a:stCxn id="171" idx="0"/>
              <a:endCxn id="172" idx="2"/>
            </p:cNvCxnSpPr>
            <p:nvPr/>
          </p:nvCxnSpPr>
          <p:spPr>
            <a:xfrm flipV="1" rot="16200000">
              <a:off x="5919480" y="2957760"/>
              <a:ext cx="610560" cy="3230280"/>
            </a:xfrm>
            <a:prstGeom prst="bentConnector3">
              <a:avLst>
                <a:gd name="adj1" fmla="val 18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029"/>
            <p:cNvCxnSpPr>
              <a:stCxn id="174" idx="0"/>
              <a:endCxn id="172" idx="2"/>
            </p:cNvCxnSpPr>
            <p:nvPr/>
          </p:nvCxnSpPr>
          <p:spPr>
            <a:xfrm flipV="1" rot="16200000">
              <a:off x="4843800" y="4033440"/>
              <a:ext cx="610560" cy="1078560"/>
            </a:xfrm>
            <a:prstGeom prst="bentConnector3">
              <a:avLst>
                <a:gd name="adj1" fmla="val 18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1030"/>
            <p:cNvCxnSpPr>
              <a:stCxn id="176" idx="0"/>
              <a:endCxn id="172" idx="2"/>
            </p:cNvCxnSpPr>
            <p:nvPr/>
          </p:nvCxnSpPr>
          <p:spPr>
            <a:xfrm flipH="1" flipV="1" rot="5400000">
              <a:off x="3766320" y="4034160"/>
              <a:ext cx="610560" cy="1077480"/>
            </a:xfrm>
            <a:prstGeom prst="bentConnector3">
              <a:avLst>
                <a:gd name="adj1" fmla="val 18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1"/>
            <p:cNvCxnSpPr>
              <a:stCxn id="178" idx="0"/>
              <a:endCxn id="172" idx="2"/>
            </p:cNvCxnSpPr>
            <p:nvPr/>
          </p:nvCxnSpPr>
          <p:spPr>
            <a:xfrm flipH="1" flipV="1" rot="5400000">
              <a:off x="2689560" y="2957760"/>
              <a:ext cx="610560" cy="3230640"/>
            </a:xfrm>
            <a:prstGeom prst="bentConnector3">
              <a:avLst>
                <a:gd name="adj1" fmla="val 18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2" name="_s1032"/>
            <p:cNvSpPr/>
            <p:nvPr/>
          </p:nvSpPr>
          <p:spPr>
            <a:xfrm>
              <a:off x="3687120" y="3048120"/>
              <a:ext cx="1845720" cy="1220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ординаторы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формител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3"/>
            <p:cNvSpPr/>
            <p:nvPr/>
          </p:nvSpPr>
          <p:spPr>
            <a:xfrm>
              <a:off x="457200" y="4878000"/>
              <a:ext cx="1845720" cy="1220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ртеж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34"/>
            <p:cNvSpPr/>
            <p:nvPr/>
          </p:nvSpPr>
          <p:spPr>
            <a:xfrm>
              <a:off x="2610360" y="4878000"/>
              <a:ext cx="1845720" cy="1220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35"/>
            <p:cNvSpPr/>
            <p:nvPr/>
          </p:nvSpPr>
          <p:spPr>
            <a:xfrm>
              <a:off x="4763880" y="4878000"/>
              <a:ext cx="1845720" cy="1220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ухгалте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36"/>
            <p:cNvSpPr/>
            <p:nvPr/>
          </p:nvSpPr>
          <p:spPr>
            <a:xfrm>
              <a:off x="6917040" y="4878000"/>
              <a:ext cx="1845720" cy="1220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татис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3962520" cy="4983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ЕТОДИЧЕСК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учить тему по геометрии «Поверхности многогран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учить составлять технический чертеж с помощью программы «Компа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учить применять формулы вычисления поверхности многогра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учить анализировать полученные результаты и 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0240" y="1143000"/>
            <a:ext cx="3962520" cy="49831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ИДАКТИЧЕСК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формировать у учащихся представление о практическом применении 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формировать умение находить необходимую информацию в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формировать умение работать в группах, чувство ответственности за выполнение коллективно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Актуальность проведения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PIC_0022"/>
          <p:cNvPicPr/>
          <p:nvPr/>
        </p:nvPicPr>
        <p:blipFill>
          <a:blip r:embed="rId2"/>
          <a:stretch/>
        </p:blipFill>
        <p:spPr>
          <a:xfrm>
            <a:off x="849240" y="1600200"/>
            <a:ext cx="325440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PIC_0021"/>
          <p:cNvPicPr/>
          <p:nvPr/>
        </p:nvPicPr>
        <p:blipFill>
          <a:blip r:embed="rId3"/>
          <a:stretch/>
        </p:blipFill>
        <p:spPr>
          <a:xfrm>
            <a:off x="5040360" y="1600200"/>
            <a:ext cx="325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СРОКИ ВЫПОЛНЕНИЯ ПРОЕКТА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МА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зучение темы «Поверхности многогран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3 апр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оздание групп, распределение обязанностей 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4- 10 апр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оведение измерительных работ, поиск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группы «Чертеж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группы «Эксперты каче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11 – 22 апр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ставление расчетных таблиц, обобщение получен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группы «Бухгалте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группы «Статисты» (обобщение полученных материа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23 – 27 апр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формление проекта в виде презентации, создание бук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группы «Координаторы, оформители прое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28.0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подведение итогов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05.0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участие в школьной научно-исследовательской 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 5 г.Кирж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исова И.П. 2009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Ход проведен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PIC_0004"/>
          <p:cNvPicPr/>
          <p:nvPr/>
        </p:nvPicPr>
        <p:blipFill>
          <a:blip r:embed="rId2"/>
          <a:stretch/>
        </p:blipFill>
        <p:spPr>
          <a:xfrm>
            <a:off x="609480" y="1219320"/>
            <a:ext cx="3391200" cy="2431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PIC_0002"/>
          <p:cNvPicPr/>
          <p:nvPr/>
        </p:nvPicPr>
        <p:blipFill>
          <a:blip r:embed="rId3"/>
          <a:stretch/>
        </p:blipFill>
        <p:spPr>
          <a:xfrm>
            <a:off x="5181480" y="1219320"/>
            <a:ext cx="3386160" cy="2436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PIC_0016"/>
          <p:cNvPicPr/>
          <p:nvPr/>
        </p:nvPicPr>
        <p:blipFill>
          <a:blip r:embed="rId4"/>
          <a:stretch/>
        </p:blipFill>
        <p:spPr>
          <a:xfrm>
            <a:off x="5181480" y="3809880"/>
            <a:ext cx="3276720" cy="2355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IC_0015"/>
          <p:cNvPicPr/>
          <p:nvPr/>
        </p:nvPicPr>
        <p:blipFill>
          <a:blip r:embed="rId5"/>
          <a:stretch/>
        </p:blipFill>
        <p:spPr>
          <a:xfrm>
            <a:off x="685800" y="38098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Задача, выполненная группой «Чертёжн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необходимые измерения и построить чертёж бетонных столбов, входящих в конструкцию за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ТОГ работы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рупп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программы «Компас» выполнены чертежи  стандартного и несущего стол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Anet 123\Рабочий стол\img024.jpg"/>
          <p:cNvPicPr/>
          <p:nvPr/>
        </p:nvPicPr>
        <p:blipFill>
          <a:blip r:embed="rId3"/>
          <a:stretch/>
        </p:blipFill>
        <p:spPr>
          <a:xfrm>
            <a:off x="914400" y="1600200"/>
            <a:ext cx="2209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Задача, выполненная группой «Эксперты качест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я Интернет-ресурсы и прайс-листы торговых магазинов выяснить какое покрытие можно использовать для покраски столбов и стоимость эти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ТОГ работы групп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сана аналитическая справка о различных видах краски и стоимости ее в торговых т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Anet 123\Рабочий стол\img025.jpg"/>
          <p:cNvPicPr/>
          <p:nvPr/>
        </p:nvPicPr>
        <p:blipFill>
          <a:blip r:embed="rId3"/>
          <a:stretch/>
        </p:blipFill>
        <p:spPr>
          <a:xfrm>
            <a:off x="606600" y="1600200"/>
            <a:ext cx="3489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bbitPC</cp:lastModifiedBy>
  <dcterms:modified xsi:type="dcterms:W3CDTF">2012-12-15T19:11:2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