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34D-936F-4AD7-8196-E9A0D292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8E9-1762-4865-A147-06CD33F1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D323B-F613-4D1F-91EF-52FC1157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9F152-4FEA-4D1A-A2D8-F076E3B7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9F94B-2ED0-4FF7-818D-A22462DA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1637C-6D30-4948-BA5B-667947E5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0F0AD-B2B0-44A5-827F-7C9908D3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457FA-2E89-43F6-8CF0-2781661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192FE-EC2E-4337-85E1-8EC92549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64937-21E2-4D52-9EC3-E22F1295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173B8-9F2D-4D64-9471-4D489EA9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EC59FB-9B83-459E-B7B1-1DD435E1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EB9-A4A6-40AA-99D8-F07AF446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6CFC2E-C1D7-4C58-BF23-B93E5E95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22A92F-D353-4D2A-8DCF-6EB352E8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DFD61C-858B-4C21-86ED-E2925E1E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A0E042-4A70-4756-B6F2-33B84020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390C2-1710-4904-9448-FF0DEC14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23CFAE-00B2-437B-BF41-A0CD1C58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627FF2-3A9A-4D21-B28F-C3FD9A9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A6CD2D-62A7-4A56-95F6-472E9E30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39E12D-B48E-4102-9567-C1467B21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B594D0-0642-45CD-AEDC-AEEFF33F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107-926B-4483-AA84-DD563F50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F3EF57-FB5E-4BB8-8A78-7645C1CC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96438-687C-4309-9BF4-2A34657A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F005C-3C57-4F38-9A41-8D2AAABB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8C768-C86D-4022-8B2C-7A890CBD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DAB2C-A5DA-41CD-9BA7-190ECEBA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A12E2-5C73-4410-9356-DD7417BC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1DE01-982D-4F2F-93C9-FE5E6477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0F1E0-8559-4CAD-8484-368239B4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FDE90-A017-4C31-B89D-DD2B0A01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2F711-8A63-4400-ACD2-5579E626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E9F8-3F14-4AA5-B343-F7C9C0BA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C75CD-400C-4598-8688-6A7D703E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6CA56-2D18-4A8A-821A-45820F6E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ED494-5603-4699-AC81-154A384E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CFE9F4-3B98-4736-B435-A61AE927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80B469-D39D-454A-943F-70BBA787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4325FA-1FF8-4AA6-AE1C-CD7602CC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09033A-EB50-498C-B3CE-721A04C9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A7278F-D10E-4AB9-81B8-B0A6F245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E3CAB6-68E1-40A7-96DF-8AE37815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D929AC-64B3-4AB8-BCF4-1786D4AA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9420-A63B-4BF2-A7AB-4350BAF7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E2F4A8-21A7-49DC-9650-87953B7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296684-9B8F-48A0-BECE-1FD83A7A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187F80-874E-4E7E-ABC2-99B0D05B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91F06B-8FD7-4065-8BCD-AF4F75C0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BB9B5A-2999-4A52-A334-DE27EB57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039020-446E-43E3-97F7-997638FF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987E86-8105-46B1-9F6D-3B7F7B25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C29447-510F-4748-91C8-68B5C627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F60DCB-8F62-4303-A0BD-0CA7D624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AA5B35-FFC2-402F-915B-25C77768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5C44-9DDB-4ACA-BA9E-B5BF9EDD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E3B1EA-D09C-4AE7-8088-E7A0C30D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CEFB8B-7240-4DD1-A2DF-F1B0E81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832A93-2CE9-4B5A-BF5B-40C3E2A3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B1E554-9A05-43AC-8710-09AD718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E76FC7-86C0-4EDF-A94A-742BCF7E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F818D0-9C30-40B7-AF8A-7210F163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2FC49F-7D09-4DB2-B2C1-BEDDCFD6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0DFA6-DC2A-4BE5-BF34-F7B75A05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4FDB2-6994-4357-90B9-6BB88D72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76ADE-044C-4C1B-8140-98C54C1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A889-8970-4793-AD7F-CC6EB2BA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DFAA1-1F05-41A7-9B45-33290A5F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37D8B-5D5F-4C2C-87EA-A1F79AD7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369ED-48E1-4952-AC32-A6BFFC75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51F99-C127-47D7-8EBD-F6C6E21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96D24-6B89-43F2-BB61-93F9131F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523E8-D3A5-4565-A649-547F9E4B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0623F-9FC4-46E3-8E86-78BCC4B7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31B6C-C970-4C42-9386-DAAEBFF6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99CC3-D662-4EB8-8EEA-217259F2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CDDDC-8F1A-4D5C-A4AF-06657317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59C9-B91F-4DD7-839B-3DF2D4ED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3B374-43A0-4E31-9861-FE9457F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16831-6B08-43C7-BC4A-3503DE24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6212F-B567-478A-8D0E-A5A46209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56529-6D92-4511-BCFA-D972C911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FBD93-374C-4385-80B1-DA300E17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B1162-8AC0-48DC-81F2-8CDB2365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6CE52-73DE-4AE3-8B90-FC7147D1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13CF5-0BEF-43E9-84E1-6C6A4B2B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246DA-F90C-4A9D-8DA2-9DBB84C8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49AF0-EABB-4E3E-9330-575F9E2E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71DA-992A-4BA3-BC8B-2665DF7B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2E036-314E-4DFB-93CA-7EC6E60C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F05708-9695-4AB4-BDF7-1F0D3A80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8325AC-2101-4572-839F-A0E96655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8DE269-B57B-45B1-9146-5735787B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6B9444-DA54-4F52-BAE5-FC7FD2AF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12BA3F-CE18-44BE-87A4-3A34DCC1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907117-6C92-474F-BC5D-A8B04DEF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74B971-83DF-4EA9-8441-CE5DD68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C3043C-7C64-438C-B660-7E854D8F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F5CB43-BE3C-4ABE-8CE0-BF9A6E72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9FDD-8AF5-4669-BF55-994E483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AEEB7F-BB48-4794-8361-D6475E81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124920-6EC9-4B1B-BB8D-DA57B09C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EB8BFF-F5A0-4694-87B8-8BD402CD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FF1CDB-16DA-4B7F-B837-92364951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15131-1951-4E21-8FB5-9391DB83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BDAAD-8E7D-43AF-B34D-DA88FFF3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736AC-9A1E-45E1-BD2A-89A9DE75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E1E06-30A9-4565-94D3-FA1FAD30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B879F-D3AB-40D4-8562-6ED1F9F8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EE0C4-A943-4EBD-B393-7BF26A51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16E-FE9D-4885-BF23-166E55E1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A864-1DBF-4F15-A458-BC65160C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E89E0-8D8E-4E61-91B2-91B5A457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9FA97-E7B0-4E2E-AE84-7D6C3D21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969DB-4601-4A0A-BC50-BD7E4BE1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EFBF9-E92C-4093-AEDB-AF23280E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0873EE-9DEE-4953-AE02-EA61396C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F28A1-6A4A-4278-805A-96AECC1A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6A0F9-269F-45A7-8AC5-7110A83F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BEC85-59E0-4451-9159-4370FF7E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A38751-DDA5-4025-A699-0E2C58BA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CACF3-4F21-4477-9562-6B968AEE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629D-EF8A-46F7-B82A-569EBE4D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B9F1A-13E7-4ECB-8951-12F119ED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F8EE4-F01B-4D00-9013-0BE78990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E4F1C-C21A-4934-86B9-E62B667B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202D22-6739-46F5-A0F9-270A4E52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89CF3D-47F0-4BBF-AFF6-B8F9CCFC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89C45-202A-466C-8698-FDFE0EF8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99AA2-3F29-4579-ABA1-38E5B456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A753B0-3F70-4AFF-AEFD-B587BDCF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8C0093-F9DE-4890-8DCA-24207775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72ACC8-0F83-47CC-B4E3-2E4867E2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2D7A-B728-4C2D-887A-9A17924F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272534-4716-4D8A-AC63-5E00A22E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EC718C-39C9-4F31-9A9D-A90D005A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4A56B9-88BB-45EF-963D-39450804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748260-A98C-4FBA-8D01-95B97D7D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DD6A54-AB0B-4DBF-A201-77BBAC2C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E2B797-EF82-43CB-B22A-195864DE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2D8076-9121-4F97-BAFA-A3F72F81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0D57A9-B753-4922-8BC3-BCEB5C79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15F21-BBE1-4E69-9268-52C19292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C3A20-B76C-4A83-8514-2C0C1574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D56D-1482-446C-A5C3-B72B2A10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46284-E1CD-4225-A3F2-E5C8D71D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310BE-FD24-458D-A1CA-B440880B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CB281-1208-418B-8E46-E0692E40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83419-F5AB-4E5D-9148-7D03A984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CCA368-C54A-438B-83B8-A006E8DB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A4BCD1-832F-4F8A-865E-7ED0B3DE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9195F-FA74-4204-BA2B-7F8977E6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115537-032A-4657-A47E-9020570D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C56C01-9906-4477-8EEE-F5B885F3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8BF16-C285-40C2-8BA1-5AF6646B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4459-181D-4B9F-862F-1CAFAE2E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F09BF-E926-4B1B-9014-B1BFDE34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F347D-4A8F-4B21-BD49-D2025310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452B1F-29C5-43C8-AA58-9DE6313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0E6C13-FB17-4D62-AB6A-29CF881B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F4625-B60B-4B84-B28F-19E7C4D4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49FE59-5164-4472-919B-2EFECBE7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5CBA4-4A8D-4114-915E-54F296DC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9C3C64-819D-4539-BA28-760AD7A2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CE4E35-29EF-479C-B362-8CBE2847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14B14B-D704-440A-98C2-FD23ED6E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6964-D1A9-48D8-8B4D-5BAD5C18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93439B-AF44-47B0-B996-D60EDC9D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BE038-C20A-4233-8CCC-1439CC58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703C6-E50B-440E-91E5-79E0FDF2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AA61F6-7DEF-4A76-97AC-3AE344CF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EE9CAB-17FC-4C64-A436-6D9519FA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745EBA-FAFA-4211-8606-62E8E379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7DC738-4EC6-4131-A677-867A425D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5DCBC4-D550-4462-AB61-D19D5CDA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9DA045-4CC3-4355-B70D-1F7164C9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189579-67BF-4642-A2E9-AFEF6101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D9556-9177-4F48-929E-10252D43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EC91B7-C5AA-42D2-9016-6D2974CE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554D05-724E-4AE0-A90F-F071D78C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3EEF22-1D56-4FFA-AE34-51A4FF60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BB96E8-58AB-4E45-A57A-5FBCD5E1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92CCD2-F4CE-49F1-80C3-E5696FB9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BDCC17-3E0C-42AE-ACA2-A9A98F62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8C73FE-46CD-4878-89EA-19AB39AA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B47037-8923-4F97-8BFF-274B649F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18796A-B973-4C2B-8426-787F0F58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1B8108-D04E-4C45-B0D5-95428569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FB4F-654C-48AF-B03C-7668350A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DDB3ED-8825-4127-841F-3C99D62B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E9123E-B85C-4B46-8014-54F9D08A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27201D-8AF0-4C8C-9464-E4C8ED9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CD5C43-17EC-4FCF-A795-D13D0C69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0FE47C-3713-4ABD-9DBE-4FD92CE0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3F0B23-797A-41F5-9990-02E0EAA5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D58E6-515E-4672-9EE3-9462DE6A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F4040B-AF7B-40BE-9131-D3C88E8E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18E94B-2459-4440-8086-F1C5525D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4F884C-E32A-4B50-86F1-F1C6D716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6AC7B-B132-41DE-AA41-0837D69B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48CAF8-D84B-4E9A-B82C-DAE13E4B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525262-41BC-4DEA-B6FD-C04E636C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5151EC-3C28-47F3-BC18-25634F91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4FF6B9-F6A7-4C7B-B642-86A5D40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6349DE-B576-4C16-ABEC-DFAA3F23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B04715-3D82-4F52-B29A-CC5FD911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632922-BA20-4C97-B127-C67FFBEA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6986B9-03DD-4DBC-9FAB-0C073DC2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08DE4B-DABD-4E54-BBE8-3B8D2F5A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3C02-3ED5-48FF-BECD-BA008A1E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055-AF9D-4D30-9007-E270C718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DC97-B008-4206-BCA4-08F1127C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3D41-4F63-4B59-BE68-FC2B97A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5083-F490-4010-95E3-7BFEB4D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8F9E-DF1F-43C0-A0A2-758E75F5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9C7A-4A53-4D09-8FA5-8449635D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40BA-5FEE-4642-BA98-1AECEB7E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37A3-1CB9-46E1-8604-3F92BC62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42AE-49FF-4175-9747-D167AFB4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170D9-6571-436D-9515-92637F43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1F04A-1CB2-4E82-BB9D-A88E7107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CB3-B202-47E1-A86E-491464B5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4C1D-BC87-499F-98FE-4E09A31D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2AE32-792A-4726-8C84-833115C0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830EE-9243-42FF-B27B-069891BB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EADEC-6BAF-4D61-91EC-294799AC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AE219-E3AD-4438-9593-57777080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CAD8-9CB4-4429-857F-CCAE6E9F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0BB09-DBFD-4150-869F-DBEF3D64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DDF57-7ACE-4082-AA3A-6DB17103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A4296-0432-4212-8EBB-061BDB6E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88DE0-3317-4587-9D66-FC1FEBDB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346-51A1-45C2-94F3-643926B3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57710-27A6-4685-BD9D-08445AA0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683C6-60F6-4ED4-8693-DFDDBF5C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3389F-C4EE-431B-AE04-210EE857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7DE7E-9618-4B72-B110-D13A5850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44790-C661-474E-8145-AB7AE7EC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A28BF-3E30-47CE-AA67-5758349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8AEFE-C763-4D67-8FAA-BB31BBC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4E0F9-4432-4BD3-8754-2BDA99FA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5F400-6D3A-4FD0-A6FA-E7995217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4443C-1738-4E18-9DCC-DCB62D04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09E-23C8-4C92-95B4-C8FD78CC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7177F-00A1-4D20-9BDA-36ABD14E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A28F8-D37D-4878-AB7B-AEED625D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FE2DE-479B-4E41-B0E8-E913B7AB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8CE15-47FC-4E8F-BD87-FDB9892E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5F755-6A47-472C-8336-65727C76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49BD5-4D32-4F7F-90D4-E6E5DB82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FAF5F-655A-4093-A681-6894AA38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E4D0C-589D-4701-A705-A5F1CB76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4899A-63F7-4CB3-9CBE-032834E3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96D04-FC85-47FD-A000-BE6E2332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B2B-6D70-47C8-92CF-5B562B6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91DE-FC74-4C25-B2B4-F1D6C11A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8A1A0-AE82-4902-B60D-74C370EB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93331-A3C0-4FA1-83BA-73C1729F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4BC9D-7B5A-43BE-B050-29221B26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D2EF7-9E57-479D-B93B-9020D421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21141-8F8C-4896-B93B-71661563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D5FFF-3CE2-424F-8982-15C4E177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4A91-8B6D-4952-9440-07CF9576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FF5D8-2713-436C-92BC-BDF49353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C353-9A0A-4CB8-B8EB-90C24F9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310-E7FA-4233-9F7A-BB8C777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A472F-6D7B-4EE4-98D8-7EF36BF2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0D5FB-C280-4AFB-956B-A82C83B2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432CC-F593-4C11-86CA-2AB9C8DB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01863-2904-42B6-A7BD-43AB4B21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2DEF3-1B33-44FA-A899-E445236C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CAC24-E584-4F3C-A701-E5284231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990DB-B04B-4BAE-A89B-A8BD18BF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88BCE-DE8D-4A62-9B8C-C8167771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DD602-2CEA-4361-9C1A-753A90AE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E86EC-04F9-4EB4-9C53-801BD9C5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205-2A1B-469E-87C4-96ECE58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4B752-6983-45DA-A2CF-2A852F26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0BB17-57B6-4EDB-8A68-5BDFC4D5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46528-A034-48D5-9729-5A8F8971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77E5-CD25-46FC-BBC0-0D8FEF4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A8F57-C8E1-409A-B089-3C7341FC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A4653-81FF-41FE-A0F1-B02A0399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712CF-D44F-47C7-A818-4CA5E47E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A227B-4133-42C0-8E08-6A297B8D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766CF-C362-43DD-BB1D-16972A8C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377D9-728A-45B7-BA1E-9E1A1979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72BF-2DBA-4848-96B5-AE684F6BF4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ECD2-7C8B-4F08-99E8-50E7DE3EB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1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1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A153-79DF-4A27-933C-EDC12ED94B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7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7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8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EC1D-4442-4BA2-BC22-E3F34B7821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3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E814-AFB9-406D-804D-695EB47FFFF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9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C101-0F99-4616-BFF2-1EE29448DC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dt" idx="43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ftr" idx="44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5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D5E3-E145-4AB9-AB28-1BD59649D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ldNum" idx="46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1BD7-B371-43A6-8C46-7D8CB250C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ftr" idx="47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dt" idx="48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49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1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A291-E87A-4B1A-8D4C-1A2C31F35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2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ftr" idx="53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sldNum" idx="54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D266-17E2-46C9-9002-4F5AC38C6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3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4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6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ACE5-126E-436D-A420-CB1C4C3DA7B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3548-6979-460C-B575-B3C22E10A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1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11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4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049D-994A-4285-B8DA-D344CCF2356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6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6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6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3037-0A50-4154-9277-6768378C3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dt" idx="6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 type="ftr" idx="6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 type="sldNum" idx="6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9FCB-104D-4D9D-BAEE-E55331690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6CC9-B49D-443A-BD73-50213594D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4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2B84-3BE4-4BA7-BC26-8500E4C8C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93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E9A4-8D9E-4C15-A428-70991B076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207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254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0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1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2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890A-790B-4A22-9E73-38FA40AA7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3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4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5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CAF-9B0A-48B8-A0CF-542D3E30F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326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375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377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8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FF30-9CE0-495F-8A27-8A824AC49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29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32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9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6BE9-A390-43FC-85CE-D432F10EC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80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83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2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3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D016-8770-4E42-B090-C65DB1F35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0373-F60B-4D94-91A2-F67B5592F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053480" cy="27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Забота о здоровье –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А. Сухомлинский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611280" y="2852280"/>
            <a:ext cx="669744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дагогический проек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«Применение здоровьесберегающи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ехнолог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во внеурочной деятельност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                      </a:t>
            </a:r>
            <a:r>
              <a:rPr b="1" i="1" lang="ru-RU" sz="900" spc="-1" strike="noStrike" u="sng">
                <a:solidFill>
                  <a:srgbClr val="ffffff"/>
                </a:solidFill>
                <a:uFillTx/>
                <a:latin typeface="Times New Roman"/>
              </a:rPr>
              <a:t>Выполнила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</a:t>
            </a:r>
            <a:r>
              <a:rPr b="1" i="1" lang="ru-RU" sz="900" spc="-1" strike="noStrike" u="sng">
                <a:solidFill>
                  <a:srgbClr val="ffffff"/>
                </a:solidFill>
                <a:uFillTx/>
                <a:latin typeface="Times New Roman"/>
              </a:rPr>
              <a:t>Швецова Елена Михайловна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</a:t>
            </a:r>
            <a:r>
              <a:rPr b="1" i="1" lang="ru-RU" sz="9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тель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              </a:t>
            </a:r>
            <a:r>
              <a:rPr b="1" i="1" lang="ru-RU" sz="900" spc="-1" strike="noStrike" u="sng">
                <a:solidFill>
                  <a:srgbClr val="ffffff"/>
                </a:solidFill>
                <a:uFillTx/>
                <a:latin typeface="Times New Roman"/>
              </a:rPr>
              <a:t>ТОГОУ «Инжавинская специальная (коррекционная)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                        </a:t>
            </a:r>
            <a:r>
              <a:rPr b="1" i="1" lang="ru-RU" sz="900" spc="-1" strike="noStrike" u="sng">
                <a:solidFill>
                  <a:srgbClr val="ffffff"/>
                </a:solidFill>
                <a:uFillTx/>
                <a:latin typeface="Times New Roman"/>
              </a:rPr>
              <a:t>общеобразовательная школа-интернат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 этап: ПРАКТИЧЕСКИЙ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ель: создание педагогических условий для развития навыков, обеспечивающих сохранение и укрепление психофизиологического здоровья школьников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ершенствование развивающей среды;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недрение новых форм и методов обучения и воспитания; Выработка и закрепление здоровьесберегающих навыков у детей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рганизация оздоровительной работы в учебное и внеучебное время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этап: ИТОГОВЫ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ь: оценка эффективности форм и содержания здоровьесберегающих технолог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иагностика психологического, физиологического состояния и творческого потенциала школьник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нализ и обобщение полученных диагностических материал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ение перспектив дальнейшего развития здоровьесберегающей сре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РЕЗУЛЬТАТЫ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здание образовательной среды, способствующей сохранению здоровья учащихся и педагогов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нижение уровня заболеваемости детей.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лучшение психологического климата.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здание системы диагностики комплексной оценки состояния здоровья учащихся.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ормирование здорового образа жизни.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пробация и внедрение в практическую деятельность педагогов основных здоровьесберегающих технологий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АКТУАЛЬ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современном информационном мире добились новых достижений в науке и технике, начавшийся технологический переворот ведет нас к новой научно-технологической цивилизации. Но помимо положительных результатов такая революция приводит и к отрицательным явления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всеместно наблюдается ослабление здоровья человека. И, конечно, самыми уязвимыми становятся де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ровень общей заболеваемости российских детей увеличивается. Растет потребление наркотиков и психотропных веществ. Значительное количество детей имеют выраженные нарушения психического и психологического стату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читывая сложившуюся ситуацию, одной из приоритетных задач учебно-воспитательного процесса школы-интерната является сбережение  и укрепление здоровья учащих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ПРОТИВОРЕЧИЯ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Между: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Физическим  здоровьем, или здоровьем тела, которое подразумевает наличие  у организма  человека  резервных  возможностей, обеспечивающих его оптимальную адаптированность к изменениям внешней и внутренней среды и  недостаточным уровнем развития детей с ослабленным здоровьем;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широким распространением разнообразных форм физической культуры и снижением интереса учащихся к самостоятельным занятиям физической культурой.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еобходимостью формирования валеологической культуры учащихся и  отсутствием у  школьников базовых основ здорового образа жизни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формирование мотивации к здоровому образу жизни через совершенствование образовательного и воспитательного пространств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  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нализ психолого-педагогической литературы по проблеме исследования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 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недрение здоровьесберегающих технологий в образовательный  процесс школы-интерната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сформировать необходимые знания, умения и навыки здорового образа жизни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аучить использовать полученные знания в повседневной жизни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Формирование у детей ценностного, ответственного отношения к своему здоровью, готовности соблюдать законы здорового образа жизни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рганизация оздоровительной работы во    внеучебное время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Реализация комплексного плана работы по профилактике употребления ПАВ, табакокурения и наркомании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формирование практических навыков использования здоровьесберегающих технологий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здание и развитие коррекционно-развивающей среды, способствующей  сохранению и укреплению физического и психического здоровья воспитанников, усвоение социально ценных поведенческих норм, коммуникативных навыков обеспечат  детям с ограниченными возможностями здоровья эффективную социальную адаптацию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7" dur="2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роки реализации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ект носит долгосрочный характер (5 ле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лан мероприятий корректируется ежегод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ажды в год подводятся промежуточные итоги      реализации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ЖИДАЕМЫЕ РЕЗУЛЬТАТ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хранение и укрепление здоровья учащихся при стабильных результатах обу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мотиваций обучения, двигательной деятельности,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лизация комплексного плана работы по профилактике употребления ПАВ, табакокурения и наркома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ктическое использование навыков здоровьесберегающих технолог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физической и санитарно-гигиенической культуры учащих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117880" y="0"/>
            <a:ext cx="6867360" cy="8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1 этап: ПОДГОТОВ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Цель: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ценка состояния психологического и физиологического здоровья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Задачи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99cc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учение психолого-педагогической литературы по здоровьесберегающим технология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99cc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 мониторинг состояния здоровья уча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99cc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ь уровень мотивации деятельности учащих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99ccff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полученных результатов состояния здоровья учащих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7" dur="2000" fill="hold"/>
                                        <p:tgtEl>
                                          <p:spTgt spid="1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3:09:20Z</dcterms:created>
  <dc:creator>user</dc:creator>
  <dc:description/>
  <dc:language>en-US</dc:language>
  <cp:lastModifiedBy>User</cp:lastModifiedBy>
  <dcterms:modified xsi:type="dcterms:W3CDTF">2009-04-08T12:36:50Z</dcterms:modified>
  <cp:revision>4</cp:revision>
  <dc:subject/>
  <dc:title>«Забота о здоровье –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 В.А. Сухомлинский       </dc:title>
</cp:coreProperties>
</file>