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451-2FCE-4300-A82B-BDFCC1D7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ACD-8489-4A98-B835-8D3E0E75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D56-7CF8-48D5-ACA3-D237FEFE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12F-92B9-4B1E-B734-D638897F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3461-D68B-4B3F-A850-1385FEAF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8B0A-7906-49A8-A3A8-95CEF1FD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B19D-C84F-47DB-AC7D-7EDEE5EE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2B68-6449-4242-8195-A8496D3D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9393-18CA-43DD-8EBA-74B5F974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65F8-0CE1-4336-83D8-5B9BEFD9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F0E0-EC56-4AE0-AC13-49E09233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70D-912A-4D9F-9458-41C7C3A9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CA6E-9BBD-47E7-AD24-56FD3FE1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E340-19D7-4034-B2E3-71C83349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FCC0-13B9-48C8-8751-1ED76238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4813-DF5B-469E-84EE-ECF304FB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B7ED-7A89-45BB-B90D-098ADFFF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485-D95C-4DE0-BAD3-05CF5D4D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A9C-8389-4773-95C0-1947AAC1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8F8-72AE-4A20-8927-A38360BD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22B-E3E9-4CA2-BBAE-3A0FD3AE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BC1-67EC-41C7-8887-9097D54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244-B98D-4A63-AA14-0416F1E7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F7D-6524-4203-8A29-3DBBB9D4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3F8D-3B6A-4583-913A-BB0F045B3C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3BF0-32BE-4A1C-9492-36FF5B8CF5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Тест по теме</a:t>
            </a:r>
            <a:br>
              <a:rPr sz="8000"/>
            </a:b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«Имя прилагательное»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828036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9. Обозначают принадлежность чего-либо лицу или животному прилагательны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) качественные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) относительные;  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) притяжательны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06616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0. Прилагательные какого разряда имеют краткую форму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) качественные; 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) относительные;  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) притяжательны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152280"/>
            <a:ext cx="7848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1.Какие прилагательные являются качественными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) умный человек,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) сельский магазин,  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) мамин платок;  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) длинный путь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д) каменный до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993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2.Какие прилагательные являются притяжательными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) лисий след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) медвежья берлога;  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) медвежья походка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) золотое кольцо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) золотые рук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3.Выберите варианты, в которых прилагательные выступают в краткой форм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) мальчик умен,  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) девочка болтлива;  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) язык могуч;  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) мудрый совет;  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) могучее дерево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06616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4.Найдите прилагательные в простой форме сравнительной степени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) сильнее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) более сильный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) наиболее добрый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) тоньше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) тише всех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136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5. Найдите прилагательные в простой форме сравнительной степени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) сильнее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) более сильный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) наиболее добрый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) тоньше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) тише всех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13744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6.В каких прилагательных пишется две буквы 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н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) осен?ий день; 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) гусин?ые лапки;  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) оловян?ый солдатик;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г) лун?ые сутки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 д) камен?ый дом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7. В данных примерах 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не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 с прилагательными пишется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раздельно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) (не) решительный поступок; 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б) вовсе (не) хороший человек; 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) (не) грустный, а смешной; 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) далеко (не) идеальный; 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д) (не) плохой сюже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993080" cy="54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8. Выберите прилагательные, которые записаны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без ошибок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) сентябрьский; 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) январьский; 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) богатырьский; 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г) сельский;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) рыбатский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81440" y="33336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.Имя прилагательное – это часть речи, которая обозначает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) признак предмета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) действие предмета; 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) признак призна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846920" cy="54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9. Укажите прилагательное с суффиксом -ов-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) плюш..вый;   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) ситц..вый;   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) ключ..вой;    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г) свинц..вы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0. В каком предложени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 конце слова после шипящей мягкий знак пишется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) И на луга от рощ(?) ложатся тени, сгибая травы тяжестью свое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) А в горьких колодцах пустыни и гореч(?) за сладость сойде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) Зеленый луг, как чудный сад, пахуч(?)и свеж(?)в часы рассвет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604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1. В каком предложении  прилагательное употреблено в форме творительного падежа, в окончании пишется буква И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Весело сияет месяц над селом, Белый снег сверкает син..м огоньк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Травы прячут син..ю фиалку, От черемухи летит снежок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Небо синее, и на син..м небе белые ветви деревье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2. Прилагательное в превосходной степени имеется в предложении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) Значит, самое интересное еще не произошло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б) Удивительнее всего в этих местах был воздух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) Деревня имела очень опрятный и очень приветливый вид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828036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3. В этом предложении прилагательное характеризует предмет по звуку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) В чаще молчаливой темнота лежит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б) Смолкает звонкая капель, и вновь на ветках лед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) И вдруг пошел пушистый, белый, холодный, мартовский снежок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Имя прилагательное изменяется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найдите неверное утверждение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)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) по родам;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) по временам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) по числам;  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) по падежа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850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. Прилагательные могут иметь степени сравнения (найдите неверное утверждение)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) сопоставительную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) сравнительную; 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) превосходную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27056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Прилагательные в форме простой сравнительной степени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) не изменяются по родам, числам и падежам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) изменяются по родам, числам и падежа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5. Прилагательные в форме простой превосходной степени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) не склоняются;   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) склоняютс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8200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. По значению и форме прилагательные делятся (найдите неверное утверждение)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) на качественные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) количественные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) относительные;  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) притяжательны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4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. Признак предмета, который может быть в этом предмете в большей или меньшей степени, обозначают прилагательны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) качественные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) относительные;  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) притяжательны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16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8. Прилагательные, которые называют признак через отношение к предмету или к другому признаку называются: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) качественными; 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) относительными;  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) притяжательным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12:13:25Z</dcterms:created>
  <dc:creator>Admin</dc:creator>
  <dc:description/>
  <dc:language>en-US</dc:language>
  <cp:lastModifiedBy>Admin</cp:lastModifiedBy>
  <dcterms:modified xsi:type="dcterms:W3CDTF">2013-01-25T13:20:55Z</dcterms:modified>
  <cp:revision>3</cp:revision>
  <dc:subject/>
  <dc:title>Тест по теме «Имя прилагательное»</dc:title>
</cp:coreProperties>
</file>