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15C-732F-4ED0-93CC-FB01C292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65D-844C-4552-9917-226F037F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F32-353A-4949-B5F2-530A8E3D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4A8-6F3F-48F8-9BD0-7110ADB8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396-9284-4E61-83F1-BC7BFD32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D01-33A7-46DD-B291-01C55EC1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4FA-75B0-45E5-AF08-FCEBC8BE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5CD-D52B-431F-894E-AD9D52A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6DA-E894-4F64-A1B8-6923C10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47F-DC45-4708-A63B-13EB2664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CFF-791B-4441-A56C-E00CAA5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372-F16F-43B8-9B64-C737F9A3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93DA-068F-42D8-BE8C-8458F109A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lanetachasov.ru/pictures/5_5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mediasubs.ru/group/uploads/vs/vse-o-krasote/image2/Tc0MDItMT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cademy.dviger.com/public/gallery/18/184/242fb64d00e9f68868f983491db530f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900igr.net/data/predmety/CHasy-2.files/0030-064-Ognennye-chasy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fotokonkurs.ru/uploads/photos/contests/big/70001_71000/70327/a3fc2454812270d511ffe820c775f820f5a0f056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ovanosvisiems.lt/media/catalog/product/cache/1/image/5e06319eda06f020e43594a9c230972d/0/_/0_1_1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awatches.ru/upload/Image/mech_guense.gif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darim.kz/content/catalog/400/3331_1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45.radikal.ru/i108/1108/c4/e401eb4d27d8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gadgetsp.ru/image/cache/data/wsLJN84J-0-500x500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2.jpe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блюдение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ута – это удобная мера времени  для проверки своей сноров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те количество слов, прочитанных за одну мину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можно  сделать приседа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ЧНОЕ ВРЕМЯ</a:t>
            </a:r>
            <a:br>
              <a:rPr sz="4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е мы знаем, что один час  состоит из 60 минут. Но люди не сразу научились точно измерять врем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со временем появился прибор - ч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8000"/>
                </a:solidFill>
                <a:uFillTx/>
                <a:latin typeface="Arial"/>
              </a:rPr>
              <a:t>Солнечные 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амые древние часы, которыми пользовались люди, чтобы примерно знать время, — солнечные. Циферблат таких часов помещали на открытом ярко освещаемом солнцем месте, а стрелкой часов служил стержень, отбрасывающий тень на цифербл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солнечные часы"/>
          <p:cNvPicPr/>
          <p:nvPr/>
        </p:nvPicPr>
        <p:blipFill>
          <a:blip r:embed="rId1"/>
          <a:stretch/>
        </p:blipFill>
        <p:spPr>
          <a:xfrm>
            <a:off x="5508720" y="1628640"/>
            <a:ext cx="34560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ЫТ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G:\Алина сделала солнечные часы\P1050117.JPG"/>
          <p:cNvPicPr/>
          <p:nvPr/>
        </p:nvPicPr>
        <p:blipFill>
          <a:blip r:embed="rId2"/>
          <a:stretch/>
        </p:blipFill>
        <p:spPr>
          <a:xfrm>
            <a:off x="97164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0066"/>
                </a:solidFill>
                <a:uFillTx/>
                <a:latin typeface="Arial"/>
              </a:rPr>
              <a:t>Водяные ча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11280" y="981000"/>
            <a:ext cx="67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одяные часы стали следующим шагом прогресса после солнечных часов. В Вавилоне такие часы были в ходу еще 2050 лет тому назад. Из Вавилона они попали к грекам, а от греков к римля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Много сотен лет водяные часы верно служили людям. По капелькам влага перетекала из одного сосуда в другой, и по тому, сколько воды вытекло, определяли, сколько времени «утекло». Древние египтяне делали это с помощью конического сосуда, на стенках которого были нанесены отметки, соответствующие часам. Вода вытекала из сосуда с определённой скоростью, и по мере снижения её уровня время можно было узнавать по нарезкам на сте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Водяные часы"/>
          <p:cNvPicPr/>
          <p:nvPr/>
        </p:nvPicPr>
        <p:blipFill>
          <a:blip r:embed="rId1"/>
          <a:stretch/>
        </p:blipFill>
        <p:spPr>
          <a:xfrm>
            <a:off x="250920" y="1125360"/>
            <a:ext cx="2160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053"/>
          <p:cNvPicPr/>
          <p:nvPr/>
        </p:nvPicPr>
        <p:blipFill>
          <a:blip r:embed="rId1"/>
          <a:stretch/>
        </p:blipFill>
        <p:spPr>
          <a:xfrm>
            <a:off x="5580000" y="2276640"/>
            <a:ext cx="3384720" cy="39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platon"/>
          <p:cNvPicPr/>
          <p:nvPr/>
        </p:nvPicPr>
        <p:blipFill>
          <a:blip r:embed="rId2">
            <a:alphaModFix amt="90000"/>
          </a:blip>
          <a:stretch/>
        </p:blipFill>
        <p:spPr>
          <a:xfrm>
            <a:off x="250920" y="260280"/>
            <a:ext cx="3438360" cy="2610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3816360" y="-41760"/>
            <a:ext cx="532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Первый на Земле будильник тоже был водяным. Считается, что его изобрёл древнегреческий философ Платон, чтобы созывать на занятия своих учеников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0" y="2917440"/>
            <a:ext cx="56516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Прибор состоял из двух сосудов; в верхний наливалась вода, которая понемногу стекала в нижний, вытесняя оттуда воздух. А последний, по задумке хитроумного Платона, по трубке устремлялся к флейте, и та начинала голосить. Достаточно громко, чтобы даже разбудить спящего.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песочные"/>
          <p:cNvPicPr/>
          <p:nvPr/>
        </p:nvPicPr>
        <p:blipFill>
          <a:blip r:embed="rId1"/>
          <a:stretch/>
        </p:blipFill>
        <p:spPr>
          <a:xfrm>
            <a:off x="179280" y="333360"/>
            <a:ext cx="4019760" cy="597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427640" y="36036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 бывают часы песочные – точные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 них песчинки текут – секунды бегут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 песчинки собрались –холмиком улеглись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 колбочке из стекла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  и минутка истекла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6626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сочные часы — вещь довольно редкая. Было время, когда такими часами пользовались средневековые маги и алхимики. Песочные часы можно увидеть в школе на уроке хим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а 14 из 64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15920"/>
            <a:ext cx="2413080" cy="230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Картинка 1 из 649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565360"/>
            <a:ext cx="1871640" cy="3456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1692360" y="494028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268360" y="2416680"/>
            <a:ext cx="66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первых упоминаний о таких часах является обнаруженное в Париже сообщение, в котором содержится указание по приготовлению тонкого песка из порошка чёрного мрамора, прокипячённого в вине и высушенного на солнце. На кораблях приме-нялись четырёхчасовые песочные час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песочные часы используются лишь при проведении некоторых врачебных процедур, в фотографии, а также в качестве сувенир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640000"/>
                </a:solidFill>
                <a:uFillTx/>
                <a:latin typeface="Arial"/>
              </a:rPr>
              <a:t>Огнен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720" y="1267920"/>
            <a:ext cx="460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100" spc="-1" strike="noStrike">
                <a:solidFill>
                  <a:srgbClr val="501300"/>
                </a:solidFill>
                <a:latin typeface="Arial"/>
              </a:rPr>
              <a:t>Огненные часы впервые появились в Китае. Они состоя-ли из спирали или палочки из горюче-го материала с под-вешенными метал-лическими шарика-ми. При сгорании материала шарики падали в фарфоро-вую вазу, произво-дя звон.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артинка 3 из 75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268280"/>
            <a:ext cx="4753080" cy="532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3933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501300"/>
                </a:solidFill>
                <a:latin typeface="Arial"/>
              </a:rPr>
              <a:t>Огненные часы часто представляли собой свечу, изготовленную из специальных сортов дерева, растертого в порошок. Дерево смешивали с благовониями, из получившегося теста раскатывали палочки различной формы. Этот состав обеспечивал равномерность горения. Палочки могли гореть месяцами, не требуя никакого обслуж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Картинка 1 из 75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3745080" cy="352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Картинка 2 из 75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60280"/>
            <a:ext cx="423864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ворческая работа на тем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Тик-так, часики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4005360"/>
            <a:ext cx="73454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ы 4 «Г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хамедяновой Ал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часы МГУ одни из самых больших в европе"/>
          <p:cNvPicPr/>
          <p:nvPr/>
        </p:nvPicPr>
        <p:blipFill>
          <a:blip r:embed="rId1"/>
          <a:stretch/>
        </p:blipFill>
        <p:spPr>
          <a:xfrm>
            <a:off x="2987640" y="189000"/>
            <a:ext cx="3600360" cy="238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492000" y="260280"/>
            <a:ext cx="565164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01300"/>
                </a:solidFill>
                <a:latin typeface="Arial"/>
              </a:rPr>
              <a:t>В Европе первые огневые – свечные часы появились в начале 13 века. Эти очень простые часы в виде длинной тонкой свечи с нанесенной по ее длине шкалой. Свечи, применяв-шиеся для этой цели, были длиной около метра. Отсюда происходит и обычай измерять длину ночи количеством сгоревших за ночь свечей. Обычно за ночь выгорали три такие свечи, а зимой – бол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kerzenuhr"/>
          <p:cNvPicPr/>
          <p:nvPr/>
        </p:nvPicPr>
        <p:blipFill>
          <a:blip r:embed="rId1"/>
          <a:stretch/>
        </p:blipFill>
        <p:spPr>
          <a:xfrm>
            <a:off x="324000" y="189000"/>
            <a:ext cx="345600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Механические 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252720" y="1052280"/>
            <a:ext cx="460836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е механические часы не имели циферблата и способны были лишь подавать звуковые сигналы через определенные отрезки времени. В сущности, они представляли собой колокол, по которому с некоторой регулярностью наносились удары. Такое устройство делало их особенно полезными для отбивания канонических часов в церкв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3223"/>
          <p:cNvPicPr/>
          <p:nvPr/>
        </p:nvPicPr>
        <p:blipFill>
          <a:blip r:embed="rId1"/>
          <a:stretch/>
        </p:blipFill>
        <p:spPr>
          <a:xfrm>
            <a:off x="4441680" y="1125360"/>
            <a:ext cx="452304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50920" y="-3600"/>
            <a:ext cx="33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уси первые механические часы были установлены в Кремле в 1404 году. Часы имели вращающийся циферблат с одной неподвижной стрелко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Картинка 16 из 1517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1840" y="3500280"/>
            <a:ext cx="2786040" cy="306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Картинка 7 из 1517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189000"/>
            <a:ext cx="496728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варцевые ч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496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варцевые часы — часы, в которых в качестве колебательной системы применяется кристалл кварца. Хотя электронные часы также являются кварце-выми, выражение «кварцевые часы» обычно применяется только к электромеха-ническим часам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Картинка 9 из 1371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197000"/>
            <a:ext cx="3564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0" y="4133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рцевые часы были выпущены в 1971 году. В 1978 году американская компания «Хьюлетт Паккард» впервые выпустила кварцевые часы с микрокалькулятором. На нём можно было совершать математические операции с шестизначными числами. Его клавиши нажимали шарико-вой ручкой. Размер этих часов составлял несколько ква-дрантных сантиметр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Картинка 3 из 1468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9000"/>
            <a:ext cx="3809880" cy="388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Картинка 2 из 14687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04640"/>
            <a:ext cx="4032000" cy="3678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79280" y="3189240"/>
            <a:ext cx="417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статочно высокая точность электронных часов по сравнению с механическими часами и дальнейшее развитие микроэлектроники привели к почти полному вытеснению механических стрелочных часов к концу ХХ века из жизни человека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065480" y="357120"/>
            <a:ext cx="507852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степенно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лектронные часы-будильни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ли почти обязательным элементом таких устройств как телевизоры, видеомагнитофоны, компьютеры, сотовые телефоны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Картинка 4 из 146886"/>
          <p:cNvPicPr/>
          <p:nvPr/>
        </p:nvPicPr>
        <p:blipFill>
          <a:blip r:embed="rId1"/>
          <a:stretch/>
        </p:blipFill>
        <p:spPr>
          <a:xfrm>
            <a:off x="179280" y="189000"/>
            <a:ext cx="3311640" cy="2808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Картинка 11 из 146886"/>
          <p:cNvPicPr/>
          <p:nvPr/>
        </p:nvPicPr>
        <p:blipFill>
          <a:blip r:embed="rId2"/>
          <a:stretch/>
        </p:blipFill>
        <p:spPr>
          <a:xfrm>
            <a:off x="4427640" y="3789360"/>
            <a:ext cx="4321080" cy="2878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987640" y="187560"/>
            <a:ext cx="3097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чные часы́ — прибор, носимый на запястье и служащий для индикации текущего времени и измерения временных интервалов. Наибольшее распрост-ранение получили меха-нические, кварцевые и электронные наручные час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артинка 10 из 342236"/>
          <p:cNvPicPr/>
          <p:nvPr/>
        </p:nvPicPr>
        <p:blipFill>
          <a:blip r:embed="rId1"/>
          <a:stretch/>
        </p:blipFill>
        <p:spPr>
          <a:xfrm>
            <a:off x="3348000" y="3687840"/>
            <a:ext cx="2592360" cy="3170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179280" y="3859200"/>
            <a:ext cx="302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манные часы на цепочке появились в XVII веке, когда был изобретён часовой механизм привычных нам размеров, что позволяло уместить его в кармане одежды для повседневного ноше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220px-MontreGousset001"/>
          <p:cNvPicPr/>
          <p:nvPr/>
        </p:nvPicPr>
        <p:blipFill>
          <a:blip r:embed="rId2"/>
          <a:stretch/>
        </p:blipFill>
        <p:spPr>
          <a:xfrm>
            <a:off x="179280" y="189000"/>
            <a:ext cx="2737080" cy="345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часы с орлом"/>
          <p:cNvPicPr/>
          <p:nvPr/>
        </p:nvPicPr>
        <p:blipFill>
          <a:blip r:embed="rId3"/>
          <a:stretch/>
        </p:blipFill>
        <p:spPr>
          <a:xfrm>
            <a:off x="6156360" y="189000"/>
            <a:ext cx="2808360" cy="3527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3"/>
          <p:cNvSpPr/>
          <p:nvPr/>
        </p:nvSpPr>
        <p:spPr>
          <a:xfrm>
            <a:off x="5940360" y="3859200"/>
            <a:ext cx="305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то далекое время настольные часы являлись гордостью дома. Часы могли поведать о происхождении хозяина (знатности), его финансовом положении, социальном статус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79280" y="3645000"/>
            <a:ext cx="33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Есть часы, на полу стоящие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Басом говорящи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«Бом!Бом!Бом!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На весь до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8a46414077f469e97388ea41ba218ae7"/>
          <p:cNvPicPr/>
          <p:nvPr/>
        </p:nvPicPr>
        <p:blipFill>
          <a:blip r:embed="rId1"/>
          <a:stretch/>
        </p:blipFill>
        <p:spPr>
          <a:xfrm>
            <a:off x="1042920" y="907920"/>
            <a:ext cx="828720" cy="25196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5"/>
          <p:cNvSpPr txBox="1"/>
          <p:nvPr/>
        </p:nvSpPr>
        <p:spPr>
          <a:xfrm>
            <a:off x="1187280" y="11592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 а п о л ь н ы е   ч а с ы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6" descr="напольные 3"/>
          <p:cNvPicPr/>
          <p:nvPr/>
        </p:nvPicPr>
        <p:blipFill>
          <a:blip r:embed="rId2"/>
          <a:stretch/>
        </p:blipFill>
        <p:spPr>
          <a:xfrm>
            <a:off x="3276720" y="907920"/>
            <a:ext cx="550224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81080" y="1413000"/>
            <a:ext cx="400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 есть часы настенные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инные, степенные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 убегают, не отстают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овремя бьют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1979640" y="260280"/>
            <a:ext cx="511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 а с т е н н ы е   ч а с ы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6" descr="400002_1"/>
          <p:cNvPicPr/>
          <p:nvPr/>
        </p:nvPicPr>
        <p:blipFill>
          <a:blip r:embed="rId1"/>
          <a:stretch/>
        </p:blipFill>
        <p:spPr>
          <a:xfrm>
            <a:off x="6732720" y="1197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?id=143487189-37-72"/>
          <p:cNvPicPr/>
          <p:nvPr/>
        </p:nvPicPr>
        <p:blipFill>
          <a:blip r:embed="rId2"/>
          <a:stretch/>
        </p:blipFill>
        <p:spPr>
          <a:xfrm>
            <a:off x="250920" y="3139920"/>
            <a:ext cx="3170160" cy="3170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Картинка 88 из 127919"/>
          <p:cNvPicPr/>
          <p:nvPr/>
        </p:nvPicPr>
        <p:blipFill>
          <a:blip r:embed="rId3"/>
          <a:stretch/>
        </p:blipFill>
        <p:spPr>
          <a:xfrm>
            <a:off x="4067280" y="1413000"/>
            <a:ext cx="2130480" cy="4673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5867280" y="3566880"/>
            <a:ext cx="327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Две сестрицы друг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за другом </a:t>
            </a:r>
            <a:br>
              <a:rPr sz="2200"/>
            </a:b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Пробегают круг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за кругом. </a:t>
            </a:r>
            <a:br>
              <a:rPr sz="2200"/>
            </a:b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Коротышка –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только раз, </a:t>
            </a:r>
            <a:br>
              <a:rPr sz="2200"/>
            </a:b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Та, что выше, -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каждый час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(Стрелки часов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20" y="5013360"/>
            <a:ext cx="6112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Эти уличные часы на столбе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Знакомы тебе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Они здесь очень нужны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Стрелки – великаны издали видны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Спасская"/>
          <p:cNvPicPr/>
          <p:nvPr/>
        </p:nvPicPr>
        <p:blipFill>
          <a:blip r:embed="rId1"/>
          <a:stretch/>
        </p:blipFill>
        <p:spPr>
          <a:xfrm>
            <a:off x="4932360" y="907920"/>
            <a:ext cx="4032360" cy="51134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6"/>
          <p:cNvSpPr txBox="1"/>
          <p:nvPr/>
        </p:nvSpPr>
        <p:spPr>
          <a:xfrm>
            <a:off x="1979640" y="11592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ш е н н ы е   ч а с ы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7" descr="Англия самые известные часы"/>
          <p:cNvPicPr/>
          <p:nvPr/>
        </p:nvPicPr>
        <p:blipFill>
          <a:blip r:embed="rId2"/>
          <a:stretch/>
        </p:blipFill>
        <p:spPr>
          <a:xfrm>
            <a:off x="611280" y="981000"/>
            <a:ext cx="360036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Что есть время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Я знаю, что эт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о если меня спрашиваю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бъяснить не могу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Философ Август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3276720" y="508248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ерь, когда я мудрости дости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ы идут иначе «тик-тик-тик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ю теперь я в жизни каждый ми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дь часики-то тикают – тик-тик!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28584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я юн был, шли часы тик-та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и мне подавали добрый зна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даже если шло все кое-ка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было хорошо – тик-так, тик-та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480680" y="1774800"/>
            <a:ext cx="579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стал постарше, изменился зву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ли в унисон часы мне – тук-тук-тук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верно от любви, сердечных му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и в такт сердцу бились – тук-тук-ту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489400" y="3430440"/>
            <a:ext cx="567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сцвете лет любил я гам и шу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шли мои часы бум-бум, бум-бум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ьера, деньги волновали у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в остальном тогда был ни «бум-бум!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детские"/>
          <p:cNvPicPr/>
          <p:nvPr/>
        </p:nvPicPr>
        <p:blipFill>
          <a:blip r:embed="rId1"/>
          <a:stretch/>
        </p:blipFill>
        <p:spPr>
          <a:xfrm>
            <a:off x="6877080" y="189000"/>
            <a:ext cx="2082600" cy="1833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8"/>
          <p:cNvPicPr/>
          <p:nvPr/>
        </p:nvPicPr>
        <p:blipFill>
          <a:blip r:embed="rId2"/>
          <a:stretch/>
        </p:blipFill>
        <p:spPr>
          <a:xfrm>
            <a:off x="5364000" y="260280"/>
            <a:ext cx="119556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2"/>
          <p:cNvPicPr/>
          <p:nvPr/>
        </p:nvPicPr>
        <p:blipFill>
          <a:blip r:embed="rId3"/>
          <a:stretch/>
        </p:blipFill>
        <p:spPr>
          <a:xfrm>
            <a:off x="7524720" y="2276640"/>
            <a:ext cx="1355760" cy="208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часы МГУ одни из самых больших в европе"/>
          <p:cNvPicPr/>
          <p:nvPr/>
        </p:nvPicPr>
        <p:blipFill>
          <a:blip r:embed="rId4"/>
          <a:stretch/>
        </p:blipFill>
        <p:spPr>
          <a:xfrm>
            <a:off x="395280" y="5013360"/>
            <a:ext cx="2736720" cy="165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золотые часы"/>
          <p:cNvPicPr/>
          <p:nvPr/>
        </p:nvPicPr>
        <p:blipFill>
          <a:blip r:embed="rId5"/>
          <a:stretch/>
        </p:blipFill>
        <p:spPr>
          <a:xfrm>
            <a:off x="179280" y="1844640"/>
            <a:ext cx="1239840" cy="136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цвет 6"/>
          <p:cNvPicPr/>
          <p:nvPr/>
        </p:nvPicPr>
        <p:blipFill>
          <a:blip r:embed="rId6"/>
          <a:stretch/>
        </p:blipFill>
        <p:spPr>
          <a:xfrm>
            <a:off x="250920" y="3357720"/>
            <a:ext cx="2082600" cy="156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настольные Шахтёрские"/>
          <p:cNvPicPr/>
          <p:nvPr/>
        </p:nvPicPr>
        <p:blipFill>
          <a:blip r:embed="rId7"/>
          <a:stretch/>
        </p:blipFill>
        <p:spPr>
          <a:xfrm>
            <a:off x="7956720" y="4437000"/>
            <a:ext cx="118728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324000" y="189000"/>
            <a:ext cx="864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: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9079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58920" y="1197000"/>
            <a:ext cx="83898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ка Времени течет без остановки через мгновения и световые года настоящего, прошлого, будущего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бесспорно, часы  являются гениальным изобретением человечества, без которого невозможно существование в нашем мире, где все живет, развивается и движется вперед. Без них мы бы не смогли ценить время…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лагодаря часам человек может определять время, вести отсчет, распределять свои планы, взрослые во время ходят на работу, дети – в школ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99680" y="1856880"/>
            <a:ext cx="803268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думайте о секундах свысо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. Берегите каждую мину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. Составьте себе расписание на день по часам и ВРЕМЯ БУДЕТ РАБОТАТЬ НА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98100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бежит и бежит, как паровоз по кругу. И если вам представился случай сделать что-нибудь полезное, не упускайте  врем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айтесь над тем, как вы обращаетесь со временем. Почувствуйте его…          Поразитесь тому, как оно важно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гда оно будет работать на ва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3840" y="357120"/>
            <a:ext cx="82868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Изучение единиц времени (секунды, минуты, час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Исследовать историю появлений приборов измерения врем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3860280"/>
            <a:ext cx="8175600" cy="16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научиться наблюдать и ценить врем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ы являются гениальным изобретением человечества, без которого невозможно существование в нашем мире и без них мы не смогли бы ценить врем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ЛЬС ВРЕМЕНИ </a:t>
            </a:r>
            <a:br>
              <a:rPr sz="44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ЕКУН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916280"/>
            <a:ext cx="8391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339933"/>
                </a:solidFill>
                <a:latin typeface="Arial"/>
              </a:rPr>
              <a:t>Посмотрите на часы и уловите ритмичный бег секу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339933"/>
                </a:solidFill>
                <a:latin typeface="Arial"/>
              </a:rPr>
              <a:t>Люди любят считать, танцевать, раскачиваться или маршировать в ритме тикающих часов, отбивающих секун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33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339933"/>
                </a:solidFill>
                <a:latin typeface="Arial"/>
              </a:rPr>
              <a:t>За одну секунду можно шагнуть, взмахнуть, прыгну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блюдение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ем секу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сканирование0001"/>
          <p:cNvPicPr/>
          <p:nvPr/>
        </p:nvPicPr>
        <p:blipFill>
          <a:blip r:embed="rId1"/>
          <a:srcRect l="0" t="3823" r="1091" b="2771"/>
          <a:stretch/>
        </p:blipFill>
        <p:spPr>
          <a:xfrm>
            <a:off x="1258920" y="1989000"/>
            <a:ext cx="648000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40096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ПОИСКАХ ВРЕМЕНИ</a:t>
            </a:r>
            <a:br>
              <a:rPr sz="4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НУ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1714680"/>
            <a:ext cx="8643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регите минуту! Минута – это маленькая мера времени. Она состоит из 60 секунд. Попробуйте целую минуту ничего не делать. Эта минута тянется так долго, так медленно. Но когда мы что-то увлеченно делаем или играем, минуты, кажется, так и летят.  Но для хорошего дела свободную минутку нужно найти всегда: например, помочь маме вымыть посу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50:47Z</dcterms:created>
  <dc:creator>Пользователь</dc:creator>
  <dc:description/>
  <dc:language>en-US</dc:language>
  <cp:lastModifiedBy>гостевая</cp:lastModifiedBy>
  <dcterms:modified xsi:type="dcterms:W3CDTF">2013-01-25T02:17:22Z</dcterms:modified>
  <cp:revision>62</cp:revision>
  <dc:subject/>
  <dc:title>Творческая работа на тему: «Часы»</dc:title>
</cp:coreProperties>
</file>