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3EF-AA0B-4B98-90BB-F9B1480D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124-9E45-4702-AF5D-9468C60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6A0-FF37-4A1E-A70F-E02F7631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DB6-724D-40A6-8152-350D66DB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C503-E9F7-4F84-A000-0FA03AD1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480D-F10E-49AE-B0DF-E585CFB6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7FE-A276-4B1C-A190-BBE2F09B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70DE-D660-4E46-8D48-0B2441A0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93B-89FB-4B23-8419-2BDC5C5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98A-2BCD-493B-993F-ABE20A09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A4D-ADB2-4025-A1E3-B64550B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884-B05E-4872-9D70-66D9E56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116-129B-476D-8323-4B838AE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CD82-DDE6-4F01-982C-7B90D7E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0C7-7168-482B-9F4C-181D864C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33C-00C4-4CF1-A9F4-DF8DB74B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A04-CE1A-46F7-9440-3263DB62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73D91-469B-4CD3-93CA-83839762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21E43-1357-4E46-A404-6B615A8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75B78-4CC0-4E7D-9E2A-919E0B0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0F37D-CA38-4E33-B031-D2DA6623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0C35-E08C-4CC2-BAA3-5E5C8BD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8AF-B5A0-45CC-8186-0A6A0AD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943A6-19F8-44F3-9D9E-08564E8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CE240-D60D-40FE-A938-721DC408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2F64A-51A0-4E5D-8732-EEADF09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F3117-68E3-4941-A79B-08FA5B9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6A384-CF6C-40CC-B754-23A3AD2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3371C-DBD5-421B-A373-5E19F4BD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E9B9B-E3A5-477D-89B7-307F9010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4C93-A678-49E7-8D53-B3DC3A15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9C81-2070-4C22-B95A-82B29D8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65C7-75EA-4714-9F45-23623D4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D42-CD02-4353-AE4B-DE3F170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D32B-B6F2-4098-93A6-0DFF107D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DD06-D328-45A6-B7F6-2A18F17B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9B30-8864-47B1-BB4F-26406DC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DE48-0C81-4870-A1A0-9D18747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3E02-7966-45AB-B08F-A38A088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A1B2-0FEC-42FD-98C9-FFDC651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EE0F-BD9D-4A10-8380-0DB5D38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AE37-009E-465D-BBD6-3F79206D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3928-8D92-4C20-9BF5-A46ACD64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801-8791-4850-9FF0-91AF650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811-4290-4447-AA8B-7FFC586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261-EF74-4858-B27D-AB56574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EE0-5203-44C7-B9C7-2651902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E58-B7B2-4C82-97EF-46B4821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039-E741-4211-BECB-918FA2D2378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263-81D7-49EB-9FF2-D2EFD079505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FDA-FE10-4BDE-A937-528C92B38B9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10C-281A-47A1-8136-E818D4978E4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hyperlink" Target="http://mathege.ru/" TargetMode="External"/><Relationship Id="rId3" Type="http://schemas.openxmlformats.org/officeDocument/2006/relationships/hyperlink" Target="http://www.mathege.ru:8080/" TargetMode="External"/><Relationship Id="rId4" Type="http://schemas.openxmlformats.org/officeDocument/2006/relationships/hyperlink" Target="http://www.mathege.ru:8080/" TargetMode="External"/><Relationship Id="rId5" Type="http://schemas.openxmlformats.org/officeDocument/2006/relationships/hyperlink" Target="http://www.mathege.ru:8080/" TargetMode="External"/><Relationship Id="rId6" Type="http://schemas.openxmlformats.org/officeDocument/2006/relationships/hyperlink" Target="http://www.mathege.ru:8080/" TargetMode="External"/><Relationship Id="rId7" Type="http://schemas.openxmlformats.org/officeDocument/2006/relationships/hyperlink" Target="http://www.mathege.ru:8080/" TargetMode="External"/><Relationship Id="rId8" Type="http://schemas.openxmlformats.org/officeDocument/2006/relationships/hyperlink" Target="http://www.mathege.ru:8080/" TargetMode="External"/><Relationship Id="rId9" Type="http://schemas.openxmlformats.org/officeDocument/2006/relationships/hyperlink" Target="http://www.mathege.ru:8080/" TargetMode="External"/><Relationship Id="rId10" Type="http://schemas.openxmlformats.org/officeDocument/2006/relationships/hyperlink" Target="http://egetrener.ru/" TargetMode="External"/><Relationship Id="rId11" Type="http://schemas.openxmlformats.org/officeDocument/2006/relationships/hyperlink" Target="http://ege-trener.ru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подсолнух3"/>
          <p:cNvPicPr/>
          <p:nvPr/>
        </p:nvPicPr>
        <p:blipFill>
          <a:blip r:embed="rId1"/>
          <a:stretch/>
        </p:blipFill>
        <p:spPr>
          <a:xfrm>
            <a:off x="0" y="0"/>
            <a:ext cx="973080" cy="98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5" name="WordArt 7"/>
          <p:cNvSpPr txBox="1"/>
          <p:nvPr/>
        </p:nvSpPr>
        <p:spPr>
          <a:xfrm>
            <a:off x="5286240" y="4357800"/>
            <a:ext cx="32306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5840">
                  <a:solidFill>
                    <a:srgbClr val="8a8e72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1" strike="noStrike">
              <a:ln w="15840">
                <a:solidFill>
                  <a:srgbClr val="8a8e72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216" name="WordArt 8"/>
          <p:cNvSpPr txBox="1"/>
          <p:nvPr/>
        </p:nvSpPr>
        <p:spPr>
          <a:xfrm>
            <a:off x="1692360" y="765000"/>
            <a:ext cx="645156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готовка к ЕГЭ по математике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 заданий В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643200" y="5072040"/>
            <a:ext cx="4071960" cy="1071720"/>
          </a:xfrm>
          <a:prstGeom prst="rect">
            <a:avLst/>
          </a:prstGeom>
          <a:solidFill>
            <a:srgbClr val="98947c"/>
          </a:solidFill>
          <a:ln w="19080">
            <a:solidFill>
              <a:srgbClr val="796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асибо коллегам из г.Дмитрова за предоставленную возможность использования данной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468360" y="83664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Arial"/>
              </a:rPr>
              <a:t>Прототип задания B1 (№ 26625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AutoShape 4"/>
          <p:cNvGrpSpPr/>
          <p:nvPr/>
        </p:nvGrpSpPr>
        <p:grpSpPr>
          <a:xfrm>
            <a:off x="1928880" y="2928960"/>
            <a:ext cx="6926040" cy="3573000"/>
            <a:chOff x="1928880" y="2928960"/>
            <a:chExt cx="6926040" cy="3573000"/>
          </a:xfrm>
        </p:grpSpPr>
        <p:pic>
          <p:nvPicPr>
            <p:cNvPr id="271" name="AutoShape 4" descr=""/>
            <p:cNvPicPr/>
            <p:nvPr/>
          </p:nvPicPr>
          <p:blipFill>
            <a:blip r:embed="rId1"/>
            <a:stretch/>
          </p:blipFill>
          <p:spPr>
            <a:xfrm>
              <a:off x="1928880" y="2928960"/>
              <a:ext cx="6926040" cy="35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6"/>
            <p:cNvSpPr/>
            <p:nvPr/>
          </p:nvSpPr>
          <p:spPr>
            <a:xfrm>
              <a:off x="3142800" y="3142800"/>
              <a:ext cx="54273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Georgia"/>
                </a:rPr>
                <a:t>На 6 литров воды потребуется 6•12=72 (г) лимонной кислоты. Чтобы найти наименьшее число пакетиков, которое надо купить, необходимо все количество кислоты поделить на вес одного пак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Georgia"/>
                </a:rPr>
                <a:t>72:10=7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Georgia"/>
                </a:rPr>
                <a:t>Так как пакетики продаются только целиком, на 6 литров маринада их надо купить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Georgia"/>
                </a:rPr>
                <a:t>Ответ: 8 пакети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3"/>
          <p:cNvSpPr/>
          <p:nvPr/>
        </p:nvSpPr>
        <p:spPr>
          <a:xfrm>
            <a:off x="611280" y="1628640"/>
            <a:ext cx="81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иготовления маринада для огурцов на 1 литр воды требуется 12 г лимонной кислоты. Лимонная кислота продается в пакетиках по 10 г. Какое наименьшее число пачек нужно купить хозяйке для приготовления 6 литров марина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rebuchet MS"/>
              </a:rPr>
              <a:t>Задания для самостоятельного решения</a:t>
            </a:r>
            <a:endParaRPr b="0" lang="en-US" sz="32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4"/>
          <p:cNvGrpSpPr/>
          <p:nvPr/>
        </p:nvGrpSpPr>
        <p:grpSpPr>
          <a:xfrm>
            <a:off x="1962000" y="4932360"/>
            <a:ext cx="6932880" cy="2017800"/>
            <a:chOff x="1962000" y="4932360"/>
            <a:chExt cx="6932880" cy="2017800"/>
          </a:xfrm>
        </p:grpSpPr>
        <p:pic>
          <p:nvPicPr>
            <p:cNvPr id="278" name="AutoShape 4" descr=""/>
            <p:cNvPicPr/>
            <p:nvPr/>
          </p:nvPicPr>
          <p:blipFill>
            <a:blip r:embed="rId1"/>
            <a:stretch/>
          </p:blipFill>
          <p:spPr>
            <a:xfrm>
              <a:off x="1962000" y="4932360"/>
              <a:ext cx="69328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306600" y="506556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564000" y="5157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)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468360" y="3284280"/>
            <a:ext cx="79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Для приготовления маринада для огурцов на 1 литр воды требуется 14 г лимонной кислоты. Лимонная кислота продается в пакетиках по 10 г. Какое наименьшее число пачек нужно купить хозяйке для приготовления 6 литров марина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39640" y="1628640"/>
            <a:ext cx="82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Для приготовления маринада для огурцов на 1 литр воды требуется 12 г лимонной кислоты. Лимонная кислота продается в пакетиках по 10 г. Какое наименьшее число пачек нужно купить хозяйке для приготовления 8 литров марина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6a55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676a55"/>
                </a:solidFill>
                <a:latin typeface="Trebuchet MS"/>
              </a:rPr>
              <a:t>Адреса сайтов в сети Интернет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14264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1"/>
              </a:rPr>
              <a:t>www.fipi.ru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– Федеральный институт педагогических измерений (ФИПИ). Особенно обратите внимание на раздел «Открытый сегмент ФБТЗ» – это система для подготовки к ЕГЭ - в режиме on-line. Вы можете отвечать на вопросы банка заданий ЕГЭ по различным предметам, а так же по выбранной тем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2"/>
              </a:rPr>
              <a:t>http://mathege.ru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-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3"/>
              </a:rPr>
              <a:t>Открытый банк задач 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4"/>
              </a:rPr>
              <a:t>ЕГЭ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5"/>
              </a:rPr>
              <a:t> 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6"/>
              </a:rPr>
              <a:t>по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7"/>
              </a:rPr>
              <a:t> 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8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. </a:t>
            </a: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9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Главная задача открытого банка заданий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ЕГЭ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— дать представление о том, какие задания будут в вариантах Единого государственного экзамена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математике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в 2010 году, и помочь выпускникам сориентироваться при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дготовке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экзамену. Здесь же можно найти все пробные ЕГЭ по математике, которые уже прошли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10"/>
              </a:rPr>
              <a:t>http://egetrener.ru/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- математика: видеоуроки, решение задач ЕГЭ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db5353"/>
                </a:solidFill>
                <a:uFillTx/>
                <a:latin typeface="Georgia"/>
                <a:hlinkClick r:id="rId11"/>
              </a:rPr>
              <a:t>http://ege-trener.ru/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- очень увлекательная и эффективная подготовка к ЕГЭ по математике. Зарегистрируйтесь и попытайтесь попасть в 30-ку лучших!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uztest.ru — бесплатные материалы для подготовки к ЕГЭ (и не только к ЕГЭ) по математике: интерактивные тематические тренажеры, возможность записи на бесплатные on-line курсы по подготовке к ЕГЭ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www.ege.edu.ru – официальный информационный портал единого государственного экзамен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On-line видеолекции "Консультации по ЕГЭ" по всем предметам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Ролики категории ЕГЭ. Лекции по математике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http://www.alexlarin.narod.ru/ege.html - материалы для подготовки к ЕГЭ по математике (сайт Ларина Александра Александровича)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http://www.diary.ru/~eek/ - сообщество, оказывающее помощь в решении задач по математике, здесь же можно скачать много полезных книг по математике, в том числе для подготовки к ЕГЭ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http://4ege.ru/ - ЕГЭ портал, всё последнее к ЕГЭ. Вся информация о егэ. ЕГЭ 2010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28760" y="307188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задании B1 ученик должен продемонстрировать применение математических методов для решения содержательных задач из различных областей науки и практики. Для этого он должен уметь правильно оценить поставленную задачу и безошибочно выполнить расчеты  . Важно правильно интерпретировать полученный результат с учетом реальных жизненных ограничений. Для успешного решения задания B1 ученик должен выполнить простые арифметические действия и оперировать целыми числами, использовать дроби, проценты, рациональные чис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Памятка ученику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20" name="Picture 3" descr="E:\Documents and Settings\user\Рабочий стол\0fadc6eadfcb.jpg"/>
          <p:cNvPicPr/>
          <p:nvPr/>
        </p:nvPicPr>
        <p:blipFill>
          <a:blip r:embed="rId1"/>
          <a:stretch/>
        </p:blipFill>
        <p:spPr>
          <a:xfrm>
            <a:off x="6715080" y="142920"/>
            <a:ext cx="21668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57120" y="235692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бы использовать материалы данной презентаци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ак тренировочные задания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держивайтесь следующего алгоритма 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икните команду «ПОКАЗ СЛАЙДОВ»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решите на черновике предложенную задачу 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) щелкните правой кнопкой мыши – на экране появится решение или его ча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еход на следующий слайд также происходит по щелчку мы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ак, команда «ПОКАЗ СЛАЙДОВ             с текущего слайда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Памятка ученику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23" name="Picture 3" descr="E:\Documents and Settings\user\Рабочий стол\0fadc6eadfcb.jpg"/>
          <p:cNvPicPr/>
          <p:nvPr/>
        </p:nvPicPr>
        <p:blipFill>
          <a:blip r:embed="rId1"/>
          <a:stretch/>
        </p:blipFill>
        <p:spPr>
          <a:xfrm>
            <a:off x="6715080" y="142920"/>
            <a:ext cx="2166840" cy="2887560"/>
          </a:xfrm>
          <a:prstGeom prst="rect">
            <a:avLst/>
          </a:prstGeom>
          <a:ln w="0">
            <a:noFill/>
          </a:ln>
        </p:spPr>
      </p:pic>
      <p:cxnSp>
        <p:nvCxnSpPr>
          <p:cNvPr id="224" name="Прямая со стрелкой 5"/>
          <p:cNvCxnSpPr/>
          <p:nvPr/>
        </p:nvCxnSpPr>
        <p:spPr>
          <a:xfrm>
            <a:off x="5143320" y="6215040"/>
            <a:ext cx="572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Trebuchet MS"/>
              </a:rPr>
              <a:t>Прототип задания B1 (№ 2443)</a:t>
            </a:r>
            <a:br>
              <a:rPr sz="2800"/>
            </a:br>
            <a:endParaRPr b="0" lang="en-US" sz="28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714680"/>
            <a:ext cx="7929360" cy="28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ырок стоит 7 рублей 20 копеек. Какое наибольшее число сырков можно купить на 60 рублей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AutoShape 19"/>
          <p:cNvSpPr/>
          <p:nvPr/>
        </p:nvSpPr>
        <p:spPr>
          <a:xfrm>
            <a:off x="0" y="6308640"/>
            <a:ext cx="2736720" cy="549360"/>
          </a:xfrm>
          <a:custGeom>
            <a:avLst/>
            <a:gdLst>
              <a:gd name="textAreaLeft" fmla="*/ 35280 w 2736720"/>
              <a:gd name="textAreaRight" fmla="*/ 2701440 w 2736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07547" h="21600">
                <a:moveTo>
                  <a:pt x="0" y="0"/>
                </a:moveTo>
                <a:lnTo>
                  <a:pt x="107547" y="0"/>
                </a:lnTo>
                <a:lnTo>
                  <a:pt x="107547" y="21600"/>
                </a:lnTo>
                <a:lnTo>
                  <a:pt x="0" y="21600"/>
                </a:lnTo>
                <a:close/>
              </a:path>
              <a:path fill="lightenLess" w="107547" h="21600">
                <a:moveTo>
                  <a:pt x="0" y="0"/>
                </a:moveTo>
                <a:lnTo>
                  <a:pt x="107547" y="0"/>
                </a:lnTo>
                <a:lnTo>
                  <a:pt x="106147" y="1400"/>
                </a:lnTo>
                <a:lnTo>
                  <a:pt x="1400" y="1400"/>
                </a:lnTo>
                <a:close/>
              </a:path>
              <a:path fill="darken" w="107547" h="21600">
                <a:moveTo>
                  <a:pt x="107547" y="0"/>
                </a:moveTo>
                <a:lnTo>
                  <a:pt x="107547" y="21600"/>
                </a:lnTo>
                <a:lnTo>
                  <a:pt x="106147" y="20200"/>
                </a:lnTo>
                <a:lnTo>
                  <a:pt x="106147" y="1400"/>
                </a:lnTo>
                <a:close/>
              </a:path>
              <a:path fill="darkenLess" w="107547" h="21600">
                <a:moveTo>
                  <a:pt x="107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147" y="20200"/>
                </a:lnTo>
                <a:close/>
              </a:path>
              <a:path fill="lighten" w="107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AutoShape 4"/>
          <p:cNvGrpSpPr/>
          <p:nvPr/>
        </p:nvGrpSpPr>
        <p:grpSpPr>
          <a:xfrm>
            <a:off x="1571760" y="3571920"/>
            <a:ext cx="7286040" cy="3090600"/>
            <a:chOff x="1571760" y="3571920"/>
            <a:chExt cx="7286040" cy="3090600"/>
          </a:xfrm>
        </p:grpSpPr>
        <p:pic>
          <p:nvPicPr>
            <p:cNvPr id="229" name="AutoShape 4" descr=""/>
            <p:cNvPicPr/>
            <p:nvPr/>
          </p:nvPicPr>
          <p:blipFill>
            <a:blip r:embed="rId1"/>
            <a:stretch/>
          </p:blipFill>
          <p:spPr>
            <a:xfrm>
              <a:off x="1571760" y="3571920"/>
              <a:ext cx="7286040" cy="30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6"/>
            <p:cNvSpPr/>
            <p:nvPr/>
          </p:nvSpPr>
          <p:spPr>
            <a:xfrm>
              <a:off x="2999520" y="3713400"/>
              <a:ext cx="5650920" cy="28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найти наибольшее число сырков, которое можно купить, необходимо все деньги поделить на стоимость одного сырка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60:7,2= 8,3(3)</a:t>
              </a:r>
              <a:br>
                <a:rPr sz="2000"/>
              </a:b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Так как сырки продаются только целиком, на 60 рублей можно купить 8 сырк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Georgia"/>
                </a:rPr>
                <a:t>Ответ: 8 сыр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rebuchet MS"/>
              </a:rPr>
              <a:t>Задания для самостоятельного решения</a:t>
            </a:r>
            <a:endParaRPr b="0" lang="en-US" sz="32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AutoShape 4"/>
          <p:cNvGrpSpPr/>
          <p:nvPr/>
        </p:nvGrpSpPr>
        <p:grpSpPr>
          <a:xfrm>
            <a:off x="1981080" y="4840200"/>
            <a:ext cx="6924960" cy="2017800"/>
            <a:chOff x="1981080" y="4840200"/>
            <a:chExt cx="6924960" cy="2017800"/>
          </a:xfrm>
        </p:grpSpPr>
        <p:pic>
          <p:nvPicPr>
            <p:cNvPr id="234" name="AutoShape 4" descr=""/>
            <p:cNvPicPr/>
            <p:nvPr/>
          </p:nvPicPr>
          <p:blipFill>
            <a:blip r:embed="rId1"/>
            <a:stretch/>
          </p:blipFill>
          <p:spPr>
            <a:xfrm>
              <a:off x="1981080" y="4840200"/>
              <a:ext cx="6924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321000" y="497196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Georgi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Georgia"/>
                </a:rPr>
                <a:t>1)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Georgia"/>
                </a:rPr>
                <a:t>2)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Georgia"/>
                </a:rPr>
                <a:t>3)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оугольник 5"/>
          <p:cNvSpPr/>
          <p:nvPr/>
        </p:nvSpPr>
        <p:spPr>
          <a:xfrm>
            <a:off x="357120" y="2214720"/>
            <a:ext cx="703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ок стоит 6 рублей 60 копеек. Какое наибольшее число сырков можно купить на 80 рубл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ырок стоит 7 рублей 60 копеек. Какое наибольшее число сырков можно купить на 60 рубл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ырок стоит 6 рублей 70 копеек. Какое наибольшее число сырков можно купить на 50 рубле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Trebuchet MS"/>
              </a:rPr>
              <a:t>Прототип задания B1(№ 26617)</a:t>
            </a:r>
            <a:br>
              <a:rPr sz="2800"/>
            </a:br>
            <a:endParaRPr b="0" lang="en-US" sz="28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0" y="6308640"/>
            <a:ext cx="2736720" cy="549360"/>
          </a:xfrm>
          <a:custGeom>
            <a:avLst/>
            <a:gdLst>
              <a:gd name="textAreaLeft" fmla="*/ 35280 w 2736720"/>
              <a:gd name="textAreaRight" fmla="*/ 2701440 w 2736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07547" h="21600">
                <a:moveTo>
                  <a:pt x="0" y="0"/>
                </a:moveTo>
                <a:lnTo>
                  <a:pt x="107547" y="0"/>
                </a:lnTo>
                <a:lnTo>
                  <a:pt x="107547" y="21600"/>
                </a:lnTo>
                <a:lnTo>
                  <a:pt x="0" y="21600"/>
                </a:lnTo>
                <a:close/>
              </a:path>
              <a:path fill="lightenLess" w="107547" h="21600">
                <a:moveTo>
                  <a:pt x="0" y="0"/>
                </a:moveTo>
                <a:lnTo>
                  <a:pt x="107547" y="0"/>
                </a:lnTo>
                <a:lnTo>
                  <a:pt x="106147" y="1400"/>
                </a:lnTo>
                <a:lnTo>
                  <a:pt x="1400" y="1400"/>
                </a:lnTo>
                <a:close/>
              </a:path>
              <a:path fill="darken" w="107547" h="21600">
                <a:moveTo>
                  <a:pt x="107547" y="0"/>
                </a:moveTo>
                <a:lnTo>
                  <a:pt x="107547" y="21600"/>
                </a:lnTo>
                <a:lnTo>
                  <a:pt x="106147" y="20200"/>
                </a:lnTo>
                <a:lnTo>
                  <a:pt x="106147" y="1400"/>
                </a:lnTo>
                <a:close/>
              </a:path>
              <a:path fill="darkenLess" w="107547" h="21600">
                <a:moveTo>
                  <a:pt x="107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147" y="20200"/>
                </a:lnTo>
                <a:close/>
              </a:path>
              <a:path fill="lighten" w="107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4"/>
          <p:cNvGrpSpPr/>
          <p:nvPr/>
        </p:nvGrpSpPr>
        <p:grpSpPr>
          <a:xfrm>
            <a:off x="1463760" y="3170160"/>
            <a:ext cx="7746840" cy="3419640"/>
            <a:chOff x="1463760" y="3170160"/>
            <a:chExt cx="7746840" cy="3419640"/>
          </a:xfrm>
        </p:grpSpPr>
        <p:pic>
          <p:nvPicPr>
            <p:cNvPr id="240" name="AutoShape 4" descr=""/>
            <p:cNvPicPr/>
            <p:nvPr/>
          </p:nvPicPr>
          <p:blipFill>
            <a:blip r:embed="rId1"/>
            <a:stretch/>
          </p:blipFill>
          <p:spPr>
            <a:xfrm>
              <a:off x="1463760" y="3170160"/>
              <a:ext cx="774684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16080" y="3375000"/>
              <a:ext cx="5967720" cy="29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Всего на теплоходе 750 + 25 =775 человек. Чтобы вычислить наименьшее число шлюпок, разделим всех людей на борту теплохода на вместимость одной шлюпки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775:70= 11,0(714285)</a:t>
              </a:r>
              <a:br>
                <a:rPr sz="1800"/>
              </a:b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Понадобится 12 шлюпок на теплоходе, чтобы в случае необходимости разместить всех пассажиров и всех членов коман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2060"/>
                  </a:solidFill>
                  <a:latin typeface="Georgia"/>
                </a:rPr>
                <a:t>Ответ:</a:t>
              </a:r>
              <a:r>
                <a:rPr b="0" lang="ru-RU" sz="1800" spc="-1" strike="noStrike">
                  <a:solidFill>
                    <a:srgbClr val="002060"/>
                  </a:solidFill>
                  <a:latin typeface="Georgia"/>
                </a:rPr>
                <a:t> 12 шлюп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10"/>
          <p:cNvSpPr/>
          <p:nvPr/>
        </p:nvSpPr>
        <p:spPr>
          <a:xfrm>
            <a:off x="250920" y="1557360"/>
            <a:ext cx="84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ход рассчитан на 750 пассажиров и 25 членов команды. Каждая спасательная шлюпка может вместить 70 человек. Какое наименьшее число шлюпок должно быть на теплоходе, чтобы в случае необходимости в них можно было разместить всех пассажиров и всех членов команд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rebuchet MS"/>
              </a:rPr>
              <a:t>Задания для самостоятельного решения</a:t>
            </a:r>
            <a:endParaRPr b="0" lang="en-US" sz="32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4"/>
          <p:cNvGrpSpPr/>
          <p:nvPr/>
        </p:nvGrpSpPr>
        <p:grpSpPr>
          <a:xfrm>
            <a:off x="1925640" y="4889520"/>
            <a:ext cx="6926400" cy="2017800"/>
            <a:chOff x="1925640" y="4889520"/>
            <a:chExt cx="6926400" cy="2017800"/>
          </a:xfrm>
        </p:grpSpPr>
        <p:pic>
          <p:nvPicPr>
            <p:cNvPr id="246" name="AutoShape 4" descr=""/>
            <p:cNvPicPr/>
            <p:nvPr/>
          </p:nvPicPr>
          <p:blipFill>
            <a:blip r:embed="rId1"/>
            <a:stretch/>
          </p:blipFill>
          <p:spPr>
            <a:xfrm>
              <a:off x="1925640" y="4889520"/>
              <a:ext cx="69264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267000" y="502128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564000" y="5157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)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2)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3)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79280" y="134784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Теплоход рассчитан на 1000 пассажиров и 30 членов команды. Каждая спасательная шлюпка может вместить 50 человек. Какое наименьшее число шлюпок должно быть на теплоходе, чтобы в случае необходимости в них можно было разместить всех пассажиров и всех членов команд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179280" y="25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Теплоход рассчитан на 1000 пассажиров и 30 членов команды. Каждая спасательная шлюпка может вместить 70 человек. Какое наименьшее число шлюпок должно быть на теплоходе, чтобы в случае необходимости в них можно было разместить всех пассажиров и всех членов команд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179280" y="371592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Теплоход рассчитан на 750 пассажиров и 25 членов команды. Каждая спасательная шлюпка может вместить 60 человек. Какое наименьшее число шлюпок должно быть на теплоходе, чтобы в случае необходимости в них можно было разместить всех пассажиров и всех членов команд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714240" y="10000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Trebuchet MS"/>
              </a:rPr>
              <a:t>Прототип задания B1 (№ 266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500040" y="2000160"/>
            <a:ext cx="77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кон шампуня стоит 160 рублей. Какое наибольшее число флаконов можно купить на 1000 рублей во время распродажи, когда скидка составляет 25%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AutoShape 4"/>
          <p:cNvGrpSpPr/>
          <p:nvPr/>
        </p:nvGrpSpPr>
        <p:grpSpPr>
          <a:xfrm>
            <a:off x="1749600" y="3243240"/>
            <a:ext cx="6930720" cy="3492360"/>
            <a:chOff x="1749600" y="3243240"/>
            <a:chExt cx="6930720" cy="3492360"/>
          </a:xfrm>
        </p:grpSpPr>
        <p:pic>
          <p:nvPicPr>
            <p:cNvPr id="256" name="AutoShape 4" descr=""/>
            <p:cNvPicPr/>
            <p:nvPr/>
          </p:nvPicPr>
          <p:blipFill>
            <a:blip r:embed="rId1"/>
            <a:stretch/>
          </p:blipFill>
          <p:spPr>
            <a:xfrm>
              <a:off x="1749600" y="3243240"/>
              <a:ext cx="693072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164040" y="3449520"/>
              <a:ext cx="5284800" cy="30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После скидки стоимость шампуня будет составлять 75% от его первоначальной цены. Найдем новую стоимость: 160*0,75=120 (руб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Чтобы найти наибольшее число флаконов, которое можно купить, необходимо все деньги поделить на стоимость одного флакон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1000</a:t>
              </a:r>
              <a:r>
                <a:rPr b="0" lang="en-US" sz="1800" spc="-1" strike="noStrike">
                  <a:solidFill>
                    <a:srgbClr val="c00000"/>
                  </a:solidFill>
                  <a:latin typeface="Georgia"/>
                </a:rPr>
                <a:t>/</a:t>
              </a: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120=8,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Georgia"/>
                </a:rPr>
                <a:t>Так как флаконы продаются только целиком, на 1000 рублей можно купить 8 флакон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Georgia"/>
                </a:rPr>
                <a:t>Ответ: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rebuchet MS"/>
              </a:rPr>
              <a:t>Задания для самостоятельного решения</a:t>
            </a:r>
            <a:endParaRPr b="0" lang="en-US" sz="32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0" y="6281640"/>
            <a:ext cx="2158920" cy="576360"/>
          </a:xfrm>
          <a:custGeom>
            <a:avLst/>
            <a:gdLst>
              <a:gd name="textAreaLeft" fmla="*/ 37080 w 2158920"/>
              <a:gd name="textAreaRight" fmla="*/ 2121840 w 215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872" h="21600">
                <a:moveTo>
                  <a:pt x="0" y="0"/>
                </a:moveTo>
                <a:lnTo>
                  <a:pt x="80872" y="0"/>
                </a:lnTo>
                <a:lnTo>
                  <a:pt x="80872" y="21600"/>
                </a:lnTo>
                <a:lnTo>
                  <a:pt x="0" y="21600"/>
                </a:lnTo>
                <a:close/>
              </a:path>
              <a:path fill="lightenLess" w="80872" h="21600">
                <a:moveTo>
                  <a:pt x="0" y="0"/>
                </a:moveTo>
                <a:lnTo>
                  <a:pt x="80872" y="0"/>
                </a:lnTo>
                <a:lnTo>
                  <a:pt x="79472" y="1400"/>
                </a:lnTo>
                <a:lnTo>
                  <a:pt x="1400" y="1400"/>
                </a:lnTo>
                <a:close/>
              </a:path>
              <a:path fill="darken" w="80872" h="21600">
                <a:moveTo>
                  <a:pt x="80872" y="0"/>
                </a:moveTo>
                <a:lnTo>
                  <a:pt x="80872" y="21600"/>
                </a:lnTo>
                <a:lnTo>
                  <a:pt x="79472" y="20200"/>
                </a:lnTo>
                <a:lnTo>
                  <a:pt x="79472" y="1400"/>
                </a:lnTo>
                <a:close/>
              </a:path>
              <a:path fill="darkenLess" w="80872" h="21600">
                <a:moveTo>
                  <a:pt x="80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72" y="20200"/>
                </a:lnTo>
                <a:close/>
              </a:path>
              <a:path fill="lighten" w="80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b0cc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AutoShape 4"/>
          <p:cNvGrpSpPr/>
          <p:nvPr/>
        </p:nvGrpSpPr>
        <p:grpSpPr>
          <a:xfrm>
            <a:off x="1925640" y="4889520"/>
            <a:ext cx="6926400" cy="2017800"/>
            <a:chOff x="1925640" y="4889520"/>
            <a:chExt cx="6926400" cy="2017800"/>
          </a:xfrm>
        </p:grpSpPr>
        <p:pic>
          <p:nvPicPr>
            <p:cNvPr id="262" name="AutoShape 4" descr=""/>
            <p:cNvPicPr/>
            <p:nvPr/>
          </p:nvPicPr>
          <p:blipFill>
            <a:blip r:embed="rId1"/>
            <a:stretch/>
          </p:blipFill>
          <p:spPr>
            <a:xfrm>
              <a:off x="1925640" y="4889520"/>
              <a:ext cx="69264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67000" y="5021280"/>
              <a:ext cx="542772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3564000" y="5157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)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)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539640" y="1699920"/>
            <a:ext cx="82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Флакон шампуня стоит 200 рублей. Какое наибольшее число флаконов можно купить на 1000 рублей во время распродажи, когда скидка составляет 15%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611280" y="263664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Флакон шампуня стоит 170 рублей. Какое наибольшее число флаконов можно купить на 900 рублей во время распродажи, когда скидка составляет 35%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611280" y="364464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лакон шампуня стоит 140 рублей. Какое наибольшее число флаконов можно купить на 900 рублей во время распродажи, когда скидка составляет 35%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21T16:12:03Z</dcterms:modified>
  <cp:revision>81</cp:revision>
  <dc:subject/>
  <dc:title>Слайд 1</dc:title>
</cp:coreProperties>
</file>