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FE0-C168-495A-8AFB-009C815D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735-C4AA-4166-B5DB-8DAFC354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72F-A10F-4ADB-A0A8-CEB682EF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DC2-3FD1-4D20-A931-E0DF2BBD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C1B-9A41-47F0-8CCD-345E3DF2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938-08A7-48CB-8AE6-A72E9C72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768-BE9D-4F22-B750-52BA9348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18A-2FF2-414D-9B75-87E8BCC2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C63-975F-47D7-971E-6EFE9AA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72C-C36C-4D24-801E-35EEAA8A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8F6-2AE4-49E3-97B2-23ABB63F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056-4D29-4163-9AF2-D77F8F91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B41EC8-E96A-46C3-8D58-DEF1B1A12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Винительный падеж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имён существительных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1 склонения.</a:t>
            </a:r>
            <a:br>
              <a:rPr sz="4400"/>
            </a:br>
            <a:r>
              <a:rPr b="1" i="1" lang="ru-RU" sz="4400" spc="-1" strike="noStrike">
                <a:solidFill>
                  <a:srgbClr val="2d2db9"/>
                </a:solidFill>
                <a:latin typeface="Arial"/>
              </a:rPr>
              <a:t>3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2920" y="5589360"/>
            <a:ext cx="3992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Arial"/>
              </a:rPr>
              <a:t>Подготовила учитель МБОУ «СОШ №4» г.Ефремова Тульской обл. Медведева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Письмо по памя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9680" y="1000080"/>
            <a:ext cx="828684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ленькая яблонька у меня в са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ая-пребелая, вся стоит в цве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Разберите предложения по членам предложения и по частям речи.Определите                           скл. и  падеж сущ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 каком ряду даны имена существитель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133360"/>
            <a:ext cx="8228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, вкусное, силь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жит, лежать, прыг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блоко, забор, туч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щный, быстрый, лов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Запишите данные  сущ.  в винительном падеже. Составьте с сущ. 1 скл. предложение, употребив: 1 в.- в И.п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. –в 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Найди ошиб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8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рси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щено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2d2db9"/>
                </a:solidFill>
                <a:latin typeface="Arial"/>
              </a:rPr>
              <a:t>Чем похожи данные имена сущ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ишите данные сущ. в Т.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помогло вам написать безударное окончание су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 каком ряду все имена сущ. – одушевлён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133360"/>
            <a:ext cx="8228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ей, черепаха, водитель, маш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ылёк, сосна, лев, рыба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ака, класс, зая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ица, моряк, повариха, дед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2d2db9"/>
                </a:solidFill>
                <a:latin typeface="Arial"/>
              </a:rPr>
              <a:t>Какое имя существительное в этом ряду лишнее? Составьте с ост. сущ. предложения, употребив их в 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85716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060280"/>
            <a:ext cx="822816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.,В. п. 1 с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 u="sng">
                <a:solidFill>
                  <a:srgbClr val="2d2db9"/>
                </a:solidFill>
                <a:uFillTx/>
                <a:latin typeface="Arial"/>
              </a:rPr>
              <a:t>В.п.</a:t>
            </a:r>
            <a:r>
              <a:rPr b="0" lang="ru-RU" sz="4800" spc="-1" strike="noStrike">
                <a:solidFill>
                  <a:srgbClr val="2d2db9"/>
                </a:solidFill>
                <a:latin typeface="Arial"/>
              </a:rPr>
              <a:t> –у, -ю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Р.,В.п. 1 с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 u="sng">
                <a:solidFill>
                  <a:srgbClr val="2d2db9"/>
                </a:solidFill>
                <a:uFillTx/>
                <a:latin typeface="Arial"/>
              </a:rPr>
              <a:t>В.п.</a:t>
            </a:r>
            <a:r>
              <a:rPr b="0" lang="ru-RU" sz="4800" spc="-1" strike="noStrike">
                <a:solidFill>
                  <a:srgbClr val="2d2db9"/>
                </a:solidFill>
                <a:latin typeface="Arial"/>
              </a:rPr>
              <a:t> – у,-ю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343640" cy="549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835280" y="1436760"/>
            <a:ext cx="5905440" cy="47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06:45Z</dcterms:created>
  <dc:creator>Борис</dc:creator>
  <dc:description/>
  <dc:language>en-US</dc:language>
  <cp:lastModifiedBy>Борис</cp:lastModifiedBy>
  <dcterms:modified xsi:type="dcterms:W3CDTF">2013-01-25T15:44:26Z</dcterms:modified>
  <cp:revision>16</cp:revision>
  <dc:subject/>
  <dc:title>Слайд 1</dc:title>
</cp:coreProperties>
</file>