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gif" ContentType="image/gif"/>
  <Override PartName="/ppt/media/image7.jpeg" ContentType="image/jpeg"/>
  <Override PartName="/ppt/media/image38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E69-761C-4BAB-8422-D7EAE64F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0ED-66ED-4782-A9A9-63F0D79A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4F7-3F45-435B-81C4-0BDF5AD4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1C6-559D-441D-97E1-6E585E55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D862-7D08-4273-AB8A-4A735DDB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D3FC-B03B-4592-A7CB-F17691D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9CC8-5934-4CE5-B788-EAA397F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E206-3024-4B27-95E4-A8C4BB4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6AF2-5F46-40CE-B53A-EBCB419B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1E60-CD2F-49D5-A989-7DCD5457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4BAB-663A-489E-9705-DADBE61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042-AB15-4C48-9AAF-D1D2E64F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2AF-08F2-414A-97A1-9674A5B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FDB3-CCF0-4FD9-B7FE-959C2EE1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F486-70EF-404F-85C7-FA0E8AE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ABC5-30F4-452B-A640-ACC79497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27E7-9115-40FF-B9B6-716BE6B6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753-DE18-4D92-A31B-5B2D1BBF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45C-1890-4593-8E1F-2702AA52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150-9EED-40F1-9254-9AFAD06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8E5-C9C3-4B22-AB70-F347AEF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80A-8275-4BF4-ABC4-2AFD519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969-98EE-4115-9818-A1E5CA8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AD0-BD5C-4E94-A969-8A50798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F7E-530A-4F93-A97A-E16CD25E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A0B5-16FD-4052-A68D-47FA7D1A2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Её таинственная прелесть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ремена год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.И.Чайк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457800" cy="4321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862280"/>
            <a:ext cx="2376720" cy="1807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2376720" cy="18115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443640" y="1916280"/>
            <a:ext cx="2305080" cy="1846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443640" y="4221000"/>
            <a:ext cx="2376360" cy="1783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348000" y="6458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2013 г</a:t>
            </a:r>
            <a:r>
              <a:rPr b="1" lang="en-US" sz="1800" spc="-1" strike="noStrike">
                <a:solidFill>
                  <a:srgbClr val="000000"/>
                </a:solidFill>
                <a:latin typeface="Tung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Июнь «Баркарол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4724280"/>
            <a:ext cx="42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Выйдем на берег, там вол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ги нам будут лобзать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везды с таинственной грустью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удут над нами сия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.Н.Плещее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392360" cy="307656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427640" y="3357720"/>
            <a:ext cx="4508280" cy="2993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1"/>
                            </p:stCondLst>
                            <p:childTnLst>
                              <p:par>
                                <p:cTn id="2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1"/>
                            </p:stCondLst>
                            <p:childTnLst>
                              <p:par>
                                <p:cTn id="2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1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Июль «Песня коса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182920" cy="30099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168800" cy="312768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01640" y="4797360"/>
            <a:ext cx="37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437000"/>
            <a:ext cx="414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Раззудись, плечо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Размахнись рука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ы пахни в лицо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Ветер с полудн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unga"/>
              </a:rPr>
              <a:t>А.В.Коль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1"/>
                            </p:stCondLst>
                            <p:childTnLst>
                              <p:par>
                                <p:cTn id="3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1"/>
                            </p:stCondLst>
                            <p:childTnLst>
                              <p:par>
                                <p:cTn id="3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1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1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Август «Жат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4437000"/>
            <a:ext cx="360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ди семьями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ринялися жать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осить под корень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ожь высокую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копны частые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нопы сложены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т возов всю ночь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крипит му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.В.Коль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35280" y="1341360"/>
            <a:ext cx="4956120" cy="3969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504880" cy="41036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1"/>
                            </p:stCondLst>
                            <p:childTnLst>
                              <p:par>
                                <p:cTn id="3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1"/>
                            </p:stCondLst>
                            <p:childTnLst>
                              <p:par>
                                <p:cTn id="3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1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unga"/>
              </a:rPr>
              <a:t>Осен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720" y="3933720"/>
            <a:ext cx="4859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нылая пора! Очей очарова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ятна мне твоя прощальная крас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юблю я пышное природы увяда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багрец и в золото одетые л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их сенях ветра шум и свежее дыха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мглой волнистою покрыты неб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редкий солнца луч, и первые моро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отдаленные седой зимы уг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821040" cy="2897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00720" y="981000"/>
            <a:ext cx="4248000" cy="2841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3672000" cy="2756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Сентябрь «Охот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16360" y="5157360"/>
            <a:ext cx="424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Пора, пора! Рога трубя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сари в охотничьих уборах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ем свет уж на конях сидят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орзые прыгают на с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113440" cy="3835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"/>
                            </p:stCondLst>
                            <p:childTnLst>
                              <p:par>
                                <p:cTn id="4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1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1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Октябрь «Осенняя песн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770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Осень, осыпается весь наш бедный сад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Листья пожелтелые по ветру летят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249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4276800" cy="35352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1"/>
                            </p:stCondLst>
                            <p:childTnLst>
                              <p:par>
                                <p:cTn id="4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1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1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Ноябрь «На тройк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5013360"/>
            <a:ext cx="414036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Не гляди же с тоской на дорогу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за тройкой вослед не спеши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тоскливую в сердце тревогу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скорей навсегда затуши»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.А.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4248000" cy="36277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211640" y="3357720"/>
            <a:ext cx="4724280" cy="3338280"/>
          </a:xfrm>
          <a:prstGeom prst="rect">
            <a:avLst/>
          </a:prstGeom>
          <a:ln w="38160">
            <a:solidFill>
              <a:srgbClr val="666699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1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1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1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Декабрь «Свят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48440" y="1268280"/>
            <a:ext cx="3460680" cy="532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3022560" cy="280836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4319280" cy="2649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068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«Раз в крещенский вечерок девушки гадали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а окошко башмачок, сняв с ноги броса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. 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1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1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1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Люблю русскую природу больше всякой другой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5113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Он желал бы всеми силами ду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ы музыка его распространя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она баюкала в т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ы с нею вместе улыб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она печали отв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оила путника в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хотел чтоб музыка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ешеньем, радостью, подм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сть музыка всегда жив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радость всюду побежд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сть сердце русское по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йковского повсюду зна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427560" cy="501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4360" y="260280"/>
            <a:ext cx="784836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 rot="20448600">
            <a:off x="468000" y="333000"/>
            <a:ext cx="25686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unga"/>
              </a:rPr>
              <a:t>Зи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3600360" cy="2254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527280" cy="25844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932360" y="1052640"/>
            <a:ext cx="3600360" cy="5545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2708280"/>
            <a:ext cx="37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 голубыми неб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ликолепными ков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естя на солнце, снег леж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зрачный лес один черне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ель сквозь иней зелене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речка подо льдом блес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Январь «У камель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16000" y="4868640"/>
            <a:ext cx="42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мирной неги уголок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чь сумраком одела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камине гаснет огонек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свечка нагорел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314600" cy="32367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981240" cy="298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1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1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1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Февраль «Маслениц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87640" y="5805000"/>
            <a:ext cx="381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Скоро масленицы бойкой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акипит широкий п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.А.Вяземс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456000" cy="25020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449520" cy="45594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529080" cy="2824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1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1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1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unga"/>
              </a:rPr>
              <a:t>Вес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4249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ихо струится река серебр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царстве вечернем зеленой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 садится за горы лесис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г золотой выплывает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35280" cy="34020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248360" cy="324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Март «Песня жаворон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16000" y="5157360"/>
            <a:ext cx="4427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Поле зыблется цветами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небе льются света волны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ешних жаворонков пенья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олубые бездны пол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Н.Май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1293840"/>
            <a:ext cx="3887640" cy="2627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3357720" cy="39607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332000" y="4076640"/>
            <a:ext cx="3456000" cy="2592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1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1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1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Апрель «Подснежни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79280" y="4723920"/>
            <a:ext cx="3097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«Голубенький, чисты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снежник - цветок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подле сквозисты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следний снежок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следние слез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 горе былом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первые грез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 счастье ином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.Н.Май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464000" cy="34308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522600" cy="4680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1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1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1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Май «Белые ноч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450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«Какая ночь! На всем, какая нега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Благодарю, родной полночный край!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з царства льдов, из царства вьюг и снега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ак свеж и чист твой вылетает Ма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А.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680000" cy="3308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3338640"/>
            <a:ext cx="4343400" cy="326052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1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1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1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1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unga"/>
              </a:rPr>
              <a:t>Лет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5589360"/>
            <a:ext cx="4186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лыбнулись сонные берез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трепали шелковые к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Шелестят зеленые сереж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горят серебряные 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5904000" cy="44276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1:09:54Z</dcterms:created>
  <dc:creator>я</dc:creator>
  <dc:description/>
  <cp:keywords/>
  <dc:language>en-US</dc:language>
  <cp:lastModifiedBy>эксперт</cp:lastModifiedBy>
  <dcterms:modified xsi:type="dcterms:W3CDTF">2013-01-24T19:48:35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