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8.jpeg" ContentType="image/jpeg"/>
  <Override PartName="/ppt/media/image23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3.jpeg" ContentType="image/jpeg"/>
  <Override PartName="/ppt/media/image44.jpeg" ContentType="image/jpeg"/>
  <Override PartName="/ppt/media/image45.png" ContentType="image/png"/>
  <Override PartName="/ppt/media/image32.jpeg" ContentType="image/jpeg"/>
  <Override PartName="/ppt/media/image5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3.png" ContentType="image/png"/>
  <Override PartName="/ppt/media/image1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DD8-05C1-4FD3-B932-D040651E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66BD-77D9-4C5E-A138-245D6C15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6964-CCA2-49CF-962C-38F5D9B2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83D9-7365-45CD-B283-3A2F06F7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21CD-DF9C-4E41-9C52-1C919E61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EA0C-8E67-4DCB-AB55-C7DB10BA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479-5217-49DA-A01B-69CAB20B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3FE-5225-43DC-BCD4-80C3D8FA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2215-CCD5-41F1-92EE-1364B4E1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B1C-4A40-42ED-B2D3-470E871A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82A6-175C-4F44-9E13-321E5E8B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7DE3-1E44-4EA1-B387-3025552A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D709-E84B-432E-90D9-9667D3F38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image" Target="../media/image36.jpeg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ed-isida.ru/stomatology/hygiene/personal/" TargetMode="External"/><Relationship Id="rId3" Type="http://schemas.openxmlformats.org/officeDocument/2006/relationships/hyperlink" Target="http://med-isida.ru/stomatology/hygiene/personal/" TargetMode="External"/><Relationship Id="rId4" Type="http://schemas.openxmlformats.org/officeDocument/2006/relationships/hyperlink" Target="http://med-isida.ru/stomatology/hygiene/personal/" TargetMode="External"/><Relationship Id="rId5" Type="http://schemas.openxmlformats.org/officeDocument/2006/relationships/hyperlink" Target="http://med-isida.ru/stomatology/hygiene/personal/" TargetMode="External"/><Relationship Id="rId6" Type="http://schemas.openxmlformats.org/officeDocument/2006/relationships/hyperlink" Target="http://med-isida.ru/stomatology/hygiene/personal/" TargetMode="External"/><Relationship Id="rId7" Type="http://schemas.openxmlformats.org/officeDocument/2006/relationships/hyperlink" Target="http://med-isida.ru/stomatology/hygiene/personal/" TargetMode="External"/><Relationship Id="rId8" Type="http://schemas.openxmlformats.org/officeDocument/2006/relationships/hyperlink" Target="http://med-isida.ru/stomatology/hygiene/personal/" TargetMode="External"/><Relationship Id="rId9" Type="http://schemas.openxmlformats.org/officeDocument/2006/relationships/hyperlink" Target="http://med-isida.ru/stomatology/hygiene/personal/" TargetMode="External"/><Relationship Id="rId10" Type="http://schemas.openxmlformats.org/officeDocument/2006/relationships/hyperlink" Target="http://med-isida.ru/stomatology/hygiene/personal/" TargetMode="External"/><Relationship Id="rId11" Type="http://schemas.openxmlformats.org/officeDocument/2006/relationships/hyperlink" Target="http://med-isida.ru/stomatology/hygiene/personal/" TargetMode="External"/><Relationship Id="rId12" Type="http://schemas.openxmlformats.org/officeDocument/2006/relationships/hyperlink" Target="http://www.zone-x.ru/showTov.asp?FND=&amp;Cat_id=692605" TargetMode="External"/><Relationship Id="rId13" Type="http://schemas.openxmlformats.org/officeDocument/2006/relationships/hyperlink" Target="http://www.zone-x.ru/showTov.asp?FND=&amp;Cat_id=692605" TargetMode="External"/><Relationship Id="rId14" Type="http://schemas.openxmlformats.org/officeDocument/2006/relationships/hyperlink" Target="http://www.zone-x.ru/showTov.asp?FND=&amp;Cat_id=692605" TargetMode="External"/><Relationship Id="rId15" Type="http://schemas.openxmlformats.org/officeDocument/2006/relationships/hyperlink" Target="http://www.zone-x.ru/showTov.asp?FND=&amp;Cat_id=692605" TargetMode="External"/><Relationship Id="rId16" Type="http://schemas.openxmlformats.org/officeDocument/2006/relationships/hyperlink" Target="http://my-shop.ru/shop/producer/252.html" TargetMode="External"/><Relationship Id="rId17" Type="http://schemas.openxmlformats.org/officeDocument/2006/relationships/hyperlink" Target="http://my-shop.ru/shop/producer/252.html" TargetMode="External"/><Relationship Id="rId18" Type="http://schemas.openxmlformats.org/officeDocument/2006/relationships/hyperlink" Target="http://my-shop.ru/shop/producer/252.html" TargetMode="External"/><Relationship Id="rId19" Type="http://schemas.openxmlformats.org/officeDocument/2006/relationships/hyperlink" Target="http://my-shop.ru/shop/producer/252.html" TargetMode="External"/><Relationship Id="rId20" Type="http://schemas.openxmlformats.org/officeDocument/2006/relationships/hyperlink" Target="http://my-shop.ru/shop/producer/252.html" TargetMode="External"/><Relationship Id="rId21" Type="http://schemas.openxmlformats.org/officeDocument/2006/relationships/hyperlink" Target="http://my-shop.ru/shop/producer/252.html" TargetMode="External"/><Relationship Id="rId22" Type="http://schemas.openxmlformats.org/officeDocument/2006/relationships/hyperlink" Target="http://my-shop.ru/shop/producer/252.html" TargetMode="External"/><Relationship Id="rId23" Type="http://schemas.openxmlformats.org/officeDocument/2006/relationships/hyperlink" Target="http://my-shop.ru/shop/producer/252.html" TargetMode="External"/><Relationship Id="rId24" Type="http://schemas.openxmlformats.org/officeDocument/2006/relationships/hyperlink" Target="http://www.freshmemory.ru/catalog/index.php?SECTION_ID=98&amp;ELEMENT_ID=675" TargetMode="External"/><Relationship Id="rId25" Type="http://schemas.openxmlformats.org/officeDocument/2006/relationships/hyperlink" Target="http://www.freshmemory.ru/catalog/index.php?SECTION_ID=98&amp;ELEMENT_ID=675" TargetMode="External"/><Relationship Id="rId26" Type="http://schemas.openxmlformats.org/officeDocument/2006/relationships/hyperlink" Target="http://www.freshmemory.ru/catalog/index.php?SECTION_ID=98&amp;ELEMENT_ID=675" TargetMode="External"/><Relationship Id="rId27" Type="http://schemas.openxmlformats.org/officeDocument/2006/relationships/hyperlink" Target="http://www.freshmemory.ru/catalog/index.php?SECTION_ID=98&amp;ELEMENT_ID=675" TargetMode="External"/><Relationship Id="rId28" Type="http://schemas.openxmlformats.org/officeDocument/2006/relationships/hyperlink" Target="http://www.freshmemory.ru/catalog/index.php?SECTION_ID=98&amp;ELEMENT_ID=675" TargetMode="External"/><Relationship Id="rId29" Type="http://schemas.openxmlformats.org/officeDocument/2006/relationships/hyperlink" Target="http://www.freshmemory.ru/catalog/index.php?SECTION_ID=98&amp;ELEMENT_ID=675" TargetMode="External"/><Relationship Id="rId30" Type="http://schemas.openxmlformats.org/officeDocument/2006/relationships/hyperlink" Target="http://school-kid.ru/" TargetMode="External"/><Relationship Id="rId31" Type="http://schemas.openxmlformats.org/officeDocument/2006/relationships/hyperlink" Target="http://school-kid.ru/" TargetMode="External"/><Relationship Id="rId32" Type="http://schemas.openxmlformats.org/officeDocument/2006/relationships/hyperlink" Target="http://school-kid.ru/" TargetMode="External"/><Relationship Id="rId33" Type="http://schemas.openxmlformats.org/officeDocument/2006/relationships/hyperlink" Target="http://school-kid.ru/" TargetMode="External"/><Relationship Id="rId34" Type="http://schemas.openxmlformats.org/officeDocument/2006/relationships/hyperlink" Target="http://wsh.mybb.ru/viewtopic.php?id=1540&amp;p=3" TargetMode="External"/><Relationship Id="rId35" Type="http://schemas.openxmlformats.org/officeDocument/2006/relationships/hyperlink" Target="http://wsh.mybb.ru/viewtopic.php?id=1540&amp;p=3" TargetMode="External"/><Relationship Id="rId36" Type="http://schemas.openxmlformats.org/officeDocument/2006/relationships/hyperlink" Target="http://wsh.mybb.ru/viewtopic.php?id=1540&amp;p=3" TargetMode="External"/><Relationship Id="rId37" Type="http://schemas.openxmlformats.org/officeDocument/2006/relationships/hyperlink" Target="http://wsh.mybb.ru/viewtopic.php?id=1540&amp;p=3" TargetMode="External"/><Relationship Id="rId38" Type="http://schemas.openxmlformats.org/officeDocument/2006/relationships/hyperlink" Target="http://www.photoshopstar.com/effects/fantastic-glowing-effect/" TargetMode="External"/><Relationship Id="rId39" Type="http://schemas.openxmlformats.org/officeDocument/2006/relationships/hyperlink" Target="http://www.photoshopstar.com/effects/fantastic-glowing-effect/" TargetMode="External"/><Relationship Id="rId40" Type="http://schemas.openxmlformats.org/officeDocument/2006/relationships/hyperlink" Target="http://www.photoshopstar.com/effects/fantastic-glowing-effect/" TargetMode="External"/><Relationship Id="rId41" Type="http://schemas.openxmlformats.org/officeDocument/2006/relationships/hyperlink" Target="http://www.photoshopstar.com/effects/fantastic-glowing-effect/" TargetMode="External"/><Relationship Id="rId42" Type="http://schemas.openxmlformats.org/officeDocument/2006/relationships/hyperlink" Target="http://www.photoshopstar.com/effects/fantastic-glowing-effect/" TargetMode="External"/><Relationship Id="rId43" Type="http://schemas.openxmlformats.org/officeDocument/2006/relationships/hyperlink" Target="http://www.photoshopstar.com/effects/fantastic-glowing-effect/" TargetMode="External"/><Relationship Id="rId44" Type="http://schemas.openxmlformats.org/officeDocument/2006/relationships/hyperlink" Target="http://www.photoshopstar.com/effects/fantastic-glowing-effect/" TargetMode="External"/><Relationship Id="rId45" Type="http://schemas.openxmlformats.org/officeDocument/2006/relationships/hyperlink" Target="http://www.photoshopstar.com/effects/fantastic-glowing-effect/" TargetMode="External"/><Relationship Id="rId46" Type="http://schemas.openxmlformats.org/officeDocument/2006/relationships/hyperlink" Target="http://www.kids-price.ru/dzhemper_ddk366001n_solnechnaya_dolina_biryuza_557403.html" TargetMode="External"/><Relationship Id="rId47" Type="http://schemas.openxmlformats.org/officeDocument/2006/relationships/hyperlink" Target="http://www.kids-price.ru/dzhemper_ddk366001n_solnechnaya_dolina_biryuza_557403.html" TargetMode="External"/><Relationship Id="rId48" Type="http://schemas.openxmlformats.org/officeDocument/2006/relationships/hyperlink" Target="http://www.kids-price.ru/dzhemper_ddk366001n_solnechnaya_dolina_biryuza_557403.html" TargetMode="External"/><Relationship Id="rId49" Type="http://schemas.openxmlformats.org/officeDocument/2006/relationships/hyperlink" Target="http://www.kids-price.ru/dzhemper_ddk366001n_solnechnaya_dolina_biryuza_557403.html" TargetMode="External"/><Relationship Id="rId50" Type="http://schemas.openxmlformats.org/officeDocument/2006/relationships/hyperlink" Target="http://www.weblancer.net/users/beluza/portfolio/516548.html" TargetMode="External"/><Relationship Id="rId51" Type="http://schemas.openxmlformats.org/officeDocument/2006/relationships/hyperlink" Target="http://www.weblancer.net/users/beluza/portfolio/516548.html" TargetMode="External"/><Relationship Id="rId52" Type="http://schemas.openxmlformats.org/officeDocument/2006/relationships/hyperlink" Target="http://www.weblancer.net/users/beluza/portfolio/516548.html" TargetMode="External"/><Relationship Id="rId53" Type="http://schemas.openxmlformats.org/officeDocument/2006/relationships/hyperlink" Target="http://www.weblancer.net/users/beluza/portfolio/516548.html" TargetMode="External"/><Relationship Id="rId54" Type="http://schemas.openxmlformats.org/officeDocument/2006/relationships/hyperlink" Target="http://www.weblancer.net/users/beluza/portfolio/516548.html" TargetMode="External"/><Relationship Id="rId55" Type="http://schemas.openxmlformats.org/officeDocument/2006/relationships/hyperlink" Target="http://www.weblancer.net/users/beluza/portfolio/516548.html" TargetMode="External"/><Relationship Id="rId56" Type="http://schemas.openxmlformats.org/officeDocument/2006/relationships/hyperlink" Target="http://www.weblancer.net/users/beluza/portfolio/516548.html" TargetMode="External"/><Relationship Id="rId57" Type="http://schemas.openxmlformats.org/officeDocument/2006/relationships/hyperlink" Target="http://www.weblancer.net/users/beluza/portfolio/516548.html" TargetMode="External"/><Relationship Id="rId58" Type="http://schemas.openxmlformats.org/officeDocument/2006/relationships/hyperlink" Target="http://www.weblancer.net/users/beluza/portfolio/516548.html" TargetMode="External"/><Relationship Id="rId59" Type="http://schemas.openxmlformats.org/officeDocument/2006/relationships/hyperlink" Target="http://www.weblancer.net/users/beluza/portfolio/516548.html" TargetMode="External"/><Relationship Id="rId60" Type="http://schemas.openxmlformats.org/officeDocument/2006/relationships/hyperlink" Target="http://forum.smallgames.ws/index.php?showtopic=18149&amp;pid=192954&amp;st=10" TargetMode="External"/><Relationship Id="rId61" Type="http://schemas.openxmlformats.org/officeDocument/2006/relationships/hyperlink" Target="http://forum.smallgames.ws/index.php?showtopic=18149&amp;pid=192954&amp;st=10" TargetMode="External"/><Relationship Id="rId62" Type="http://schemas.openxmlformats.org/officeDocument/2006/relationships/hyperlink" Target="http://forum.smallgames.ws/index.php?showtopic=18149&amp;pid=192954&amp;st=10" TargetMode="External"/><Relationship Id="rId63" Type="http://schemas.openxmlformats.org/officeDocument/2006/relationships/hyperlink" Target="http://forum.smallgames.ws/index.php?showtopic=18149&amp;pid=192954&amp;st=10" TargetMode="External"/><Relationship Id="rId64" Type="http://schemas.openxmlformats.org/officeDocument/2006/relationships/hyperlink" Target="http://900igr.net/photo/predmety/Predmety-10.files/018-Zubnaja-schjotka.html" TargetMode="External"/><Relationship Id="rId65" Type="http://schemas.openxmlformats.org/officeDocument/2006/relationships/hyperlink" Target="http://900igr.net/photo/predmety/Predmety-10.files/018-Zubnaja-schjotka.html" TargetMode="External"/><Relationship Id="rId66" Type="http://schemas.openxmlformats.org/officeDocument/2006/relationships/hyperlink" Target="http://900igr.net/photo/predmety/Predmety-10.files/018-Zubnaja-schjotka.html" TargetMode="External"/><Relationship Id="rId67" Type="http://schemas.openxmlformats.org/officeDocument/2006/relationships/hyperlink" Target="http://900igr.net/photo/predmety/Predmety-10.files/018-Zubnaja-schjotka.html" TargetMode="External"/><Relationship Id="rId68" Type="http://schemas.openxmlformats.org/officeDocument/2006/relationships/hyperlink" Target="http://900igr.net/photo/predmety/Predmety-10.files/018-Zubnaja-schjotka.html" TargetMode="External"/><Relationship Id="rId69" Type="http://schemas.openxmlformats.org/officeDocument/2006/relationships/hyperlink" Target="http://900igr.net/photo/predmety/Predmety-10.files/018-Zubnaja-schjotka.html" TargetMode="External"/><Relationship Id="rId70" Type="http://schemas.openxmlformats.org/officeDocument/2006/relationships/hyperlink" Target="http://www.v-sp.ru/shop/category/bytovaja-himija/offset80/" TargetMode="External"/><Relationship Id="rId71" Type="http://schemas.openxmlformats.org/officeDocument/2006/relationships/hyperlink" Target="http://www.v-sp.ru/shop/category/bytovaja-himija/offset80/" TargetMode="External"/><Relationship Id="rId72" Type="http://schemas.openxmlformats.org/officeDocument/2006/relationships/hyperlink" Target="http://www.v-sp.ru/shop/category/bytovaja-himija/offset80/" TargetMode="External"/><Relationship Id="rId73" Type="http://schemas.openxmlformats.org/officeDocument/2006/relationships/hyperlink" Target="http://www.v-sp.ru/shop/category/bytovaja-himija/offset80/" TargetMode="External"/><Relationship Id="rId74" Type="http://schemas.openxmlformats.org/officeDocument/2006/relationships/hyperlink" Target="http://www.v-sp.ru/shop/category/bytovaja-himija/offset80/" TargetMode="External"/><Relationship Id="rId75" Type="http://schemas.openxmlformats.org/officeDocument/2006/relationships/hyperlink" Target="http://www.v-sp.ru/shop/category/bytovaja-himija/offset80/" TargetMode="External"/><Relationship Id="rId76" Type="http://schemas.openxmlformats.org/officeDocument/2006/relationships/hyperlink" Target="http://www.v-sp.ru/shop/category/bytovaja-himija/offset80/" TargetMode="External"/><Relationship Id="rId77" Type="http://schemas.openxmlformats.org/officeDocument/2006/relationships/hyperlink" Target="http://www.v-sp.ru/shop/category/bytovaja-himija/offset80/" TargetMode="External"/><Relationship Id="rId78" Type="http://schemas.openxmlformats.org/officeDocument/2006/relationships/hyperlink" Target="http://www.v-sp.ru/shop/category/bytovaja-himija/offset80/" TargetMode="External"/><Relationship Id="rId79" Type="http://schemas.openxmlformats.org/officeDocument/2006/relationships/hyperlink" Target="http://www.v-sp.ru/shop/category/bytovaja-himija/offset80/" TargetMode="External"/><Relationship Id="rId80" Type="http://schemas.openxmlformats.org/officeDocument/2006/relationships/hyperlink" Target="http://nn-sp.ru/asp/sbor.php?page=7&amp;brend_id=1358&amp;brend=&#1053;&#1072;&#1096;&#1072;+&#1084;&#1072;&#1084;&#1072;" TargetMode="External"/><Relationship Id="rId81" Type="http://schemas.openxmlformats.org/officeDocument/2006/relationships/hyperlink" Target="http://nn-sp.ru/asp/sbor.php?page=7&amp;brend_id=1358&amp;brend=&#1053;&#1072;&#1096;&#1072;+&#1084;&#1072;&#1084;&#1072;" TargetMode="External"/><Relationship Id="rId82" Type="http://schemas.openxmlformats.org/officeDocument/2006/relationships/hyperlink" Target="http://nn-sp.ru/asp/sbor.php?page=7&amp;brend_id=1358&amp;brend=&#1053;&#1072;&#1096;&#1072;+&#1084;&#1072;&#1084;&#1072;" TargetMode="External"/><Relationship Id="rId83" Type="http://schemas.openxmlformats.org/officeDocument/2006/relationships/hyperlink" Target="http://nn-sp.ru/asp/sbor.php?page=7&amp;brend_id=1358&amp;brend=&#1053;&#1072;&#1096;&#1072;+&#1084;&#1072;&#1084;&#1072;" TargetMode="External"/><Relationship Id="rId84" Type="http://schemas.openxmlformats.org/officeDocument/2006/relationships/hyperlink" Target="http://nn-sp.ru/asp/sbor.php?page=7&amp;brend_id=1358&amp;brend=&#1053;&#1072;&#1096;&#1072;+&#1084;&#1072;&#1084;&#1072;" TargetMode="External"/><Relationship Id="rId85" Type="http://schemas.openxmlformats.org/officeDocument/2006/relationships/hyperlink" Target="http://nn-sp.ru/asp/sbor.php?page=7&amp;brend_id=1358&amp;brend=&#1053;&#1072;&#1096;&#1072;+&#1084;&#1072;&#1084;&#1072;" TargetMode="External"/><Relationship Id="rId86" Type="http://schemas.openxmlformats.org/officeDocument/2006/relationships/hyperlink" Target="http://www.dava.ru/index.php?cPath=227_388_390_391&amp;page=1&amp;sort=4a&amp;" TargetMode="External"/><Relationship Id="rId87" Type="http://schemas.openxmlformats.org/officeDocument/2006/relationships/hyperlink" Target="http://www.dava.ru/index.php?cPath=227_388_390_391&amp;page=1&amp;sort=4a&amp;" TargetMode="External"/><Relationship Id="rId88" Type="http://schemas.openxmlformats.org/officeDocument/2006/relationships/hyperlink" Target="http://www.dava.ru/index.php?cPath=227_388_390_391&amp;page=1&amp;sort=4a&amp;" TargetMode="External"/><Relationship Id="rId89" Type="http://schemas.openxmlformats.org/officeDocument/2006/relationships/hyperlink" Target="http://www.dava.ru/index.php?cPath=227_388_390_391&amp;page=1&amp;sort=4a&amp;" TargetMode="External"/><Relationship Id="rId90" Type="http://schemas.openxmlformats.org/officeDocument/2006/relationships/hyperlink" Target="http://www.deltashop.ru/kat/g3697-1.htm" TargetMode="External"/><Relationship Id="rId91" Type="http://schemas.openxmlformats.org/officeDocument/2006/relationships/hyperlink" Target="http://www.deltashop.ru/kat/g3697-1.htm" TargetMode="External"/><Relationship Id="rId92" Type="http://schemas.openxmlformats.org/officeDocument/2006/relationships/hyperlink" Target="http://www.deltashop.ru/kat/g3697-1.htm" TargetMode="External"/><Relationship Id="rId93" Type="http://schemas.openxmlformats.org/officeDocument/2006/relationships/hyperlink" Target="http://www.deltashop.ru/kat/g3697-1.htm" TargetMode="External"/><Relationship Id="rId94" Type="http://schemas.openxmlformats.org/officeDocument/2006/relationships/hyperlink" Target="http://www.deltashop.ru/kat/g3697-1.htm" TargetMode="External"/><Relationship Id="rId95" Type="http://schemas.openxmlformats.org/officeDocument/2006/relationships/hyperlink" Target="http://www.deltashop.ru/kat/g3697-1.htm" TargetMode="External"/><Relationship Id="rId96" Type="http://schemas.openxmlformats.org/officeDocument/2006/relationships/hyperlink" Target="http://www.leksad.ru/imixmar-1000817-2.htm" TargetMode="External"/><Relationship Id="rId97" Type="http://schemas.openxmlformats.org/officeDocument/2006/relationships/hyperlink" Target="http://www.leksad.ru/imixmar-1000817-2.htm" TargetMode="External"/><Relationship Id="rId98" Type="http://schemas.openxmlformats.org/officeDocument/2006/relationships/hyperlink" Target="http://www.leksad.ru/imixmar-1000817-2.htm" TargetMode="External"/><Relationship Id="rId99" Type="http://schemas.openxmlformats.org/officeDocument/2006/relationships/hyperlink" Target="http://www.leksad.ru/imixmar-1000817-2.htm" TargetMode="External"/><Relationship Id="rId10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uznayvse.ru/nauka-i-tehnologii/?limit=23&amp;limitstart=207" TargetMode="External"/><Relationship Id="rId3" Type="http://schemas.openxmlformats.org/officeDocument/2006/relationships/hyperlink" Target="http://www.uznayvse.ru/nauka-i-tehnologii/?limit=23&amp;limitstart=207" TargetMode="External"/><Relationship Id="rId4" Type="http://schemas.openxmlformats.org/officeDocument/2006/relationships/hyperlink" Target="http://www.uznayvse.ru/nauka-i-tehnologii/?limit=23&amp;limitstart=207" TargetMode="External"/><Relationship Id="rId5" Type="http://schemas.openxmlformats.org/officeDocument/2006/relationships/hyperlink" Target="http://www.uznayvse.ru/nauka-i-tehnologii/?limit=23&amp;limitstart=207" TargetMode="External"/><Relationship Id="rId6" Type="http://schemas.openxmlformats.org/officeDocument/2006/relationships/hyperlink" Target="http://www.uznayvse.ru/nauka-i-tehnologii/?limit=23&amp;limitstart=207" TargetMode="External"/><Relationship Id="rId7" Type="http://schemas.openxmlformats.org/officeDocument/2006/relationships/hyperlink" Target="http://www.uznayvse.ru/nauka-i-tehnologii/?limit=23&amp;limitstart=207" TargetMode="External"/><Relationship Id="rId8" Type="http://schemas.openxmlformats.org/officeDocument/2006/relationships/hyperlink" Target="http://www.mixdom.ru/vcd-227-3/catalog.html" TargetMode="External"/><Relationship Id="rId9" Type="http://schemas.openxmlformats.org/officeDocument/2006/relationships/hyperlink" Target="http://www.mixdom.ru/vcd-227-3/catalog.html" TargetMode="External"/><Relationship Id="rId10" Type="http://schemas.openxmlformats.org/officeDocument/2006/relationships/hyperlink" Target="http://www.mixdom.ru/vcd-227-3/catalog.html" TargetMode="External"/><Relationship Id="rId11" Type="http://schemas.openxmlformats.org/officeDocument/2006/relationships/hyperlink" Target="http://www.mixdom.ru/vcd-227-3/catalog.html" TargetMode="External"/><Relationship Id="rId12" Type="http://schemas.openxmlformats.org/officeDocument/2006/relationships/hyperlink" Target="http://www.mixdom.ru/vcd-227-3/catalog.html" TargetMode="External"/><Relationship Id="rId13" Type="http://schemas.openxmlformats.org/officeDocument/2006/relationships/hyperlink" Target="http://stomat-butovo.ru/otbelzub.html" TargetMode="External"/><Relationship Id="rId14" Type="http://schemas.openxmlformats.org/officeDocument/2006/relationships/hyperlink" Target="http://stomat-butovo.ru/otbelzub.html" TargetMode="External"/><Relationship Id="rId15" Type="http://schemas.openxmlformats.org/officeDocument/2006/relationships/hyperlink" Target="http://stomat-butovo.ru/otbelzub.html" TargetMode="External"/><Relationship Id="rId16" Type="http://schemas.openxmlformats.org/officeDocument/2006/relationships/hyperlink" Target="http://stomat-butovo.ru/otbelzub.html" TargetMode="External"/><Relationship Id="rId17" Type="http://schemas.openxmlformats.org/officeDocument/2006/relationships/hyperlink" Target="http://stomat-butovo.ru/otbelzub.html" TargetMode="External"/><Relationship Id="rId18" Type="http://schemas.openxmlformats.org/officeDocument/2006/relationships/hyperlink" Target="http://www.moneytimes.ru/encyclopedia/111/12425.html" TargetMode="External"/><Relationship Id="rId19" Type="http://schemas.openxmlformats.org/officeDocument/2006/relationships/hyperlink" Target="http://www.moneytimes.ru/encyclopedia/111/12425.html" TargetMode="External"/><Relationship Id="rId20" Type="http://schemas.openxmlformats.org/officeDocument/2006/relationships/hyperlink" Target="http://www.moneytimes.ru/encyclopedia/111/12425.html" TargetMode="External"/><Relationship Id="rId21" Type="http://schemas.openxmlformats.org/officeDocument/2006/relationships/hyperlink" Target="http://www.moneytimes.ru/encyclopedia/111/12425.html" TargetMode="External"/><Relationship Id="rId22" Type="http://schemas.openxmlformats.org/officeDocument/2006/relationships/hyperlink" Target="http://www.moneytimes.ru/encyclopedia/111/12425.html" TargetMode="External"/><Relationship Id="rId23" Type="http://schemas.openxmlformats.org/officeDocument/2006/relationships/hyperlink" Target="http://www.moneytimes.ru/encyclopedia/111/12425.html" TargetMode="External"/><Relationship Id="rId24" Type="http://schemas.openxmlformats.org/officeDocument/2006/relationships/hyperlink" Target="http://www.med2.ru/story.php?id=8004" TargetMode="External"/><Relationship Id="rId25" Type="http://schemas.openxmlformats.org/officeDocument/2006/relationships/hyperlink" Target="http://www.med2.ru/story.php?id=8004" TargetMode="External"/><Relationship Id="rId26" Type="http://schemas.openxmlformats.org/officeDocument/2006/relationships/hyperlink" Target="http://www.everlive.ru/all-about-walnuts/" TargetMode="External"/><Relationship Id="rId27" Type="http://schemas.openxmlformats.org/officeDocument/2006/relationships/hyperlink" Target="http://www.everlive.ru/all-about-walnuts/" TargetMode="External"/><Relationship Id="rId28" Type="http://schemas.openxmlformats.org/officeDocument/2006/relationships/hyperlink" Target="http://www.everlive.ru/all-about-walnuts/" TargetMode="External"/><Relationship Id="rId29" Type="http://schemas.openxmlformats.org/officeDocument/2006/relationships/hyperlink" Target="http://www.everlive.ru/all-about-walnuts/" TargetMode="External"/><Relationship Id="rId30" Type="http://schemas.openxmlformats.org/officeDocument/2006/relationships/hyperlink" Target="http://www.everlive.ru/all-about-walnuts/" TargetMode="External"/><Relationship Id="rId31" Type="http://schemas.openxmlformats.org/officeDocument/2006/relationships/hyperlink" Target="http://www.everlive.ru/all-about-walnuts/" TargetMode="External"/><Relationship Id="rId32" Type="http://schemas.openxmlformats.org/officeDocument/2006/relationships/hyperlink" Target="http://community.livejournal.com/diagnostikarmy/58907.html" TargetMode="External"/><Relationship Id="rId33" Type="http://schemas.openxmlformats.org/officeDocument/2006/relationships/hyperlink" Target="http://community.livejournal.com/diagnostikarmy/58907.html" TargetMode="External"/><Relationship Id="rId34" Type="http://schemas.openxmlformats.org/officeDocument/2006/relationships/hyperlink" Target="http://community.livejournal.com/diagnostikarmy/58907.html" TargetMode="External"/><Relationship Id="rId35" Type="http://schemas.openxmlformats.org/officeDocument/2006/relationships/hyperlink" Target="http://community.livejournal.com/diagnostikarmy/58907.html" TargetMode="External"/><Relationship Id="rId36" Type="http://schemas.openxmlformats.org/officeDocument/2006/relationships/hyperlink" Target="http://community.livejournal.com/diagnostikarmy/58907.html" TargetMode="External"/><Relationship Id="rId37" Type="http://schemas.openxmlformats.org/officeDocument/2006/relationships/hyperlink" Target="http://community.livejournal.com/diagnostikarmy/58907.html" TargetMode="External"/><Relationship Id="rId38" Type="http://schemas.openxmlformats.org/officeDocument/2006/relationships/hyperlink" Target="http://www.free-lance.ru/users/delinta/?f=2&amp;stamp=38207" TargetMode="External"/><Relationship Id="rId39" Type="http://schemas.openxmlformats.org/officeDocument/2006/relationships/hyperlink" Target="http://www.free-lance.ru/users/delinta/?f=2&amp;stamp=38207" TargetMode="External"/><Relationship Id="rId40" Type="http://schemas.openxmlformats.org/officeDocument/2006/relationships/hyperlink" Target="http://www.free-lance.ru/users/delinta/?f=2&amp;stamp=38207" TargetMode="External"/><Relationship Id="rId41" Type="http://schemas.openxmlformats.org/officeDocument/2006/relationships/hyperlink" Target="http://www.free-lance.ru/users/delinta/?f=2&amp;stamp=38207" TargetMode="External"/><Relationship Id="rId42" Type="http://schemas.openxmlformats.org/officeDocument/2006/relationships/hyperlink" Target="http://www.free-lance.ru/users/delinta/?f=2&amp;stamp=38207" TargetMode="External"/><Relationship Id="rId43" Type="http://schemas.openxmlformats.org/officeDocument/2006/relationships/hyperlink" Target="http://www.free-lance.ru/users/delinta/?f=2&amp;stamp=38207" TargetMode="External"/><Relationship Id="rId44" Type="http://schemas.openxmlformats.org/officeDocument/2006/relationships/hyperlink" Target="http://www.free-lance.ru/users/delinta/?f=2&amp;stamp=38207" TargetMode="External"/><Relationship Id="rId45" Type="http://schemas.openxmlformats.org/officeDocument/2006/relationships/hyperlink" Target="http://www.free-lance.ru/users/delinta/?f=2&amp;stamp=38207" TargetMode="External"/><Relationship Id="rId46" Type="http://schemas.openxmlformats.org/officeDocument/2006/relationships/hyperlink" Target="http://neo-news.ucoz.ru/publ/15-1-0-417" TargetMode="External"/><Relationship Id="rId47" Type="http://schemas.openxmlformats.org/officeDocument/2006/relationships/hyperlink" Target="http://neo-news.ucoz.ru/publ/15-1-0-417" TargetMode="External"/><Relationship Id="rId48" Type="http://schemas.openxmlformats.org/officeDocument/2006/relationships/hyperlink" Target="http://neo-news.ucoz.ru/publ/15-1-0-417" TargetMode="External"/><Relationship Id="rId49" Type="http://schemas.openxmlformats.org/officeDocument/2006/relationships/hyperlink" Target="http://neo-news.ucoz.ru/publ/15-1-0-417" TargetMode="External"/><Relationship Id="rId50" Type="http://schemas.openxmlformats.org/officeDocument/2006/relationships/hyperlink" Target="http://neo-news.ucoz.ru/publ/15-1-0-417" TargetMode="External"/><Relationship Id="rId51" Type="http://schemas.openxmlformats.org/officeDocument/2006/relationships/hyperlink" Target="http://neo-news.ucoz.ru/publ/15-1-0-417" TargetMode="External"/><Relationship Id="rId52" Type="http://schemas.openxmlformats.org/officeDocument/2006/relationships/hyperlink" Target="http://forum-ok.ru/?p=3440" TargetMode="External"/><Relationship Id="rId53" Type="http://schemas.openxmlformats.org/officeDocument/2006/relationships/hyperlink" Target="http://forum-ok.ru/?p=3440" TargetMode="External"/><Relationship Id="rId54" Type="http://schemas.openxmlformats.org/officeDocument/2006/relationships/hyperlink" Target="http://forum-ok.ru/?p=3440" TargetMode="External"/><Relationship Id="rId55" Type="http://schemas.openxmlformats.org/officeDocument/2006/relationships/hyperlink" Target="http://forum-ok.ru/?p=3440" TargetMode="External"/><Relationship Id="rId56" Type="http://schemas.openxmlformats.org/officeDocument/2006/relationships/hyperlink" Target="http://www.superpushka.ru/shop/knife_victorinox/2702.html" TargetMode="External"/><Relationship Id="rId57" Type="http://schemas.openxmlformats.org/officeDocument/2006/relationships/hyperlink" Target="http://www.superpushka.ru/shop/knife_victorinox/2702.html" TargetMode="External"/><Relationship Id="rId58" Type="http://schemas.openxmlformats.org/officeDocument/2006/relationships/hyperlink" Target="http://www.superpushka.ru/shop/knife_victorinox/2702.html" TargetMode="External"/><Relationship Id="rId59" Type="http://schemas.openxmlformats.org/officeDocument/2006/relationships/hyperlink" Target="http://www.superpushka.ru/shop/knife_victorinox/2702.html" TargetMode="External"/><Relationship Id="rId60" Type="http://schemas.openxmlformats.org/officeDocument/2006/relationships/hyperlink" Target="http://www.superpushka.ru/shop/knife_victorinox/2702.html" TargetMode="External"/><Relationship Id="rId61" Type="http://schemas.openxmlformats.org/officeDocument/2006/relationships/hyperlink" Target="http://www.superpushka.ru/shop/knife_victorinox/2702.html" TargetMode="External"/><Relationship Id="rId62" Type="http://schemas.openxmlformats.org/officeDocument/2006/relationships/hyperlink" Target="http://www.superpushka.ru/shop/knife_victorinox/2702.html" TargetMode="External"/><Relationship Id="rId63" Type="http://schemas.openxmlformats.org/officeDocument/2006/relationships/hyperlink" Target="http://www.superpushka.ru/shop/knife_victorinox/2702.html" TargetMode="External"/><Relationship Id="rId64" Type="http://schemas.openxmlformats.org/officeDocument/2006/relationships/hyperlink" Target="http://www.oniksbeta.lv/oniks/index.php" TargetMode="External"/><Relationship Id="rId65" Type="http://schemas.openxmlformats.org/officeDocument/2006/relationships/hyperlink" Target="http://www.oniksbeta.lv/oniks/index.php" TargetMode="External"/><Relationship Id="rId66" Type="http://schemas.openxmlformats.org/officeDocument/2006/relationships/hyperlink" Target="http://www.oniksbeta.lv/oniks/index.php" TargetMode="External"/><Relationship Id="rId67" Type="http://schemas.openxmlformats.org/officeDocument/2006/relationships/hyperlink" Target="http://www.oniksbeta.lv/oniks/index.php" TargetMode="External"/><Relationship Id="rId68" Type="http://schemas.openxmlformats.org/officeDocument/2006/relationships/hyperlink" Target="http://www.oniksbeta.lv/oniks/index.php" TargetMode="External"/><Relationship Id="rId69" Type="http://schemas.openxmlformats.org/officeDocument/2006/relationships/hyperlink" Target="http://www.oniksbeta.lv/oniks/index.php" TargetMode="External"/><Relationship Id="rId70" Type="http://schemas.openxmlformats.org/officeDocument/2006/relationships/hyperlink" Target="http://www.oniksbeta.lv/oniks/index.php" TargetMode="External"/><Relationship Id="rId7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20.jpeg"/><Relationship Id="rId6" Type="http://schemas.openxmlformats.org/officeDocument/2006/relationships/image" Target="../media/image22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1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80000" y="2391840"/>
            <a:ext cx="49068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суди с сосед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 парте правила гигиены на стр. 11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2944800" cy="38876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Отгадайте загад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гда мы еди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ни работ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гда не еди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ни отдых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будем их чистить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ни заболе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08720" y="1484280"/>
            <a:ext cx="2857320" cy="4286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96800" y="530064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Зу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Как сохранить зубы здоровы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5688000" cy="33084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5229360"/>
            <a:ext cx="845964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6400"/>
                </a:solidFill>
                <a:latin typeface="Comic Sans MS"/>
              </a:rPr>
              <a:t>Чисти зубы 2 раза в д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64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416400"/>
                </a:solidFill>
                <a:latin typeface="Comic Sans MS"/>
              </a:rPr>
              <a:t>утром и веч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1800" y="5229360"/>
            <a:ext cx="736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6400"/>
                </a:solidFill>
                <a:latin typeface="Comic Sans MS"/>
              </a:rPr>
              <a:t>После еды всегда прополощите 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6400"/>
                </a:solidFill>
                <a:latin typeface="Comic Sans MS"/>
              </a:rPr>
              <a:t>кипячёной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80880" y="5300640"/>
            <a:ext cx="674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6400"/>
                </a:solidFill>
                <a:latin typeface="Comic Sans MS"/>
              </a:rPr>
              <a:t>Не грызите зубами сахар, оре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6400"/>
                </a:solidFill>
                <a:latin typeface="Comic Sans MS"/>
              </a:rPr>
              <a:t>твёрдые конф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4120" y="4941720"/>
            <a:ext cx="772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6400"/>
                </a:solidFill>
                <a:latin typeface="Comic Sans MS"/>
              </a:rPr>
              <a:t>После горячей пищи не пейте сра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6400"/>
                </a:solidFill>
                <a:latin typeface="Comic Sans MS"/>
              </a:rPr>
              <a:t>холодную воду и наоборот, иначе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6400"/>
                </a:solidFill>
                <a:latin typeface="Comic Sans MS"/>
              </a:rPr>
              <a:t>зубах появятся трещ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95920" y="5300640"/>
            <a:ext cx="651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6400"/>
                </a:solidFill>
                <a:latin typeface="Comic Sans MS"/>
              </a:rPr>
              <a:t>Не ковыряйте в зубах остры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6400"/>
                </a:solidFill>
                <a:latin typeface="Comic Sans MS"/>
              </a:rPr>
              <a:t>предме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67760" y="5229360"/>
            <a:ext cx="733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6400"/>
                </a:solidFill>
                <a:latin typeface="Comic Sans MS"/>
              </a:rPr>
              <a:t>Не менее 2-ух раз в год проверя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6400"/>
                </a:solidFill>
                <a:latin typeface="Comic Sans MS"/>
              </a:rPr>
              <a:t>состояние зубов у вра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195640" y="1268280"/>
            <a:ext cx="4751280" cy="371808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  <p:grpSp>
        <p:nvGrpSpPr>
          <p:cNvPr id="122" name=""/>
          <p:cNvGrpSpPr/>
          <p:nvPr/>
        </p:nvGrpSpPr>
        <p:grpSpPr>
          <a:xfrm>
            <a:off x="1332000" y="1844640"/>
            <a:ext cx="6350040" cy="2976480"/>
            <a:chOff x="1332000" y="1844640"/>
            <a:chExt cx="6350040" cy="2976480"/>
          </a:xfrm>
        </p:grpSpPr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1332000" y="1844640"/>
              <a:ext cx="3816360" cy="29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5003640" y="1844640"/>
              <a:ext cx="2678400" cy="295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1619280" y="1413000"/>
            <a:ext cx="5794200" cy="3240000"/>
            <a:chOff x="1619280" y="1413000"/>
            <a:chExt cx="5794200" cy="3240000"/>
          </a:xfrm>
        </p:grpSpPr>
        <p:pic>
          <p:nvPicPr>
            <p:cNvPr id="126" name="" descr=""/>
            <p:cNvPicPr/>
            <p:nvPr/>
          </p:nvPicPr>
          <p:blipFill>
            <a:blip r:embed="rId6"/>
            <a:stretch/>
          </p:blipFill>
          <p:spPr>
            <a:xfrm>
              <a:off x="1619280" y="1413000"/>
              <a:ext cx="2955960" cy="32400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27" name="" descr=""/>
            <p:cNvPicPr/>
            <p:nvPr/>
          </p:nvPicPr>
          <p:blipFill>
            <a:blip r:embed="rId7"/>
            <a:stretch/>
          </p:blipFill>
          <p:spPr>
            <a:xfrm>
              <a:off x="5292720" y="1413000"/>
              <a:ext cx="2120760" cy="3240000"/>
            </a:xfrm>
            <a:prstGeom prst="rect">
              <a:avLst/>
            </a:prstGeom>
            <a:ln w="38160">
              <a:solidFill>
                <a:srgbClr val="bbe0e3"/>
              </a:solidFill>
              <a:miter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611280" y="1699920"/>
            <a:ext cx="7929360" cy="3439440"/>
            <a:chOff x="611280" y="1699920"/>
            <a:chExt cx="7929360" cy="3439440"/>
          </a:xfrm>
        </p:grpSpPr>
        <p:pic>
          <p:nvPicPr>
            <p:cNvPr id="129" name="" descr=""/>
            <p:cNvPicPr/>
            <p:nvPr/>
          </p:nvPicPr>
          <p:blipFill>
            <a:blip r:embed="rId8"/>
            <a:stretch/>
          </p:blipFill>
          <p:spPr>
            <a:xfrm>
              <a:off x="611280" y="1773360"/>
              <a:ext cx="2970000" cy="26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9"/>
            <a:stretch/>
          </p:blipFill>
          <p:spPr>
            <a:xfrm rot="3349200">
              <a:off x="6328080" y="3329640"/>
              <a:ext cx="223200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4427640" y="1699920"/>
              <a:ext cx="172872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1"/>
            <a:stretch/>
          </p:blipFill>
          <p:spPr>
            <a:xfrm>
              <a:off x="4643280" y="2997360"/>
              <a:ext cx="1463760" cy="15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2"/>
            <a:stretch/>
          </p:blipFill>
          <p:spPr>
            <a:xfrm>
              <a:off x="6300720" y="1700280"/>
              <a:ext cx="2205000" cy="1162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2484360" y="1341360"/>
            <a:ext cx="4416480" cy="3470400"/>
          </a:xfrm>
          <a:prstGeom prst="rect">
            <a:avLst/>
          </a:prstGeom>
          <a:ln w="38160">
            <a:solidFill>
              <a:srgbClr val="ff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ак правильно чистить зуб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505152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6400"/>
                </a:solidFill>
                <a:latin typeface="Comic Sans MS"/>
              </a:rPr>
              <a:t>Верхние зубы надо чистить движ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6400"/>
                </a:solidFill>
                <a:latin typeface="Comic Sans MS"/>
              </a:rPr>
              <a:t>сверху вниз, нижние – снизу ввер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8360" y="1449360"/>
            <a:ext cx="8136000" cy="2984400"/>
            <a:chOff x="468360" y="1449360"/>
            <a:chExt cx="8136000" cy="2984400"/>
          </a:xfrm>
        </p:grpSpPr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468360" y="1484280"/>
              <a:ext cx="3887640" cy="29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4643280" y="1449360"/>
              <a:ext cx="3961080" cy="296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335520" y="4581360"/>
            <a:ext cx="8620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6400"/>
                </a:solidFill>
                <a:latin typeface="Comic Sans MS"/>
              </a:rPr>
              <a:t>Чистить зубы надо не только с наруж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6400"/>
                </a:solidFill>
                <a:latin typeface="Comic Sans MS"/>
              </a:rPr>
              <a:t>но и с внутренней стороны. Жеватель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6400"/>
                </a:solidFill>
                <a:latin typeface="Comic Sans MS"/>
              </a:rPr>
              <a:t>поверхность зубов лучше чист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6400"/>
                </a:solidFill>
                <a:latin typeface="Comic Sans MS"/>
              </a:rPr>
              <a:t>круговыми движ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68360" y="1484280"/>
            <a:ext cx="8207280" cy="2965320"/>
            <a:chOff x="468360" y="1484280"/>
            <a:chExt cx="8207280" cy="2965320"/>
          </a:xfrm>
        </p:grpSpPr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468360" y="1484280"/>
              <a:ext cx="3959280" cy="29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4643280" y="1484280"/>
              <a:ext cx="4032360" cy="295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Что значит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«правильное пита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16400"/>
                </a:solidFill>
                <a:latin typeface="Comic Sans MS"/>
              </a:rPr>
              <a:t>Правильное питание – это разнообразное питание. Для жизни человеку необходимы питательные вещества, которые находятся в разных продуктах 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627280" y="1700280"/>
            <a:ext cx="3456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80000" y="2391840"/>
            <a:ext cx="49068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полни с сосед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 парт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стр. 12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2944800" cy="38876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26920" y="287280"/>
            <a:ext cx="7377120" cy="6399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90840" y="981000"/>
            <a:ext cx="499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А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И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Л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Ь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Н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86960" y="1581120"/>
            <a:ext cx="493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Наши помощники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в сохранении здоров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2349360"/>
            <a:ext cx="3097080" cy="93672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5516640"/>
            <a:ext cx="4896000" cy="93492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3933720"/>
            <a:ext cx="4032360" cy="93672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38720" y="2492280"/>
            <a:ext cx="23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ежим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400" y="5661000"/>
            <a:ext cx="446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72960" y="4076640"/>
            <a:ext cx="33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ичная гиги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796000" y="5013360"/>
            <a:ext cx="2809800" cy="1652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012000" y="3429000"/>
            <a:ext cx="2066760" cy="1631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940360" y="1557360"/>
            <a:ext cx="2309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ed-isida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tomatology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ygien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ersonal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</a:rPr>
              <a:t>://www.xn--80amkeaq.net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</a:rPr>
              <a:t>photoscard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</a:rPr>
              <a:t>/insert231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zone-x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showTov.asp?FND=&amp;Cat_id=6926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my-shop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sho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producer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/252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www.freshmemory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catalo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/index.php?SECTION_ID=98&amp;ELEMENT_ID=6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school-kid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wsh.mybb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/viewtopic.php?id=1540&amp;p=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www.photoshopstar.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effect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fantastic-glowing-effec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www.kids-price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/dzhemper_ddk366001n_solnechnaya_dolina_biryuza_557403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www.weblancer.ne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user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beluz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portfolio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/516548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forum.smallgames.w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/index.php?showtopic=18149&amp;pid=192954&amp;st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://900igr.net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photo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predmety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9"/>
              </a:rPr>
              <a:t>/Predmety-10.files/018-Zubnaja-schjotk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0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1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2"/>
              </a:rPr>
              <a:t>www.v-sp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3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4"/>
              </a:rPr>
              <a:t>sho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5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6"/>
              </a:rPr>
              <a:t>category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7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8"/>
              </a:rPr>
              <a:t>bytovaja-himij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9"/>
              </a:rPr>
              <a:t>/offset80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0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1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2"/>
              </a:rPr>
              <a:t>nn-sp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3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4"/>
              </a:rPr>
              <a:t>as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5"/>
              </a:rPr>
              <a:t>/sbor.php?page=7&amp;brend_id=1358&amp;brend=Наша+мам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6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7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8"/>
              </a:rPr>
              <a:t>www.dava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9"/>
              </a:rPr>
              <a:t>/index.php?cPath=227_388_390_391&amp;page=1&amp;sort=4a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0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1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2"/>
              </a:rPr>
              <a:t>www.deltashop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3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4"/>
              </a:rPr>
              <a:t>ka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5"/>
              </a:rPr>
              <a:t>/g3697-1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6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7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8"/>
              </a:rPr>
              <a:t>www.leksad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9"/>
              </a:rPr>
              <a:t>/imixmar-1000817-2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uznayvse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auka-i-tehnologii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?limit=23&amp;limitstart=2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mixdom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vcd-227-3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catalog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stomat-butovo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otbelzub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moneytimes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encyclopedi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/111/12425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://www.med2.ru/story.php?id=8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www.everlive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all-about-walnut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community.livejournal.co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diagnostikarmy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/5890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www.free-lance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user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delint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/?f=2&amp;stamp=3820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neo-news.ucoz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publ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/15-1-0-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forum-ok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/?p=34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www.superpushka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sho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knife_victorinox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/27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www.oniksbeta.lv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onik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0"/>
              </a:rPr>
              <a:t>index.ph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lipartof.com/interior_wall_decor/details/Tooth-Character-Nurse-Using-A-Pointer-Stick-Poster-Art-Print-2205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ua.all-biz.info/buy/service/?group=4986&amp;city=3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tweeline.ru/advice/health/pravilnoe-pitanie-dolzhno-byt-vkus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kakest.com/sostav-produktov/53-pishha-dolzhna-byt-sbalansirovan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biosvet.com.ua/gazet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alternativa-mc.ru/person-gigie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абота в па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458136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436400"/>
                </a:solidFill>
                <a:latin typeface="Comic Sans MS"/>
              </a:rPr>
              <a:t>Что надо делать для того, чтобы сохранить своё здоровье на долгие г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08000" y="1341360"/>
            <a:ext cx="504036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16400"/>
                </a:solidFill>
                <a:latin typeface="Monotype Corsiva"/>
              </a:rPr>
              <a:t>Панова Оксана Владими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16400"/>
                </a:solidFill>
                <a:latin typeface="Monotype Corsiva"/>
              </a:rPr>
              <a:t>учитель начальных класс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16400"/>
                </a:solidFill>
                <a:latin typeface="Monotype Corsiva"/>
              </a:rPr>
              <a:t>МАОУ «Гимназия №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16400"/>
                </a:solidFill>
                <a:latin typeface="Monotype Corsiva"/>
              </a:rPr>
              <a:t>г. Великого Новг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Персональный сай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http://www.panowa-ox.narod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ежим дн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505260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4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436400"/>
                </a:solidFill>
                <a:latin typeface="Comic Sans MS"/>
              </a:rPr>
              <a:t>Режим дня – это распорядок дел, действий, которые вы совершаете в течени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4704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Расскажи о своём режиме дн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763640" y="1197000"/>
            <a:ext cx="5545080" cy="5361120"/>
            <a:chOff x="1763640" y="1197000"/>
            <a:chExt cx="5545080" cy="536112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1763640" y="1197000"/>
              <a:ext cx="5545080" cy="536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801440" y="1266120"/>
              <a:ext cx="5436000" cy="5258880"/>
            </a:xfrm>
            <a:prstGeom prst="ellipse">
              <a:avLst/>
            </a:prstGeom>
            <a:noFill/>
            <a:ln w="57240">
              <a:solidFill>
                <a:srgbClr val="436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сутки вы должны сп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менее 8-9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ушать надо примерно в од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то же время 4-5 раз в день, но никак не реже 3-ёх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водить на свежем воздухе не меньше 2-ух часов в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ередовать учёбу или работу с отдых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больше двига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 flipH="1">
            <a:off x="6372360" y="549360"/>
            <a:ext cx="19620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  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Личная гигие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122800"/>
            <a:ext cx="822960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то правила, выполнение которых поможет не болеть и укрепить своё здоров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518472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1374840" cy="1144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51280" y="907920"/>
            <a:ext cx="1627200" cy="2952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694240" y="358920"/>
            <a:ext cx="459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Личная гиги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1195560"/>
            <a:ext cx="2952720" cy="72072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игиена ко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3645000"/>
            <a:ext cx="2952720" cy="720720"/>
          </a:xfrm>
          <a:prstGeom prst="ellipse">
            <a:avLst/>
          </a:prstGeom>
          <a:solidFill>
            <a:srgbClr val="99ff66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игиена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3645000"/>
            <a:ext cx="2952720" cy="720720"/>
          </a:xfrm>
          <a:prstGeom prst="ellipse">
            <a:avLst/>
          </a:prstGeom>
          <a:solidFill>
            <a:srgbClr val="6699ff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игиена одеж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4292640"/>
            <a:ext cx="2879640" cy="7920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игиена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042920" y="4797360"/>
            <a:ext cx="1206720" cy="1368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732720" y="20606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588000" y="4724280"/>
            <a:ext cx="1541520" cy="1446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356000" y="5300640"/>
            <a:ext cx="730440" cy="1224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1197000"/>
            <a:ext cx="2952720" cy="7192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игиена жилищ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276720" y="1628640"/>
            <a:ext cx="720720" cy="4320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292720" y="1628640"/>
            <a:ext cx="574560" cy="4320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276360" y="3500280"/>
            <a:ext cx="718920" cy="43344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19640" y="3500280"/>
            <a:ext cx="647640" cy="43344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16360" y="3789360"/>
            <a:ext cx="0" cy="50328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060640"/>
            <a:ext cx="1513080" cy="144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4797360"/>
            <a:ext cx="1513080" cy="144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5157720"/>
            <a:ext cx="1512720" cy="144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8000" y="2060640"/>
            <a:ext cx="1513080" cy="144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4724280"/>
            <a:ext cx="1513080" cy="144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968720"/>
            <a:ext cx="82296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6400"/>
                </a:solidFill>
                <a:latin typeface="Comic Sans MS"/>
              </a:rPr>
              <a:t>Какие предметы у каждого человека должны быть личными, а какими могут пользоваться все члены семь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68360" y="549360"/>
            <a:ext cx="8262720" cy="4591080"/>
            <a:chOff x="468360" y="549360"/>
            <a:chExt cx="8262720" cy="459108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5003640" y="549360"/>
              <a:ext cx="2094120" cy="17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684360" y="620640"/>
              <a:ext cx="176364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2771640" y="620640"/>
              <a:ext cx="2160720" cy="101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7308720" y="620640"/>
              <a:ext cx="1108080" cy="20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tretch/>
          </p:blipFill>
          <p:spPr>
            <a:xfrm>
              <a:off x="468360" y="2421000"/>
              <a:ext cx="884160" cy="20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7"/>
            <a:stretch/>
          </p:blipFill>
          <p:spPr>
            <a:xfrm>
              <a:off x="2124000" y="2421000"/>
              <a:ext cx="1303560" cy="21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8"/>
            <a:stretch/>
          </p:blipFill>
          <p:spPr>
            <a:xfrm>
              <a:off x="3708360" y="2421000"/>
              <a:ext cx="1513080" cy="23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9"/>
            <a:stretch/>
          </p:blipFill>
          <p:spPr>
            <a:xfrm>
              <a:off x="5435640" y="2565360"/>
              <a:ext cx="1689120" cy="16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10"/>
            <a:stretch/>
          </p:blipFill>
          <p:spPr>
            <a:xfrm>
              <a:off x="6732720" y="3141720"/>
              <a:ext cx="1998360" cy="199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95280" y="1341360"/>
            <a:ext cx="3419640" cy="5159520"/>
            <a:chOff x="395280" y="1341360"/>
            <a:chExt cx="3419640" cy="515952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547640" y="4724280"/>
              <a:ext cx="2094120" cy="17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2050920" y="2133720"/>
              <a:ext cx="176400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611280" y="3716280"/>
              <a:ext cx="2160360" cy="101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5"/>
            <a:stretch/>
          </p:blipFill>
          <p:spPr>
            <a:xfrm>
              <a:off x="395280" y="1341360"/>
              <a:ext cx="1512720" cy="233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5364000" y="1268280"/>
            <a:ext cx="3345120" cy="5021280"/>
            <a:chOff x="5364000" y="1268280"/>
            <a:chExt cx="3345120" cy="5021280"/>
          </a:xfrm>
        </p:grpSpPr>
        <p:pic>
          <p:nvPicPr>
            <p:cNvPr id="98" name="" descr=""/>
            <p:cNvPicPr/>
            <p:nvPr/>
          </p:nvPicPr>
          <p:blipFill>
            <a:blip r:embed="rId6"/>
            <a:stretch/>
          </p:blipFill>
          <p:spPr>
            <a:xfrm>
              <a:off x="6516720" y="4508640"/>
              <a:ext cx="1781280" cy="178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5364000" y="4149720"/>
              <a:ext cx="884520" cy="20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8"/>
            <a:stretch/>
          </p:blipFill>
          <p:spPr>
            <a:xfrm>
              <a:off x="5364000" y="1557360"/>
              <a:ext cx="1303560" cy="21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9"/>
            <a:stretch/>
          </p:blipFill>
          <p:spPr>
            <a:xfrm>
              <a:off x="7020000" y="2852640"/>
              <a:ext cx="1689120" cy="16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0"/>
            <a:stretch/>
          </p:blipFill>
          <p:spPr>
            <a:xfrm>
              <a:off x="6877080" y="1268280"/>
              <a:ext cx="1108080" cy="207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1591200" y="54936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Ли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03560" y="549360"/>
            <a:ext cx="22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Для сем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333360"/>
            <a:ext cx="71280" cy="633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3:11:35Z</dcterms:created>
  <dc:creator>мама</dc:creator>
  <dc:description/>
  <dc:language>en-US</dc:language>
  <cp:lastModifiedBy>мама</cp:lastModifiedBy>
  <dcterms:modified xsi:type="dcterms:W3CDTF">2011-01-10T12:20:41Z</dcterms:modified>
  <cp:revision>11</cp:revision>
  <dc:subject/>
  <dc:title>Слайд 1</dc:title>
</cp:coreProperties>
</file>