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020-C003-43D4-BC7D-E3365A07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A9D-C7AC-47E3-9BEE-F23A0FB8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5A1-AE57-4A9F-A041-E2E3C836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55F-42A9-448A-AC0E-6E4B74F8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90F8-8A2E-4E4B-B9BE-B4A75650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9B74-3AD8-4CB9-A005-AAFC9CD0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0D86-AE30-4B9F-B9BE-34C366BE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931B-8BF1-43AC-8375-CA4F002B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5AE3-90F6-4990-AC08-1B5A949F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5508-3D1C-4CDE-9061-8D5D24F2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F010-AA2C-4617-830A-3A089467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2C8-1D0B-4FD2-8095-4F085CEB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D1B6-A502-4A2C-9144-0A4486B3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8D72-A92B-49B9-AC71-37A7244A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EE58-ED35-493C-A974-1F672535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7AA3-BD4D-46BE-B544-704D98D3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42D5-58C1-419B-88AB-28154F44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38E-8A46-4B32-A6ED-440D4ADB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D07-3624-4E10-A9F8-C092E3BD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34C-B64F-4ACA-9235-CEBEDAFC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236-CA89-4653-8947-947258F0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5A1-FB82-426F-BD9F-E3523AEA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F5B-09EF-499A-8EC0-37F2D71A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B45-0FB6-4524-B247-6F4113E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218E-684C-4AB3-A465-FF8922F3ED72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CE62-FAE7-4E9E-80AD-7303E64F6B4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6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Муниципальное бюджетное дошкольное образовательно учреждение</a:t>
            </a:r>
            <a:br>
              <a:rPr sz="1400"/>
            </a:b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центр развития ребенка детский сад №63 «Машенька»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Центр развития ребенка детский сад № 63 «Машенька» </a:t>
            </a: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«Бабушка - Загадушка»</a:t>
            </a:r>
            <a:br>
              <a:rPr sz="2800"/>
            </a:br>
            <a:br>
              <a:rPr sz="28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Автор: Винокурова Н.А.</a:t>
            </a:r>
            <a:br>
              <a:rPr sz="1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воспитатель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Старый Оскол 2011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то разбил яичко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895480" cy="2133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114800" y="137160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114800" y="39625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3320" y="3922560"/>
            <a:ext cx="2924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Бабушка – Загадуш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3962520" cy="327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гадка - метафорическое выражение, в котором один предмет изображается через посредство другого, имеющего с ним хотя бы отдаленное сходство. В древности загадка - средство испытания мудрости, теперь - народная заба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ого первого встретил на своем пути колобок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200400" cy="2103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3124440" cy="2141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79520" y="3922560"/>
            <a:ext cx="3182760" cy="2173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249800" y="3922560"/>
            <a:ext cx="31827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то помог вытащить репку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29000" cy="2133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249800" y="1598760"/>
            <a:ext cx="3181320" cy="2171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249800" y="3922560"/>
            <a:ext cx="3182760" cy="2173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57200" y="3922560"/>
            <a:ext cx="33526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то снес яичко Бабушке и Дедушке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80960" y="1598760"/>
            <a:ext cx="3181320" cy="21715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2895480" cy="2133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114800" y="4038480"/>
            <a:ext cx="2895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то съел Колобка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80960" y="1598760"/>
            <a:ext cx="3181320" cy="2171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3276720" cy="2057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114800" y="4114800"/>
            <a:ext cx="3317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то сломал теремок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249800" y="1598760"/>
            <a:ext cx="3181320" cy="2171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267080" y="403848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3200400" cy="2057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09480" y="4038480"/>
            <a:ext cx="3124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Кто выгнал лису из заюшкиной избушки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2895480" cy="2133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3353040" cy="2286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90480" y="1447920"/>
            <a:ext cx="32720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11-21T19:00:2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