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2DC-8D6E-41C3-93E6-3E08E0EC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ED3-68EF-40C7-A5EE-627C7FA5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425-9033-4777-986C-24BE7D48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A3D-C9D0-40A4-95DE-7EE51F62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BB5A-2144-4259-89B8-A5E4477C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8BBC-EFF5-4431-A433-D93F8D3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EBC-D246-46F3-A163-2AF218F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491A-C72C-46D7-B8BA-E755CEA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6B8-D388-4BEB-90A5-4873AEFF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486-E623-4502-ACA0-8D2A13E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FBBD-7DC2-4D08-A2A2-231539E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EB4-2869-4890-9101-4B6D89A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0B89-2A42-42A4-AC6B-FA21D26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4AE-BB9B-42C1-BC4E-72B501E9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842E-4D7A-4764-AB59-F761C367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CFC-BC79-4B06-9596-A1D87F6A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40E-DD13-46C4-B658-BE621F47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42C-08C8-47A0-B411-EFFBA29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1EC-878A-46DC-AC9F-D5C281D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661-69BC-4265-BF2C-1F869C3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FFA-07EB-40CB-9722-C0CEC5A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AD2-6A73-4A4C-A650-46B79BD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7E1-4481-4792-ADED-D82C8D8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C85-98DC-4EEE-B823-993E3E6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61A-15B8-49A4-9FF9-E87EC0DB261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BFC-7079-4915-BB0A-D189D419EB7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Муниципальное бюджетное дошкольное образовательно учреждение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ентр развития ребенка детский сад №63 «Машенька»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Центр развития ребенка детский сад № 63 «Машенька» 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«Бабушка - Загадушка»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Автор: Винокурова Н.А.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воспитатель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Старый Оскол 2011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разбил яичко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3320" y="3922560"/>
            <a:ext cx="2924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Бабушка – Загадуш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3962520" cy="32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гадка - метафорическое выражение, в котором один предмет изображается через посредство другого, имеющего с ним хотя бы отдаленное сходство. В древности загадка - средство испытания мудрости, теперь - народная заба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ого первого встретил на своем пути колобок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200400" cy="2103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124440" cy="2141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9520" y="3922560"/>
            <a:ext cx="3182760" cy="2173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249800" y="3922560"/>
            <a:ext cx="3182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помог вытащить репку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24980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249800" y="3922560"/>
            <a:ext cx="3182760" cy="2173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57200" y="3922560"/>
            <a:ext cx="33526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нес яичко Бабушке и Дедушк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096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114800" y="4038480"/>
            <a:ext cx="2895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ъел Колобка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096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3317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ломал теремок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4980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200400" cy="2057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09480" y="4038480"/>
            <a:ext cx="312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Кто выгнал лису из заюшкиной избушки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90480" y="1447920"/>
            <a:ext cx="3272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1T19:00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