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B60-2453-436B-BECB-2C7A6363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D3B-0952-4FF4-A82C-7FDB605E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65D-E11C-431E-B1E0-817E8B16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ACF-8A5A-4196-B94A-7106958B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962E6-0B0C-4A3A-9876-A314D441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74CE-8062-44D0-8D65-D8966959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E721F-23A1-4FFF-B463-5ADCE90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E8BD-9315-4537-8D6D-1DF1C154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99089-880B-4CCC-8E92-0AC84FEE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3E8C-42D0-43D8-A15F-9DD21C98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CD305-C30F-40EC-85AA-6FA5FEA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B3F-B654-4B8E-A952-BC12D9C8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82270-02B9-4B01-BA1D-C3AF259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05F0A-0E46-4632-914B-4B76FB2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1672-8348-4B8F-BDA2-39D396D2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A5643-E4B0-418E-BA5B-48948848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E056-2F36-4829-B0A4-9F07A748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34D-1BC6-4AC0-B9B5-63CE311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326-7A02-4C10-A525-AF9195E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842-62E1-4B6A-A9A8-F403F7C6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AE7-0FE2-4ACB-8BC3-D82202E0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607-12F3-4875-9E4A-DD09D22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7D0-7B62-46EE-82C8-3241A42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628-7971-45FF-8655-21CCE42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5CC-C223-4323-81E4-658BE72E8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5980-D330-4D11-B14C-D9FD99D93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Древнейшая Греция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Греки и Критян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Тесей и Минотав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сей воспользовался советом Ариад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центре лабиринта он нашел Минотавра и тяжелой схватке победил 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201924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озвращение домо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победы над чудовищем, Тесей, Ариадна и афинские девушки и юноши отправились в обратный пу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Тесей забыл о поручении своего отца заменить пар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гей, увидев на горизонте корабль с черным парусом и решив, что Тесей погиб, бросился со скалы в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Эгейское мор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00200" y="1174680"/>
            <a:ext cx="5486400" cy="375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5029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ди прозвали это море Эгейским в память о ц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584280"/>
            <a:ext cx="83818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Дедал и Ик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лену у царя Миноса со своим сыном Икаром был мастер Дедал, который создал лабири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нос очень рассердился, т.к. Дедал дал совет Ариадне как спасти Тес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7040" y="1981080"/>
            <a:ext cx="375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спастись Дедал решил сделать крылья из перьев и во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 удалось сбежать с острова, но Икар ослушался отца, Дедал говорил, чтобы он не приближался к воде и к солн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35049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Гибель Икар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кар полетел навстречу Солнцу, но от жара воск на крыльях растаял и перья разлетелис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248616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носский двор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трове Крит был древний город Кно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еологи нашли его остатки и полуразрушенный дворец, который очень похож на лабири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2880" y="1905120"/>
            <a:ext cx="386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601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19076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 дворце не было окон, свет попадал через отверстия в крыше – световые колод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утри дворца стены были распис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рисунках изображались рыбы, морские животные и состязания с бы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Балканский полуостр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463760"/>
            <a:ext cx="71625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51444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304920"/>
            <a:ext cx="5681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Извержение вулка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яне были опытными мореходами и торгов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 в 15 в. До н.э. Произошло извержение вулкана, и жители острова бежали в Грец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05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Древнегреческие го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ритория полуострова разделена горами, в результате чего города были независимы друг от др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ие города назывались – Поли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е крупные полисы Греции – Афины, Тиринф, Микены, Пил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Афины и остров Кри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2347920"/>
            <a:ext cx="4800600" cy="3130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гласно мифам, Афины были в зависимости от царя острова Крит – Мин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стров Кри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нак своего подчинения каждые девять лет 7 юношей и 7 девушек отсылались на остров Крит. Они отдавались в жертву чудовищу Минотав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370836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инотав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удовище с головой быка и телом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нотавр жил в центре лабиринта на острове Кр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278080"/>
            <a:ext cx="4038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сей – сын царя Афин Эг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Афинах правил царь Эг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пришла пора принести жертву, его сын Тесей вызвался отправиться на остров Крит и убить чудовищ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д отплытием отец просил Тесея в случае победы заменить черный парус на корабле белым, чтобы издали было видно, с какими вестями возвращается кораб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135000"/>
            <a:ext cx="6019560" cy="3611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ехав на остров Тесей объявил царю о своем замысле, но Минос лишь посмея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го дочь, царевна Ариадна была поражена красотой и отвагой Тесея и решила помочь е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Ариадна и путеводная нит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риадна, в тайне от отца принесла Тесею меч и клубок ни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а велела, чтобы конец нити Тесей привязал у входа в Лабиринт и тогда он сможет найти дорогу обра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886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7:2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