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6CC-A1FD-4D9A-9A52-ED71BBA3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19FD-6DDA-4162-AD1E-CE3A91B6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BC3C-EEA5-4888-AB8D-C97EF131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8B37-EE2B-444B-A246-401595D5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22C82-0E41-473D-ABD0-63A463CC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A0BBE-39B9-485A-886D-D16A3672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D252E-9E02-468C-B8A8-37F1BE1A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8ECC5-DFF3-439C-9B4D-1A974CB3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8BE62-2822-4F73-BE77-02AD6469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69CCF-B1C5-4EFE-9CB6-667FFEE0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7EE0A-00A3-4298-BCF2-7923AAC0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B86-9F6D-46D1-9C59-4E866FB5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B0CF4-0B3C-47C9-8ECD-9DD7F05B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D7417-22CE-47BF-99FA-97079DF8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ACC3A-7216-49BF-8473-44293A6A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38E10-29EB-4D4B-BDDF-7DD36F87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0D1C8-97F2-4B12-97F3-C74DC8B7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439-705C-4BF5-B4E6-B02847A9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3B55-5524-427A-BCE5-01666AFE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F7E8-5C14-47BB-825A-CE374A4D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89AD-D5EF-4CFE-8B7F-DE126952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B2C1-A1FD-420F-98EE-A5F3F509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FDE-DB6E-442F-8E00-0864B59D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8CC-C4D4-41CB-84DA-49E89E05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F7EE-8FE1-4F75-B321-F29573D4A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955E-92AB-458C-9D42-D44DAAB86C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Древнейшая Греция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Греки и Критян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Тесей и Минотав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сей воспользовался советом Ариад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центре лабиринта он нашел Минотавра и тяжелой схватке победил е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0880" y="2019240"/>
            <a:ext cx="40388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Возвращение домо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ле победы над чудовищем, Тесей, Ариадна и афинские девушки и юноши отправились в обратный пу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о Тесей забыл о поручении своего отца заменить пару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гей, увидев на горизонте корабль с черным парусом и решив, что Тесей погиб, бросился со скалы в мо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Эгейское мор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600200" y="1174680"/>
            <a:ext cx="5486400" cy="375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50292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юди прозвали это море Эгейским в память о ц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04920" y="584280"/>
            <a:ext cx="83818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Дедал и Ика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плену у царя Миноса со своим сыном Икаром был мастер Дедал, который создал лабири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инос очень рассердился, т.к. Дедал дал совет Ариадне как спасти Тесе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7040" y="1981080"/>
            <a:ext cx="375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48320" y="45720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ы спастись Дедал решил сделать крылья из перьев и вос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м удалось сбежать с острова, но Икар ослушался отца, Дедал говорил, чтобы он не приближался к воде и к солнц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350496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Гибель Икар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кар полетел навстречу Солнцу, но от жара воск на крыльях растаял и перья разлетелис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80880" y="2486160"/>
            <a:ext cx="4191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носский дворец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острове Крит был древний город Кно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хеологи нашли его остатки и полуразрушенный дворец, который очень похож на лабири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2880" y="1905120"/>
            <a:ext cx="386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601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4190760" cy="5715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48320" y="45720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 дворце не было окон, свет попадал через отверстия в крыше – световые колод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нутри дворца стены были распис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рисунках изображались рыбы, морские животные и состязания с бы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Балканский полуостров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1463760"/>
            <a:ext cx="716256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0880" y="514440"/>
            <a:ext cx="815364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47640" y="304920"/>
            <a:ext cx="56818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Извержение вулкан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итяне были опытными мореходами и торговц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о в 15 в. До н.э. Произошло извержение вулкана, и жители острова бежали в Грец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4005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Древнегреческие город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рритория полуострова разделена горами, в результате чего города были независимы друг от дру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кие города назывались – Поли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е крупные полисы Греции – Афины, Тиринф, Микены, Пило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Афины и остров Кри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2280" y="2347920"/>
            <a:ext cx="4800600" cy="3130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гласно мифам, Афины были в зависимости от царя острова Крит – Мино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Остров Кри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знак своего подчинения каждые девять лет 7 юношей и 7 девушек отсылались на остров Крит. Они отдавались в жертву чудовищу Минотавр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57400" y="3708360"/>
            <a:ext cx="44956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Минотавр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удовище с головой быка и телом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инотавр жил в центре лабиринта на острове Кр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2278080"/>
            <a:ext cx="40384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есей – сын царя Афин Эге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Афинах правил царь Эг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гда пришла пора принести жертву, его сын Тесей вызвался отправиться на остров Крит и убить чудовищ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ед отплытием отец просил Тесея в случае победы заменить черный парус на корабле белым, чтобы издали было видно, с какими вестями возвращается кораб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47920" y="135000"/>
            <a:ext cx="6019560" cy="3611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809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ехав на остров Тесей объявил царю о своем замысле, но Минос лишь посмеял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го дочь, царевна Ариадна была поражена красотой и отвагой Тесея и решила помочь е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Ариадна и путеводная нить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риадна, в тайне от отца принесла Тесею меч и клубок нит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а велела, чтобы конец нити Тесей привязал у входа в Лабиринт и тогда он сможет найти дорогу обрат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388620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9T17:20:1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