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DEC-71C7-46D3-88D0-7A5BC551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581-1B9A-455B-A799-30170A50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76396-A1A4-4A4B-AFDC-C1507895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42615-C59C-4A26-BBF2-AE832355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CE1D9-9A52-4E6A-8388-F9092E83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D3240-31BF-45F3-8D89-3534396C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DBB97-6EDE-4C99-8002-FE01AAA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1201F-0D64-4C57-804E-5AEAEF1E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D98C-40B7-47A5-A890-9AEB40E0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48E0A-D1EE-42F2-BA0C-3CE0A898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65C4E-07A6-42D8-8CC5-4F6E6C0F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03A-3960-4124-9D74-97364D9E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32C-0EE5-4146-B5B4-0D9BFE1C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A5C7-1F10-469A-8A3E-95AB17BB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5C38-B03C-483C-BBA8-930D09F6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185A-7F53-4511-AC39-09F24342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1C9-896D-4E69-B7D5-FD95C81A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30A9-8CE4-4C44-8BAA-DAFCC2C9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AE9C-A84F-4AD0-9933-B14D9BAE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C196-0D4A-4A3A-BF30-DD7F7E96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EFE-BC33-4558-9E3F-177BDDA1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CDE2-05B3-438A-9720-523AE532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245B-3FFB-4102-AD24-F0985BB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2AC7-CFB3-496E-A0FA-5EBF6CF9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C0DF-E9B7-4404-900E-72642346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B7F-87C9-4E55-9A44-38877FE1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A96C-3BCC-4FA9-9B77-7774B3D2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7EBF5-CD0A-4F54-A2C9-A69609C0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52456-177A-4295-8BDE-94E3C108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0795-8C84-4060-BEB0-8CBA7372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3713-857D-42B0-8183-092C2F72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569-E05E-4B2D-AC5A-FA31C715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172E-F6E2-40E6-AEFE-C2F31EF1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D12E-6CFE-479B-8EF1-C2923B7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4B42-16AA-42E1-8D12-2B10E87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2565-90D3-42E5-A989-B6DBBEB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2C59-E805-44E7-B781-4BE34D8B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0AB30-3C04-4EC0-8E97-595BF3F9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490D-4934-4D4B-814A-3BE3A1F5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9643-A248-4DE7-B2C5-C568C0A4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A882-0FA9-49B5-89F6-1A93329E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758C-4DA3-4B81-BB7F-31B1950C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DFA-3116-41AD-BFF6-47F89AD9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B4A3-28C5-4DCA-841B-4FD1690D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F074-6CFC-41EA-B223-A4280986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7EB0-C5B7-4CEA-A59D-C4951B62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7D5A-DF1C-4AB5-AA6E-39ACE19C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6D242-FFE5-4892-8C3A-5D56D7F9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0B05-2A72-4EAF-AF7C-203C9C5C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DC059-7F1F-466B-8AFF-DEBD6EB6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DB44-242B-4034-A3B9-6C31D1D1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9921-BBAF-416E-9DDB-74CF3A50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E61A-3755-4BCF-8742-B364B033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5E2-0976-43A4-9D1C-087A9353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70439-9430-4D85-92F4-19CAE2AF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28558-8322-4BF2-94B6-682F5FF6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91EA-FE06-42EC-895A-DF6F792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6A63-A50C-4B84-9B9A-2DA9503C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6FD06-E3C3-437E-ADEB-C970A7B2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623E2-2D39-4655-BBBF-ADC104DC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DA780-0430-44D9-8662-5DE69F4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EBBE1-1E93-49E7-8EB4-23AACD6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8E12-B961-4E38-8E69-7CD00801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C6B8-602D-4786-94B7-1FAF6099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E8A-D1FF-4E74-9A41-29B82802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F756-0E7A-44E0-9F35-AE741A01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AE2C0-874C-4E4C-B607-E9D6A8FA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B233E-57D3-467A-82CC-E7C16E31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2F66-BF54-4EFA-8942-1C959865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832C0-A760-4179-81C8-FAA03E20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608D8-D7F2-46C8-B5D0-7E322887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4DF0-4513-40F8-8B64-EFFFCC0E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E9CEF-3243-499A-9054-221F42F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1668-0981-4874-86BF-C450B97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BD10-95AA-4E4B-86BB-EA62E64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8AF-6E0E-4D83-B7D4-E7F63E8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E954E-4FFE-4E37-ACCC-E5241B1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9E5C7-9621-4F29-92CC-8E340371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4732-BF4C-4CA1-93BC-8623D505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0C517-3251-4713-8F3C-EA23D364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F3C65-A27B-4823-ACC8-6187114A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ABCCA-0CD7-465A-92B2-7A64C098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6CDE-4492-4D23-9C37-B2AE18BA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F465C-6535-4003-BCB4-D822CA8F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53493-620B-4984-96A1-7B0E4566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B192C-16DF-4D9D-B349-4464183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F66-1475-4B68-A922-772EE96C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E22D7-8661-48EB-A285-CFAE922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48F9-AEAC-4BDB-9E6F-BA86A54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11430-D0B0-4DA2-8E34-171CFF3B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37E19-B593-47EC-9078-278D3DB2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60F2-BDB3-41D0-A984-72ED53F1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8BD13-22CD-47CC-83AC-44DDA3F4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09D73-9CB8-453D-91DD-A6AC9A35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53009-3C88-4478-91AA-E3DF6D0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B22B4-954F-43A5-B215-7E74D9F4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DB1A-D6F4-4F84-B4FD-0221350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2D2-574C-4B4D-B4D7-1EB628E9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1BBAB-3276-4758-8AC1-BB9D99D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3DB57-49F5-4629-967D-212C43E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CB67A-8807-4C8E-A560-1EA33FB6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5F2B4-96CC-4742-B253-FFAD5BA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7C50E-6958-43CF-9FC2-86E8DB54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549F6-27FC-4225-A543-E623311E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3509B-3339-46C5-BA17-ACF85455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58227-2253-43B4-8AEC-CEEBC167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7F114-B001-47D4-A550-F49F4A7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1A02B-2124-47C5-B5FC-DAF70886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1621-049E-4CBA-9C3D-9A43E6BA94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76B9-6981-4BC0-A6D9-2583B80E2C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231C-EE76-4A8A-ABF6-422B09744B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9C79-0AEB-40B9-B898-88E41CE00C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2127-CAC3-498B-A9C4-C459B3369A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C459-A838-4266-896C-B43FC632ED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DFBF-E10A-4DF8-B6F8-3B0AC232F7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7840-455E-4736-ADE9-299523C2E8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939E-26B6-4242-B236-9F2770FEF9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Franklin Gothic Book"/>
              </a:rPr>
              <a:t>Курсовая работ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Franklin Gothic Book"/>
              </a:rPr>
              <a:t>«Использование современных образовательных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Franklin Gothic Book"/>
              </a:rPr>
              <a:t>технологий на уроках русского язык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Franklin Gothic Book"/>
              </a:rPr>
              <a:t>и литературы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Выполнил: Назарова Е.В.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учитель русского языка 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литературы МОУ «СОШ №15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.Березайка» Бологовского район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r">
              <a:lnSpc>
                <a:spcPct val="8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Franklin Gothic Book"/>
              </a:rPr>
              <a:t>По игровой среде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гры с предметами и без предме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настоль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комнат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улич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компьютерные и с ТС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86464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2060"/>
                </a:solidFill>
                <a:uFillTx/>
                <a:latin typeface="Franklin Gothic Book"/>
              </a:rPr>
              <a:t>Три основных принципа новой (компьютерной) информационной технологии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Franklin Gothic Book"/>
              </a:rPr>
              <a:t>интерактивный (диалоговый) режим работы с компьютером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Franklin Gothic Book"/>
              </a:rPr>
              <a:t>интегрированность с другими программными продуктами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Franklin Gothic Book"/>
              </a:rPr>
              <a:t>гибкость процесса изменения как данных, так и постановок задач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98440" y="285840"/>
            <a:ext cx="8699400" cy="12985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Book"/>
              </a:rPr>
              <a:t>Компьютерные средства обучения называют интерактивными, они обладают способностью “откликаться” на действия ученика и учителя, “вступать” с ними в диалог, что и составляет главную особенность методик компьютерного обучен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Book"/>
              </a:rPr>
              <a:t>Компьютер может использоваться на всех этапах процесса обучения: при объяснении (введении) нового материала, закреплении, повторении, контроле ЗУН. При этом для ребенка он выполняет различные функции: учителя (Программы 1С образование «Морфология и орфография 5-6 классы), рабочего инструмента («Семейный наставник»), объекта обучения («Русский язык 5 класс») , сотрудничающего коллектива, досуговой (игровой) среды</a:t>
            </a:r>
            <a:r>
              <a:rPr b="0" lang="ru-RU" sz="2500" spc="-1" strike="noStrike" u="sng">
                <a:solidFill>
                  <a:srgbClr val="002060"/>
                </a:solidFill>
                <a:uFillTx/>
                <a:latin typeface="Franklin Gothic Book"/>
              </a:rPr>
              <a:t>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сточник учебной информации (частично или полностью заменяющий учителя или книгу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наглядное пособие (качественно нового уровня с возможностями мультимедиа и телекоммуникации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ндивидуальное информационное пространство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тренажер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редство диагностики и контрол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347760"/>
            <a:ext cx="8742240" cy="12985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редство подготовки текстов, их хранения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текстовый редактор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графопостроитель, графический редактор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ычислительная машина больших возможностей (с оформлением результатов в различном виде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редство моделирова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Электронный учебник – это автоматизированная обучающая система, включающая в себя дидактические, методические и информационно–справочные материалы по учебной дисциплине, а также программное обеспечение, которое позволяет комплексно использовать их для самостоятельного получения и контроля зн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58760" y="268200"/>
            <a:ext cx="8972640" cy="14875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озможность быстрого поиска по текст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Организация учебной информации в виде гипертекс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Наличие мультимедиа – богатейшего арсенала способов иллюстрации изучаемого яв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Наличие системы самопроверки зн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Book"/>
              </a:rPr>
              <a:t>Современные педтехнологии направлены на главную фигуру школы —ученика. Для выбора технологии требуется перестроить традиционно сложившийся стереотип деятельности учителя: понять ученика, принять ученика, признать ученика как субъекта процесса обучения       и подобрать технологии образовательных знаний, учитывая подбор класса и возраст, тему и наличие дидактической обеспеченности обучения, не забывая о результате, который вы желаете получить.Поэтому так актуальны сегодня современные образовательные технологии, которые направлены на организацию деятельности учащихся, на развитие через эту деятельность их умений, качеств, компетенции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699400" cy="1116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• </a:t>
            </a: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Технология - это совокупность приемов, применяемых в каком-либо деле, мастерстве, искусстве (толковый словарь).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 • </a:t>
            </a: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Педагогическая технология - совокупность психолого-педагогических установок, определяющих специальный набор и компоновку форм, методов, способов, приемов обучения, воспитательных средств; она есть организационно-методический инструментарий педагогического процесса (Б.Т.Лихачев).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• </a:t>
            </a: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Технология обучения - это составная процессуальная часть дидактической системы (М.Чошанов).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 • </a:t>
            </a: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Педагогическая технология — это продуманная во всех деталях модель совместной педагогической деятельности по проектированию, организации и проведению учебного процесса с безусловным обеспечением комфортных условий для учащихся и учителя (В.М.Монахов).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 • </a:t>
            </a: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Педагогическая технология - это системный метод создания, применения и определения всего процесса преподавания и усвоения знаний с учетом технических и человеческих ресурсов и их взаимодействия, ставящий своей задачей оптимизацию форм образования (ЮНЕСКО).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 • </a:t>
            </a: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Педагогическая технология означает системную совокупность и порядок функционирования всех личностных, инструментальных и методологических средств, используемых для достижения педагогических целей (М.В.Кларин)». [Селевко Г.К. Современные образовательные технологии: Учебное пособие. – М.: Народное образование, 1998. – C. 14-15]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95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1.Педагогические технологии на основе личностной ориентации педагогического процесса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ка сотрудничества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уманно-личностная технология Ш.А.Амонашвили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Е.Н.Ильина: преподавание литературы как предмета, формирующего человека 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. Педагогические технологии на основе активизации и интенсификации деятельности учащихся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овые технологии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ное обучение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коммуникативного обучения иноязычной культуре (Е.И.Пассов)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интенсификации обучения на основе схемных и знаковых моделей учебного материала (В.Ф.Шаталов)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С.Н.Лысенковой: перспективно-опережающее обучение с использованием опорных схем при комментируемом управлении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и уровневой дифференциации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невая дифференциация обучения на основе обязательных результатов (В.В.Фирсов). 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льтуровоспитывающая технология дифференцированного обучения по интересам детей (И.Н.Закатова)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индивидуализации обучения (Инге Унт, А.С.Границкая, В.Д.Шадриков)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ограммированного обучения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лективный способ обучения КСО (А.Г.Ривин, В.К.Дьяченко)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овые технологи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ьютерные (новые информационные) технологии обучения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2060"/>
                </a:solidFill>
                <a:uFillTx/>
                <a:latin typeface="Franklin Gothic Book"/>
              </a:rPr>
              <a:t>3.Педагогические технологии на основе дидактического усовершенствования и реконструирования материала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«Экология и диалектика» (Л.В.Тарасов)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«Диалог культур» (В.С.Библер, С.Ю.Курганов)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Укрупнение дидактических единиц - УДЕ (П.М.Эрдниев)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Реализация теории поэтапного формирования умственных действий (М.Б.Волович)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2060"/>
                </a:solidFill>
                <a:uFillTx/>
                <a:latin typeface="Franklin Gothic Book"/>
              </a:rPr>
              <a:t>4. Частнопредметные педагогические технологии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Технология раннего и интенсивного обучения грамоте (Н.А.Зайцев)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Технология совершенствования общеучебных умений в начальной школе (В.Н.Зайцев)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Технология обучения математике на основе решения задач (Р.Г.Хазанкин)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Педагогическая технология на основе системы эффективных уроков (А.А.Окунев)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Система поэтапного обучения физике (Н.Н.Палтышев)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2060"/>
                </a:solidFill>
                <a:uFillTx/>
                <a:latin typeface="Franklin Gothic Book"/>
              </a:rPr>
              <a:t>5. Альтернативные технологии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Вальдорфская педагогика (Р.Штейнер)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Технология свободного труда (С.Френе)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Технология вероятностного образования (А.М.Лобок)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Franklin Gothic Book"/>
              </a:rPr>
              <a:t>Технология мастерских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2060"/>
                </a:solidFill>
                <a:uFillTx/>
                <a:latin typeface="Franklin Gothic Book"/>
              </a:rPr>
              <a:t>6. Природосообразные технологии</a:t>
            </a: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Природосообразное воспитание грамотности (А.М.Кушнир)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Технология саморазвития (М. Монтессори)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2060"/>
                </a:solidFill>
                <a:uFillTx/>
                <a:latin typeface="Franklin Gothic Book"/>
              </a:rPr>
              <a:t>7. Технологии развивающего обучения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Общие основы технологий развивающего обучения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Система развивающего обучения Л.В.Занкова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Технология развивающего обучения Д.Б.Эльконина-В.В.Давыдова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Системы развивающего обучения с направленностью на развитие творческих качеств личности (И.П.Волков, Г.С.Альтшуллер, И.П.Иванов)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Личностно-ориентированное развивающее обучение (И.С.Якиманская)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Технология саморазвивающего обучения (Г.К.Селевко)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2060"/>
                </a:solidFill>
                <a:uFillTx/>
                <a:latin typeface="Franklin Gothic Book"/>
              </a:rPr>
              <a:t>8.Педагогические технологии авторских школ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Школа адаптирующей педагогики (Е.А.Ямбург, Б.А.Бройде)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Модель «Русская школа»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Технология авторской Школы самоопределения (А.Н.Тубельский)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Школа-парк (М.А.Балабан)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Агрошкола А.А.Католикова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Franklin Gothic Book"/>
              </a:rPr>
              <a:t>Школа Завтрашнего Дня (Д.Ховард).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Человек играет только тогда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Когда он в полном значении слова человек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 он бывает вполне человеком лишь тогда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Когда он игра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(Ф.Шиллер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905976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Franklin Gothic Book"/>
              </a:rPr>
              <a:t>по виду деятельности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физические (двигательные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нтеллектуальные (умственные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трудов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оциальны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психологическ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Franklin Gothic Book"/>
              </a:rPr>
              <a:t>По характеру педагогического процесс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обучающие, тренировочные, контролирующие и обобщающ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познавательные, воспитательные, развивающ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репродуктивные, продуктивные, творческ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коммуникативные, диагностические, профориентационные, психотехнические и д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Franklin Gothic Book"/>
              </a:rPr>
              <a:t>По характеру игровой методики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Предмет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Сюжет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Ролев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Делов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митационны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Игры-драматизац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34:00Z</dcterms:created>
  <dc:creator>USER</dc:creator>
  <dc:description/>
  <dc:language>en-US</dc:language>
  <cp:lastModifiedBy>IDimm</cp:lastModifiedBy>
  <dcterms:modified xsi:type="dcterms:W3CDTF">2010-05-12T15:31:43Z</dcterms:modified>
  <cp:revision>6</cp:revision>
  <dc:subject/>
  <dc:title>Слайд 1</dc:title>
</cp:coreProperties>
</file>