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4.gif" ContentType="image/gif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75B-BBAB-421E-9CF0-0C7CD5EB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B28-A1FE-4F19-AA2D-5B9E6B11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67A-F0C1-4045-8B6C-B359D002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836-AFDB-4DDC-8FB5-3AA2E3CF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EF9-EC0B-4250-B721-FEE1EE2A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D65-9DF7-402D-A267-D70955CD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C3D-DC75-49AE-BC41-C6898697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0A8-CF64-41A6-A37A-04F57EE3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95C-2ACC-48D2-BF5C-2CBBBFD1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D3B-4DC1-425B-B1EE-796B9D45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EADF-BC85-4A7B-ABCE-C3869E2A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FCC-D985-4864-BDDC-F5F42956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BF16-02E1-4E3B-97C7-B7C548F892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00200" y="609480"/>
            <a:ext cx="609588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7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828800" y="160020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мья – это то, что мы делим на всех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м понемножку: и слезы и смех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лет и падение, радость, печаль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жбу и ссоры, молчанья печа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мья – это то, что с тобою всегд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сть мчатся секунды, недели, год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 стены родные, отчий твой дом –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дце навеки останется в нем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72"/>
          <p:cNvPicPr/>
          <p:nvPr/>
        </p:nvPicPr>
        <p:blipFill>
          <a:blip r:embed="rId1"/>
          <a:stretch/>
        </p:blipFill>
        <p:spPr>
          <a:xfrm>
            <a:off x="2286000" y="304920"/>
            <a:ext cx="4419720" cy="1390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02"/>
          <p:cNvPicPr/>
          <p:nvPr/>
        </p:nvPicPr>
        <p:blipFill>
          <a:blip r:embed="rId2"/>
          <a:stretch/>
        </p:blipFill>
        <p:spPr>
          <a:xfrm>
            <a:off x="228600" y="4495680"/>
            <a:ext cx="175752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e8349cb7e7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вор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drevo_1"/>
          <p:cNvPicPr/>
          <p:nvPr/>
        </p:nvPicPr>
        <p:blipFill>
          <a:blip r:embed="rId2"/>
          <a:stretch/>
        </p:blipFill>
        <p:spPr>
          <a:xfrm>
            <a:off x="533520" y="1371600"/>
            <a:ext cx="396216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70102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появилось слово семья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-то о нём не слыхала Земля –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Еве сказал перед свадьбой Адам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ейчас я тебе семь вопросов задам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деток родит мне, богиня моя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а тихонько ответила: «Я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Кто их воспитает, царица моя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а покорно ответила: «Я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Кто есть приготовит, о радость моя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а всё также ответила: «Я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Кто платье сошьёт, постирает бельё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я приласкает, украсит жильё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Я, я», – тихо молвила Ева: «я, я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зала она знаменитых семь «Я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так на Земле появилась семь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781680" y="533520"/>
            <a:ext cx="19051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7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5" descr="eva1"/>
          <p:cNvPicPr/>
          <p:nvPr/>
        </p:nvPicPr>
        <p:blipFill>
          <a:blip r:embed="rId1"/>
          <a:stretch/>
        </p:blipFill>
        <p:spPr>
          <a:xfrm>
            <a:off x="6664320" y="3581280"/>
            <a:ext cx="2479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1"/>
          <p:cNvGrpSpPr/>
          <p:nvPr/>
        </p:nvGrpSpPr>
        <p:grpSpPr>
          <a:xfrm>
            <a:off x="1781640" y="549360"/>
            <a:ext cx="3222000" cy="958680"/>
            <a:chOff x="1781640" y="549360"/>
            <a:chExt cx="3222000" cy="958680"/>
          </a:xfrm>
        </p:grpSpPr>
        <p:sp>
          <p:nvSpPr>
            <p:cNvPr id="46" name="WordArt 4"/>
            <p:cNvSpPr txBox="1"/>
            <p:nvPr/>
          </p:nvSpPr>
          <p:spPr>
            <a:xfrm>
              <a:off x="2071800" y="549360"/>
              <a:ext cx="29318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9966"/>
                  </a:solidFill>
                  <a:latin typeface="Arial"/>
                </a:rPr>
                <a:t>СЕМЬЯ- ЭТО…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  <a:ea typeface="Arial"/>
              </a:endParaRPr>
            </a:p>
          </p:txBody>
        </p:sp>
        <p:sp>
          <p:nvSpPr>
            <p:cNvPr id="47" name="Text Box 5"/>
            <p:cNvSpPr/>
            <p:nvPr/>
          </p:nvSpPr>
          <p:spPr>
            <a:xfrm>
              <a:off x="1781640" y="1139760"/>
              <a:ext cx="278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66ff"/>
                  </a:solidFill>
                  <a:latin typeface="Verdana"/>
                </a:rPr>
                <a:t>Словарь   С.И. Ожего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6"/>
          <p:cNvSpPr/>
          <p:nvPr/>
        </p:nvSpPr>
        <p:spPr>
          <a:xfrm>
            <a:off x="290880" y="1773360"/>
            <a:ext cx="91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hiller"/>
              </a:rPr>
              <a:t>1) Семья – это группа родственников, живущих вместе</a:t>
            </a: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64840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20700677_romashka.gif"/>
          <p:cNvPicPr/>
          <p:nvPr/>
        </p:nvPicPr>
        <p:blipFill>
          <a:blip r:embed="rId1"/>
          <a:stretch/>
        </p:blipFill>
        <p:spPr>
          <a:xfrm>
            <a:off x="4648320" y="1752480"/>
            <a:ext cx="4495680" cy="3996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Символ семь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143720" y="1297440"/>
            <a:ext cx="3291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у очень я любл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пу тоже я любл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 мне печет ковриж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па мне читает книж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па, мамочка и я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а дружная семь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и бабушку любл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и дедушку любл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всегда им помогаю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 мету и пыль стира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, папа,  дед и я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а дружная семь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естренку я любл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братишку я любл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братом плаваем, ныряе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с сестрой в снежки игра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, папа,  дед и 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ба,  брат, сестра моя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а дружная семь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8"/>
          <p:cNvGrpSpPr/>
          <p:nvPr/>
        </p:nvGrpSpPr>
        <p:grpSpPr>
          <a:xfrm>
            <a:off x="1781640" y="549360"/>
            <a:ext cx="3222000" cy="958680"/>
            <a:chOff x="1781640" y="549360"/>
            <a:chExt cx="3222000" cy="958680"/>
          </a:xfrm>
        </p:grpSpPr>
        <p:sp>
          <p:nvSpPr>
            <p:cNvPr id="54" name="WordArt 4"/>
            <p:cNvSpPr txBox="1"/>
            <p:nvPr/>
          </p:nvSpPr>
          <p:spPr>
            <a:xfrm>
              <a:off x="2286000" y="549360"/>
              <a:ext cx="2717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9966"/>
                  </a:solidFill>
                  <a:latin typeface="Arial"/>
                </a:rPr>
                <a:t>СЕМЬЯ- ЭТО…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  <a:ea typeface="Arial"/>
              </a:endParaRPr>
            </a:p>
          </p:txBody>
        </p:sp>
        <p:sp>
          <p:nvSpPr>
            <p:cNvPr id="55" name="Text Box 5"/>
            <p:cNvSpPr/>
            <p:nvPr/>
          </p:nvSpPr>
          <p:spPr>
            <a:xfrm>
              <a:off x="1781640" y="1139760"/>
              <a:ext cx="278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66ff"/>
                  </a:solidFill>
                  <a:latin typeface="Verdana"/>
                </a:rPr>
                <a:t>Словарь   С.И. Ожего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6"/>
          <p:cNvSpPr/>
          <p:nvPr/>
        </p:nvSpPr>
        <p:spPr>
          <a:xfrm>
            <a:off x="0" y="144792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hiller"/>
              </a:rPr>
              <a:t>2) Единство, объединение людей, сплочённы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hiller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Chiller"/>
              </a:rPr>
              <a:t>общими интере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посвящение в перваши"/>
          <p:cNvPicPr/>
          <p:nvPr/>
        </p:nvPicPr>
        <p:blipFill>
          <a:blip r:embed="rId1"/>
          <a:srcRect l="3407" t="0" r="0" b="18773"/>
          <a:stretch/>
        </p:blipFill>
        <p:spPr>
          <a:xfrm>
            <a:off x="304920" y="2695680"/>
            <a:ext cx="7424640" cy="4162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IMG_7684"/>
          <p:cNvPicPr/>
          <p:nvPr/>
        </p:nvPicPr>
        <p:blipFill>
          <a:blip r:embed="rId2"/>
          <a:srcRect l="9380" t="5470" r="45304" b="60160"/>
          <a:stretch/>
        </p:blipFill>
        <p:spPr>
          <a:xfrm>
            <a:off x="6248520" y="228600"/>
            <a:ext cx="267804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порарар"/>
          <p:cNvPicPr/>
          <p:nvPr/>
        </p:nvPicPr>
        <p:blipFill>
          <a:blip r:embed="rId1"/>
          <a:stretch/>
        </p:blipFill>
        <p:spPr>
          <a:xfrm>
            <a:off x="5643720" y="214200"/>
            <a:ext cx="3082680" cy="21430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1"/>
          <p:cNvGrpSpPr/>
          <p:nvPr/>
        </p:nvGrpSpPr>
        <p:grpSpPr>
          <a:xfrm>
            <a:off x="1781640" y="549360"/>
            <a:ext cx="3222000" cy="958680"/>
            <a:chOff x="1781640" y="549360"/>
            <a:chExt cx="3222000" cy="958680"/>
          </a:xfrm>
        </p:grpSpPr>
        <p:sp>
          <p:nvSpPr>
            <p:cNvPr id="61" name="WordArt 4"/>
            <p:cNvSpPr txBox="1"/>
            <p:nvPr/>
          </p:nvSpPr>
          <p:spPr>
            <a:xfrm>
              <a:off x="2843280" y="549360"/>
              <a:ext cx="2160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9966"/>
                  </a:solidFill>
                  <a:latin typeface="Arial"/>
                </a:rPr>
                <a:t>СЕМЬЯ- ЭТ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  <a:ea typeface="Arial"/>
              </a:endParaRPr>
            </a:p>
          </p:txBody>
        </p:sp>
        <p:sp>
          <p:nvSpPr>
            <p:cNvPr id="62" name="Text Box 5"/>
            <p:cNvSpPr/>
            <p:nvPr/>
          </p:nvSpPr>
          <p:spPr>
            <a:xfrm>
              <a:off x="1781640" y="1139760"/>
              <a:ext cx="278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66ff"/>
                  </a:solidFill>
                  <a:latin typeface="Verdana"/>
                </a:rPr>
                <a:t>Словарь   С.И. Ожего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6"/>
          <p:cNvSpPr/>
          <p:nvPr/>
        </p:nvSpPr>
        <p:spPr>
          <a:xfrm>
            <a:off x="75240" y="1428840"/>
            <a:ext cx="50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hiller"/>
              </a:rPr>
              <a:t>3) Группа животных, птиц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hiller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Chiller"/>
              </a:rPr>
              <a:t>растений одного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аад"/>
          <p:cNvPicPr/>
          <p:nvPr/>
        </p:nvPicPr>
        <p:blipFill>
          <a:blip r:embed="rId2"/>
          <a:stretch/>
        </p:blipFill>
        <p:spPr>
          <a:xfrm>
            <a:off x="357120" y="4357800"/>
            <a:ext cx="3167280" cy="232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арвнвнев"/>
          <p:cNvPicPr/>
          <p:nvPr/>
        </p:nvPicPr>
        <p:blipFill>
          <a:blip r:embed="rId3"/>
          <a:stretch/>
        </p:blipFill>
        <p:spPr>
          <a:xfrm>
            <a:off x="5857920" y="2428920"/>
            <a:ext cx="3095640" cy="2235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ИРАРНОГ"/>
          <p:cNvPicPr/>
          <p:nvPr/>
        </p:nvPicPr>
        <p:blipFill>
          <a:blip r:embed="rId4"/>
          <a:stretch/>
        </p:blipFill>
        <p:spPr>
          <a:xfrm>
            <a:off x="4000680" y="4643280"/>
            <a:ext cx="3097080" cy="206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ОРОРР"/>
          <p:cNvPicPr/>
          <p:nvPr/>
        </p:nvPicPr>
        <p:blipFill>
          <a:blip r:embed="rId5"/>
          <a:stretch/>
        </p:blipFill>
        <p:spPr>
          <a:xfrm>
            <a:off x="2286000" y="2286000"/>
            <a:ext cx="3168720" cy="20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7"/>
          <p:cNvSpPr/>
          <p:nvPr/>
        </p:nvSpPr>
        <p:spPr>
          <a:xfrm>
            <a:off x="250920" y="2133720"/>
            <a:ext cx="1763640" cy="12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urier New"/>
              </a:rPr>
              <a:t>Г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8"/>
          <p:cNvSpPr/>
          <p:nvPr/>
        </p:nvSpPr>
        <p:spPr>
          <a:xfrm>
            <a:off x="2411280" y="2060640"/>
            <a:ext cx="1656000" cy="12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Courier New"/>
              </a:rPr>
              <a:t>ГУСЫ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9"/>
          <p:cNvSpPr/>
          <p:nvPr/>
        </p:nvSpPr>
        <p:spPr>
          <a:xfrm>
            <a:off x="4427640" y="2205000"/>
            <a:ext cx="2087640" cy="10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urier New"/>
              </a:rPr>
              <a:t>ГУСЕ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6732720" y="2133720"/>
            <a:ext cx="1979640" cy="12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urier New"/>
              </a:rPr>
              <a:t>ГУС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324000" y="404640"/>
            <a:ext cx="1800000" cy="1081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urier New"/>
              </a:rPr>
              <a:t>К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6732720" y="333360"/>
            <a:ext cx="1942920" cy="11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urier New"/>
              </a:rPr>
              <a:t>КО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4500720" y="333360"/>
            <a:ext cx="2016000" cy="1152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urier New"/>
              </a:rPr>
              <a:t>КОТ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1"/>
          <p:cNvSpPr/>
          <p:nvPr/>
        </p:nvSpPr>
        <p:spPr>
          <a:xfrm>
            <a:off x="2268360" y="333360"/>
            <a:ext cx="1943280" cy="1152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urier New"/>
              </a:rPr>
              <a:t>УТ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лоиолол"/>
          <p:cNvPicPr/>
          <p:nvPr/>
        </p:nvPicPr>
        <p:blipFill>
          <a:blip r:embed="rId1"/>
          <a:stretch/>
        </p:blipFill>
        <p:spPr>
          <a:xfrm>
            <a:off x="1979640" y="3357720"/>
            <a:ext cx="4419720" cy="33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1357200" y="1101600"/>
            <a:ext cx="7054920" cy="5756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Мир увлечен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4"/>
          <p:cNvSpPr/>
          <p:nvPr/>
        </p:nvSpPr>
        <p:spPr>
          <a:xfrm>
            <a:off x="5219640" y="2997360"/>
            <a:ext cx="3456000" cy="792000"/>
          </a:xfrm>
          <a:prstGeom prst="parallelogram">
            <a:avLst>
              <a:gd name="adj" fmla="val 10909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hiller"/>
              </a:rPr>
              <a:t>на 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1979640" y="2133720"/>
            <a:ext cx="3095640" cy="792000"/>
          </a:xfrm>
          <a:prstGeom prst="parallelogram">
            <a:avLst>
              <a:gd name="adj" fmla="val 9771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hiller"/>
              </a:rPr>
              <a:t>д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4859280" y="620640"/>
            <a:ext cx="3095640" cy="792360"/>
          </a:xfrm>
          <a:prstGeom prst="parallelogram">
            <a:avLst>
              <a:gd name="adj" fmla="val 976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hiller"/>
              </a:rPr>
              <a:t>вм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684360" y="3933720"/>
            <a:ext cx="3095640" cy="792360"/>
          </a:xfrm>
          <a:prstGeom prst="parallelogram">
            <a:avLst>
              <a:gd name="adj" fmla="val 976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hiller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1403280" y="476280"/>
            <a:ext cx="3095640" cy="792000"/>
          </a:xfrm>
          <a:prstGeom prst="parallelogram">
            <a:avLst>
              <a:gd name="adj" fmla="val 9771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hiller"/>
              </a:rPr>
              <a:t>В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806 -0.2729 E">
                                      <p:cBhvr>
                                        <p:cTn id="12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143 0.20976 E">
                                      <p:cBhvr>
                                        <p:cTn id="12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1806 0.2729 E">
                                      <p:cBhvr>
                                        <p:cTn id="130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084 0.13622 E">
                                      <p:cBhvr>
                                        <p:cTn id="13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3-01-25T20:42:2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