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00F-2FE4-4F98-AF23-E2FAA4BA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E9C-BD41-4F50-AFFA-CDF9B90E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575-7E30-4CE1-944A-162CB299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4C9-5687-4C0E-A20C-F87150F0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3A46-EC6C-454C-8AD2-45D52CA5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ECD8-789F-47EE-A654-2638FBBC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2F29-3B35-4A61-90F0-035A45EC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7328-606C-4FCC-9A6A-8825DBA6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B893-F11E-4148-9802-91CE528A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2951-C548-455B-9E83-E4231306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1F67-9B62-4A3E-967A-D2D356EF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69F-1151-4CDC-BA42-0D1842CF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77C3-295A-42F4-8D3E-1BB1E1AE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AB40-2735-4C3C-9265-537F9007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80A1-1823-42AB-8978-6878FC29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C43F-8B6F-4CC3-99F8-7592F032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8E8B-E87D-455F-BEB3-38EC84FC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FB9-781F-4D26-86CB-81A4E131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A36-F034-4A23-87BB-99FBFA14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2F9-0CB6-466A-B74E-A49AFEC3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0AD-2213-4B7E-859F-A128FD7B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5DB-8B7B-42BE-A115-CB0EB528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912-9C7C-4CC4-9C94-94685924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1FD-3106-4765-843A-3B2D9D77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6863e">
                  <a:alpha val="45098"/>
                </a:srgbClr>
              </a:gs>
              <a:gs pos="100000">
                <a:srgbClr val="9ab342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8893b">
                  <a:alpha val="45098"/>
                </a:srgbClr>
              </a:gs>
              <a:gs pos="100000">
                <a:srgbClr val="92a94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eb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3391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eb06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eb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eb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33391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33391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812D-12B4-4535-9270-19E224B0CF13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33391c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33391c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6863e">
                  <a:alpha val="45098"/>
                </a:srgbClr>
              </a:gs>
              <a:gs pos="100000">
                <a:srgbClr val="9ab342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8893b">
                  <a:alpha val="45098"/>
                </a:srgbClr>
              </a:gs>
              <a:gs pos="100000">
                <a:srgbClr val="92a94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eb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3391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eb06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eb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eb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33391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33391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1CA8-705A-4B98-B6A3-5A6EBF361924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01684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571680" y="3571920"/>
            <a:ext cx="76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91c"/>
                </a:solidFill>
                <a:latin typeface="Times New Roman"/>
                <a:ea typeface="Times New Roman"/>
              </a:rPr>
              <a:t>Презентация экологического мероприятия учащихся 8- го класса</a:t>
            </a:r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3" descr="картина шишкина Дубы в старом Петергофе"/>
          <p:cNvPicPr/>
          <p:nvPr/>
        </p:nvPicPr>
        <p:blipFill>
          <a:blip r:embed="rId1"/>
          <a:stretch/>
        </p:blipFill>
        <p:spPr>
          <a:xfrm>
            <a:off x="1254240" y="1000080"/>
            <a:ext cx="6635520" cy="4357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1214280" y="5357880"/>
            <a:ext cx="671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бы в старом Петергофе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-main-pic" descr="Картинка 6 из 68"/>
          <p:cNvPicPr/>
          <p:nvPr/>
        </p:nvPicPr>
        <p:blipFill>
          <a:blip r:embed="rId1"/>
          <a:stretch/>
        </p:blipFill>
        <p:spPr>
          <a:xfrm>
            <a:off x="1714680" y="42876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1714680" y="5357880"/>
            <a:ext cx="585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б посаженный Ю. А. Гагариным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еза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20" name="Содержимое 3" descr="http://www.bryanskobl.ru/region/geography/img/berez2_b.jpg"/>
          <p:cNvPicPr/>
          <p:nvPr/>
        </p:nvPicPr>
        <p:blipFill>
          <a:blip r:embed="rId1"/>
          <a:stretch/>
        </p:blipFill>
        <p:spPr>
          <a:xfrm>
            <a:off x="2214720" y="1143000"/>
            <a:ext cx="500040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удо дерево - береза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500960" cy="503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Липа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24" name="i-main-pic" descr="Картинка 10 из 1906"/>
          <p:cNvPicPr/>
          <p:nvPr/>
        </p:nvPicPr>
        <p:blipFill>
          <a:blip r:embed="rId1"/>
          <a:stretch/>
        </p:blipFill>
        <p:spPr>
          <a:xfrm>
            <a:off x="1857240" y="1143000"/>
            <a:ext cx="507204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Calibri"/>
              </a:rPr>
              <a:t>Цветки липы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26" name="i-main-pic" descr="Картинка 3 из 1906"/>
          <p:cNvPicPr/>
          <p:nvPr/>
        </p:nvPicPr>
        <p:blipFill>
          <a:blip r:embed="rId1"/>
          <a:stretch/>
        </p:blipFill>
        <p:spPr>
          <a:xfrm>
            <a:off x="1278000" y="1571760"/>
            <a:ext cx="658800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ина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28" name="i-main-pic" descr="Картинка 13 из 1027"/>
          <p:cNvPicPr/>
          <p:nvPr/>
        </p:nvPicPr>
        <p:blipFill>
          <a:blip r:embed="rId1"/>
          <a:stretch/>
        </p:blipFill>
        <p:spPr>
          <a:xfrm>
            <a:off x="2643120" y="1357200"/>
            <a:ext cx="4000680" cy="467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олистый клён</a:t>
            </a:r>
            <a:endParaRPr b="0" lang="en-US" sz="59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30" name="Содержимое 3" descr="http://www.reznoe.ru/i/articles/10/Acer.jpg"/>
          <p:cNvPicPr/>
          <p:nvPr/>
        </p:nvPicPr>
        <p:blipFill>
          <a:blip r:embed="rId1"/>
          <a:stretch/>
        </p:blipFill>
        <p:spPr>
          <a:xfrm>
            <a:off x="2286000" y="1285920"/>
            <a:ext cx="500076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4ea"/>
                </a:solidFill>
                <a:latin typeface="Times New Roman"/>
                <a:ea typeface="Times New Roman"/>
              </a:rPr>
              <a:t>Ландыш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32" name="Содержимое 3" descr="http://vinodlya.narod.ru/images/1-42.jpg"/>
          <p:cNvPicPr/>
          <p:nvPr/>
        </p:nvPicPr>
        <p:blipFill>
          <a:blip r:embed="rId1"/>
          <a:stretch/>
        </p:blipFill>
        <p:spPr>
          <a:xfrm>
            <a:off x="1928880" y="1428840"/>
            <a:ext cx="542916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кудеет Россия лесами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юных рощах гуляют дожди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т закон, что придуман отцами, -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убишь дерево – три посади.   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00120" y="2857680"/>
            <a:ext cx="578664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«Лес – прекрасное выражение силы природы и самый яркий образчик ее совершенства».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К. Паустовский</a:t>
            </a:r>
            <a:endParaRPr b="0" lang="en-US" sz="28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98" name="i-main-pic" descr="Картинка 0 из 3259"/>
          <p:cNvPicPr/>
          <p:nvPr/>
        </p:nvPicPr>
        <p:blipFill>
          <a:blip r:embed="rId1"/>
          <a:stretch/>
        </p:blipFill>
        <p:spPr>
          <a:xfrm>
            <a:off x="1071720" y="2071800"/>
            <a:ext cx="714348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7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Картины Шишкина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00" name="Рисунок 4" descr="картина Корабельная роща"/>
          <p:cNvPicPr/>
          <p:nvPr/>
        </p:nvPicPr>
        <p:blipFill>
          <a:blip r:embed="rId1"/>
          <a:stretch/>
        </p:blipFill>
        <p:spPr>
          <a:xfrm>
            <a:off x="1785960" y="1571760"/>
            <a:ext cx="5940360" cy="37224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1714680" y="57862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860"/>
                </a:solidFill>
                <a:latin typeface="Constantia"/>
              </a:rPr>
              <a:t>Корабельная роща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4" descr="картина Утро в сосновом лесу - Медведи 3 медведя"/>
          <p:cNvPicPr/>
          <p:nvPr/>
        </p:nvPicPr>
        <p:blipFill>
          <a:blip r:embed="rId1"/>
          <a:stretch/>
        </p:blipFill>
        <p:spPr>
          <a:xfrm>
            <a:off x="1071720" y="1000080"/>
            <a:ext cx="7215120" cy="4357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785960" y="564372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ро в сосновом бору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Картины Левитана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05" name="Рисунок 3" descr="Золотая осень. Слободка"/>
          <p:cNvPicPr/>
          <p:nvPr/>
        </p:nvPicPr>
        <p:blipFill>
          <a:blip r:embed="rId1"/>
          <a:stretch/>
        </p:blipFill>
        <p:spPr>
          <a:xfrm>
            <a:off x="1601640" y="1643040"/>
            <a:ext cx="5940720" cy="38322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571760" y="5643720"/>
            <a:ext cx="60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лотая осень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6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Левитан"/>
          <p:cNvPicPr/>
          <p:nvPr/>
        </p:nvPicPr>
        <p:blipFill>
          <a:blip r:embed="rId1"/>
          <a:stretch/>
        </p:blipFill>
        <p:spPr>
          <a:xfrm>
            <a:off x="857160" y="1143000"/>
            <a:ext cx="7286760" cy="44290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857160" y="571500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резовая роща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лотая</a:t>
            </a:r>
            <a:r>
              <a:rPr b="0" lang="ru-RU" sz="4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ень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наменитые Дубы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12" name="Picture 2" descr="C:\Users\алексей\Pictures\Безымянный.jpg"/>
          <p:cNvPicPr/>
          <p:nvPr/>
        </p:nvPicPr>
        <p:blipFill>
          <a:blip r:embed="rId1"/>
          <a:stretch/>
        </p:blipFill>
        <p:spPr>
          <a:xfrm>
            <a:off x="2928960" y="1928880"/>
            <a:ext cx="3786120" cy="32148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2786040" y="5643720"/>
            <a:ext cx="41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льмужский дуб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Дуб уединенный. Тригорское. (c) Александр Щепин / Фотобанк Лори"/>
          <p:cNvPicPr/>
          <p:nvPr/>
        </p:nvPicPr>
        <p:blipFill>
          <a:blip r:embed="rId1"/>
          <a:stretch/>
        </p:blipFill>
        <p:spPr>
          <a:xfrm>
            <a:off x="1000080" y="785880"/>
            <a:ext cx="671508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6:10:53Z</dcterms:created>
  <dc:creator>алексей</dc:creator>
  <dc:description/>
  <dc:language>en-US</dc:language>
  <cp:lastModifiedBy>алексей</cp:lastModifiedBy>
  <dcterms:modified xsi:type="dcterms:W3CDTF">2009-04-20T03:21:28Z</dcterms:modified>
  <cp:revision>12</cp:revision>
  <dc:subject/>
  <dc:title>НАШ РУССКИЙ ЛЕС – НАШЕ ЗДОРОВЬЕ</dc:title>
</cp:coreProperties>
</file>