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0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9.png" ContentType="image/png"/>
  <Override PartName="/ppt/media/image13.jpeg" ContentType="image/jpeg"/>
  <Override PartName="/ppt/media/image5.jpeg" ContentType="image/jpeg"/>
  <Override PartName="/ppt/media/image35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11.jpeg" ContentType="image/jpeg"/>
  <Override PartName="/ppt/media/image40.png" ContentType="image/png"/>
  <Override PartName="/ppt/media/image39.jpeg" ContentType="image/jpeg"/>
  <Override PartName="/ppt/media/image8.jpeg" ContentType="image/jpeg"/>
  <Override PartName="/ppt/media/image38.png" ContentType="image/png"/>
  <Override PartName="/ppt/media/image37.png" ContentType="image/png"/>
  <Override PartName="/ppt/media/image6.jpeg" ContentType="image/jpeg"/>
  <Override PartName="/ppt/media/image18.png" ContentType="image/png"/>
  <Override PartName="/ppt/media/image28.png" ContentType="image/png"/>
  <Override PartName="/ppt/media/image7.jpeg" ContentType="image/jpeg"/>
  <Override PartName="/ppt/media/image41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CF7F-BDFF-4266-B917-14BAA9A538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A5B4-41D9-4AD7-80F0-DBFCAEE3EB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A897-C5C6-4B7F-88D5-10C672992B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1176-3C05-48A7-AD36-354AD574C5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68D2-E483-43E0-A4B5-6CB53E1C84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D28A-F9CF-4F9A-9A48-C993E308D6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E108-B979-4978-8DF7-E10BAD640D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7FFC-02E1-4A51-B8CF-77F7BA8371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E747-426F-4E83-AE84-0CA6B62D3D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B9AE-117F-4F33-9725-02C1BB1C3F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1592-9960-4862-8656-F843A7353D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A375-1D5C-4BD3-A2F3-36DDD76039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439B-61C6-42E8-A807-2118498865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E871-EB1A-44A8-85D5-4A99CD7064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482C-C7A6-4CA3-8899-7651579B0B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DCFA-C292-488E-BCE5-61E7BB9D33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2EFA-C54E-4169-95DD-1CD52DCA06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6D6-7069-43A0-B3AD-9F1EDAE6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3030-5631-47F4-83B6-DEBB6B69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15F7-601A-4AFE-8B88-40749E56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FFA-C723-46F6-861B-F4DAD280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CA4F-2D90-4D29-B510-D11FFBEC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9BFA-CA5B-4CE3-AB9C-1080D23A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756A-FE78-491F-AEA5-450797C9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9A85-2500-4290-9250-7B84E3D6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35BC-96D1-45D0-896A-2263B60A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3DD8-FE7E-47C4-9739-4C17887E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906A-9213-46E8-93EF-B266E33C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E260-9AD3-4458-86C0-828DC55A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C32A-30B3-4281-854B-F732CEFE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2200-7D36-4E63-B07D-F65AFB5E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B632-A366-4BA6-8A6F-F0267A1A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1F08-AEDB-45C0-BF0F-89F19DD4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EE85-A49D-4620-9EE1-6CAB7F72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9E1C8-A072-4E55-81D5-B8DEA2B2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E4DF1-5ADA-42B6-B9B7-73B3B325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AB023-5A1A-441A-AEA1-0E6D710E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3A794-9F26-4A17-B004-E6B89BC8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AC718-14B0-4F0E-B7E1-775BE7A2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F10-28D3-45EA-B238-5305629A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395CE-581C-4BF8-AA9F-7AD59241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A1317-C724-4026-B91C-6EAC644E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827998-541E-4186-8F7F-D32F3EFC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2F7EE-689B-4D42-A4AA-6E98A95C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696817-08E8-4E69-BA41-CAA29D96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0C7B38-90AC-402B-A2EB-9106EBF5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302A8-5468-468D-95FD-6B44C14C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0DE8C-C7F6-4A80-B80B-C4FFBE51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FA7D9-AFF3-489C-A718-1118C4E8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B1CB7-2CD4-485C-BED5-3A19526C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AAD-6B58-4A45-AE67-3D2D50D5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52E7E-BEBC-49D5-9E7B-2B56AC8C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F6CC3-A48F-47B8-B9FF-8958018B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2FD61-5CFA-40AE-8557-5C939FE2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0AA1F-5F4F-41B5-B558-318B174C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B16B2-D2A0-4CF1-92EF-2DB7043D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C4BB0-8B3C-4114-A00B-D57E254D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A1CE0-7E05-4105-AEF9-A0984261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AC34A-3118-426F-BE93-B0EE59F0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8A474-6752-47AA-9352-FC875B9A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914B7-2A3C-46C9-B54E-891C7287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47C-4BC5-42B9-A7AA-0C75B5D7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DEB96-A4C5-4D4F-9211-0DE62779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F35EB-EDE2-44EF-9A6C-8C3E167B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D90C4-57A7-4E13-B49E-19990358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E232A-C3E6-430E-AA1A-8030C89D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DAB72-20D1-4BEA-A022-AC366FC5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BD4E2-63ED-49CF-A8C5-21C752FE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583D0-8C70-440A-B61D-9250A4BF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D1A15-65C4-4A1E-BF5A-560CA9A7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E8C76-3B25-4E0B-A9F9-2F2F7D04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1748C-CA61-4C03-9B39-2D3B6569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753D-B831-44D5-A74E-06C41A6B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8FC6F-22B5-42C9-BE64-50F234A5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BCC8-14AC-4545-88E3-0AB2F897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629-BC51-4A15-8B98-D4ADE700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F825-6BF8-4FE8-B7D1-07F4EE97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7212-CCD8-46E9-9AB9-85168D98BB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F494-19CC-49AC-B8C7-B787759796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F5C3-2BF5-45CB-94E4-5D2079C2F0B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5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87EE-7095-4354-A540-72E0B006C4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2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E6F9-6EDB-4262-B284-461417252FF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8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1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перо1"/>
          <p:cNvPicPr/>
          <p:nvPr/>
        </p:nvPicPr>
        <p:blipFill>
          <a:blip r:embed="rId1"/>
          <a:stretch/>
        </p:blipFill>
        <p:spPr>
          <a:xfrm>
            <a:off x="5796000" y="549360"/>
            <a:ext cx="2808360" cy="1790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А.С. Пушкин"/>
          <p:cNvPicPr/>
          <p:nvPr/>
        </p:nvPicPr>
        <p:blipFill>
          <a:blip r:embed="rId2"/>
          <a:stretch/>
        </p:blipFill>
        <p:spPr>
          <a:xfrm>
            <a:off x="755640" y="404640"/>
            <a:ext cx="1998720" cy="2376720"/>
          </a:xfrm>
          <a:prstGeom prst="rect">
            <a:avLst/>
          </a:prstGeom>
          <a:ln w="0">
            <a:noFill/>
          </a:ln>
        </p:spPr>
      </p:pic>
      <p:sp>
        <p:nvSpPr>
          <p:cNvPr id="296" name="WordArt 7"/>
          <p:cNvSpPr txBox="1"/>
          <p:nvPr/>
        </p:nvSpPr>
        <p:spPr>
          <a:xfrm>
            <a:off x="1332000" y="3789360"/>
            <a:ext cx="6696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по роману А.С.Пушкина "Евгений Онегин"-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сьмо Татьяны)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письмо Татьяны 2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5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" descr="перо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324000" y="1125360"/>
            <a:ext cx="882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3366"/>
                </a:solidFill>
                <a:latin typeface="Times New Roman"/>
              </a:rPr>
              <a:t>Je vous </a:t>
            </a:r>
            <a:r>
              <a:rPr b="1" i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écris - ayez bonté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t que doix je encore vous dir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Je maintenant  cones dans votre volont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vec mepris de me puni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онегин1.mp3" descr=""/>
          <p:cNvPicPr/>
          <p:nvPr/>
        </p:nvPicPr>
        <p:blipFill>
          <a:blip r:embed="rId2"/>
          <a:stretch/>
        </p:blipFill>
        <p:spPr>
          <a:xfrm>
            <a:off x="867564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1046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письмо Татьяны 4"/>
          <p:cNvPicPr/>
          <p:nvPr/>
        </p:nvPicPr>
        <p:blipFill>
          <a:blip r:embed="rId1"/>
          <a:stretch/>
        </p:blipFill>
        <p:spPr>
          <a:xfrm>
            <a:off x="-396720" y="-171360"/>
            <a:ext cx="5065560" cy="75880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перо2"/>
          <p:cNvPicPr/>
          <p:nvPr/>
        </p:nvPicPr>
        <p:blipFill>
          <a:blip r:embed="rId2"/>
          <a:stretch/>
        </p:blipFill>
        <p:spPr>
          <a:xfrm>
            <a:off x="5435640" y="3789360"/>
            <a:ext cx="3276720" cy="26100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4"/>
          <p:cNvSpPr/>
          <p:nvPr/>
        </p:nvSpPr>
        <p:spPr>
          <a:xfrm>
            <a:off x="4788000" y="189000"/>
            <a:ext cx="417672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«Зачем вы посетили </a:t>
            </a:r>
            <a:br>
              <a:rPr sz="3600"/>
            </a:b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                          нас?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Письмо Татьяны"/>
          <p:cNvPicPr/>
          <p:nvPr/>
        </p:nvPicPr>
        <p:blipFill>
          <a:blip r:embed="rId1"/>
          <a:stretch/>
        </p:blipFill>
        <p:spPr>
          <a:xfrm>
            <a:off x="-1116000" y="34920"/>
            <a:ext cx="1123308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Письмо Татьяны"/>
          <p:cNvPicPr/>
          <p:nvPr/>
        </p:nvPicPr>
        <p:blipFill>
          <a:blip r:embed="rId1"/>
          <a:stretch/>
        </p:blipFill>
        <p:spPr>
          <a:xfrm>
            <a:off x="-1116000" y="34920"/>
            <a:ext cx="11233080" cy="68756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евгений"/>
          <p:cNvPicPr/>
          <p:nvPr/>
        </p:nvPicPr>
        <p:blipFill>
          <a:blip r:embed="rId2"/>
          <a:stretch/>
        </p:blipFill>
        <p:spPr>
          <a:xfrm>
            <a:off x="250920" y="0"/>
            <a:ext cx="1714320" cy="2160720"/>
          </a:xfrm>
          <a:prstGeom prst="rect">
            <a:avLst/>
          </a:prstGeom>
          <a:ln w="0">
            <a:noFill/>
          </a:ln>
        </p:spPr>
      </p:pic>
      <p:pic>
        <p:nvPicPr>
          <p:cNvPr id="345" name="онегин2 новое.mp3" descr=""/>
          <p:cNvPicPr/>
          <p:nvPr/>
        </p:nvPicPr>
        <p:blipFill>
          <a:blip r:embed="rId3"/>
          <a:stretch/>
        </p:blipFill>
        <p:spPr>
          <a:xfrm>
            <a:off x="8459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48805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439272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«Но так и быть! Судьбу мо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Отныне я тебе вручаю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Перед тобою слёзы лью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Твоей защиты умоляю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Вообрази: я здесь одн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Никто меня не понимае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Рассудок мой изнемогае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И молча гибнуть я должна.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7" name="Picture 4" descr="Татьяна 1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7489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письмо татьяны 6"/>
          <p:cNvPicPr/>
          <p:nvPr/>
        </p:nvPicPr>
        <p:blipFill>
          <a:blip r:embed="rId2"/>
          <a:stretch/>
        </p:blipFill>
        <p:spPr>
          <a:xfrm>
            <a:off x="1116000" y="5084640"/>
            <a:ext cx="230508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" dur="2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" dur="2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5" dur="2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9" dur="2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3" dur="20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20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1" dur="2000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432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Monotype Corsiva"/>
              </a:rPr>
              <a:t>«Страшно перечесть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Monotype Corsiva"/>
              </a:rPr>
              <a:t>Стыдом и страхом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Monotype Corsiva"/>
              </a:rPr>
              <a:t>                     </a:t>
            </a:r>
            <a:r>
              <a:rPr b="1" i="1" lang="ru-RU" sz="3600" spc="-1" strike="noStrike">
                <a:solidFill>
                  <a:srgbClr val="800000"/>
                </a:solidFill>
                <a:latin typeface="Monotype Corsiva"/>
              </a:rPr>
              <a:t>замираю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Monotype Corsiva"/>
              </a:rPr>
              <a:t>Но мне порукой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Monotype Corsiva"/>
              </a:rPr>
              <a:t>                 </a:t>
            </a:r>
            <a:r>
              <a:rPr b="1" i="1" lang="ru-RU" sz="3600" spc="-1" strike="noStrike">
                <a:solidFill>
                  <a:srgbClr val="800000"/>
                </a:solidFill>
                <a:latin typeface="Monotype Corsiva"/>
              </a:rPr>
              <a:t>ваша честь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Monotype Corsiva"/>
              </a:rPr>
              <a:t>И смело ей себя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Monotype Corsiva"/>
              </a:rPr>
              <a:t>                   </a:t>
            </a:r>
            <a:r>
              <a:rPr b="1" i="1" lang="ru-RU" sz="3600" spc="-1" strike="noStrike">
                <a:solidFill>
                  <a:srgbClr val="800000"/>
                </a:solidFill>
                <a:latin typeface="Monotype Corsiva"/>
              </a:rPr>
              <a:t>вверяю...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0" name="Picture 3" descr="Татьяна 1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74898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письмо татьяны 6"/>
          <p:cNvPicPr/>
          <p:nvPr/>
        </p:nvPicPr>
        <p:blipFill>
          <a:blip r:embed="rId2"/>
          <a:stretch/>
        </p:blipFill>
        <p:spPr>
          <a:xfrm>
            <a:off x="684360" y="4508640"/>
            <a:ext cx="29527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5" descr="татьяна и онег8ин"/>
          <p:cNvPicPr/>
          <p:nvPr/>
        </p:nvPicPr>
        <p:blipFill>
          <a:blip r:embed="rId1"/>
          <a:stretch/>
        </p:blipFill>
        <p:spPr>
          <a:xfrm>
            <a:off x="1258920" y="0"/>
            <a:ext cx="6323040" cy="78217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" descr="перо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12000" y="5805360"/>
            <a:ext cx="936720" cy="7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" descr="Фонвизин М"/>
          <p:cNvPicPr/>
          <p:nvPr/>
        </p:nvPicPr>
        <p:blipFill>
          <a:blip r:embed="rId1"/>
          <a:stretch/>
        </p:blipFill>
        <p:spPr>
          <a:xfrm>
            <a:off x="250920" y="260280"/>
            <a:ext cx="2265120" cy="25210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Н"/>
          <p:cNvPicPr/>
          <p:nvPr/>
        </p:nvPicPr>
        <p:blipFill>
          <a:blip r:embed="rId2"/>
          <a:stretch/>
        </p:blipFill>
        <p:spPr>
          <a:xfrm>
            <a:off x="3564000" y="189000"/>
            <a:ext cx="4984560" cy="61912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6"/>
          <p:cNvSpPr/>
          <p:nvPr/>
        </p:nvSpPr>
        <p:spPr>
          <a:xfrm>
            <a:off x="3490200" y="6278400"/>
            <a:ext cx="52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Н.Д.Апухтина (Фонвизин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180360" y="2781360"/>
            <a:ext cx="293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М.А.Фонвиз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WordArt 6"/>
          <p:cNvSpPr txBox="1"/>
          <p:nvPr/>
        </p:nvSpPr>
        <p:spPr>
          <a:xfrm>
            <a:off x="684360" y="2997360"/>
            <a:ext cx="78483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шли годы...  Изменился мир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лько чувства у людей остались прежними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61" name="Picture 13" descr="pushkin_23"/>
          <p:cNvPicPr/>
          <p:nvPr/>
        </p:nvPicPr>
        <p:blipFill>
          <a:blip r:embed="rId1"/>
          <a:stretch/>
        </p:blipFill>
        <p:spPr>
          <a:xfrm>
            <a:off x="395280" y="404640"/>
            <a:ext cx="15159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4"/>
          <p:cNvSpPr txBox="1"/>
          <p:nvPr/>
        </p:nvSpPr>
        <p:spPr>
          <a:xfrm>
            <a:off x="1332000" y="3789360"/>
            <a:ext cx="6696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по роману А.С.Пушкина "Евгений Онегин"-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сьмо Татьяны)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8" name="Picture 7" descr="перо1"/>
          <p:cNvPicPr/>
          <p:nvPr/>
        </p:nvPicPr>
        <p:blipFill>
          <a:blip r:embed="rId1"/>
          <a:stretch/>
        </p:blipFill>
        <p:spPr>
          <a:xfrm>
            <a:off x="6227640" y="404640"/>
            <a:ext cx="2521080" cy="1606680"/>
          </a:xfrm>
          <a:prstGeom prst="rect">
            <a:avLst/>
          </a:prstGeom>
          <a:ln w="0">
            <a:noFill/>
          </a:ln>
        </p:spPr>
      </p:pic>
      <p:sp>
        <p:nvSpPr>
          <p:cNvPr id="299" name="WordArt 8"/>
          <p:cNvSpPr txBox="1"/>
          <p:nvPr/>
        </p:nvSpPr>
        <p:spPr>
          <a:xfrm>
            <a:off x="1042920" y="1773360"/>
            <a:ext cx="7093080" cy="47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ButtonPour">
              <a:avLst>
                <a:gd name="adj1" fmla="val 11581866"/>
                <a:gd name="adj2" fmla="val 58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Какие   старые   слова,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   как   кружится   голова"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0" name="Picture 11" descr="А.С. Пушкин"/>
          <p:cNvPicPr/>
          <p:nvPr/>
        </p:nvPicPr>
        <p:blipFill>
          <a:blip r:embed="rId7"/>
          <a:stretch/>
        </p:blipFill>
        <p:spPr>
          <a:xfrm>
            <a:off x="395280" y="549360"/>
            <a:ext cx="1512720" cy="1800000"/>
          </a:xfrm>
          <a:prstGeom prst="rect">
            <a:avLst/>
          </a:prstGeom>
          <a:ln w="0">
            <a:noFill/>
          </a:ln>
        </p:spPr>
      </p:pic>
      <p:pic>
        <p:nvPicPr>
          <p:cNvPr id="301" name="Толкунова1.mp3" descr=""/>
          <p:cNvPicPr/>
          <p:nvPr/>
        </p:nvPicPr>
        <p:blipFill>
          <a:blip r:embed="rId8"/>
          <a:stretch/>
        </p:blipFill>
        <p:spPr>
          <a:xfrm>
            <a:off x="684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1145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4"/>
          <p:cNvSpPr/>
          <p:nvPr/>
        </p:nvSpPr>
        <p:spPr>
          <a:xfrm rot="20193600">
            <a:off x="755640" y="836640"/>
            <a:ext cx="2808360" cy="1328760"/>
          </a:xfrm>
          <a:prstGeom prst="cloudCallout">
            <a:avLst>
              <a:gd name="adj1" fmla="val 12921"/>
              <a:gd name="adj2" fmla="val 11479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 rot="19574400">
            <a:off x="1342800" y="119664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счасть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AutoShape 6"/>
          <p:cNvSpPr/>
          <p:nvPr/>
        </p:nvSpPr>
        <p:spPr>
          <a:xfrm rot="20493600">
            <a:off x="5148000" y="4652640"/>
            <a:ext cx="3706560" cy="1257120"/>
          </a:xfrm>
          <a:prstGeom prst="cloudCallout">
            <a:avLst>
              <a:gd name="adj1" fmla="val -11944"/>
              <a:gd name="adj2" fmla="val -137472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Text Box 7"/>
          <p:cNvSpPr/>
          <p:nvPr/>
        </p:nvSpPr>
        <p:spPr>
          <a:xfrm rot="20253600">
            <a:off x="5341680" y="494136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заимопоним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AutoShape 8"/>
          <p:cNvSpPr/>
          <p:nvPr/>
        </p:nvSpPr>
        <p:spPr>
          <a:xfrm rot="18361800">
            <a:off x="-128160" y="3016080"/>
            <a:ext cx="2376360" cy="1617480"/>
          </a:xfrm>
          <a:prstGeom prst="cloudCallout">
            <a:avLst>
              <a:gd name="adj1" fmla="val 46754"/>
              <a:gd name="adj2" fmla="val 86796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Text Box 9"/>
          <p:cNvSpPr/>
          <p:nvPr/>
        </p:nvSpPr>
        <p:spPr>
          <a:xfrm rot="17798400">
            <a:off x="720" y="338868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испыт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AutoShape 10"/>
          <p:cNvSpPr/>
          <p:nvPr/>
        </p:nvSpPr>
        <p:spPr>
          <a:xfrm rot="1516800">
            <a:off x="6443280" y="549000"/>
            <a:ext cx="2376360" cy="1328760"/>
          </a:xfrm>
          <a:prstGeom prst="cloudCallout">
            <a:avLst>
              <a:gd name="adj1" fmla="val -32625"/>
              <a:gd name="adj2" fmla="val 146546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11"/>
          <p:cNvSpPr/>
          <p:nvPr/>
        </p:nvSpPr>
        <p:spPr>
          <a:xfrm rot="1668600">
            <a:off x="6787440" y="90792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ер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AutoShape 12"/>
          <p:cNvSpPr/>
          <p:nvPr/>
        </p:nvSpPr>
        <p:spPr>
          <a:xfrm rot="640800">
            <a:off x="550800" y="5151240"/>
            <a:ext cx="3870360" cy="1144440"/>
          </a:xfrm>
          <a:prstGeom prst="cloudCallout">
            <a:avLst>
              <a:gd name="adj1" fmla="val 8731"/>
              <a:gd name="adj2" fmla="val -153453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 Box 13"/>
          <p:cNvSpPr/>
          <p:nvPr/>
        </p:nvSpPr>
        <p:spPr>
          <a:xfrm rot="416400">
            <a:off x="1259640" y="5445000"/>
            <a:ext cx="25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чувствен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AutoShape 14"/>
          <p:cNvSpPr/>
          <p:nvPr/>
        </p:nvSpPr>
        <p:spPr>
          <a:xfrm rot="2868600">
            <a:off x="6728040" y="2282040"/>
            <a:ext cx="2425680" cy="1531800"/>
          </a:xfrm>
          <a:prstGeom prst="cloudCallout">
            <a:avLst>
              <a:gd name="adj1" fmla="val -37504"/>
              <a:gd name="adj2" fmla="val 88731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15"/>
          <p:cNvSpPr/>
          <p:nvPr/>
        </p:nvSpPr>
        <p:spPr>
          <a:xfrm rot="2515200">
            <a:off x="7313760" y="27810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стр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AutoShape 16"/>
          <p:cNvSpPr/>
          <p:nvPr/>
        </p:nvSpPr>
        <p:spPr>
          <a:xfrm>
            <a:off x="2771640" y="2205000"/>
            <a:ext cx="3457800" cy="1584360"/>
          </a:xfrm>
          <a:prstGeom prst="cloudCallout">
            <a:avLst>
              <a:gd name="adj1" fmla="val -20064"/>
              <a:gd name="adj2" fmla="val 37777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WordArt 17"/>
          <p:cNvSpPr txBox="1"/>
          <p:nvPr/>
        </p:nvSpPr>
        <p:spPr>
          <a:xfrm>
            <a:off x="3348000" y="2637000"/>
            <a:ext cx="244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 Ю Б О В 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AutoShape 18"/>
          <p:cNvSpPr/>
          <p:nvPr/>
        </p:nvSpPr>
        <p:spPr>
          <a:xfrm>
            <a:off x="3635280" y="333360"/>
            <a:ext cx="2737080" cy="1152720"/>
          </a:xfrm>
          <a:prstGeom prst="cloudCallout">
            <a:avLst>
              <a:gd name="adj1" fmla="val -11194"/>
              <a:gd name="adj2" fmla="val 87879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AutoShape 19"/>
          <p:cNvSpPr/>
          <p:nvPr/>
        </p:nvSpPr>
        <p:spPr>
          <a:xfrm>
            <a:off x="3276720" y="4437000"/>
            <a:ext cx="2663640" cy="936720"/>
          </a:xfrm>
          <a:prstGeom prst="cloudCallout">
            <a:avLst>
              <a:gd name="adj1" fmla="val -2143"/>
              <a:gd name="adj2" fmla="val -95254"/>
            </a:avLst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20"/>
          <p:cNvSpPr/>
          <p:nvPr/>
        </p:nvSpPr>
        <p:spPr>
          <a:xfrm>
            <a:off x="4111560" y="62064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еж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AutoShape 21"/>
          <p:cNvSpPr/>
          <p:nvPr/>
        </p:nvSpPr>
        <p:spPr>
          <a:xfrm rot="19965600">
            <a:off x="324000" y="333000"/>
            <a:ext cx="914400" cy="609480"/>
          </a:xfrm>
          <a:prstGeom prst="cloudCallout">
            <a:avLst>
              <a:gd name="adj1" fmla="val 16666"/>
              <a:gd name="adj2" fmla="val 25259"/>
            </a:avLst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AutoShape 22"/>
          <p:cNvSpPr/>
          <p:nvPr/>
        </p:nvSpPr>
        <p:spPr>
          <a:xfrm rot="20878800">
            <a:off x="7956720" y="5949720"/>
            <a:ext cx="914400" cy="609480"/>
          </a:xfrm>
          <a:prstGeom prst="cloudCallout">
            <a:avLst>
              <a:gd name="adj1" fmla="val -31328"/>
              <a:gd name="adj2" fmla="val 15430"/>
            </a:avLst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3549960" y="465300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страд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5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WordArt 4"/>
          <p:cNvSpPr txBox="1"/>
          <p:nvPr/>
        </p:nvSpPr>
        <p:spPr>
          <a:xfrm>
            <a:off x="468360" y="1125360"/>
            <a:ext cx="5400720" cy="3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машнее зада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5" name="Picture 6" descr="Татьяна 2"/>
          <p:cNvPicPr/>
          <p:nvPr/>
        </p:nvPicPr>
        <p:blipFill>
          <a:blip r:embed="rId3"/>
          <a:stretch/>
        </p:blipFill>
        <p:spPr>
          <a:xfrm>
            <a:off x="6588000" y="333360"/>
            <a:ext cx="2160720" cy="2951280"/>
          </a:xfrm>
          <a:prstGeom prst="rect">
            <a:avLst/>
          </a:prstGeom>
          <a:ln w="0">
            <a:noFill/>
          </a:ln>
        </p:spPr>
      </p:pic>
      <p:sp>
        <p:nvSpPr>
          <p:cNvPr id="386" name="WordArt 7"/>
          <p:cNvSpPr txBox="1"/>
          <p:nvPr/>
        </p:nvSpPr>
        <p:spPr>
          <a:xfrm>
            <a:off x="324000" y="1916280"/>
            <a:ext cx="6048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писать сочинение-эсс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6-7 предложений, очень субъективных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разговорной форме)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7" name="WordArt 8"/>
          <p:cNvSpPr txBox="1"/>
          <p:nvPr/>
        </p:nvSpPr>
        <p:spPr>
          <a:xfrm>
            <a:off x="179280" y="3429000"/>
            <a:ext cx="7777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Какой вы видите современную Татьяну?</a:t>
            </a:r>
            <a:endParaRPr b="1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Есть ли место героине романа в нашем мире?</a:t>
            </a:r>
            <a:endParaRPr b="1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88" name="Picture 9" descr="перо1"/>
          <p:cNvPicPr/>
          <p:nvPr/>
        </p:nvPicPr>
        <p:blipFill>
          <a:blip r:embed="rId4"/>
          <a:stretch/>
        </p:blipFill>
        <p:spPr>
          <a:xfrm>
            <a:off x="2771640" y="4797360"/>
            <a:ext cx="2664000" cy="1698840"/>
          </a:xfrm>
          <a:prstGeom prst="rect">
            <a:avLst/>
          </a:prstGeom>
          <a:ln w="0">
            <a:noFill/>
          </a:ln>
        </p:spPr>
      </p:pic>
      <p:pic>
        <p:nvPicPr>
          <p:cNvPr id="389" name="Толкунова2.mp3" descr=""/>
          <p:cNvPicPr/>
          <p:nvPr/>
        </p:nvPicPr>
        <p:blipFill>
          <a:blip r:embed="rId5"/>
          <a:stretch/>
        </p:blipFill>
        <p:spPr>
          <a:xfrm>
            <a:off x="468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55104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WordArt 4"/>
          <p:cNvSpPr txBox="1"/>
          <p:nvPr/>
        </p:nvSpPr>
        <p:spPr>
          <a:xfrm>
            <a:off x="0" y="189000"/>
            <a:ext cx="9540720" cy="59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ButtonPour">
              <a:avLst>
                <a:gd name="adj1" fmla="val 10800006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66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лагодарю  вас  за </a:t>
            </a:r>
            <a:endParaRPr b="1" lang="en-US" sz="1800" spc="1" strike="noStrike">
              <a:ln w="12600">
                <a:solidFill>
                  <a:srgbClr val="003366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003366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66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отрудничество  и  сотворчество</a:t>
            </a:r>
            <a:endParaRPr b="1" lang="en-US" sz="1800" spc="1" strike="noStrike">
              <a:ln w="12600">
                <a:solidFill>
                  <a:srgbClr val="003366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91" name="Picture 5" descr="Учитель с книгами 1"/>
          <p:cNvPicPr/>
          <p:nvPr/>
        </p:nvPicPr>
        <p:blipFill>
          <a:blip r:embed="rId6"/>
          <a:stretch/>
        </p:blipFill>
        <p:spPr>
          <a:xfrm>
            <a:off x="3564000" y="2060640"/>
            <a:ext cx="2232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Куприн"/>
          <p:cNvPicPr/>
          <p:nvPr/>
        </p:nvPicPr>
        <p:blipFill>
          <a:blip r:embed="rId2"/>
          <a:stretch/>
        </p:blipFill>
        <p:spPr>
          <a:xfrm>
            <a:off x="324000" y="189000"/>
            <a:ext cx="1809720" cy="23810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5"/>
          <p:cNvSpPr/>
          <p:nvPr/>
        </p:nvSpPr>
        <p:spPr>
          <a:xfrm>
            <a:off x="399240" y="249228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А.Купр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WordArt 6"/>
          <p:cNvSpPr txBox="1"/>
          <p:nvPr/>
        </p:nvSpPr>
        <p:spPr>
          <a:xfrm>
            <a:off x="2700360" y="1916280"/>
            <a:ext cx="612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 рассказа А.Куприна "Гранатовый браслет"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WordArt 7"/>
          <p:cNvSpPr txBox="1"/>
          <p:nvPr/>
        </p:nvSpPr>
        <p:spPr>
          <a:xfrm>
            <a:off x="971640" y="3141720"/>
            <a:ext cx="77040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Любовь бескорыстная, самоотверженная, не ждущаяя награды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, про которую сказано,- "сильна как смерть". Такая любовь,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я которой совершить любой подвиг, отдать жизнь,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йти на мучение -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WordArt 8"/>
          <p:cNvSpPr txBox="1"/>
          <p:nvPr/>
        </p:nvSpPr>
        <p:spPr>
          <a:xfrm>
            <a:off x="4932360" y="5373720"/>
            <a:ext cx="3745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все не труд, а одна радость...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08" name="Picture 9" descr="он и она1"/>
          <p:cNvPicPr/>
          <p:nvPr/>
        </p:nvPicPr>
        <p:blipFill>
          <a:blip r:embed="rId3"/>
          <a:stretch/>
        </p:blipFill>
        <p:spPr>
          <a:xfrm>
            <a:off x="1403280" y="530064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-243000"/>
            <a:ext cx="9144000" cy="6453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WordArt 4"/>
          <p:cNvSpPr txBox="1"/>
          <p:nvPr/>
        </p:nvSpPr>
        <p:spPr>
          <a:xfrm>
            <a:off x="611280" y="549360"/>
            <a:ext cx="460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н - единственный в мир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2" name="WordArt 5"/>
          <p:cNvSpPr txBox="1"/>
          <p:nvPr/>
        </p:nvSpPr>
        <p:spPr>
          <a:xfrm>
            <a:off x="611280" y="1341360"/>
            <a:ext cx="525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на - самая прекрасная на земл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Онегин и Татья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45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Письмо Татьяны 1"/>
          <p:cNvPicPr/>
          <p:nvPr/>
        </p:nvPicPr>
        <p:blipFill>
          <a:blip r:embed="rId1"/>
          <a:stretch/>
        </p:blipFill>
        <p:spPr>
          <a:xfrm>
            <a:off x="0" y="0"/>
            <a:ext cx="10693440" cy="570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Дневник исследовател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1600200"/>
          <a:ext cx="8229600" cy="4073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ючевые сло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ентарии к ни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письмо Татьяны 4"/>
          <p:cNvPicPr/>
          <p:nvPr/>
        </p:nvPicPr>
        <p:blipFill>
          <a:blip r:embed="rId1"/>
          <a:stretch/>
        </p:blipFill>
        <p:spPr>
          <a:xfrm>
            <a:off x="-396720" y="-171360"/>
            <a:ext cx="5065560" cy="7588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перо2"/>
          <p:cNvPicPr/>
          <p:nvPr/>
        </p:nvPicPr>
        <p:blipFill>
          <a:blip r:embed="rId2"/>
          <a:stretch/>
        </p:blipFill>
        <p:spPr>
          <a:xfrm>
            <a:off x="5435640" y="3429000"/>
            <a:ext cx="3276720" cy="261000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7"/>
          <p:cNvSpPr/>
          <p:nvPr/>
        </p:nvSpPr>
        <p:spPr>
          <a:xfrm>
            <a:off x="4356000" y="333360"/>
            <a:ext cx="4788000" cy="35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«Я к вам пишу – </a:t>
            </a:r>
            <a:br>
              <a:rPr sz="3600"/>
            </a:b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                   чего же боле?</a:t>
            </a:r>
            <a:br>
              <a:rPr sz="3600"/>
            </a:b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Что я могу ещё сказать?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письмо Татьяны 4"/>
          <p:cNvPicPr/>
          <p:nvPr/>
        </p:nvPicPr>
        <p:blipFill>
          <a:blip r:embed="rId1"/>
          <a:stretch/>
        </p:blipFill>
        <p:spPr>
          <a:xfrm>
            <a:off x="-396720" y="-171360"/>
            <a:ext cx="5065560" cy="7588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перо2"/>
          <p:cNvPicPr/>
          <p:nvPr/>
        </p:nvPicPr>
        <p:blipFill>
          <a:blip r:embed="rId2"/>
          <a:stretch/>
        </p:blipFill>
        <p:spPr>
          <a:xfrm>
            <a:off x="5435640" y="3789360"/>
            <a:ext cx="3276720" cy="261000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4"/>
          <p:cNvSpPr/>
          <p:nvPr/>
        </p:nvSpPr>
        <p:spPr>
          <a:xfrm>
            <a:off x="4788000" y="189000"/>
            <a:ext cx="417672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«Теперь, я знаю, </a:t>
            </a:r>
            <a:br>
              <a:rPr sz="3600"/>
            </a:b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                в вашей  воле                          </a:t>
            </a:r>
            <a:br>
              <a:rPr sz="3600"/>
            </a:b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Меня презреньем</a:t>
            </a:r>
            <a:br>
              <a:rPr sz="3600"/>
            </a:b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                наказать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4:08:53Z</dcterms:created>
  <dc:creator>vip</dc:creator>
  <dc:description/>
  <dc:language>en-US</dc:language>
  <cp:lastModifiedBy>Техно ПК</cp:lastModifiedBy>
  <dcterms:modified xsi:type="dcterms:W3CDTF">2013-01-26T12:48:36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