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C18-5BF7-4151-9DB6-FDF6AB50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AC6-7BF3-4E43-8193-F3E50974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B16-2DE1-4B92-A6A1-22BB75DE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D1C-003E-42BB-99EC-69987A03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D55-4573-492F-8F29-82C8ED5C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E9D-16D1-463E-9DE3-FAEB17FC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D6B-9CC1-43F5-8362-2AE3394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97C-6E2F-4DAC-89D4-3F61B11D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FC6-2EC1-4B4C-9D9B-56D89A60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1A9-EFBC-40C0-843B-413191B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DB8-A2C4-477F-B800-914948A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B36-EAC9-40B0-AE69-020FBCF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B45-7A3F-4D3F-A450-306A2BD12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907560"/>
            <a:ext cx="67690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БРАВО, МАЛЬЧИШ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У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3645000"/>
            <a:ext cx="1224000" cy="1150920"/>
          </a:xfrm>
          <a:prstGeom prst="donut">
            <a:avLst>
              <a:gd name="adj" fmla="val 11282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645000"/>
            <a:ext cx="1224000" cy="1150920"/>
          </a:xfrm>
          <a:prstGeom prst="donut">
            <a:avLst>
              <a:gd name="adj" fmla="val 12583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844640"/>
            <a:ext cx="1224000" cy="1150920"/>
          </a:xfrm>
          <a:prstGeom prst="donut">
            <a:avLst>
              <a:gd name="adj" fmla="val 12449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1844640"/>
            <a:ext cx="1224000" cy="1150920"/>
          </a:xfrm>
          <a:prstGeom prst="donut">
            <a:avLst>
              <a:gd name="adj" fmla="val 9986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773360"/>
            <a:ext cx="1224000" cy="1150920"/>
          </a:xfrm>
          <a:prstGeom prst="donut">
            <a:avLst>
              <a:gd name="adj" fmla="val 11282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1773360"/>
            <a:ext cx="1224000" cy="1150920"/>
          </a:xfrm>
          <a:prstGeom prst="donut">
            <a:avLst>
              <a:gd name="adj" fmla="val 12583"/>
            </a:avLst>
          </a:prstGeom>
          <a:solidFill>
            <a:srgbClr val="175f2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32360" y="3068640"/>
            <a:ext cx="3311640" cy="378936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611280" y="2781360"/>
            <a:ext cx="431640" cy="431640"/>
          </a:xfrm>
          <a:custGeom>
            <a:avLst/>
            <a:gdLst>
              <a:gd name="textAreaLeft" fmla="*/ 88920 w 431640"/>
              <a:gd name="textAreaRight" fmla="*/ 342720 w 431640"/>
              <a:gd name="textAreaTop" fmla="*/ 88920 h 431640"/>
              <a:gd name="textAreaBottom" fmla="*/ 342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153" y="4447"/>
                </a:lnTo>
                <a:lnTo>
                  <a:pt x="4447" y="4447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153" y="17153"/>
                </a:lnTo>
                <a:lnTo>
                  <a:pt x="17153" y="4447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447" y="17153"/>
                </a:lnTo>
                <a:lnTo>
                  <a:pt x="17153" y="17153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447" y="4447"/>
                </a:lnTo>
                <a:lnTo>
                  <a:pt x="4447" y="17153"/>
                </a:lnTo>
                <a:close/>
              </a:path>
              <a:path fill="darken" w="21600" h="21600">
                <a:moveTo>
                  <a:pt x="13165" y="10800"/>
                </a:moveTo>
                <a:lnTo>
                  <a:pt x="6065" y="15535"/>
                </a:lnTo>
                <a:lnTo>
                  <a:pt x="6065" y="6065"/>
                </a:lnTo>
                <a:close/>
              </a:path>
              <a:path fill="darken" w="21600" h="21600">
                <a:moveTo>
                  <a:pt x="14412" y="6065"/>
                </a:moveTo>
                <a:lnTo>
                  <a:pt x="14412" y="15535"/>
                </a:lnTo>
                <a:lnTo>
                  <a:pt x="15535" y="15535"/>
                </a:lnTo>
                <a:lnTo>
                  <a:pt x="15535" y="60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2700360" y="278136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12810" y="10800"/>
                </a:moveTo>
                <a:lnTo>
                  <a:pt x="6775" y="14825"/>
                </a:lnTo>
                <a:lnTo>
                  <a:pt x="6775" y="6775"/>
                </a:lnTo>
                <a:close/>
              </a:path>
              <a:path fill="darken" w="21600" h="21600">
                <a:moveTo>
                  <a:pt x="13870" y="6775"/>
                </a:moveTo>
                <a:lnTo>
                  <a:pt x="13870" y="14825"/>
                </a:lnTo>
                <a:lnTo>
                  <a:pt x="14825" y="14825"/>
                </a:lnTo>
                <a:lnTo>
                  <a:pt x="14825" y="67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4643280" y="2708280"/>
            <a:ext cx="432000" cy="431640"/>
          </a:xfrm>
          <a:custGeom>
            <a:avLst/>
            <a:gdLst>
              <a:gd name="textAreaLeft" fmla="*/ 108000 w 432000"/>
              <a:gd name="textAreaRight" fmla="*/ 324000 w 43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16218" y="5400"/>
                </a:lnTo>
                <a:lnTo>
                  <a:pt x="5400" y="5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16218" y="16200"/>
                </a:lnTo>
                <a:lnTo>
                  <a:pt x="16218" y="5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8" y="16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8" h="21600">
                <a:moveTo>
                  <a:pt x="12819" y="10800"/>
                </a:moveTo>
                <a:lnTo>
                  <a:pt x="6784" y="14825"/>
                </a:lnTo>
                <a:lnTo>
                  <a:pt x="6784" y="6775"/>
                </a:lnTo>
                <a:close/>
              </a:path>
              <a:path fill="darken" w="21618" h="21600">
                <a:moveTo>
                  <a:pt x="13879" y="6775"/>
                </a:moveTo>
                <a:lnTo>
                  <a:pt x="13879" y="14825"/>
                </a:lnTo>
                <a:lnTo>
                  <a:pt x="14834" y="14825"/>
                </a:lnTo>
                <a:lnTo>
                  <a:pt x="14834" y="67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2637000"/>
            <a:ext cx="431640" cy="50472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504720"/>
              <a:gd name="textAreaBottom" fmla="*/ 39708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16200" y="19854"/>
                </a:lnTo>
                <a:lnTo>
                  <a:pt x="16200" y="5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5400" y="19854"/>
                </a:lnTo>
                <a:lnTo>
                  <a:pt x="16200" y="19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5400" y="5400"/>
                </a:lnTo>
                <a:lnTo>
                  <a:pt x="5400" y="19854"/>
                </a:lnTo>
                <a:close/>
              </a:path>
              <a:path fill="darken" w="21600" h="25254">
                <a:moveTo>
                  <a:pt x="12810" y="12627"/>
                </a:moveTo>
                <a:lnTo>
                  <a:pt x="6775" y="16652"/>
                </a:lnTo>
                <a:lnTo>
                  <a:pt x="6775" y="8602"/>
                </a:lnTo>
                <a:close/>
              </a:path>
              <a:path fill="darken" w="21600" h="25254">
                <a:moveTo>
                  <a:pt x="13870" y="8602"/>
                </a:moveTo>
                <a:lnTo>
                  <a:pt x="13870" y="16652"/>
                </a:lnTo>
                <a:lnTo>
                  <a:pt x="14825" y="16652"/>
                </a:lnTo>
                <a:lnTo>
                  <a:pt x="14825" y="8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653000"/>
            <a:ext cx="468000" cy="504720"/>
          </a:xfrm>
          <a:custGeom>
            <a:avLst/>
            <a:gdLst>
              <a:gd name="textAreaLeft" fmla="*/ 117000 w 468000"/>
              <a:gd name="textAreaRight" fmla="*/ 351000 w 468000"/>
              <a:gd name="textAreaTop" fmla="*/ 117000 h 504720"/>
              <a:gd name="textAreaBottom" fmla="*/ 387720 h 504720"/>
            </a:gdLst>
            <a:ahLst/>
            <a:rect l="textAreaLeft" t="textAreaTop" r="textAreaRight" b="textAreaBottom"/>
            <a:pathLst>
              <a:path w="21600" h="23293">
                <a:moveTo>
                  <a:pt x="0" y="0"/>
                </a:moveTo>
                <a:lnTo>
                  <a:pt x="21600" y="0"/>
                </a:lnTo>
                <a:lnTo>
                  <a:pt x="21600" y="23293"/>
                </a:lnTo>
                <a:lnTo>
                  <a:pt x="0" y="23293"/>
                </a:lnTo>
                <a:close/>
              </a:path>
              <a:path fill="lightenLess" w="21600" h="2329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293">
                <a:moveTo>
                  <a:pt x="21600" y="0"/>
                </a:moveTo>
                <a:lnTo>
                  <a:pt x="21600" y="23293"/>
                </a:lnTo>
                <a:lnTo>
                  <a:pt x="16200" y="17893"/>
                </a:lnTo>
                <a:lnTo>
                  <a:pt x="16200" y="5400"/>
                </a:lnTo>
                <a:close/>
              </a:path>
              <a:path fill="darkenLess" w="21600" h="23293">
                <a:moveTo>
                  <a:pt x="21600" y="23293"/>
                </a:moveTo>
                <a:lnTo>
                  <a:pt x="0" y="23293"/>
                </a:lnTo>
                <a:lnTo>
                  <a:pt x="5400" y="17893"/>
                </a:lnTo>
                <a:lnTo>
                  <a:pt x="16200" y="17893"/>
                </a:lnTo>
                <a:close/>
              </a:path>
              <a:path fill="lighten" w="21600" h="23293">
                <a:moveTo>
                  <a:pt x="0" y="23293"/>
                </a:moveTo>
                <a:lnTo>
                  <a:pt x="0" y="0"/>
                </a:lnTo>
                <a:lnTo>
                  <a:pt x="5400" y="5400"/>
                </a:lnTo>
                <a:lnTo>
                  <a:pt x="5400" y="17893"/>
                </a:lnTo>
                <a:close/>
              </a:path>
              <a:path fill="darken" w="21600" h="23293">
                <a:moveTo>
                  <a:pt x="12810" y="11647"/>
                </a:moveTo>
                <a:lnTo>
                  <a:pt x="6775" y="15672"/>
                </a:lnTo>
                <a:lnTo>
                  <a:pt x="6775" y="7622"/>
                </a:lnTo>
                <a:close/>
              </a:path>
              <a:path fill="darken" w="21600" h="23293">
                <a:moveTo>
                  <a:pt x="13870" y="7622"/>
                </a:moveTo>
                <a:lnTo>
                  <a:pt x="13870" y="15672"/>
                </a:lnTo>
                <a:lnTo>
                  <a:pt x="14825" y="15672"/>
                </a:lnTo>
                <a:lnTo>
                  <a:pt x="14825" y="76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653000"/>
            <a:ext cx="465120" cy="539640"/>
          </a:xfrm>
          <a:custGeom>
            <a:avLst/>
            <a:gdLst>
              <a:gd name="textAreaLeft" fmla="*/ 116280 w 465120"/>
              <a:gd name="textAreaRight" fmla="*/ 348840 w 465120"/>
              <a:gd name="textAreaTop" fmla="*/ 116280 h 539640"/>
              <a:gd name="textAreaBottom" fmla="*/ 423360 h 539640"/>
            </a:gdLst>
            <a:ahLst/>
            <a:rect l="textAreaLeft" t="textAreaTop" r="textAreaRight" b="textAreaBottom"/>
            <a:pathLst>
              <a:path w="21600" h="25058">
                <a:moveTo>
                  <a:pt x="0" y="0"/>
                </a:moveTo>
                <a:lnTo>
                  <a:pt x="21600" y="0"/>
                </a:lnTo>
                <a:lnTo>
                  <a:pt x="21600" y="25058"/>
                </a:lnTo>
                <a:lnTo>
                  <a:pt x="0" y="25058"/>
                </a:lnTo>
                <a:close/>
              </a:path>
              <a:path fill="lightenLess" w="21600" h="2505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058">
                <a:moveTo>
                  <a:pt x="21600" y="0"/>
                </a:moveTo>
                <a:lnTo>
                  <a:pt x="21600" y="25058"/>
                </a:lnTo>
                <a:lnTo>
                  <a:pt x="16200" y="19658"/>
                </a:lnTo>
                <a:lnTo>
                  <a:pt x="16200" y="5400"/>
                </a:lnTo>
                <a:close/>
              </a:path>
              <a:path fill="darkenLess" w="21600" h="25058">
                <a:moveTo>
                  <a:pt x="21600" y="25058"/>
                </a:moveTo>
                <a:lnTo>
                  <a:pt x="0" y="25058"/>
                </a:lnTo>
                <a:lnTo>
                  <a:pt x="5400" y="19658"/>
                </a:lnTo>
                <a:lnTo>
                  <a:pt x="16200" y="19658"/>
                </a:lnTo>
                <a:close/>
              </a:path>
              <a:path fill="lighten" w="21600" h="25058">
                <a:moveTo>
                  <a:pt x="0" y="25058"/>
                </a:moveTo>
                <a:lnTo>
                  <a:pt x="0" y="0"/>
                </a:lnTo>
                <a:lnTo>
                  <a:pt x="5400" y="5400"/>
                </a:lnTo>
                <a:lnTo>
                  <a:pt x="5400" y="19658"/>
                </a:lnTo>
                <a:close/>
              </a:path>
              <a:path fill="darken" w="21600" h="25058">
                <a:moveTo>
                  <a:pt x="12810" y="12529"/>
                </a:moveTo>
                <a:lnTo>
                  <a:pt x="6775" y="16554"/>
                </a:lnTo>
                <a:lnTo>
                  <a:pt x="6775" y="8504"/>
                </a:lnTo>
                <a:close/>
              </a:path>
              <a:path fill="darken" w="21600" h="25058">
                <a:moveTo>
                  <a:pt x="13870" y="8504"/>
                </a:moveTo>
                <a:lnTo>
                  <a:pt x="13870" y="16554"/>
                </a:lnTo>
                <a:lnTo>
                  <a:pt x="14825" y="16554"/>
                </a:lnTo>
                <a:lnTo>
                  <a:pt x="14825" y="850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137160 w 684360"/>
              <a:gd name="textAreaRight" fmla="*/ 547200 w 684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1505" y="5400"/>
                </a:lnTo>
                <a:lnTo>
                  <a:pt x="5400" y="5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1505" y="16200"/>
                </a:lnTo>
                <a:lnTo>
                  <a:pt x="21505" y="5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05" y="16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Less" w="26905" h="21600">
                <a:moveTo>
                  <a:pt x="10277" y="6885"/>
                </a:moveTo>
                <a:lnTo>
                  <a:pt x="14297" y="6885"/>
                </a:lnTo>
                <a:lnTo>
                  <a:pt x="16627" y="8895"/>
                </a:lnTo>
                <a:lnTo>
                  <a:pt x="16627" y="14715"/>
                </a:lnTo>
                <a:lnTo>
                  <a:pt x="10277" y="14715"/>
                </a:lnTo>
                <a:close/>
              </a:path>
              <a:path fill="darken" w="26905" h="21600">
                <a:moveTo>
                  <a:pt x="14297" y="6885"/>
                </a:moveTo>
                <a:lnTo>
                  <a:pt x="16627" y="8895"/>
                </a:lnTo>
                <a:lnTo>
                  <a:pt x="14297" y="88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ЕНА, КАКИХ ВЕЛИКИХ РУССКИХ  ПОЛКОВОДЦЕВ НОСЯТ ОРДЕ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16720" y="3068640"/>
            <a:ext cx="2627280" cy="26272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2419200" cy="2565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2779560" cy="25318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СУВ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КУТУ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5805360"/>
            <a:ext cx="277164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ДЕН Ж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604360" y="6391440"/>
            <a:ext cx="539640" cy="466560"/>
          </a:xfrm>
          <a:custGeom>
            <a:avLst/>
            <a:gdLst>
              <a:gd name="textAreaLeft" fmla="*/ 116640 w 539640"/>
              <a:gd name="textAreaRight" fmla="*/ 423000 w 539640"/>
              <a:gd name="textAreaTop" fmla="*/ 116640 h 466560"/>
              <a:gd name="textAreaBottom" fmla="*/ 349920 h 46656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19581" y="5400"/>
                </a:lnTo>
                <a:lnTo>
                  <a:pt x="5400" y="5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19581" y="16200"/>
                </a:lnTo>
                <a:lnTo>
                  <a:pt x="19581" y="5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581" y="16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981" h="21600">
                <a:moveTo>
                  <a:pt x="8465" y="8900"/>
                </a:moveTo>
                <a:lnTo>
                  <a:pt x="10480" y="8900"/>
                </a:lnTo>
                <a:lnTo>
                  <a:pt x="10480" y="11965"/>
                </a:lnTo>
                <a:cubicBezTo>
                  <a:pt x="10480" y="12495"/>
                  <a:pt x="10940" y="12915"/>
                  <a:pt x="11535" y="12915"/>
                </a:cubicBezTo>
                <a:lnTo>
                  <a:pt x="12490" y="12915"/>
                </a:lnTo>
                <a:cubicBezTo>
                  <a:pt x="13085" y="12915"/>
                  <a:pt x="13545" y="12495"/>
                  <a:pt x="13545" y="11965"/>
                </a:cubicBezTo>
                <a:lnTo>
                  <a:pt x="13545" y="8900"/>
                </a:lnTo>
                <a:lnTo>
                  <a:pt x="12490" y="8900"/>
                </a:lnTo>
                <a:lnTo>
                  <a:pt x="14505" y="6885"/>
                </a:lnTo>
                <a:lnTo>
                  <a:pt x="16615" y="8900"/>
                </a:lnTo>
                <a:lnTo>
                  <a:pt x="15560" y="8900"/>
                </a:lnTo>
                <a:lnTo>
                  <a:pt x="15560" y="11965"/>
                </a:lnTo>
                <a:cubicBezTo>
                  <a:pt x="15560" y="13555"/>
                  <a:pt x="14080" y="15025"/>
                  <a:pt x="12490" y="15025"/>
                </a:cubicBezTo>
                <a:lnTo>
                  <a:pt x="11535" y="15025"/>
                </a:lnTo>
                <a:cubicBezTo>
                  <a:pt x="9945" y="15025"/>
                  <a:pt x="8465" y="13555"/>
                  <a:pt x="8465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М ПОПАЛИСЬ ПОГОНЫ ОФИЦЕРА СОВЕТСКОЙ АРМИИ. НА ПОГОНАХ 4 ЗВЁЗДОЧКИ. В КАКОМ ЧИНЕ БЫЛ ВЛАДЕЛЕЦ ЭТИХ ПОГ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671640" cy="285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376800" cy="4032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258920" y="6021360"/>
            <a:ext cx="295272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АПИ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476280"/>
              <a:gd name="textAreaBottom" fmla="*/ 35928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200" y="16565"/>
                </a:lnTo>
                <a:lnTo>
                  <a:pt x="16200" y="5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400" y="16565"/>
                </a:lnTo>
                <a:lnTo>
                  <a:pt x="16200" y="16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65"/>
                </a:lnTo>
                <a:close/>
              </a:path>
              <a:path fill="darken" w="21600" h="21965">
                <a:moveTo>
                  <a:pt x="6775" y="9082"/>
                </a:moveTo>
                <a:lnTo>
                  <a:pt x="8790" y="9082"/>
                </a:lnTo>
                <a:lnTo>
                  <a:pt x="8790" y="12147"/>
                </a:lnTo>
                <a:cubicBezTo>
                  <a:pt x="8790" y="12677"/>
                  <a:pt x="9250" y="13097"/>
                  <a:pt x="9845" y="13097"/>
                </a:cubicBezTo>
                <a:lnTo>
                  <a:pt x="10800" y="13097"/>
                </a:lnTo>
                <a:cubicBezTo>
                  <a:pt x="11395" y="13097"/>
                  <a:pt x="11855" y="12677"/>
                  <a:pt x="11855" y="12147"/>
                </a:cubicBezTo>
                <a:lnTo>
                  <a:pt x="11855" y="9082"/>
                </a:lnTo>
                <a:lnTo>
                  <a:pt x="10800" y="9082"/>
                </a:lnTo>
                <a:lnTo>
                  <a:pt x="12815" y="7067"/>
                </a:lnTo>
                <a:lnTo>
                  <a:pt x="14925" y="9082"/>
                </a:lnTo>
                <a:lnTo>
                  <a:pt x="13870" y="9082"/>
                </a:lnTo>
                <a:lnTo>
                  <a:pt x="13870" y="12147"/>
                </a:lnTo>
                <a:cubicBezTo>
                  <a:pt x="13870" y="13737"/>
                  <a:pt x="12390" y="15207"/>
                  <a:pt x="10800" y="15207"/>
                </a:cubicBezTo>
                <a:lnTo>
                  <a:pt x="9845" y="15207"/>
                </a:lnTo>
                <a:cubicBezTo>
                  <a:pt x="8255" y="15207"/>
                  <a:pt x="6775" y="13737"/>
                  <a:pt x="6775" y="121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Е ВИДЫ СПОРТИВНЫХ ЕДИНОБОРСТВ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1792440"/>
            <a:ext cx="3240000" cy="23112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48120" cy="239544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О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ИКБОКС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1280" y="422100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УКОПАШНЫЙ 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АТ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РЕКО-РИМСКАЯ 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1280" y="5013360"/>
            <a:ext cx="295272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ОЛЬН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9128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ХЭКВОН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ЗЮ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2952720" cy="505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А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6391440"/>
            <a:ext cx="466920" cy="466560"/>
          </a:xfrm>
          <a:custGeom>
            <a:avLst/>
            <a:gdLst>
              <a:gd name="textAreaLeft" fmla="*/ 116640 w 466920"/>
              <a:gd name="textAreaRight" fmla="*/ 350280 w 466920"/>
              <a:gd name="textAreaTop" fmla="*/ 116640 h 466560"/>
              <a:gd name="textAreaBottom" fmla="*/ 349920 h 466560"/>
            </a:gdLst>
            <a:ahLst/>
            <a:rect l="textAreaLeft" t="textAreaTop" r="textAreaRight" b="textAreaBottom"/>
            <a:pathLst>
              <a:path w="21617" h="21600">
                <a:moveTo>
                  <a:pt x="0" y="0"/>
                </a:moveTo>
                <a:lnTo>
                  <a:pt x="21617" y="0"/>
                </a:lnTo>
                <a:lnTo>
                  <a:pt x="21617" y="21600"/>
                </a:lnTo>
                <a:lnTo>
                  <a:pt x="0" y="21600"/>
                </a:lnTo>
                <a:close/>
              </a:path>
              <a:path fill="lightenLess" w="21617" h="21600">
                <a:moveTo>
                  <a:pt x="0" y="0"/>
                </a:moveTo>
                <a:lnTo>
                  <a:pt x="21617" y="0"/>
                </a:lnTo>
                <a:lnTo>
                  <a:pt x="16217" y="5400"/>
                </a:lnTo>
                <a:lnTo>
                  <a:pt x="5400" y="5400"/>
                </a:lnTo>
                <a:close/>
              </a:path>
              <a:path fill="darken" w="21617" h="21600">
                <a:moveTo>
                  <a:pt x="21617" y="0"/>
                </a:moveTo>
                <a:lnTo>
                  <a:pt x="21617" y="21600"/>
                </a:lnTo>
                <a:lnTo>
                  <a:pt x="16217" y="16200"/>
                </a:lnTo>
                <a:lnTo>
                  <a:pt x="16217" y="5400"/>
                </a:lnTo>
                <a:close/>
              </a:path>
              <a:path fill="darkenLess" w="21617" h="21600">
                <a:moveTo>
                  <a:pt x="2161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7" y="16200"/>
                </a:lnTo>
                <a:close/>
              </a:path>
              <a:path fill="lighten" w="2161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7" h="21600">
                <a:moveTo>
                  <a:pt x="6783" y="8900"/>
                </a:moveTo>
                <a:lnTo>
                  <a:pt x="8798" y="8900"/>
                </a:lnTo>
                <a:lnTo>
                  <a:pt x="8798" y="11965"/>
                </a:lnTo>
                <a:cubicBezTo>
                  <a:pt x="8798" y="12495"/>
                  <a:pt x="9258" y="12915"/>
                  <a:pt x="9853" y="12915"/>
                </a:cubicBezTo>
                <a:lnTo>
                  <a:pt x="10808" y="12915"/>
                </a:lnTo>
                <a:cubicBezTo>
                  <a:pt x="11403" y="12915"/>
                  <a:pt x="11863" y="12495"/>
                  <a:pt x="11863" y="11965"/>
                </a:cubicBezTo>
                <a:lnTo>
                  <a:pt x="11863" y="8900"/>
                </a:lnTo>
                <a:lnTo>
                  <a:pt x="10808" y="8900"/>
                </a:lnTo>
                <a:lnTo>
                  <a:pt x="12823" y="6885"/>
                </a:lnTo>
                <a:lnTo>
                  <a:pt x="14933" y="8900"/>
                </a:lnTo>
                <a:lnTo>
                  <a:pt x="13878" y="8900"/>
                </a:lnTo>
                <a:lnTo>
                  <a:pt x="13878" y="11965"/>
                </a:lnTo>
                <a:cubicBezTo>
                  <a:pt x="13878" y="13555"/>
                  <a:pt x="12398" y="15025"/>
                  <a:pt x="10808" y="15025"/>
                </a:cubicBezTo>
                <a:lnTo>
                  <a:pt x="9853" y="15025"/>
                </a:lnTo>
                <a:cubicBezTo>
                  <a:pt x="8263" y="15025"/>
                  <a:pt x="6783" y="13555"/>
                  <a:pt x="6783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КАРОВ, КАЛАШНИКОВ – ЧТО ИХ СВЯЗЫВАЕТ С ВООРУЖЁННЫМИ СИЛАМИ РОСС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778200" cy="2835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743280" cy="280836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5292720" y="5805360"/>
            <a:ext cx="3384720" cy="765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ИСТОЛЕТ МАК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877000"/>
            <a:ext cx="3384720" cy="765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ВТОМАТ КАЛАШ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639280" y="6308640"/>
            <a:ext cx="504720" cy="549360"/>
          </a:xfrm>
          <a:custGeom>
            <a:avLst/>
            <a:gdLst>
              <a:gd name="textAreaLeft" fmla="*/ 126000 w 504720"/>
              <a:gd name="textAreaRight" fmla="*/ 378720 w 504720"/>
              <a:gd name="textAreaTop" fmla="*/ 126000 h 549360"/>
              <a:gd name="textAreaBottom" fmla="*/ 4233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16200" y="18109"/>
                </a:lnTo>
                <a:lnTo>
                  <a:pt x="16200" y="5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5400" y="18109"/>
                </a:lnTo>
                <a:lnTo>
                  <a:pt x="16200" y="18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5400" y="5400"/>
                </a:lnTo>
                <a:lnTo>
                  <a:pt x="5400" y="18109"/>
                </a:lnTo>
                <a:close/>
              </a:path>
              <a:path fill="darken" w="21600" h="23509">
                <a:moveTo>
                  <a:pt x="6775" y="9855"/>
                </a:moveTo>
                <a:lnTo>
                  <a:pt x="8790" y="9855"/>
                </a:lnTo>
                <a:lnTo>
                  <a:pt x="8790" y="12920"/>
                </a:lnTo>
                <a:cubicBezTo>
                  <a:pt x="8790" y="13450"/>
                  <a:pt x="9250" y="13870"/>
                  <a:pt x="9845" y="13870"/>
                </a:cubicBezTo>
                <a:lnTo>
                  <a:pt x="10800" y="13870"/>
                </a:lnTo>
                <a:cubicBezTo>
                  <a:pt x="11395" y="13870"/>
                  <a:pt x="11855" y="13450"/>
                  <a:pt x="11855" y="12920"/>
                </a:cubicBezTo>
                <a:lnTo>
                  <a:pt x="11855" y="9855"/>
                </a:lnTo>
                <a:lnTo>
                  <a:pt x="10800" y="9855"/>
                </a:lnTo>
                <a:lnTo>
                  <a:pt x="12815" y="7840"/>
                </a:lnTo>
                <a:lnTo>
                  <a:pt x="14925" y="9855"/>
                </a:lnTo>
                <a:lnTo>
                  <a:pt x="13870" y="9855"/>
                </a:lnTo>
                <a:lnTo>
                  <a:pt x="13870" y="12920"/>
                </a:lnTo>
                <a:cubicBezTo>
                  <a:pt x="13870" y="14510"/>
                  <a:pt x="12390" y="15980"/>
                  <a:pt x="10800" y="15980"/>
                </a:cubicBezTo>
                <a:lnTo>
                  <a:pt x="9845" y="15980"/>
                </a:lnTo>
                <a:cubicBezTo>
                  <a:pt x="8255" y="15980"/>
                  <a:pt x="6775" y="14510"/>
                  <a:pt x="6775" y="1292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АЯ БОЕВАЯ ТЕХНИКА ПОЛУЧИЛА НАЗВАНИЕ ОТ ИМЕНИ ЖИВОТ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4105080" cy="17650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168720" cy="2076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319200" cy="201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3311640" cy="1833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5280" y="4005360"/>
            <a:ext cx="352728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Е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6308640"/>
            <a:ext cx="352764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ЧЁРНАЯ А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6426360"/>
            <a:ext cx="3527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3789360"/>
            <a:ext cx="3527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ЛИГ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476280"/>
              <a:gd name="textAreaBottom" fmla="*/ 35928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200" y="16565"/>
                </a:lnTo>
                <a:lnTo>
                  <a:pt x="16200" y="5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400" y="16565"/>
                </a:lnTo>
                <a:lnTo>
                  <a:pt x="16200" y="16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65"/>
                </a:lnTo>
                <a:close/>
              </a:path>
              <a:path fill="darken" w="21600" h="21965">
                <a:moveTo>
                  <a:pt x="6775" y="9082"/>
                </a:moveTo>
                <a:lnTo>
                  <a:pt x="8790" y="9082"/>
                </a:lnTo>
                <a:lnTo>
                  <a:pt x="8790" y="12147"/>
                </a:lnTo>
                <a:cubicBezTo>
                  <a:pt x="8790" y="12677"/>
                  <a:pt x="9250" y="13097"/>
                  <a:pt x="9845" y="13097"/>
                </a:cubicBezTo>
                <a:lnTo>
                  <a:pt x="10800" y="13097"/>
                </a:lnTo>
                <a:cubicBezTo>
                  <a:pt x="11395" y="13097"/>
                  <a:pt x="11855" y="12677"/>
                  <a:pt x="11855" y="12147"/>
                </a:cubicBezTo>
                <a:lnTo>
                  <a:pt x="11855" y="9082"/>
                </a:lnTo>
                <a:lnTo>
                  <a:pt x="10800" y="9082"/>
                </a:lnTo>
                <a:lnTo>
                  <a:pt x="12815" y="7067"/>
                </a:lnTo>
                <a:lnTo>
                  <a:pt x="14925" y="9082"/>
                </a:lnTo>
                <a:lnTo>
                  <a:pt x="13870" y="9082"/>
                </a:lnTo>
                <a:lnTo>
                  <a:pt x="13870" y="12147"/>
                </a:lnTo>
                <a:cubicBezTo>
                  <a:pt x="13870" y="13737"/>
                  <a:pt x="12390" y="15207"/>
                  <a:pt x="10800" y="15207"/>
                </a:cubicBezTo>
                <a:lnTo>
                  <a:pt x="9845" y="15207"/>
                </a:lnTo>
                <a:cubicBezTo>
                  <a:pt x="8255" y="15207"/>
                  <a:pt x="6775" y="13737"/>
                  <a:pt x="6775" y="121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КАКОГО СЕЛА РОДОМ ИЛЬЯ МУРОМ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262480" cy="44308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492360" y="6165720"/>
            <a:ext cx="3313080" cy="692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РАЧА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101160 w 468360"/>
              <a:gd name="textAreaRight" fmla="*/ 367200 w 46836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19598" y="5400"/>
                </a:lnTo>
                <a:lnTo>
                  <a:pt x="5400" y="5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19598" y="16200"/>
                </a:lnTo>
                <a:lnTo>
                  <a:pt x="19598" y="5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598" y="16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998" h="21600">
                <a:moveTo>
                  <a:pt x="8474" y="8900"/>
                </a:moveTo>
                <a:lnTo>
                  <a:pt x="10489" y="8900"/>
                </a:lnTo>
                <a:lnTo>
                  <a:pt x="10489" y="11965"/>
                </a:lnTo>
                <a:cubicBezTo>
                  <a:pt x="10489" y="12495"/>
                  <a:pt x="10949" y="12915"/>
                  <a:pt x="11544" y="12915"/>
                </a:cubicBezTo>
                <a:lnTo>
                  <a:pt x="12499" y="12915"/>
                </a:lnTo>
                <a:cubicBezTo>
                  <a:pt x="13094" y="12915"/>
                  <a:pt x="13554" y="12495"/>
                  <a:pt x="13554" y="11965"/>
                </a:cubicBezTo>
                <a:lnTo>
                  <a:pt x="13554" y="8900"/>
                </a:lnTo>
                <a:lnTo>
                  <a:pt x="12499" y="8900"/>
                </a:lnTo>
                <a:lnTo>
                  <a:pt x="14514" y="6885"/>
                </a:lnTo>
                <a:lnTo>
                  <a:pt x="16624" y="8900"/>
                </a:lnTo>
                <a:lnTo>
                  <a:pt x="15569" y="8900"/>
                </a:lnTo>
                <a:lnTo>
                  <a:pt x="15569" y="11965"/>
                </a:lnTo>
                <a:cubicBezTo>
                  <a:pt x="15569" y="13555"/>
                  <a:pt x="14089" y="15025"/>
                  <a:pt x="12499" y="15025"/>
                </a:cubicBezTo>
                <a:lnTo>
                  <a:pt x="11544" y="15025"/>
                </a:lnTo>
                <a:cubicBezTo>
                  <a:pt x="9954" y="15025"/>
                  <a:pt x="8474" y="13555"/>
                  <a:pt x="8474" y="1196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359240" cy="5155920"/>
          </a:xfrm>
          <a:prstGeom prst="rect">
            <a:avLst/>
          </a:prstGeom>
          <a:ln w="50760">
            <a:solidFill>
              <a:srgbClr val="6699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79280" y="1413000"/>
            <a:ext cx="4249800" cy="5038560"/>
          </a:xfrm>
          <a:prstGeom prst="foldedCorner">
            <a:avLst>
              <a:gd name="adj" fmla="val 18796"/>
            </a:avLst>
          </a:prstGeom>
          <a:solidFill>
            <a:srgbClr val="ffffff"/>
          </a:soli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 ДОЛЖНЫ ВЗ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РЕЖНО ДЕВ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КИ И ДО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Ё ДО С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Я ДЕВ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ШИФРОВАН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ДЕ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565360"/>
            <a:ext cx="2271600" cy="2232000"/>
          </a:xfrm>
          <a:custGeom>
            <a:avLst/>
            <a:gdLst>
              <a:gd name="textAreaLeft" fmla="*/ 533880 w 2271600"/>
              <a:gd name="textAreaRight" fmla="*/ 1736280 w 2271600"/>
              <a:gd name="textAreaTop" fmla="*/ 262440 h 2232000"/>
              <a:gd name="textAreaBottom" fmla="*/ 1400040 h 22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492280"/>
            <a:ext cx="2271600" cy="2232000"/>
          </a:xfrm>
          <a:custGeom>
            <a:avLst/>
            <a:gdLst>
              <a:gd name="textAreaLeft" fmla="*/ 533880 w 2271600"/>
              <a:gd name="textAreaRight" fmla="*/ 1736280 w 2271600"/>
              <a:gd name="textAreaTop" fmla="*/ 262440 h 2232000"/>
              <a:gd name="textAreaBottom" fmla="*/ 1400040 h 22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538200" cy="610920"/>
          </a:xfrm>
          <a:custGeom>
            <a:avLst/>
            <a:gdLst>
              <a:gd name="textAreaLeft" fmla="*/ 134640 w 538200"/>
              <a:gd name="textAreaRight" fmla="*/ 403920 w 538200"/>
              <a:gd name="textAreaTop" fmla="*/ 134640 h 610920"/>
              <a:gd name="textAreaBottom" fmla="*/ 476640 h 610920"/>
            </a:gdLst>
            <a:ahLst/>
            <a:rect l="textAreaLeft" t="textAreaTop" r="textAreaRight" b="textAreaBottom"/>
            <a:pathLst>
              <a:path w="21600" h="24517">
                <a:moveTo>
                  <a:pt x="0" y="0"/>
                </a:moveTo>
                <a:lnTo>
                  <a:pt x="21600" y="0"/>
                </a:lnTo>
                <a:lnTo>
                  <a:pt x="21600" y="24517"/>
                </a:lnTo>
                <a:lnTo>
                  <a:pt x="0" y="24517"/>
                </a:lnTo>
                <a:close/>
              </a:path>
              <a:path fill="lightenLess" w="21600" h="24517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517">
                <a:moveTo>
                  <a:pt x="21600" y="0"/>
                </a:moveTo>
                <a:lnTo>
                  <a:pt x="21600" y="24517"/>
                </a:lnTo>
                <a:lnTo>
                  <a:pt x="16200" y="19117"/>
                </a:lnTo>
                <a:lnTo>
                  <a:pt x="16200" y="5400"/>
                </a:lnTo>
                <a:close/>
              </a:path>
              <a:path fill="darkenLess" w="21600" h="24517">
                <a:moveTo>
                  <a:pt x="21600" y="24517"/>
                </a:moveTo>
                <a:lnTo>
                  <a:pt x="0" y="24517"/>
                </a:lnTo>
                <a:lnTo>
                  <a:pt x="5400" y="19117"/>
                </a:lnTo>
                <a:lnTo>
                  <a:pt x="16200" y="19117"/>
                </a:lnTo>
                <a:close/>
              </a:path>
              <a:path fill="lighten" w="21600" h="24517">
                <a:moveTo>
                  <a:pt x="0" y="24517"/>
                </a:moveTo>
                <a:lnTo>
                  <a:pt x="0" y="0"/>
                </a:lnTo>
                <a:lnTo>
                  <a:pt x="5400" y="5400"/>
                </a:lnTo>
                <a:lnTo>
                  <a:pt x="5400" y="19117"/>
                </a:lnTo>
                <a:close/>
              </a:path>
              <a:path fill="darkenLess" w="21600" h="24517">
                <a:moveTo>
                  <a:pt x="7625" y="8343"/>
                </a:moveTo>
                <a:lnTo>
                  <a:pt x="11645" y="8343"/>
                </a:lnTo>
                <a:lnTo>
                  <a:pt x="13975" y="10353"/>
                </a:lnTo>
                <a:lnTo>
                  <a:pt x="13975" y="16173"/>
                </a:lnTo>
                <a:lnTo>
                  <a:pt x="7625" y="16173"/>
                </a:lnTo>
                <a:close/>
              </a:path>
              <a:path fill="darken" w="21600" h="24517">
                <a:moveTo>
                  <a:pt x="11645" y="8343"/>
                </a:moveTo>
                <a:lnTo>
                  <a:pt x="13975" y="10353"/>
                </a:lnTo>
                <a:lnTo>
                  <a:pt x="11645" y="103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2565360"/>
            <a:ext cx="609480" cy="64944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16200" y="17615"/>
                </a:lnTo>
                <a:lnTo>
                  <a:pt x="16200" y="5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5400" y="17615"/>
                </a:lnTo>
                <a:lnTo>
                  <a:pt x="16200" y="17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5400" y="5400"/>
                </a:lnTo>
                <a:lnTo>
                  <a:pt x="5400" y="17615"/>
                </a:lnTo>
                <a:close/>
              </a:path>
              <a:path fill="darkenLess" w="21600" h="23015">
                <a:moveTo>
                  <a:pt x="7625" y="7593"/>
                </a:moveTo>
                <a:lnTo>
                  <a:pt x="11645" y="7593"/>
                </a:lnTo>
                <a:lnTo>
                  <a:pt x="13975" y="9603"/>
                </a:lnTo>
                <a:lnTo>
                  <a:pt x="13975" y="15423"/>
                </a:lnTo>
                <a:lnTo>
                  <a:pt x="7625" y="15423"/>
                </a:lnTo>
                <a:close/>
              </a:path>
              <a:path fill="darken" w="21600" h="23015">
                <a:moveTo>
                  <a:pt x="11645" y="7593"/>
                </a:moveTo>
                <a:lnTo>
                  <a:pt x="13975" y="9603"/>
                </a:lnTo>
                <a:lnTo>
                  <a:pt x="11645" y="96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87648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639280" y="6354720"/>
            <a:ext cx="504720" cy="503280"/>
          </a:xfrm>
          <a:custGeom>
            <a:avLst/>
            <a:gdLst>
              <a:gd name="textAreaLeft" fmla="*/ 77760 w 504720"/>
              <a:gd name="textAreaRight" fmla="*/ 426960 w 504720"/>
              <a:gd name="textAreaTop" fmla="*/ 77760 h 503280"/>
              <a:gd name="textAreaBottom" fmla="*/ 42552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18323" y="3339"/>
                </a:lnTo>
                <a:lnTo>
                  <a:pt x="3339" y="3339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18323" y="18261"/>
                </a:lnTo>
                <a:lnTo>
                  <a:pt x="18323" y="3339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3339" y="18261"/>
                </a:lnTo>
                <a:lnTo>
                  <a:pt x="18323" y="18261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3339" y="3339"/>
                </a:lnTo>
                <a:lnTo>
                  <a:pt x="3339" y="18261"/>
                </a:lnTo>
                <a:close/>
              </a:path>
              <a:path fill="darken" w="21662" h="21600">
                <a:moveTo>
                  <a:pt x="5270" y="8175"/>
                </a:moveTo>
                <a:lnTo>
                  <a:pt x="8054" y="8175"/>
                </a:lnTo>
                <a:lnTo>
                  <a:pt x="8054" y="12410"/>
                </a:lnTo>
                <a:cubicBezTo>
                  <a:pt x="8054" y="13142"/>
                  <a:pt x="8689" y="13722"/>
                  <a:pt x="9511" y="13722"/>
                </a:cubicBezTo>
                <a:lnTo>
                  <a:pt x="10831" y="13722"/>
                </a:lnTo>
                <a:cubicBezTo>
                  <a:pt x="11653" y="13722"/>
                  <a:pt x="12289" y="13142"/>
                  <a:pt x="12289" y="12410"/>
                </a:cubicBezTo>
                <a:lnTo>
                  <a:pt x="12289" y="8175"/>
                </a:lnTo>
                <a:lnTo>
                  <a:pt x="10831" y="8175"/>
                </a:lnTo>
                <a:lnTo>
                  <a:pt x="13615" y="5391"/>
                </a:lnTo>
                <a:lnTo>
                  <a:pt x="16530" y="8175"/>
                </a:lnTo>
                <a:lnTo>
                  <a:pt x="15073" y="8175"/>
                </a:lnTo>
                <a:lnTo>
                  <a:pt x="15073" y="12410"/>
                </a:lnTo>
                <a:cubicBezTo>
                  <a:pt x="15073" y="14606"/>
                  <a:pt x="13028" y="16638"/>
                  <a:pt x="10831" y="16638"/>
                </a:cubicBezTo>
                <a:lnTo>
                  <a:pt x="9511" y="16638"/>
                </a:lnTo>
                <a:cubicBezTo>
                  <a:pt x="7315" y="16638"/>
                  <a:pt x="5270" y="14606"/>
                  <a:pt x="5270" y="1241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ЛЬНИКОВА К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3672000" cy="609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135000 w 539640"/>
              <a:gd name="textAreaRight" fmla="*/ 405000 w 539640"/>
              <a:gd name="textAreaTop" fmla="*/ 135000 h 549360"/>
              <a:gd name="textAreaBottom" fmla="*/ 41472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16200" y="16589"/>
                </a:lnTo>
                <a:lnTo>
                  <a:pt x="16200" y="5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5400" y="16589"/>
                </a:lnTo>
                <a:lnTo>
                  <a:pt x="16200" y="16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5400" y="5400"/>
                </a:lnTo>
                <a:lnTo>
                  <a:pt x="5400" y="16589"/>
                </a:lnTo>
                <a:close/>
              </a:path>
              <a:path fill="darken" w="21600" h="21989">
                <a:moveTo>
                  <a:pt x="10800" y="6994"/>
                </a:moveTo>
                <a:lnTo>
                  <a:pt x="12280" y="8494"/>
                </a:lnTo>
                <a:lnTo>
                  <a:pt x="12280" y="7494"/>
                </a:lnTo>
                <a:lnTo>
                  <a:pt x="13300" y="7494"/>
                </a:lnTo>
                <a:lnTo>
                  <a:pt x="13300" y="9514"/>
                </a:lnTo>
                <a:lnTo>
                  <a:pt x="14800" y="10994"/>
                </a:lnTo>
                <a:lnTo>
                  <a:pt x="13850" y="10994"/>
                </a:lnTo>
                <a:lnTo>
                  <a:pt x="13850" y="15124"/>
                </a:lnTo>
                <a:lnTo>
                  <a:pt x="7750" y="15124"/>
                </a:lnTo>
                <a:lnTo>
                  <a:pt x="7750" y="10994"/>
                </a:lnTo>
                <a:lnTo>
                  <a:pt x="6800" y="10994"/>
                </a:lnTo>
                <a:close/>
              </a:path>
              <a:path fill="darkenLess" w="21600" h="21989">
                <a:moveTo>
                  <a:pt x="12280" y="8494"/>
                </a:moveTo>
                <a:lnTo>
                  <a:pt x="12280" y="7494"/>
                </a:lnTo>
                <a:lnTo>
                  <a:pt x="13300" y="7494"/>
                </a:lnTo>
                <a:lnTo>
                  <a:pt x="13300" y="9514"/>
                </a:lnTo>
                <a:close/>
              </a:path>
              <a:path fill="darkenLess" w="21600" h="21989">
                <a:moveTo>
                  <a:pt x="10270" y="13004"/>
                </a:moveTo>
                <a:lnTo>
                  <a:pt x="11330" y="13004"/>
                </a:lnTo>
                <a:lnTo>
                  <a:pt x="11330" y="15124"/>
                </a:lnTo>
                <a:lnTo>
                  <a:pt x="13850" y="15124"/>
                </a:lnTo>
                <a:lnTo>
                  <a:pt x="13850" y="10994"/>
                </a:lnTo>
                <a:lnTo>
                  <a:pt x="7750" y="10994"/>
                </a:lnTo>
                <a:lnTo>
                  <a:pt x="7750" y="15124"/>
                </a:lnTo>
                <a:lnTo>
                  <a:pt x="10270" y="151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3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ЕНЬ ЗАЩИТНИКА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УЖНИКОВА ВИК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41760" y="1047600"/>
            <a:ext cx="341460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137160 w 684360"/>
              <a:gd name="textAreaRight" fmla="*/ 547200 w 684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1505" y="5400"/>
                </a:lnTo>
                <a:lnTo>
                  <a:pt x="5400" y="5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1505" y="16200"/>
                </a:lnTo>
                <a:lnTo>
                  <a:pt x="21505" y="5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1505" y="16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6905" h="21600">
                <a:moveTo>
                  <a:pt x="13452" y="6800"/>
                </a:moveTo>
                <a:lnTo>
                  <a:pt x="14932" y="8300"/>
                </a:lnTo>
                <a:lnTo>
                  <a:pt x="14932" y="7300"/>
                </a:lnTo>
                <a:lnTo>
                  <a:pt x="15952" y="7300"/>
                </a:lnTo>
                <a:lnTo>
                  <a:pt x="15952" y="9320"/>
                </a:lnTo>
                <a:lnTo>
                  <a:pt x="17452" y="10800"/>
                </a:lnTo>
                <a:lnTo>
                  <a:pt x="16502" y="10800"/>
                </a:lnTo>
                <a:lnTo>
                  <a:pt x="16502" y="14930"/>
                </a:lnTo>
                <a:lnTo>
                  <a:pt x="10402" y="14930"/>
                </a:lnTo>
                <a:lnTo>
                  <a:pt x="10402" y="10800"/>
                </a:lnTo>
                <a:lnTo>
                  <a:pt x="9452" y="10800"/>
                </a:lnTo>
                <a:close/>
              </a:path>
              <a:path fill="darkenLess" w="26905" h="21600">
                <a:moveTo>
                  <a:pt x="14932" y="8300"/>
                </a:moveTo>
                <a:lnTo>
                  <a:pt x="14932" y="7300"/>
                </a:lnTo>
                <a:lnTo>
                  <a:pt x="15952" y="7300"/>
                </a:lnTo>
                <a:lnTo>
                  <a:pt x="15952" y="9320"/>
                </a:lnTo>
                <a:close/>
              </a:path>
              <a:path fill="darkenLess" w="26905" h="21600">
                <a:moveTo>
                  <a:pt x="12922" y="12810"/>
                </a:moveTo>
                <a:lnTo>
                  <a:pt x="13982" y="12810"/>
                </a:lnTo>
                <a:lnTo>
                  <a:pt x="13982" y="14930"/>
                </a:lnTo>
                <a:lnTo>
                  <a:pt x="16502" y="14930"/>
                </a:lnTo>
                <a:lnTo>
                  <a:pt x="16502" y="10800"/>
                </a:lnTo>
                <a:lnTo>
                  <a:pt x="10402" y="10800"/>
                </a:lnTo>
                <a:lnTo>
                  <a:pt x="10402" y="14930"/>
                </a:lnTo>
                <a:lnTo>
                  <a:pt x="12922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765000"/>
            <a:ext cx="6696000" cy="2521080"/>
          </a:xfrm>
          <a:prstGeom prst="foldedCorner">
            <a:avLst>
              <a:gd name="adj" fmla="val 2842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НЕОБХОДИМО ПРИГЛАСИТЬ ДЕВ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НО, КОТОРАЯ СОВЕРШ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ХОЧЕТ ТУДА ИД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3132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МИСТЕР ЮМ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ИСТЕР УМЕЛ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394080" y="692280"/>
            <a:ext cx="5749920" cy="5749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0520" y="1989000"/>
            <a:ext cx="3624480" cy="4869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УМ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765000"/>
            <a:ext cx="5113440" cy="5904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УМЕЛ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4896000" cy="5688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89200" y="189000"/>
            <a:ext cx="5562360" cy="6480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285264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724280"/>
            <a:ext cx="1152720" cy="936720"/>
          </a:xfrm>
          <a:prstGeom prst="foldedCorner">
            <a:avLst>
              <a:gd name="adj" fmla="val 14462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12536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125360"/>
            <a:ext cx="115236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125360"/>
            <a:ext cx="1152720" cy="936720"/>
          </a:xfrm>
          <a:prstGeom prst="foldedCorner">
            <a:avLst>
              <a:gd name="adj" fmla="val 14444"/>
            </a:avLst>
          </a:prstGeom>
          <a:solidFill>
            <a:srgbClr val="33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45240" y="2276640"/>
            <a:ext cx="3398760" cy="45813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684360" y="1700280"/>
            <a:ext cx="431640" cy="4334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3440"/>
              <a:gd name="textAreaBottom" fmla="*/ 32580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16200" y="16290"/>
                </a:lnTo>
                <a:lnTo>
                  <a:pt x="16200" y="5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5400" y="16290"/>
                </a:lnTo>
                <a:lnTo>
                  <a:pt x="16200" y="16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90"/>
                </a:lnTo>
                <a:close/>
              </a:path>
              <a:path fill="darken" w="21600" h="21690">
                <a:moveTo>
                  <a:pt x="6775" y="6820"/>
                </a:moveTo>
                <a:lnTo>
                  <a:pt x="14825" y="10845"/>
                </a:lnTo>
                <a:lnTo>
                  <a:pt x="6775" y="148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203640" y="170028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651640" y="170028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4360" y="335772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3059280" y="3357720"/>
            <a:ext cx="468000" cy="465120"/>
          </a:xfrm>
          <a:custGeom>
            <a:avLst/>
            <a:gdLst>
              <a:gd name="textAreaLeft" fmla="*/ 116280 w 468000"/>
              <a:gd name="textAreaRight" fmla="*/ 351720 w 468000"/>
              <a:gd name="textAreaTop" fmla="*/ 116280 h 465120"/>
              <a:gd name="textAreaBottom" fmla="*/ 348840 h 465120"/>
            </a:gdLst>
            <a:ahLst/>
            <a:rect l="textAreaLeft" t="textAreaTop" r="textAreaRight" b="textAreaBottom"/>
            <a:pathLst>
              <a:path w="21734" h="21600">
                <a:moveTo>
                  <a:pt x="0" y="0"/>
                </a:moveTo>
                <a:lnTo>
                  <a:pt x="21734" y="0"/>
                </a:lnTo>
                <a:lnTo>
                  <a:pt x="21734" y="21600"/>
                </a:lnTo>
                <a:lnTo>
                  <a:pt x="0" y="21600"/>
                </a:lnTo>
                <a:close/>
              </a:path>
              <a:path fill="lightenLess" w="21734" h="21600">
                <a:moveTo>
                  <a:pt x="0" y="0"/>
                </a:moveTo>
                <a:lnTo>
                  <a:pt x="21734" y="0"/>
                </a:lnTo>
                <a:lnTo>
                  <a:pt x="16334" y="5400"/>
                </a:lnTo>
                <a:lnTo>
                  <a:pt x="5400" y="5400"/>
                </a:lnTo>
                <a:close/>
              </a:path>
              <a:path fill="darken" w="21734" h="21600">
                <a:moveTo>
                  <a:pt x="21734" y="0"/>
                </a:moveTo>
                <a:lnTo>
                  <a:pt x="21734" y="21600"/>
                </a:lnTo>
                <a:lnTo>
                  <a:pt x="16334" y="16200"/>
                </a:lnTo>
                <a:lnTo>
                  <a:pt x="16334" y="5400"/>
                </a:lnTo>
                <a:close/>
              </a:path>
              <a:path fill="darkenLess" w="21734" h="21600">
                <a:moveTo>
                  <a:pt x="2173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334" y="16200"/>
                </a:lnTo>
                <a:close/>
              </a:path>
              <a:path fill="lighten" w="2173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734" h="21600">
                <a:moveTo>
                  <a:pt x="6842" y="6775"/>
                </a:moveTo>
                <a:lnTo>
                  <a:pt x="14892" y="10800"/>
                </a:lnTo>
                <a:lnTo>
                  <a:pt x="6842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611280" y="5373720"/>
            <a:ext cx="431640" cy="431640"/>
          </a:xfrm>
          <a:custGeom>
            <a:avLst/>
            <a:gdLst>
              <a:gd name="textAreaLeft" fmla="*/ 108000 w 431640"/>
              <a:gd name="textAreaRight" fmla="*/ 324000 w 431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8604360" y="6237360"/>
            <a:ext cx="539640" cy="620640"/>
          </a:xfrm>
          <a:custGeom>
            <a:avLst/>
            <a:gdLst>
              <a:gd name="textAreaLeft" fmla="*/ 135000 w 539640"/>
              <a:gd name="textAreaRight" fmla="*/ 405000 w 539640"/>
              <a:gd name="textAreaTop" fmla="*/ 135000 h 620640"/>
              <a:gd name="textAreaBottom" fmla="*/ 48564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16200" y="19440"/>
                </a:lnTo>
                <a:lnTo>
                  <a:pt x="16200" y="540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5400" y="19440"/>
                </a:lnTo>
                <a:lnTo>
                  <a:pt x="16200" y="1944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5400" y="5400"/>
                </a:lnTo>
                <a:lnTo>
                  <a:pt x="5400" y="19440"/>
                </a:lnTo>
                <a:close/>
              </a:path>
              <a:path fill="darken" w="21600" h="24840">
                <a:moveTo>
                  <a:pt x="6775" y="10520"/>
                </a:moveTo>
                <a:lnTo>
                  <a:pt x="8790" y="10520"/>
                </a:lnTo>
                <a:lnTo>
                  <a:pt x="8790" y="13585"/>
                </a:lnTo>
                <a:cubicBezTo>
                  <a:pt x="8790" y="14115"/>
                  <a:pt x="9250" y="14535"/>
                  <a:pt x="9845" y="14535"/>
                </a:cubicBezTo>
                <a:lnTo>
                  <a:pt x="10800" y="14535"/>
                </a:lnTo>
                <a:cubicBezTo>
                  <a:pt x="11395" y="14535"/>
                  <a:pt x="11855" y="14115"/>
                  <a:pt x="11855" y="13585"/>
                </a:cubicBezTo>
                <a:lnTo>
                  <a:pt x="11855" y="10520"/>
                </a:lnTo>
                <a:lnTo>
                  <a:pt x="10800" y="10520"/>
                </a:lnTo>
                <a:lnTo>
                  <a:pt x="12815" y="8505"/>
                </a:lnTo>
                <a:lnTo>
                  <a:pt x="14925" y="10520"/>
                </a:lnTo>
                <a:lnTo>
                  <a:pt x="13870" y="10520"/>
                </a:lnTo>
                <a:lnTo>
                  <a:pt x="13870" y="13585"/>
                </a:lnTo>
                <a:cubicBezTo>
                  <a:pt x="13870" y="15175"/>
                  <a:pt x="12390" y="16645"/>
                  <a:pt x="10800" y="16645"/>
                </a:cubicBezTo>
                <a:lnTo>
                  <a:pt x="9845" y="16645"/>
                </a:lnTo>
                <a:cubicBezTo>
                  <a:pt x="8255" y="16645"/>
                  <a:pt x="6775" y="15175"/>
                  <a:pt x="6775" y="1358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НЕСТИ НА ГОЛОВЕ ЯБЛОКО, НЕ УРОНИВ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110880 w 468360"/>
              <a:gd name="textAreaRight" fmla="*/ 357480 w 468360"/>
              <a:gd name="textAreaTop" fmla="*/ 110880 h 476280"/>
              <a:gd name="textAreaBottom" fmla="*/ 36540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16475" y="5125"/>
                </a:lnTo>
                <a:lnTo>
                  <a:pt x="5125" y="5125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16475" y="16840"/>
                </a:lnTo>
                <a:lnTo>
                  <a:pt x="16475" y="5125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5125" y="16840"/>
                </a:lnTo>
                <a:lnTo>
                  <a:pt x="16475" y="16840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5125" y="5125"/>
                </a:lnTo>
                <a:lnTo>
                  <a:pt x="5125" y="16840"/>
                </a:lnTo>
                <a:close/>
              </a:path>
              <a:path fill="darken" w="21600" h="21965">
                <a:moveTo>
                  <a:pt x="10800" y="6779"/>
                </a:moveTo>
                <a:lnTo>
                  <a:pt x="12355" y="8355"/>
                </a:lnTo>
                <a:lnTo>
                  <a:pt x="12355" y="7304"/>
                </a:lnTo>
                <a:lnTo>
                  <a:pt x="13427" y="7304"/>
                </a:lnTo>
                <a:lnTo>
                  <a:pt x="13427" y="9427"/>
                </a:lnTo>
                <a:lnTo>
                  <a:pt x="15004" y="10982"/>
                </a:lnTo>
                <a:lnTo>
                  <a:pt x="14005" y="10982"/>
                </a:lnTo>
                <a:lnTo>
                  <a:pt x="14005" y="15323"/>
                </a:lnTo>
                <a:lnTo>
                  <a:pt x="7595" y="15323"/>
                </a:lnTo>
                <a:lnTo>
                  <a:pt x="7595" y="10982"/>
                </a:lnTo>
                <a:lnTo>
                  <a:pt x="6596" y="10982"/>
                </a:lnTo>
                <a:close/>
              </a:path>
              <a:path fill="darkenLess" w="21600" h="21965">
                <a:moveTo>
                  <a:pt x="12355" y="8355"/>
                </a:moveTo>
                <a:lnTo>
                  <a:pt x="12355" y="7304"/>
                </a:lnTo>
                <a:lnTo>
                  <a:pt x="13427" y="7304"/>
                </a:lnTo>
                <a:lnTo>
                  <a:pt x="13427" y="9427"/>
                </a:lnTo>
                <a:close/>
              </a:path>
              <a:path fill="darkenLess" w="21600" h="21965">
                <a:moveTo>
                  <a:pt x="10243" y="13095"/>
                </a:moveTo>
                <a:lnTo>
                  <a:pt x="11357" y="13095"/>
                </a:lnTo>
                <a:lnTo>
                  <a:pt x="11357" y="15323"/>
                </a:lnTo>
                <a:lnTo>
                  <a:pt x="14005" y="15323"/>
                </a:lnTo>
                <a:lnTo>
                  <a:pt x="14005" y="10982"/>
                </a:lnTo>
                <a:lnTo>
                  <a:pt x="7595" y="10982"/>
                </a:lnTo>
                <a:lnTo>
                  <a:pt x="7595" y="15323"/>
                </a:lnTo>
                <a:lnTo>
                  <a:pt x="10243" y="15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КАЗАТЬ ФИГУРЫ ВЫСШЕГО ПИЛОТАЖА, ПРЫГАЯ НА СКАКАЛ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119160 w 539640"/>
              <a:gd name="textAreaRight" fmla="*/ 420840 w 53964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19071" y="5400"/>
                </a:lnTo>
                <a:lnTo>
                  <a:pt x="5400" y="5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19071" y="16200"/>
                </a:lnTo>
                <a:lnTo>
                  <a:pt x="19071" y="5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071" y="16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471" h="21600">
                <a:moveTo>
                  <a:pt x="12236" y="6800"/>
                </a:moveTo>
                <a:lnTo>
                  <a:pt x="13716" y="8300"/>
                </a:ln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lnTo>
                  <a:pt x="16236" y="10800"/>
                </a:lnTo>
                <a:lnTo>
                  <a:pt x="15286" y="10800"/>
                </a:lnTo>
                <a:lnTo>
                  <a:pt x="15286" y="14930"/>
                </a:lnTo>
                <a:lnTo>
                  <a:pt x="9186" y="14930"/>
                </a:lnTo>
                <a:lnTo>
                  <a:pt x="9186" y="10800"/>
                </a:lnTo>
                <a:lnTo>
                  <a:pt x="8236" y="10800"/>
                </a:lnTo>
                <a:close/>
              </a:path>
              <a:path fill="darkenLess" w="24471" h="21600">
                <a:moveTo>
                  <a:pt x="13716" y="8300"/>
                </a:move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close/>
              </a:path>
              <a:path fill="darkenLess" w="24471" h="21600">
                <a:moveTo>
                  <a:pt x="11706" y="12810"/>
                </a:moveTo>
                <a:lnTo>
                  <a:pt x="12766" y="12810"/>
                </a:lnTo>
                <a:lnTo>
                  <a:pt x="12766" y="14930"/>
                </a:lnTo>
                <a:lnTo>
                  <a:pt x="15286" y="14930"/>
                </a:lnTo>
                <a:lnTo>
                  <a:pt x="15286" y="10800"/>
                </a:lnTo>
                <a:lnTo>
                  <a:pt x="9186" y="10800"/>
                </a:lnTo>
                <a:lnTo>
                  <a:pt x="9186" y="14930"/>
                </a:lnTo>
                <a:lnTo>
                  <a:pt x="11706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ЖАТЬСЯ ОТ П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677440" y="6381720"/>
            <a:ext cx="466560" cy="476280"/>
          </a:xfrm>
          <a:custGeom>
            <a:avLst/>
            <a:gdLst>
              <a:gd name="textAreaLeft" fmla="*/ 88920 w 466560"/>
              <a:gd name="textAreaRight" fmla="*/ 377640 w 466560"/>
              <a:gd name="textAreaTop" fmla="*/ 88920 h 476280"/>
              <a:gd name="textAreaBottom" fmla="*/ 38736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17486" y="4114"/>
                </a:lnTo>
                <a:lnTo>
                  <a:pt x="4114" y="4114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17486" y="17936"/>
                </a:lnTo>
                <a:lnTo>
                  <a:pt x="17486" y="4114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4114" y="17936"/>
                </a:lnTo>
                <a:lnTo>
                  <a:pt x="17486" y="17936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4114" y="4114"/>
                </a:lnTo>
                <a:lnTo>
                  <a:pt x="4114" y="17936"/>
                </a:lnTo>
                <a:close/>
              </a:path>
              <a:path fill="darken" w="21600" h="22050">
                <a:moveTo>
                  <a:pt x="10800" y="6072"/>
                </a:moveTo>
                <a:lnTo>
                  <a:pt x="12632" y="7929"/>
                </a:lnTo>
                <a:lnTo>
                  <a:pt x="12632" y="6691"/>
                </a:lnTo>
                <a:lnTo>
                  <a:pt x="13895" y="6691"/>
                </a:lnTo>
                <a:lnTo>
                  <a:pt x="13895" y="9192"/>
                </a:lnTo>
                <a:lnTo>
                  <a:pt x="15753" y="11025"/>
                </a:lnTo>
                <a:lnTo>
                  <a:pt x="14576" y="11025"/>
                </a:lnTo>
                <a:lnTo>
                  <a:pt x="14576" y="16138"/>
                </a:lnTo>
                <a:lnTo>
                  <a:pt x="7024" y="16138"/>
                </a:lnTo>
                <a:lnTo>
                  <a:pt x="7024" y="11025"/>
                </a:lnTo>
                <a:lnTo>
                  <a:pt x="5847" y="11025"/>
                </a:lnTo>
                <a:close/>
              </a:path>
              <a:path fill="darkenLess" w="21600" h="22050">
                <a:moveTo>
                  <a:pt x="12632" y="7929"/>
                </a:moveTo>
                <a:lnTo>
                  <a:pt x="12632" y="6691"/>
                </a:lnTo>
                <a:lnTo>
                  <a:pt x="13895" y="6691"/>
                </a:lnTo>
                <a:lnTo>
                  <a:pt x="13895" y="9192"/>
                </a:lnTo>
                <a:close/>
              </a:path>
              <a:path fill="darkenLess" w="21600" h="22050">
                <a:moveTo>
                  <a:pt x="10144" y="13514"/>
                </a:moveTo>
                <a:lnTo>
                  <a:pt x="11456" y="13514"/>
                </a:lnTo>
                <a:lnTo>
                  <a:pt x="11456" y="16138"/>
                </a:lnTo>
                <a:lnTo>
                  <a:pt x="14576" y="16138"/>
                </a:lnTo>
                <a:lnTo>
                  <a:pt x="14576" y="11025"/>
                </a:lnTo>
                <a:lnTo>
                  <a:pt x="7024" y="11025"/>
                </a:lnTo>
                <a:lnTo>
                  <a:pt x="7024" y="16138"/>
                </a:lnTo>
                <a:lnTo>
                  <a:pt x="10144" y="161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НУТЬ ДАЛЬШЕ ВСЕХ ВОЗДУШНЫЙ Ш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119160 w 539640"/>
              <a:gd name="textAreaRight" fmla="*/ 420840 w 53964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19071" y="5400"/>
                </a:lnTo>
                <a:lnTo>
                  <a:pt x="5400" y="5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19071" y="16200"/>
                </a:lnTo>
                <a:lnTo>
                  <a:pt x="19071" y="5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071" y="16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4471" h="21600">
                <a:moveTo>
                  <a:pt x="12236" y="6800"/>
                </a:moveTo>
                <a:lnTo>
                  <a:pt x="13716" y="8300"/>
                </a:ln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lnTo>
                  <a:pt x="16236" y="10800"/>
                </a:lnTo>
                <a:lnTo>
                  <a:pt x="15286" y="10800"/>
                </a:lnTo>
                <a:lnTo>
                  <a:pt x="15286" y="14930"/>
                </a:lnTo>
                <a:lnTo>
                  <a:pt x="9186" y="14930"/>
                </a:lnTo>
                <a:lnTo>
                  <a:pt x="9186" y="10800"/>
                </a:lnTo>
                <a:lnTo>
                  <a:pt x="8236" y="10800"/>
                </a:lnTo>
                <a:close/>
              </a:path>
              <a:path fill="darkenLess" w="24471" h="21600">
                <a:moveTo>
                  <a:pt x="13716" y="8300"/>
                </a:moveTo>
                <a:lnTo>
                  <a:pt x="13716" y="7300"/>
                </a:lnTo>
                <a:lnTo>
                  <a:pt x="14736" y="7300"/>
                </a:lnTo>
                <a:lnTo>
                  <a:pt x="14736" y="9320"/>
                </a:lnTo>
                <a:close/>
              </a:path>
              <a:path fill="darkenLess" w="24471" h="21600">
                <a:moveTo>
                  <a:pt x="11706" y="12810"/>
                </a:moveTo>
                <a:lnTo>
                  <a:pt x="12766" y="12810"/>
                </a:lnTo>
                <a:lnTo>
                  <a:pt x="12766" y="14930"/>
                </a:lnTo>
                <a:lnTo>
                  <a:pt x="15286" y="14930"/>
                </a:lnTo>
                <a:lnTo>
                  <a:pt x="15286" y="10800"/>
                </a:lnTo>
                <a:lnTo>
                  <a:pt x="9186" y="10800"/>
                </a:lnTo>
                <a:lnTo>
                  <a:pt x="9186" y="14930"/>
                </a:lnTo>
                <a:lnTo>
                  <a:pt x="11706" y="149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ЖАТЬ ГИР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549360"/>
              <a:gd name="textAreaBottom" fmla="*/ 43236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16200" y="19933"/>
                </a:lnTo>
                <a:lnTo>
                  <a:pt x="16200" y="5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5400" y="19933"/>
                </a:lnTo>
                <a:lnTo>
                  <a:pt x="16200" y="19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5400" y="5400"/>
                </a:lnTo>
                <a:lnTo>
                  <a:pt x="5400" y="19933"/>
                </a:lnTo>
                <a:close/>
              </a:path>
              <a:path fill="darken" w="21600" h="25333">
                <a:moveTo>
                  <a:pt x="10800" y="8666"/>
                </a:moveTo>
                <a:lnTo>
                  <a:pt x="12280" y="10166"/>
                </a:lnTo>
                <a:lnTo>
                  <a:pt x="12280" y="9166"/>
                </a:lnTo>
                <a:lnTo>
                  <a:pt x="13300" y="9166"/>
                </a:lnTo>
                <a:lnTo>
                  <a:pt x="13300" y="11186"/>
                </a:lnTo>
                <a:lnTo>
                  <a:pt x="14800" y="12666"/>
                </a:lnTo>
                <a:lnTo>
                  <a:pt x="13850" y="12666"/>
                </a:lnTo>
                <a:lnTo>
                  <a:pt x="13850" y="16796"/>
                </a:lnTo>
                <a:lnTo>
                  <a:pt x="7750" y="16796"/>
                </a:lnTo>
                <a:lnTo>
                  <a:pt x="7750" y="12666"/>
                </a:lnTo>
                <a:lnTo>
                  <a:pt x="6800" y="12666"/>
                </a:lnTo>
                <a:close/>
              </a:path>
              <a:path fill="darkenLess" w="21600" h="25333">
                <a:moveTo>
                  <a:pt x="12280" y="10166"/>
                </a:moveTo>
                <a:lnTo>
                  <a:pt x="12280" y="9166"/>
                </a:lnTo>
                <a:lnTo>
                  <a:pt x="13300" y="9166"/>
                </a:lnTo>
                <a:lnTo>
                  <a:pt x="13300" y="11186"/>
                </a:lnTo>
                <a:close/>
              </a:path>
              <a:path fill="darkenLess" w="21600" h="25333">
                <a:moveTo>
                  <a:pt x="10270" y="14676"/>
                </a:moveTo>
                <a:lnTo>
                  <a:pt x="11330" y="14676"/>
                </a:lnTo>
                <a:lnTo>
                  <a:pt x="11330" y="16796"/>
                </a:lnTo>
                <a:lnTo>
                  <a:pt x="13850" y="16796"/>
                </a:lnTo>
                <a:lnTo>
                  <a:pt x="13850" y="12666"/>
                </a:lnTo>
                <a:lnTo>
                  <a:pt x="7750" y="12666"/>
                </a:lnTo>
                <a:lnTo>
                  <a:pt x="7750" y="16796"/>
                </a:lnTo>
                <a:lnTo>
                  <a:pt x="10270" y="1679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«МИСТЕР СПО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spcBef>
                <a:spcPts val="11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ТАНЦЕВАТЬ РОК-Н-РОЛ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75640" y="6319800"/>
            <a:ext cx="468360" cy="538200"/>
          </a:xfrm>
          <a:custGeom>
            <a:avLst/>
            <a:gdLst>
              <a:gd name="textAreaLeft" fmla="*/ 117000 w 468360"/>
              <a:gd name="textAreaRight" fmla="*/ 351360 w 468360"/>
              <a:gd name="textAreaTop" fmla="*/ 117000 h 538200"/>
              <a:gd name="textAreaBottom" fmla="*/ 421200 h 538200"/>
            </a:gdLst>
            <a:ahLst/>
            <a:rect l="textAreaLeft" t="textAreaTop" r="textAreaRight" b="textAreaBottom"/>
            <a:pathLst>
              <a:path w="21600" h="24818">
                <a:moveTo>
                  <a:pt x="0" y="0"/>
                </a:moveTo>
                <a:lnTo>
                  <a:pt x="21600" y="0"/>
                </a:lnTo>
                <a:lnTo>
                  <a:pt x="21600" y="24818"/>
                </a:lnTo>
                <a:lnTo>
                  <a:pt x="0" y="24818"/>
                </a:lnTo>
                <a:close/>
              </a:path>
              <a:path fill="lightenLess" w="21600" h="24818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4818">
                <a:moveTo>
                  <a:pt x="21600" y="0"/>
                </a:moveTo>
                <a:lnTo>
                  <a:pt x="21600" y="24818"/>
                </a:lnTo>
                <a:lnTo>
                  <a:pt x="16200" y="19418"/>
                </a:lnTo>
                <a:lnTo>
                  <a:pt x="16200" y="5400"/>
                </a:lnTo>
                <a:close/>
              </a:path>
              <a:path fill="darkenLess" w="21600" h="24818">
                <a:moveTo>
                  <a:pt x="21600" y="24818"/>
                </a:moveTo>
                <a:lnTo>
                  <a:pt x="0" y="24818"/>
                </a:lnTo>
                <a:lnTo>
                  <a:pt x="5400" y="19418"/>
                </a:lnTo>
                <a:lnTo>
                  <a:pt x="16200" y="19418"/>
                </a:lnTo>
                <a:close/>
              </a:path>
              <a:path fill="lighten" w="21600" h="24818">
                <a:moveTo>
                  <a:pt x="0" y="24818"/>
                </a:moveTo>
                <a:lnTo>
                  <a:pt x="0" y="0"/>
                </a:lnTo>
                <a:lnTo>
                  <a:pt x="5400" y="5400"/>
                </a:lnTo>
                <a:lnTo>
                  <a:pt x="5400" y="19418"/>
                </a:lnTo>
                <a:close/>
              </a:path>
              <a:path fill="darken" w="21600" h="24818">
                <a:moveTo>
                  <a:pt x="10800" y="8409"/>
                </a:moveTo>
                <a:lnTo>
                  <a:pt x="12280" y="9909"/>
                </a:lnTo>
                <a:lnTo>
                  <a:pt x="12280" y="8909"/>
                </a:lnTo>
                <a:lnTo>
                  <a:pt x="13300" y="8909"/>
                </a:lnTo>
                <a:lnTo>
                  <a:pt x="13300" y="10929"/>
                </a:lnTo>
                <a:lnTo>
                  <a:pt x="14800" y="12409"/>
                </a:lnTo>
                <a:lnTo>
                  <a:pt x="13850" y="12409"/>
                </a:lnTo>
                <a:lnTo>
                  <a:pt x="13850" y="16539"/>
                </a:lnTo>
                <a:lnTo>
                  <a:pt x="7750" y="16539"/>
                </a:lnTo>
                <a:lnTo>
                  <a:pt x="7750" y="12409"/>
                </a:lnTo>
                <a:lnTo>
                  <a:pt x="6800" y="12409"/>
                </a:lnTo>
                <a:close/>
              </a:path>
              <a:path fill="darkenLess" w="21600" h="24818">
                <a:moveTo>
                  <a:pt x="12280" y="9909"/>
                </a:moveTo>
                <a:lnTo>
                  <a:pt x="12280" y="8909"/>
                </a:lnTo>
                <a:lnTo>
                  <a:pt x="13300" y="8909"/>
                </a:lnTo>
                <a:lnTo>
                  <a:pt x="13300" y="10929"/>
                </a:lnTo>
                <a:close/>
              </a:path>
              <a:path fill="darkenLess" w="21600" h="24818">
                <a:moveTo>
                  <a:pt x="10270" y="14419"/>
                </a:moveTo>
                <a:lnTo>
                  <a:pt x="11330" y="14419"/>
                </a:lnTo>
                <a:lnTo>
                  <a:pt x="11330" y="16539"/>
                </a:lnTo>
                <a:lnTo>
                  <a:pt x="13850" y="16539"/>
                </a:lnTo>
                <a:lnTo>
                  <a:pt x="13850" y="12409"/>
                </a:lnTo>
                <a:lnTo>
                  <a:pt x="7750" y="12409"/>
                </a:lnTo>
                <a:lnTo>
                  <a:pt x="7750" y="16539"/>
                </a:lnTo>
                <a:lnTo>
                  <a:pt x="10270" y="165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33:49Z</dcterms:created>
  <dc:creator>HomeCenter</dc:creator>
  <dc:description/>
  <dc:language>en-US</dc:language>
  <cp:lastModifiedBy>HomeCenter</cp:lastModifiedBy>
  <dcterms:modified xsi:type="dcterms:W3CDTF">2012-04-10T03:40:26Z</dcterms:modified>
  <cp:revision>7</cp:revision>
  <dc:subject/>
  <dc:title>23 ФЕВРАЛЯ</dc:title>
</cp:coreProperties>
</file>