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3231-E4EE-4E0A-B72D-7B55AA6B0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134A-2638-4D5D-8FC5-CB75AE44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B5BF-CCE3-4222-98D7-71E9A7F2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A555-5195-45E8-9517-291A562F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714E-43D8-4E83-8BC1-8264181F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BD10-5A49-4643-B7C7-2EE76E7F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92A6-861A-4B39-952B-070E087F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9319-57A8-4C5A-9F77-211C5B4B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73FD-B2FC-435E-B8F9-4D49C619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5205-E691-43B1-8D93-2A78839D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F96D-06D7-42F5-AD97-D430AEF9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BC61-FF05-4C39-85EF-33DCA086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EF79-C39C-4231-AFD8-04259CD987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" Target="slide10.xml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9.xml"/><Relationship Id="rId6" Type="http://schemas.openxmlformats.org/officeDocument/2006/relationships/slide" Target="slide5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0.xml"/><Relationship Id="rId10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907560"/>
            <a:ext cx="67690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БРАВО, МАЛЬЧИШКИ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«МИСТЕР У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43280" y="3645000"/>
            <a:ext cx="1224000" cy="1150920"/>
          </a:xfrm>
          <a:prstGeom prst="donut">
            <a:avLst>
              <a:gd name="adj" fmla="val 11282"/>
            </a:avLst>
          </a:prstGeom>
          <a:solidFill>
            <a:srgbClr val="175f28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71640" y="3645000"/>
            <a:ext cx="1224000" cy="1150920"/>
          </a:xfrm>
          <a:prstGeom prst="donut">
            <a:avLst>
              <a:gd name="adj" fmla="val 12583"/>
            </a:avLst>
          </a:prstGeom>
          <a:solidFill>
            <a:srgbClr val="175f28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844640"/>
            <a:ext cx="1224000" cy="1150920"/>
          </a:xfrm>
          <a:prstGeom prst="donut">
            <a:avLst>
              <a:gd name="adj" fmla="val 12449"/>
            </a:avLst>
          </a:prstGeom>
          <a:solidFill>
            <a:srgbClr val="175f28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6360" y="1844640"/>
            <a:ext cx="1224000" cy="1150920"/>
          </a:xfrm>
          <a:prstGeom prst="donut">
            <a:avLst>
              <a:gd name="adj" fmla="val 9986"/>
            </a:avLst>
          </a:prstGeom>
          <a:solidFill>
            <a:srgbClr val="175f28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32360" y="1773360"/>
            <a:ext cx="1224000" cy="1150920"/>
          </a:xfrm>
          <a:prstGeom prst="donut">
            <a:avLst>
              <a:gd name="adj" fmla="val 11282"/>
            </a:avLst>
          </a:prstGeom>
          <a:solidFill>
            <a:srgbClr val="175f28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1773360"/>
            <a:ext cx="1224000" cy="1150920"/>
          </a:xfrm>
          <a:prstGeom prst="donut">
            <a:avLst>
              <a:gd name="adj" fmla="val 12583"/>
            </a:avLst>
          </a:prstGeom>
          <a:solidFill>
            <a:srgbClr val="175f28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832360" y="3068640"/>
            <a:ext cx="3311640" cy="3789360"/>
          </a:xfrm>
          <a:prstGeom prst="rect">
            <a:avLst/>
          </a:prstGeom>
          <a:ln w="0">
            <a:noFill/>
          </a:ln>
        </p:spPr>
      </p:pic>
      <p:sp>
        <p:nvSpPr>
          <p:cNvPr id="85" name="">
            <a:hlinkClick r:id="rId3" action="ppaction://hlinksldjump"/>
          </p:cNvPr>
          <p:cNvSpPr/>
          <p:nvPr/>
        </p:nvSpPr>
        <p:spPr>
          <a:xfrm>
            <a:off x="611280" y="2781360"/>
            <a:ext cx="431640" cy="431640"/>
          </a:xfrm>
          <a:custGeom>
            <a:avLst/>
            <a:gdLst>
              <a:gd name="textAreaLeft" fmla="*/ 88920 w 431640"/>
              <a:gd name="textAreaRight" fmla="*/ 342720 w 431640"/>
              <a:gd name="textAreaTop" fmla="*/ 88920 h 431640"/>
              <a:gd name="textAreaBottom" fmla="*/ 3427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153" y="4447"/>
                </a:lnTo>
                <a:lnTo>
                  <a:pt x="4447" y="4447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153" y="17153"/>
                </a:lnTo>
                <a:lnTo>
                  <a:pt x="17153" y="4447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447" y="17153"/>
                </a:lnTo>
                <a:lnTo>
                  <a:pt x="17153" y="17153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447" y="4447"/>
                </a:lnTo>
                <a:lnTo>
                  <a:pt x="4447" y="17153"/>
                </a:lnTo>
                <a:close/>
              </a:path>
              <a:path fill="darken" w="21600" h="21600">
                <a:moveTo>
                  <a:pt x="13165" y="10800"/>
                </a:moveTo>
                <a:lnTo>
                  <a:pt x="6065" y="15535"/>
                </a:lnTo>
                <a:lnTo>
                  <a:pt x="6065" y="6065"/>
                </a:lnTo>
                <a:close/>
              </a:path>
              <a:path fill="darken" w="21600" h="21600">
                <a:moveTo>
                  <a:pt x="14412" y="6065"/>
                </a:moveTo>
                <a:lnTo>
                  <a:pt x="14412" y="15535"/>
                </a:lnTo>
                <a:lnTo>
                  <a:pt x="15535" y="15535"/>
                </a:lnTo>
                <a:lnTo>
                  <a:pt x="15535" y="606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4" action="ppaction://hlinksldjump"/>
          </p:cNvPr>
          <p:cNvSpPr/>
          <p:nvPr/>
        </p:nvSpPr>
        <p:spPr>
          <a:xfrm>
            <a:off x="2700360" y="2781360"/>
            <a:ext cx="431640" cy="431640"/>
          </a:xfrm>
          <a:custGeom>
            <a:avLst/>
            <a:gdLst>
              <a:gd name="textAreaLeft" fmla="*/ 108000 w 431640"/>
              <a:gd name="textAreaRight" fmla="*/ 324000 w 43164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12810" y="10800"/>
                </a:moveTo>
                <a:lnTo>
                  <a:pt x="6775" y="14825"/>
                </a:lnTo>
                <a:lnTo>
                  <a:pt x="6775" y="6775"/>
                </a:lnTo>
                <a:close/>
              </a:path>
              <a:path fill="darken" w="21600" h="21600">
                <a:moveTo>
                  <a:pt x="13870" y="6775"/>
                </a:moveTo>
                <a:lnTo>
                  <a:pt x="13870" y="14825"/>
                </a:lnTo>
                <a:lnTo>
                  <a:pt x="14825" y="14825"/>
                </a:lnTo>
                <a:lnTo>
                  <a:pt x="14825" y="67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5" action="ppaction://hlinksldjump"/>
          </p:cNvPr>
          <p:cNvSpPr/>
          <p:nvPr/>
        </p:nvSpPr>
        <p:spPr>
          <a:xfrm>
            <a:off x="4643280" y="2708280"/>
            <a:ext cx="432000" cy="431640"/>
          </a:xfrm>
          <a:custGeom>
            <a:avLst/>
            <a:gdLst>
              <a:gd name="textAreaLeft" fmla="*/ 108000 w 432000"/>
              <a:gd name="textAreaRight" fmla="*/ 324000 w 4320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16218" y="5400"/>
                </a:lnTo>
                <a:lnTo>
                  <a:pt x="5400" y="5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16218" y="16200"/>
                </a:lnTo>
                <a:lnTo>
                  <a:pt x="16218" y="5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18" y="16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18" h="21600">
                <a:moveTo>
                  <a:pt x="12819" y="10800"/>
                </a:moveTo>
                <a:lnTo>
                  <a:pt x="6784" y="14825"/>
                </a:lnTo>
                <a:lnTo>
                  <a:pt x="6784" y="6775"/>
                </a:lnTo>
                <a:close/>
              </a:path>
              <a:path fill="darken" w="21618" h="21600">
                <a:moveTo>
                  <a:pt x="13879" y="6775"/>
                </a:moveTo>
                <a:lnTo>
                  <a:pt x="13879" y="14825"/>
                </a:lnTo>
                <a:lnTo>
                  <a:pt x="14834" y="14825"/>
                </a:lnTo>
                <a:lnTo>
                  <a:pt x="14834" y="67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32720" y="2637000"/>
            <a:ext cx="431640" cy="504720"/>
          </a:xfrm>
          <a:custGeom>
            <a:avLst/>
            <a:gdLst>
              <a:gd name="textAreaLeft" fmla="*/ 108000 w 431640"/>
              <a:gd name="textAreaRight" fmla="*/ 324000 w 431640"/>
              <a:gd name="textAreaTop" fmla="*/ 108000 h 504720"/>
              <a:gd name="textAreaBottom" fmla="*/ 39708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16200" y="19854"/>
                </a:lnTo>
                <a:lnTo>
                  <a:pt x="16200" y="5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5400" y="19854"/>
                </a:lnTo>
                <a:lnTo>
                  <a:pt x="16200" y="19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5400" y="5400"/>
                </a:lnTo>
                <a:lnTo>
                  <a:pt x="5400" y="19854"/>
                </a:lnTo>
                <a:close/>
              </a:path>
              <a:path fill="darken" w="21600" h="25254">
                <a:moveTo>
                  <a:pt x="12810" y="12627"/>
                </a:moveTo>
                <a:lnTo>
                  <a:pt x="6775" y="16652"/>
                </a:lnTo>
                <a:lnTo>
                  <a:pt x="6775" y="8602"/>
                </a:lnTo>
                <a:close/>
              </a:path>
              <a:path fill="darken" w="21600" h="25254">
                <a:moveTo>
                  <a:pt x="13870" y="8602"/>
                </a:moveTo>
                <a:lnTo>
                  <a:pt x="13870" y="16652"/>
                </a:lnTo>
                <a:lnTo>
                  <a:pt x="14825" y="16652"/>
                </a:lnTo>
                <a:lnTo>
                  <a:pt x="14825" y="860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4653000"/>
            <a:ext cx="468000" cy="504720"/>
          </a:xfrm>
          <a:custGeom>
            <a:avLst/>
            <a:gdLst>
              <a:gd name="textAreaLeft" fmla="*/ 117000 w 468000"/>
              <a:gd name="textAreaRight" fmla="*/ 351000 w 468000"/>
              <a:gd name="textAreaTop" fmla="*/ 117000 h 504720"/>
              <a:gd name="textAreaBottom" fmla="*/ 387720 h 504720"/>
            </a:gdLst>
            <a:ahLst/>
            <a:rect l="textAreaLeft" t="textAreaTop" r="textAreaRight" b="textAreaBottom"/>
            <a:pathLst>
              <a:path w="21600" h="23293">
                <a:moveTo>
                  <a:pt x="0" y="0"/>
                </a:moveTo>
                <a:lnTo>
                  <a:pt x="21600" y="0"/>
                </a:lnTo>
                <a:lnTo>
                  <a:pt x="21600" y="23293"/>
                </a:lnTo>
                <a:lnTo>
                  <a:pt x="0" y="23293"/>
                </a:lnTo>
                <a:close/>
              </a:path>
              <a:path fill="lightenLess" w="21600" h="23293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3293">
                <a:moveTo>
                  <a:pt x="21600" y="0"/>
                </a:moveTo>
                <a:lnTo>
                  <a:pt x="21600" y="23293"/>
                </a:lnTo>
                <a:lnTo>
                  <a:pt x="16200" y="17893"/>
                </a:lnTo>
                <a:lnTo>
                  <a:pt x="16200" y="5400"/>
                </a:lnTo>
                <a:close/>
              </a:path>
              <a:path fill="darkenLess" w="21600" h="23293">
                <a:moveTo>
                  <a:pt x="21600" y="23293"/>
                </a:moveTo>
                <a:lnTo>
                  <a:pt x="0" y="23293"/>
                </a:lnTo>
                <a:lnTo>
                  <a:pt x="5400" y="17893"/>
                </a:lnTo>
                <a:lnTo>
                  <a:pt x="16200" y="17893"/>
                </a:lnTo>
                <a:close/>
              </a:path>
              <a:path fill="lighten" w="21600" h="23293">
                <a:moveTo>
                  <a:pt x="0" y="23293"/>
                </a:moveTo>
                <a:lnTo>
                  <a:pt x="0" y="0"/>
                </a:lnTo>
                <a:lnTo>
                  <a:pt x="5400" y="5400"/>
                </a:lnTo>
                <a:lnTo>
                  <a:pt x="5400" y="17893"/>
                </a:lnTo>
                <a:close/>
              </a:path>
              <a:path fill="darken" w="21600" h="23293">
                <a:moveTo>
                  <a:pt x="12810" y="11647"/>
                </a:moveTo>
                <a:lnTo>
                  <a:pt x="6775" y="15672"/>
                </a:lnTo>
                <a:lnTo>
                  <a:pt x="6775" y="7622"/>
                </a:lnTo>
                <a:close/>
              </a:path>
              <a:path fill="darken" w="21600" h="23293">
                <a:moveTo>
                  <a:pt x="13870" y="7622"/>
                </a:moveTo>
                <a:lnTo>
                  <a:pt x="13870" y="15672"/>
                </a:lnTo>
                <a:lnTo>
                  <a:pt x="14825" y="15672"/>
                </a:lnTo>
                <a:lnTo>
                  <a:pt x="14825" y="762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4653000"/>
            <a:ext cx="465120" cy="539640"/>
          </a:xfrm>
          <a:custGeom>
            <a:avLst/>
            <a:gdLst>
              <a:gd name="textAreaLeft" fmla="*/ 116280 w 465120"/>
              <a:gd name="textAreaRight" fmla="*/ 348840 w 465120"/>
              <a:gd name="textAreaTop" fmla="*/ 116280 h 539640"/>
              <a:gd name="textAreaBottom" fmla="*/ 423360 h 539640"/>
            </a:gdLst>
            <a:ahLst/>
            <a:rect l="textAreaLeft" t="textAreaTop" r="textAreaRight" b="textAreaBottom"/>
            <a:pathLst>
              <a:path w="21600" h="25058">
                <a:moveTo>
                  <a:pt x="0" y="0"/>
                </a:moveTo>
                <a:lnTo>
                  <a:pt x="21600" y="0"/>
                </a:lnTo>
                <a:lnTo>
                  <a:pt x="21600" y="25058"/>
                </a:lnTo>
                <a:lnTo>
                  <a:pt x="0" y="25058"/>
                </a:lnTo>
                <a:close/>
              </a:path>
              <a:path fill="lightenLess" w="21600" h="25058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5058">
                <a:moveTo>
                  <a:pt x="21600" y="0"/>
                </a:moveTo>
                <a:lnTo>
                  <a:pt x="21600" y="25058"/>
                </a:lnTo>
                <a:lnTo>
                  <a:pt x="16200" y="19658"/>
                </a:lnTo>
                <a:lnTo>
                  <a:pt x="16200" y="5400"/>
                </a:lnTo>
                <a:close/>
              </a:path>
              <a:path fill="darkenLess" w="21600" h="25058">
                <a:moveTo>
                  <a:pt x="21600" y="25058"/>
                </a:moveTo>
                <a:lnTo>
                  <a:pt x="0" y="25058"/>
                </a:lnTo>
                <a:lnTo>
                  <a:pt x="5400" y="19658"/>
                </a:lnTo>
                <a:lnTo>
                  <a:pt x="16200" y="19658"/>
                </a:lnTo>
                <a:close/>
              </a:path>
              <a:path fill="lighten" w="21600" h="25058">
                <a:moveTo>
                  <a:pt x="0" y="25058"/>
                </a:moveTo>
                <a:lnTo>
                  <a:pt x="0" y="0"/>
                </a:lnTo>
                <a:lnTo>
                  <a:pt x="5400" y="5400"/>
                </a:lnTo>
                <a:lnTo>
                  <a:pt x="5400" y="19658"/>
                </a:lnTo>
                <a:close/>
              </a:path>
              <a:path fill="darken" w="21600" h="25058">
                <a:moveTo>
                  <a:pt x="12810" y="12529"/>
                </a:moveTo>
                <a:lnTo>
                  <a:pt x="6775" y="16554"/>
                </a:lnTo>
                <a:lnTo>
                  <a:pt x="6775" y="8504"/>
                </a:lnTo>
                <a:close/>
              </a:path>
              <a:path fill="darken" w="21600" h="25058">
                <a:moveTo>
                  <a:pt x="13870" y="8504"/>
                </a:moveTo>
                <a:lnTo>
                  <a:pt x="13870" y="16554"/>
                </a:lnTo>
                <a:lnTo>
                  <a:pt x="14825" y="16554"/>
                </a:lnTo>
                <a:lnTo>
                  <a:pt x="14825" y="850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137160 w 684360"/>
              <a:gd name="textAreaRight" fmla="*/ 547200 w 684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1505" y="5400"/>
                </a:lnTo>
                <a:lnTo>
                  <a:pt x="5400" y="5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1505" y="16200"/>
                </a:lnTo>
                <a:lnTo>
                  <a:pt x="21505" y="5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1505" y="16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Less" w="26905" h="21600">
                <a:moveTo>
                  <a:pt x="10277" y="6885"/>
                </a:moveTo>
                <a:lnTo>
                  <a:pt x="14297" y="6885"/>
                </a:lnTo>
                <a:lnTo>
                  <a:pt x="16627" y="8895"/>
                </a:lnTo>
                <a:lnTo>
                  <a:pt x="16627" y="14715"/>
                </a:lnTo>
                <a:lnTo>
                  <a:pt x="10277" y="14715"/>
                </a:lnTo>
                <a:close/>
              </a:path>
              <a:path fill="darken" w="26905" h="21600">
                <a:moveTo>
                  <a:pt x="14297" y="6885"/>
                </a:moveTo>
                <a:lnTo>
                  <a:pt x="16627" y="8895"/>
                </a:lnTo>
                <a:lnTo>
                  <a:pt x="14297" y="889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МЕНА, КАКИХ ВЕЛИКИХ РУССКИХ  ПОЛКОВОДЦЕВ НОСЯТ ОРДЕ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516720" y="3068640"/>
            <a:ext cx="2627280" cy="262728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19640" y="3141720"/>
            <a:ext cx="2419200" cy="256536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3141720"/>
            <a:ext cx="2779560" cy="253188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0" y="5805360"/>
            <a:ext cx="2771640" cy="503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РДЕН СУВО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5805360"/>
            <a:ext cx="2771640" cy="503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РДЕН КУТУЗ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72360" y="5805360"/>
            <a:ext cx="2771640" cy="503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РДЕН ЖУ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604360" y="6391440"/>
            <a:ext cx="539640" cy="466560"/>
          </a:xfrm>
          <a:custGeom>
            <a:avLst/>
            <a:gdLst>
              <a:gd name="textAreaLeft" fmla="*/ 116640 w 539640"/>
              <a:gd name="textAreaRight" fmla="*/ 423000 w 539640"/>
              <a:gd name="textAreaTop" fmla="*/ 116640 h 466560"/>
              <a:gd name="textAreaBottom" fmla="*/ 349920 h 466560"/>
            </a:gdLst>
            <a:ahLst/>
            <a:rect l="textAreaLeft" t="textAreaTop" r="textAreaRight" b="textAreaBottom"/>
            <a:pathLst>
              <a:path w="24981" h="21600">
                <a:moveTo>
                  <a:pt x="0" y="0"/>
                </a:moveTo>
                <a:lnTo>
                  <a:pt x="24981" y="0"/>
                </a:lnTo>
                <a:lnTo>
                  <a:pt x="24981" y="21600"/>
                </a:lnTo>
                <a:lnTo>
                  <a:pt x="0" y="21600"/>
                </a:lnTo>
                <a:close/>
              </a:path>
              <a:path fill="lightenLess" w="24981" h="21600">
                <a:moveTo>
                  <a:pt x="0" y="0"/>
                </a:moveTo>
                <a:lnTo>
                  <a:pt x="24981" y="0"/>
                </a:lnTo>
                <a:lnTo>
                  <a:pt x="19581" y="5400"/>
                </a:lnTo>
                <a:lnTo>
                  <a:pt x="5400" y="5400"/>
                </a:lnTo>
                <a:close/>
              </a:path>
              <a:path fill="darken" w="24981" h="21600">
                <a:moveTo>
                  <a:pt x="24981" y="0"/>
                </a:moveTo>
                <a:lnTo>
                  <a:pt x="24981" y="21600"/>
                </a:lnTo>
                <a:lnTo>
                  <a:pt x="19581" y="16200"/>
                </a:lnTo>
                <a:lnTo>
                  <a:pt x="19581" y="5400"/>
                </a:lnTo>
                <a:close/>
              </a:path>
              <a:path fill="darkenLess" w="24981" h="21600">
                <a:moveTo>
                  <a:pt x="24981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9581" y="16200"/>
                </a:lnTo>
                <a:close/>
              </a:path>
              <a:path fill="lighten" w="24981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4981" h="21600">
                <a:moveTo>
                  <a:pt x="8465" y="8900"/>
                </a:moveTo>
                <a:lnTo>
                  <a:pt x="10480" y="8900"/>
                </a:lnTo>
                <a:lnTo>
                  <a:pt x="10480" y="11965"/>
                </a:lnTo>
                <a:cubicBezTo>
                  <a:pt x="10480" y="12495"/>
                  <a:pt x="10940" y="12915"/>
                  <a:pt x="11535" y="12915"/>
                </a:cubicBezTo>
                <a:lnTo>
                  <a:pt x="12490" y="12915"/>
                </a:lnTo>
                <a:cubicBezTo>
                  <a:pt x="13085" y="12915"/>
                  <a:pt x="13545" y="12495"/>
                  <a:pt x="13545" y="11965"/>
                </a:cubicBezTo>
                <a:lnTo>
                  <a:pt x="13545" y="8900"/>
                </a:lnTo>
                <a:lnTo>
                  <a:pt x="12490" y="8900"/>
                </a:lnTo>
                <a:lnTo>
                  <a:pt x="14505" y="6885"/>
                </a:lnTo>
                <a:lnTo>
                  <a:pt x="16615" y="8900"/>
                </a:lnTo>
                <a:lnTo>
                  <a:pt x="15560" y="8900"/>
                </a:lnTo>
                <a:lnTo>
                  <a:pt x="15560" y="11965"/>
                </a:lnTo>
                <a:cubicBezTo>
                  <a:pt x="15560" y="13555"/>
                  <a:pt x="14080" y="15025"/>
                  <a:pt x="12490" y="15025"/>
                </a:cubicBezTo>
                <a:lnTo>
                  <a:pt x="11535" y="15025"/>
                </a:lnTo>
                <a:cubicBezTo>
                  <a:pt x="9945" y="15025"/>
                  <a:pt x="8465" y="13555"/>
                  <a:pt x="8465" y="11965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2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М ПОПАЛИСЬ ПОГОНЫ ОФИЦЕРА СОВЕТСКОЙ АРМИИ. НА ПОГОНАХ 4 ЗВЁЗДОЧКИ. В КАКОМ ЧИНЕ БЫЛ ВЛАДЕЛЕЦ ЭТИХ ПОГОН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4360" y="3284640"/>
            <a:ext cx="3671640" cy="2854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003640" y="2637000"/>
            <a:ext cx="3376800" cy="403200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1258920" y="6021360"/>
            <a:ext cx="2952720" cy="647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КАПИТ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117000 w 468360"/>
              <a:gd name="textAreaRight" fmla="*/ 351360 w 468360"/>
              <a:gd name="textAreaTop" fmla="*/ 117000 h 476280"/>
              <a:gd name="textAreaBottom" fmla="*/ 35928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16200" y="16565"/>
                </a:lnTo>
                <a:lnTo>
                  <a:pt x="16200" y="5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5400" y="16565"/>
                </a:lnTo>
                <a:lnTo>
                  <a:pt x="16200" y="16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5400" y="5400"/>
                </a:lnTo>
                <a:lnTo>
                  <a:pt x="5400" y="16565"/>
                </a:lnTo>
                <a:close/>
              </a:path>
              <a:path fill="darken" w="21600" h="21965">
                <a:moveTo>
                  <a:pt x="6775" y="9082"/>
                </a:moveTo>
                <a:lnTo>
                  <a:pt x="8790" y="9082"/>
                </a:lnTo>
                <a:lnTo>
                  <a:pt x="8790" y="12147"/>
                </a:lnTo>
                <a:cubicBezTo>
                  <a:pt x="8790" y="12677"/>
                  <a:pt x="9250" y="13097"/>
                  <a:pt x="9845" y="13097"/>
                </a:cubicBezTo>
                <a:lnTo>
                  <a:pt x="10800" y="13097"/>
                </a:lnTo>
                <a:cubicBezTo>
                  <a:pt x="11395" y="13097"/>
                  <a:pt x="11855" y="12677"/>
                  <a:pt x="11855" y="12147"/>
                </a:cubicBezTo>
                <a:lnTo>
                  <a:pt x="11855" y="9082"/>
                </a:lnTo>
                <a:lnTo>
                  <a:pt x="10800" y="9082"/>
                </a:lnTo>
                <a:lnTo>
                  <a:pt x="12815" y="7067"/>
                </a:lnTo>
                <a:lnTo>
                  <a:pt x="14925" y="9082"/>
                </a:lnTo>
                <a:lnTo>
                  <a:pt x="13870" y="9082"/>
                </a:lnTo>
                <a:lnTo>
                  <a:pt x="13870" y="12147"/>
                </a:lnTo>
                <a:cubicBezTo>
                  <a:pt x="13870" y="13737"/>
                  <a:pt x="12390" y="15207"/>
                  <a:pt x="10800" y="15207"/>
                </a:cubicBezTo>
                <a:lnTo>
                  <a:pt x="9845" y="15207"/>
                </a:lnTo>
                <a:cubicBezTo>
                  <a:pt x="8255" y="15207"/>
                  <a:pt x="6775" y="13737"/>
                  <a:pt x="6775" y="12147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КИЕ ВИДЫ СПОРТИВНЫХ ЕДИНОБОРСТВ ВЫ ЗНАЕТ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71640" y="1792440"/>
            <a:ext cx="3240000" cy="231120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364000" y="1700280"/>
            <a:ext cx="3048120" cy="239544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0" y="4221000"/>
            <a:ext cx="2952720" cy="505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БО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32000" y="4221000"/>
            <a:ext cx="2952720" cy="505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ИКБОКС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91280" y="4221000"/>
            <a:ext cx="2952720" cy="505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УКОПАШНЫЙ Б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013360"/>
            <a:ext cx="2952720" cy="504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АРАТ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32000" y="5013360"/>
            <a:ext cx="2952720" cy="504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ГРЕКО-РИМСКАЯ БОРЬ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91280" y="5013360"/>
            <a:ext cx="2952720" cy="504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ОЛЬНАЯ БОРЬ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91280" y="5805360"/>
            <a:ext cx="2952720" cy="505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ТХЭКВОНД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32000" y="5805360"/>
            <a:ext cx="2952720" cy="505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ДЗЮД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805360"/>
            <a:ext cx="2952720" cy="505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АМБ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459640" y="6391440"/>
            <a:ext cx="466920" cy="466560"/>
          </a:xfrm>
          <a:custGeom>
            <a:avLst/>
            <a:gdLst>
              <a:gd name="textAreaLeft" fmla="*/ 116640 w 466920"/>
              <a:gd name="textAreaRight" fmla="*/ 350280 w 466920"/>
              <a:gd name="textAreaTop" fmla="*/ 116640 h 466560"/>
              <a:gd name="textAreaBottom" fmla="*/ 349920 h 466560"/>
            </a:gdLst>
            <a:ahLst/>
            <a:rect l="textAreaLeft" t="textAreaTop" r="textAreaRight" b="textAreaBottom"/>
            <a:pathLst>
              <a:path w="21617" h="21600">
                <a:moveTo>
                  <a:pt x="0" y="0"/>
                </a:moveTo>
                <a:lnTo>
                  <a:pt x="21617" y="0"/>
                </a:lnTo>
                <a:lnTo>
                  <a:pt x="21617" y="21600"/>
                </a:lnTo>
                <a:lnTo>
                  <a:pt x="0" y="21600"/>
                </a:lnTo>
                <a:close/>
              </a:path>
              <a:path fill="lightenLess" w="21617" h="21600">
                <a:moveTo>
                  <a:pt x="0" y="0"/>
                </a:moveTo>
                <a:lnTo>
                  <a:pt x="21617" y="0"/>
                </a:lnTo>
                <a:lnTo>
                  <a:pt x="16217" y="5400"/>
                </a:lnTo>
                <a:lnTo>
                  <a:pt x="5400" y="5400"/>
                </a:lnTo>
                <a:close/>
              </a:path>
              <a:path fill="darken" w="21617" h="21600">
                <a:moveTo>
                  <a:pt x="21617" y="0"/>
                </a:moveTo>
                <a:lnTo>
                  <a:pt x="21617" y="21600"/>
                </a:lnTo>
                <a:lnTo>
                  <a:pt x="16217" y="16200"/>
                </a:lnTo>
                <a:lnTo>
                  <a:pt x="16217" y="5400"/>
                </a:lnTo>
                <a:close/>
              </a:path>
              <a:path fill="darkenLess" w="21617" h="21600">
                <a:moveTo>
                  <a:pt x="2161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17" y="16200"/>
                </a:lnTo>
                <a:close/>
              </a:path>
              <a:path fill="lighten" w="2161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17" h="21600">
                <a:moveTo>
                  <a:pt x="6783" y="8900"/>
                </a:moveTo>
                <a:lnTo>
                  <a:pt x="8798" y="8900"/>
                </a:lnTo>
                <a:lnTo>
                  <a:pt x="8798" y="11965"/>
                </a:lnTo>
                <a:cubicBezTo>
                  <a:pt x="8798" y="12495"/>
                  <a:pt x="9258" y="12915"/>
                  <a:pt x="9853" y="12915"/>
                </a:cubicBezTo>
                <a:lnTo>
                  <a:pt x="10808" y="12915"/>
                </a:lnTo>
                <a:cubicBezTo>
                  <a:pt x="11403" y="12915"/>
                  <a:pt x="11863" y="12495"/>
                  <a:pt x="11863" y="11965"/>
                </a:cubicBezTo>
                <a:lnTo>
                  <a:pt x="11863" y="8900"/>
                </a:lnTo>
                <a:lnTo>
                  <a:pt x="10808" y="8900"/>
                </a:lnTo>
                <a:lnTo>
                  <a:pt x="12823" y="6885"/>
                </a:lnTo>
                <a:lnTo>
                  <a:pt x="14933" y="8900"/>
                </a:lnTo>
                <a:lnTo>
                  <a:pt x="13878" y="8900"/>
                </a:lnTo>
                <a:lnTo>
                  <a:pt x="13878" y="11965"/>
                </a:lnTo>
                <a:cubicBezTo>
                  <a:pt x="13878" y="13555"/>
                  <a:pt x="12398" y="15025"/>
                  <a:pt x="10808" y="15025"/>
                </a:cubicBezTo>
                <a:lnTo>
                  <a:pt x="9853" y="15025"/>
                </a:lnTo>
                <a:cubicBezTo>
                  <a:pt x="8263" y="15025"/>
                  <a:pt x="6783" y="13555"/>
                  <a:pt x="6783" y="11965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АКАРОВ, КАЛАШНИКОВ – ЧТО ИХ СВЯЗЫВАЕТ С ВООРУЖЁННЫМИ СИЛАМИ РОССИ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4360" y="2852640"/>
            <a:ext cx="3778200" cy="283536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076720" y="2852640"/>
            <a:ext cx="3743280" cy="280836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5292720" y="5805360"/>
            <a:ext cx="3384720" cy="7653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ИСТОЛЕТ МАКА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5877000"/>
            <a:ext cx="3384720" cy="7650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АВТОМАТ КАЛАШНИ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3" action="ppaction://hlinksldjump"/>
          </p:cNvPr>
          <p:cNvSpPr/>
          <p:nvPr/>
        </p:nvSpPr>
        <p:spPr>
          <a:xfrm>
            <a:off x="8639280" y="6308640"/>
            <a:ext cx="504720" cy="549360"/>
          </a:xfrm>
          <a:custGeom>
            <a:avLst/>
            <a:gdLst>
              <a:gd name="textAreaLeft" fmla="*/ 126000 w 504720"/>
              <a:gd name="textAreaRight" fmla="*/ 378720 w 504720"/>
              <a:gd name="textAreaTop" fmla="*/ 126000 h 549360"/>
              <a:gd name="textAreaBottom" fmla="*/ 4233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16200" y="18109"/>
                </a:lnTo>
                <a:lnTo>
                  <a:pt x="16200" y="5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5400" y="18109"/>
                </a:lnTo>
                <a:lnTo>
                  <a:pt x="16200" y="18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5400" y="5400"/>
                </a:lnTo>
                <a:lnTo>
                  <a:pt x="5400" y="18109"/>
                </a:lnTo>
                <a:close/>
              </a:path>
              <a:path fill="darken" w="21600" h="23509">
                <a:moveTo>
                  <a:pt x="6775" y="9855"/>
                </a:moveTo>
                <a:lnTo>
                  <a:pt x="8790" y="9855"/>
                </a:lnTo>
                <a:lnTo>
                  <a:pt x="8790" y="12920"/>
                </a:lnTo>
                <a:cubicBezTo>
                  <a:pt x="8790" y="13450"/>
                  <a:pt x="9250" y="13870"/>
                  <a:pt x="9845" y="13870"/>
                </a:cubicBezTo>
                <a:lnTo>
                  <a:pt x="10800" y="13870"/>
                </a:lnTo>
                <a:cubicBezTo>
                  <a:pt x="11395" y="13870"/>
                  <a:pt x="11855" y="13450"/>
                  <a:pt x="11855" y="12920"/>
                </a:cubicBezTo>
                <a:lnTo>
                  <a:pt x="11855" y="9855"/>
                </a:lnTo>
                <a:lnTo>
                  <a:pt x="10800" y="9855"/>
                </a:lnTo>
                <a:lnTo>
                  <a:pt x="12815" y="7840"/>
                </a:lnTo>
                <a:lnTo>
                  <a:pt x="14925" y="9855"/>
                </a:lnTo>
                <a:lnTo>
                  <a:pt x="13870" y="9855"/>
                </a:lnTo>
                <a:lnTo>
                  <a:pt x="13870" y="12920"/>
                </a:lnTo>
                <a:cubicBezTo>
                  <a:pt x="13870" y="14510"/>
                  <a:pt x="12390" y="15980"/>
                  <a:pt x="10800" y="15980"/>
                </a:cubicBezTo>
                <a:lnTo>
                  <a:pt x="9845" y="15980"/>
                </a:lnTo>
                <a:cubicBezTo>
                  <a:pt x="8255" y="15980"/>
                  <a:pt x="6775" y="14510"/>
                  <a:pt x="6775" y="1292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40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КАЯ БОЕВАЯ ТЕХНИКА ПОЛУЧИЛА НАЗВАНИЕ ОТ ИМЕНИ ЖИВОТНОГ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360" y="4508640"/>
            <a:ext cx="4105080" cy="176508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3168720" cy="207648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148360" y="4221000"/>
            <a:ext cx="3319200" cy="2011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219640" y="1844640"/>
            <a:ext cx="3311640" cy="183348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95280" y="4005360"/>
            <a:ext cx="352728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ГЕПА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6920" y="6308640"/>
            <a:ext cx="3527640" cy="549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ЧЁРНАЯ АК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48360" y="6426360"/>
            <a:ext cx="352728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ЛЕОПА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76720" y="3789360"/>
            <a:ext cx="352764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АЛЛИГ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117000 w 468360"/>
              <a:gd name="textAreaRight" fmla="*/ 351360 w 468360"/>
              <a:gd name="textAreaTop" fmla="*/ 117000 h 476280"/>
              <a:gd name="textAreaBottom" fmla="*/ 35928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16200" y="16565"/>
                </a:lnTo>
                <a:lnTo>
                  <a:pt x="16200" y="5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5400" y="16565"/>
                </a:lnTo>
                <a:lnTo>
                  <a:pt x="16200" y="16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5400" y="5400"/>
                </a:lnTo>
                <a:lnTo>
                  <a:pt x="5400" y="16565"/>
                </a:lnTo>
                <a:close/>
              </a:path>
              <a:path fill="darken" w="21600" h="21965">
                <a:moveTo>
                  <a:pt x="6775" y="9082"/>
                </a:moveTo>
                <a:lnTo>
                  <a:pt x="8790" y="9082"/>
                </a:lnTo>
                <a:lnTo>
                  <a:pt x="8790" y="12147"/>
                </a:lnTo>
                <a:cubicBezTo>
                  <a:pt x="8790" y="12677"/>
                  <a:pt x="9250" y="13097"/>
                  <a:pt x="9845" y="13097"/>
                </a:cubicBezTo>
                <a:lnTo>
                  <a:pt x="10800" y="13097"/>
                </a:lnTo>
                <a:cubicBezTo>
                  <a:pt x="11395" y="13097"/>
                  <a:pt x="11855" y="12677"/>
                  <a:pt x="11855" y="12147"/>
                </a:cubicBezTo>
                <a:lnTo>
                  <a:pt x="11855" y="9082"/>
                </a:lnTo>
                <a:lnTo>
                  <a:pt x="10800" y="9082"/>
                </a:lnTo>
                <a:lnTo>
                  <a:pt x="12815" y="7067"/>
                </a:lnTo>
                <a:lnTo>
                  <a:pt x="14925" y="9082"/>
                </a:lnTo>
                <a:lnTo>
                  <a:pt x="13870" y="9082"/>
                </a:lnTo>
                <a:lnTo>
                  <a:pt x="13870" y="12147"/>
                </a:lnTo>
                <a:cubicBezTo>
                  <a:pt x="13870" y="13737"/>
                  <a:pt x="12390" y="15207"/>
                  <a:pt x="10800" y="15207"/>
                </a:cubicBezTo>
                <a:lnTo>
                  <a:pt x="9845" y="15207"/>
                </a:lnTo>
                <a:cubicBezTo>
                  <a:pt x="8255" y="15207"/>
                  <a:pt x="6775" y="13737"/>
                  <a:pt x="6775" y="12147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З КАКОГО СЕЛА РОДОМ ИЛЬЯ МУРОМЕЦ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5262480" cy="443088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3492360" y="6165720"/>
            <a:ext cx="3313080" cy="692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АРАЧАР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101160 w 468360"/>
              <a:gd name="textAreaRight" fmla="*/ 367200 w 468360"/>
              <a:gd name="textAreaTop" fmla="*/ 101160 h 404640"/>
              <a:gd name="textAreaBottom" fmla="*/ 30348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19598" y="5400"/>
                </a:lnTo>
                <a:lnTo>
                  <a:pt x="5400" y="5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19598" y="16200"/>
                </a:lnTo>
                <a:lnTo>
                  <a:pt x="19598" y="5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9598" y="16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4998" h="21600">
                <a:moveTo>
                  <a:pt x="8474" y="8900"/>
                </a:moveTo>
                <a:lnTo>
                  <a:pt x="10489" y="8900"/>
                </a:lnTo>
                <a:lnTo>
                  <a:pt x="10489" y="11965"/>
                </a:lnTo>
                <a:cubicBezTo>
                  <a:pt x="10489" y="12495"/>
                  <a:pt x="10949" y="12915"/>
                  <a:pt x="11544" y="12915"/>
                </a:cubicBezTo>
                <a:lnTo>
                  <a:pt x="12499" y="12915"/>
                </a:lnTo>
                <a:cubicBezTo>
                  <a:pt x="13094" y="12915"/>
                  <a:pt x="13554" y="12495"/>
                  <a:pt x="13554" y="11965"/>
                </a:cubicBezTo>
                <a:lnTo>
                  <a:pt x="13554" y="8900"/>
                </a:lnTo>
                <a:lnTo>
                  <a:pt x="12499" y="8900"/>
                </a:lnTo>
                <a:lnTo>
                  <a:pt x="14514" y="6885"/>
                </a:lnTo>
                <a:lnTo>
                  <a:pt x="16624" y="8900"/>
                </a:lnTo>
                <a:lnTo>
                  <a:pt x="15569" y="8900"/>
                </a:lnTo>
                <a:lnTo>
                  <a:pt x="15569" y="11965"/>
                </a:lnTo>
                <a:cubicBezTo>
                  <a:pt x="15569" y="13555"/>
                  <a:pt x="14089" y="15025"/>
                  <a:pt x="12499" y="15025"/>
                </a:cubicBezTo>
                <a:lnTo>
                  <a:pt x="11544" y="15025"/>
                </a:lnTo>
                <a:cubicBezTo>
                  <a:pt x="9954" y="15025"/>
                  <a:pt x="8474" y="13555"/>
                  <a:pt x="8474" y="11965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МИСТЕР МУЖЕСТВ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500720" y="1413000"/>
            <a:ext cx="4359240" cy="5155920"/>
          </a:xfrm>
          <a:prstGeom prst="rect">
            <a:avLst/>
          </a:prstGeom>
          <a:ln w="50760">
            <a:solidFill>
              <a:srgbClr val="6699ff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179280" y="1413000"/>
            <a:ext cx="4249800" cy="5038560"/>
          </a:xfrm>
          <a:prstGeom prst="foldedCorner">
            <a:avLst>
              <a:gd name="adj" fmla="val 18796"/>
            </a:avLst>
          </a:prstGeom>
          <a:solidFill>
            <a:srgbClr val="ffffff"/>
          </a:solidFill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 ДОЛЖНЫ ВЗ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ЕРЕЖНО ДЕВОЧ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РУКИ И ДОНЕ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Ё ДО СЦ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МЯ ДЕВОЧ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ШИФРОВАНО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ЕРДЕЧ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МИСТЕР МУЖЕСТВ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2565360"/>
            <a:ext cx="2271600" cy="2232000"/>
          </a:xfrm>
          <a:custGeom>
            <a:avLst/>
            <a:gdLst>
              <a:gd name="textAreaLeft" fmla="*/ 533880 w 2271600"/>
              <a:gd name="textAreaRight" fmla="*/ 1736280 w 2271600"/>
              <a:gd name="textAreaTop" fmla="*/ 262440 h 2232000"/>
              <a:gd name="textAreaBottom" fmla="*/ 1400040 h 22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3640" y="2492280"/>
            <a:ext cx="2271600" cy="2232000"/>
          </a:xfrm>
          <a:custGeom>
            <a:avLst/>
            <a:gdLst>
              <a:gd name="textAreaLeft" fmla="*/ 533880 w 2271600"/>
              <a:gd name="textAreaRight" fmla="*/ 1736280 w 2271600"/>
              <a:gd name="textAreaTop" fmla="*/ 262440 h 2232000"/>
              <a:gd name="textAreaBottom" fmla="*/ 1400040 h 22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538200" cy="610920"/>
          </a:xfrm>
          <a:custGeom>
            <a:avLst/>
            <a:gdLst>
              <a:gd name="textAreaLeft" fmla="*/ 134640 w 538200"/>
              <a:gd name="textAreaRight" fmla="*/ 403920 w 538200"/>
              <a:gd name="textAreaTop" fmla="*/ 134640 h 610920"/>
              <a:gd name="textAreaBottom" fmla="*/ 476640 h 610920"/>
            </a:gdLst>
            <a:ahLst/>
            <a:rect l="textAreaLeft" t="textAreaTop" r="textAreaRight" b="textAreaBottom"/>
            <a:pathLst>
              <a:path w="21600" h="24517">
                <a:moveTo>
                  <a:pt x="0" y="0"/>
                </a:moveTo>
                <a:lnTo>
                  <a:pt x="21600" y="0"/>
                </a:lnTo>
                <a:lnTo>
                  <a:pt x="21600" y="24517"/>
                </a:lnTo>
                <a:lnTo>
                  <a:pt x="0" y="24517"/>
                </a:lnTo>
                <a:close/>
              </a:path>
              <a:path fill="lightenLess" w="21600" h="24517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4517">
                <a:moveTo>
                  <a:pt x="21600" y="0"/>
                </a:moveTo>
                <a:lnTo>
                  <a:pt x="21600" y="24517"/>
                </a:lnTo>
                <a:lnTo>
                  <a:pt x="16200" y="19117"/>
                </a:lnTo>
                <a:lnTo>
                  <a:pt x="16200" y="5400"/>
                </a:lnTo>
                <a:close/>
              </a:path>
              <a:path fill="darkenLess" w="21600" h="24517">
                <a:moveTo>
                  <a:pt x="21600" y="24517"/>
                </a:moveTo>
                <a:lnTo>
                  <a:pt x="0" y="24517"/>
                </a:lnTo>
                <a:lnTo>
                  <a:pt x="5400" y="19117"/>
                </a:lnTo>
                <a:lnTo>
                  <a:pt x="16200" y="19117"/>
                </a:lnTo>
                <a:close/>
              </a:path>
              <a:path fill="lighten" w="21600" h="24517">
                <a:moveTo>
                  <a:pt x="0" y="24517"/>
                </a:moveTo>
                <a:lnTo>
                  <a:pt x="0" y="0"/>
                </a:lnTo>
                <a:lnTo>
                  <a:pt x="5400" y="5400"/>
                </a:lnTo>
                <a:lnTo>
                  <a:pt x="5400" y="19117"/>
                </a:lnTo>
                <a:close/>
              </a:path>
              <a:path fill="darkenLess" w="21600" h="24517">
                <a:moveTo>
                  <a:pt x="7625" y="8343"/>
                </a:moveTo>
                <a:lnTo>
                  <a:pt x="11645" y="8343"/>
                </a:lnTo>
                <a:lnTo>
                  <a:pt x="13975" y="10353"/>
                </a:lnTo>
                <a:lnTo>
                  <a:pt x="13975" y="16173"/>
                </a:lnTo>
                <a:lnTo>
                  <a:pt x="7625" y="16173"/>
                </a:lnTo>
                <a:close/>
              </a:path>
              <a:path fill="darken" w="21600" h="24517">
                <a:moveTo>
                  <a:pt x="11645" y="8343"/>
                </a:moveTo>
                <a:lnTo>
                  <a:pt x="13975" y="10353"/>
                </a:lnTo>
                <a:lnTo>
                  <a:pt x="11645" y="1035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59640" y="2565360"/>
            <a:ext cx="609480" cy="649440"/>
          </a:xfrm>
          <a:custGeom>
            <a:avLst/>
            <a:gdLst>
              <a:gd name="textAreaLeft" fmla="*/ 152280 w 609480"/>
              <a:gd name="textAreaRight" fmla="*/ 457200 w 609480"/>
              <a:gd name="textAreaTop" fmla="*/ 152280 h 649440"/>
              <a:gd name="textAreaBottom" fmla="*/ 497160 h 649440"/>
            </a:gdLst>
            <a:ahLst/>
            <a:rect l="textAreaLeft" t="textAreaTop" r="textAreaRight" b="textAreaBottom"/>
            <a:pathLst>
              <a:path w="21600" h="23015">
                <a:moveTo>
                  <a:pt x="0" y="0"/>
                </a:moveTo>
                <a:lnTo>
                  <a:pt x="21600" y="0"/>
                </a:lnTo>
                <a:lnTo>
                  <a:pt x="21600" y="23015"/>
                </a:lnTo>
                <a:lnTo>
                  <a:pt x="0" y="23015"/>
                </a:lnTo>
                <a:close/>
              </a:path>
              <a:path fill="lightenLess" w="21600" h="23015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3015">
                <a:moveTo>
                  <a:pt x="21600" y="0"/>
                </a:moveTo>
                <a:lnTo>
                  <a:pt x="21600" y="23015"/>
                </a:lnTo>
                <a:lnTo>
                  <a:pt x="16200" y="17615"/>
                </a:lnTo>
                <a:lnTo>
                  <a:pt x="16200" y="5400"/>
                </a:lnTo>
                <a:close/>
              </a:path>
              <a:path fill="darkenLess" w="21600" h="23015">
                <a:moveTo>
                  <a:pt x="21600" y="23015"/>
                </a:moveTo>
                <a:lnTo>
                  <a:pt x="0" y="23015"/>
                </a:lnTo>
                <a:lnTo>
                  <a:pt x="5400" y="17615"/>
                </a:lnTo>
                <a:lnTo>
                  <a:pt x="16200" y="17615"/>
                </a:lnTo>
                <a:close/>
              </a:path>
              <a:path fill="lighten" w="21600" h="23015">
                <a:moveTo>
                  <a:pt x="0" y="23015"/>
                </a:moveTo>
                <a:lnTo>
                  <a:pt x="0" y="0"/>
                </a:lnTo>
                <a:lnTo>
                  <a:pt x="5400" y="5400"/>
                </a:lnTo>
                <a:lnTo>
                  <a:pt x="5400" y="17615"/>
                </a:lnTo>
                <a:close/>
              </a:path>
              <a:path fill="darkenLess" w="21600" h="23015">
                <a:moveTo>
                  <a:pt x="7625" y="7593"/>
                </a:moveTo>
                <a:lnTo>
                  <a:pt x="11645" y="7593"/>
                </a:lnTo>
                <a:lnTo>
                  <a:pt x="13975" y="9603"/>
                </a:lnTo>
                <a:lnTo>
                  <a:pt x="13975" y="15423"/>
                </a:lnTo>
                <a:lnTo>
                  <a:pt x="7625" y="15423"/>
                </a:lnTo>
                <a:close/>
              </a:path>
              <a:path fill="darken" w="21600" h="23015">
                <a:moveTo>
                  <a:pt x="11645" y="7593"/>
                </a:moveTo>
                <a:lnTo>
                  <a:pt x="13975" y="9603"/>
                </a:lnTo>
                <a:lnTo>
                  <a:pt x="11645" y="96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56000" y="1484280"/>
            <a:ext cx="3876480" cy="4969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639280" y="6354720"/>
            <a:ext cx="504720" cy="503280"/>
          </a:xfrm>
          <a:custGeom>
            <a:avLst/>
            <a:gdLst>
              <a:gd name="textAreaLeft" fmla="*/ 77760 w 504720"/>
              <a:gd name="textAreaRight" fmla="*/ 426960 w 504720"/>
              <a:gd name="textAreaTop" fmla="*/ 77760 h 503280"/>
              <a:gd name="textAreaBottom" fmla="*/ 42552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18323" y="3339"/>
                </a:lnTo>
                <a:lnTo>
                  <a:pt x="3339" y="3339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18323" y="18261"/>
                </a:lnTo>
                <a:lnTo>
                  <a:pt x="18323" y="3339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3339" y="18261"/>
                </a:lnTo>
                <a:lnTo>
                  <a:pt x="18323" y="18261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3339" y="3339"/>
                </a:lnTo>
                <a:lnTo>
                  <a:pt x="3339" y="18261"/>
                </a:lnTo>
                <a:close/>
              </a:path>
              <a:path fill="darken" w="21662" h="21600">
                <a:moveTo>
                  <a:pt x="5270" y="8175"/>
                </a:moveTo>
                <a:lnTo>
                  <a:pt x="8054" y="8175"/>
                </a:lnTo>
                <a:lnTo>
                  <a:pt x="8054" y="12410"/>
                </a:lnTo>
                <a:cubicBezTo>
                  <a:pt x="8054" y="13142"/>
                  <a:pt x="8689" y="13722"/>
                  <a:pt x="9511" y="13722"/>
                </a:cubicBezTo>
                <a:lnTo>
                  <a:pt x="10831" y="13722"/>
                </a:lnTo>
                <a:cubicBezTo>
                  <a:pt x="11653" y="13722"/>
                  <a:pt x="12289" y="13142"/>
                  <a:pt x="12289" y="12410"/>
                </a:cubicBezTo>
                <a:lnTo>
                  <a:pt x="12289" y="8175"/>
                </a:lnTo>
                <a:lnTo>
                  <a:pt x="10831" y="8175"/>
                </a:lnTo>
                <a:lnTo>
                  <a:pt x="13615" y="5391"/>
                </a:lnTo>
                <a:lnTo>
                  <a:pt x="16530" y="8175"/>
                </a:lnTo>
                <a:lnTo>
                  <a:pt x="15073" y="8175"/>
                </a:lnTo>
                <a:lnTo>
                  <a:pt x="15073" y="12410"/>
                </a:lnTo>
                <a:cubicBezTo>
                  <a:pt x="15073" y="14606"/>
                  <a:pt x="13028" y="16638"/>
                  <a:pt x="10831" y="16638"/>
                </a:cubicBezTo>
                <a:lnTo>
                  <a:pt x="9511" y="16638"/>
                </a:lnTo>
                <a:cubicBezTo>
                  <a:pt x="7315" y="16638"/>
                  <a:pt x="5270" y="14606"/>
                  <a:pt x="5270" y="1241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МЕЛЬНИКОВА КС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00360" y="765000"/>
            <a:ext cx="3672000" cy="6093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135000 w 539640"/>
              <a:gd name="textAreaRight" fmla="*/ 405000 w 539640"/>
              <a:gd name="textAreaTop" fmla="*/ 135000 h 549360"/>
              <a:gd name="textAreaBottom" fmla="*/ 41472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16200" y="16589"/>
                </a:lnTo>
                <a:lnTo>
                  <a:pt x="16200" y="5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5400" y="16589"/>
                </a:lnTo>
                <a:lnTo>
                  <a:pt x="16200" y="16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5400" y="5400"/>
                </a:lnTo>
                <a:lnTo>
                  <a:pt x="5400" y="16589"/>
                </a:lnTo>
                <a:close/>
              </a:path>
              <a:path fill="darken" w="21600" h="21989">
                <a:moveTo>
                  <a:pt x="10800" y="6994"/>
                </a:moveTo>
                <a:lnTo>
                  <a:pt x="12280" y="8494"/>
                </a:lnTo>
                <a:lnTo>
                  <a:pt x="12280" y="7494"/>
                </a:lnTo>
                <a:lnTo>
                  <a:pt x="13300" y="7494"/>
                </a:lnTo>
                <a:lnTo>
                  <a:pt x="13300" y="9514"/>
                </a:lnTo>
                <a:lnTo>
                  <a:pt x="14800" y="10994"/>
                </a:lnTo>
                <a:lnTo>
                  <a:pt x="13850" y="10994"/>
                </a:lnTo>
                <a:lnTo>
                  <a:pt x="13850" y="15124"/>
                </a:lnTo>
                <a:lnTo>
                  <a:pt x="7750" y="15124"/>
                </a:lnTo>
                <a:lnTo>
                  <a:pt x="7750" y="10994"/>
                </a:lnTo>
                <a:lnTo>
                  <a:pt x="6800" y="10994"/>
                </a:lnTo>
                <a:close/>
              </a:path>
              <a:path fill="darkenLess" w="21600" h="21989">
                <a:moveTo>
                  <a:pt x="12280" y="8494"/>
                </a:moveTo>
                <a:lnTo>
                  <a:pt x="12280" y="7494"/>
                </a:lnTo>
                <a:lnTo>
                  <a:pt x="13300" y="7494"/>
                </a:lnTo>
                <a:lnTo>
                  <a:pt x="13300" y="9514"/>
                </a:lnTo>
                <a:close/>
              </a:path>
              <a:path fill="darkenLess" w="21600" h="21989">
                <a:moveTo>
                  <a:pt x="10270" y="13004"/>
                </a:moveTo>
                <a:lnTo>
                  <a:pt x="11330" y="13004"/>
                </a:lnTo>
                <a:lnTo>
                  <a:pt x="11330" y="15124"/>
                </a:lnTo>
                <a:lnTo>
                  <a:pt x="13850" y="15124"/>
                </a:lnTo>
                <a:lnTo>
                  <a:pt x="13850" y="10994"/>
                </a:lnTo>
                <a:lnTo>
                  <a:pt x="7750" y="10994"/>
                </a:lnTo>
                <a:lnTo>
                  <a:pt x="7750" y="15124"/>
                </a:lnTo>
                <a:lnTo>
                  <a:pt x="10270" y="1512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630072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3 ФЕВРА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74320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ДЕНЬ ЗАЩИТНИКА ОТ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ЛУЖНИКОВА ВИКТО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741760" y="1047600"/>
            <a:ext cx="3414600" cy="5810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137160 w 684360"/>
              <a:gd name="textAreaRight" fmla="*/ 547200 w 684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1505" y="5400"/>
                </a:lnTo>
                <a:lnTo>
                  <a:pt x="5400" y="5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1505" y="16200"/>
                </a:lnTo>
                <a:lnTo>
                  <a:pt x="21505" y="5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1505" y="16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905" h="21600">
                <a:moveTo>
                  <a:pt x="13452" y="6800"/>
                </a:moveTo>
                <a:lnTo>
                  <a:pt x="14932" y="8300"/>
                </a:lnTo>
                <a:lnTo>
                  <a:pt x="14932" y="7300"/>
                </a:lnTo>
                <a:lnTo>
                  <a:pt x="15952" y="7300"/>
                </a:lnTo>
                <a:lnTo>
                  <a:pt x="15952" y="9320"/>
                </a:lnTo>
                <a:lnTo>
                  <a:pt x="17452" y="10800"/>
                </a:lnTo>
                <a:lnTo>
                  <a:pt x="16502" y="10800"/>
                </a:lnTo>
                <a:lnTo>
                  <a:pt x="16502" y="14930"/>
                </a:lnTo>
                <a:lnTo>
                  <a:pt x="10402" y="14930"/>
                </a:lnTo>
                <a:lnTo>
                  <a:pt x="10402" y="10800"/>
                </a:lnTo>
                <a:lnTo>
                  <a:pt x="9452" y="10800"/>
                </a:lnTo>
                <a:close/>
              </a:path>
              <a:path fill="darkenLess" w="26905" h="21600">
                <a:moveTo>
                  <a:pt x="14932" y="8300"/>
                </a:moveTo>
                <a:lnTo>
                  <a:pt x="14932" y="7300"/>
                </a:lnTo>
                <a:lnTo>
                  <a:pt x="15952" y="7300"/>
                </a:lnTo>
                <a:lnTo>
                  <a:pt x="15952" y="9320"/>
                </a:lnTo>
                <a:close/>
              </a:path>
              <a:path fill="darkenLess" w="26905" h="21600">
                <a:moveTo>
                  <a:pt x="12922" y="12810"/>
                </a:moveTo>
                <a:lnTo>
                  <a:pt x="13982" y="12810"/>
                </a:lnTo>
                <a:lnTo>
                  <a:pt x="13982" y="14930"/>
                </a:lnTo>
                <a:lnTo>
                  <a:pt x="16502" y="14930"/>
                </a:lnTo>
                <a:lnTo>
                  <a:pt x="16502" y="10800"/>
                </a:lnTo>
                <a:lnTo>
                  <a:pt x="10402" y="10800"/>
                </a:lnTo>
                <a:lnTo>
                  <a:pt x="10402" y="14930"/>
                </a:lnTo>
                <a:lnTo>
                  <a:pt x="12922" y="1493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МИСТЕР МУЖЕСТВ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765000"/>
            <a:ext cx="6696000" cy="2521080"/>
          </a:xfrm>
          <a:prstGeom prst="foldedCorner">
            <a:avLst>
              <a:gd name="adj" fmla="val 28425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АМ НЕОБХОДИМО ПРИГЛАСИТЬ ДЕВОЧ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ИНО, КОТОРАЯ СОВЕРШЕН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ХОЧЕТ ТУДА ИД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012000" y="2924280"/>
            <a:ext cx="31320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42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МИСТЕР ЮМОР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МИСТЕР УМЕЛ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394080" y="692280"/>
            <a:ext cx="5749920" cy="574992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0520" y="1989000"/>
            <a:ext cx="3624480" cy="486900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МИСТЕР УМЕЛЕЦ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979640" y="765000"/>
            <a:ext cx="5113440" cy="590400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МИСТЕР УМЕЛЕЦ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268360" y="981000"/>
            <a:ext cx="4896000" cy="568800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789200" y="189000"/>
            <a:ext cx="5562360" cy="648000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МИСТЕР СПОР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1152720" cy="936720"/>
          </a:xfrm>
          <a:prstGeom prst="foldedCorner">
            <a:avLst>
              <a:gd name="adj" fmla="val 14444"/>
            </a:avLst>
          </a:prstGeom>
          <a:solidFill>
            <a:srgbClr val="3399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2000" y="2852640"/>
            <a:ext cx="1152720" cy="936720"/>
          </a:xfrm>
          <a:prstGeom prst="foldedCorner">
            <a:avLst>
              <a:gd name="adj" fmla="val 14444"/>
            </a:avLst>
          </a:prstGeom>
          <a:solidFill>
            <a:srgbClr val="3399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4724280"/>
            <a:ext cx="1152720" cy="936720"/>
          </a:xfrm>
          <a:prstGeom prst="foldedCorner">
            <a:avLst>
              <a:gd name="adj" fmla="val 14462"/>
            </a:avLst>
          </a:prstGeom>
          <a:solidFill>
            <a:srgbClr val="3399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1125360"/>
            <a:ext cx="1152720" cy="936720"/>
          </a:xfrm>
          <a:prstGeom prst="foldedCorner">
            <a:avLst>
              <a:gd name="adj" fmla="val 14444"/>
            </a:avLst>
          </a:prstGeom>
          <a:solidFill>
            <a:srgbClr val="3399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1125360"/>
            <a:ext cx="1152360" cy="936720"/>
          </a:xfrm>
          <a:prstGeom prst="foldedCorner">
            <a:avLst>
              <a:gd name="adj" fmla="val 14444"/>
            </a:avLst>
          </a:prstGeom>
          <a:solidFill>
            <a:srgbClr val="3399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24360" y="1125360"/>
            <a:ext cx="1152720" cy="936720"/>
          </a:xfrm>
          <a:prstGeom prst="foldedCorner">
            <a:avLst>
              <a:gd name="adj" fmla="val 14444"/>
            </a:avLst>
          </a:prstGeom>
          <a:solidFill>
            <a:srgbClr val="3399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745240" y="2276640"/>
            <a:ext cx="3398760" cy="458136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684360" y="1700280"/>
            <a:ext cx="431640" cy="433440"/>
          </a:xfrm>
          <a:custGeom>
            <a:avLst/>
            <a:gdLst>
              <a:gd name="textAreaLeft" fmla="*/ 108000 w 431640"/>
              <a:gd name="textAreaRight" fmla="*/ 324000 w 431640"/>
              <a:gd name="textAreaTop" fmla="*/ 108000 h 433440"/>
              <a:gd name="textAreaBottom" fmla="*/ 32580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16200" y="16290"/>
                </a:lnTo>
                <a:lnTo>
                  <a:pt x="16200" y="5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5400" y="16290"/>
                </a:lnTo>
                <a:lnTo>
                  <a:pt x="16200" y="16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90"/>
                </a:lnTo>
                <a:close/>
              </a:path>
              <a:path fill="darken" w="21600" h="21690">
                <a:moveTo>
                  <a:pt x="6775" y="6820"/>
                </a:moveTo>
                <a:lnTo>
                  <a:pt x="14825" y="10845"/>
                </a:lnTo>
                <a:lnTo>
                  <a:pt x="6775" y="1487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4" action="ppaction://hlinksldjump"/>
          </p:cNvPr>
          <p:cNvSpPr/>
          <p:nvPr/>
        </p:nvSpPr>
        <p:spPr>
          <a:xfrm>
            <a:off x="3203640" y="1700280"/>
            <a:ext cx="431640" cy="431640"/>
          </a:xfrm>
          <a:custGeom>
            <a:avLst/>
            <a:gdLst>
              <a:gd name="textAreaLeft" fmla="*/ 108000 w 431640"/>
              <a:gd name="textAreaRight" fmla="*/ 324000 w 43164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14825" y="10800"/>
                </a:lnTo>
                <a:lnTo>
                  <a:pt x="6775" y="1482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5" action="ppaction://hlinksldjump"/>
          </p:cNvPr>
          <p:cNvSpPr/>
          <p:nvPr/>
        </p:nvSpPr>
        <p:spPr>
          <a:xfrm>
            <a:off x="5651640" y="1700280"/>
            <a:ext cx="431640" cy="431640"/>
          </a:xfrm>
          <a:custGeom>
            <a:avLst/>
            <a:gdLst>
              <a:gd name="textAreaLeft" fmla="*/ 108000 w 431640"/>
              <a:gd name="textAreaRight" fmla="*/ 324000 w 43164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14825" y="10800"/>
                </a:lnTo>
                <a:lnTo>
                  <a:pt x="6775" y="1482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6" action="ppaction://hlinksldjump"/>
          </p:cNvPr>
          <p:cNvSpPr/>
          <p:nvPr/>
        </p:nvSpPr>
        <p:spPr>
          <a:xfrm>
            <a:off x="684360" y="3357720"/>
            <a:ext cx="431640" cy="431640"/>
          </a:xfrm>
          <a:custGeom>
            <a:avLst/>
            <a:gdLst>
              <a:gd name="textAreaLeft" fmla="*/ 108000 w 431640"/>
              <a:gd name="textAreaRight" fmla="*/ 324000 w 43164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14825" y="10800"/>
                </a:lnTo>
                <a:lnTo>
                  <a:pt x="6775" y="1482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7" action="ppaction://hlinksldjump"/>
          </p:cNvPr>
          <p:cNvSpPr/>
          <p:nvPr/>
        </p:nvSpPr>
        <p:spPr>
          <a:xfrm>
            <a:off x="3059280" y="3357720"/>
            <a:ext cx="468000" cy="465120"/>
          </a:xfrm>
          <a:custGeom>
            <a:avLst/>
            <a:gdLst>
              <a:gd name="textAreaLeft" fmla="*/ 116280 w 468000"/>
              <a:gd name="textAreaRight" fmla="*/ 351720 w 468000"/>
              <a:gd name="textAreaTop" fmla="*/ 116280 h 465120"/>
              <a:gd name="textAreaBottom" fmla="*/ 348840 h 465120"/>
            </a:gdLst>
            <a:ahLst/>
            <a:rect l="textAreaLeft" t="textAreaTop" r="textAreaRight" b="textAreaBottom"/>
            <a:pathLst>
              <a:path w="21734" h="21600">
                <a:moveTo>
                  <a:pt x="0" y="0"/>
                </a:moveTo>
                <a:lnTo>
                  <a:pt x="21734" y="0"/>
                </a:lnTo>
                <a:lnTo>
                  <a:pt x="21734" y="21600"/>
                </a:lnTo>
                <a:lnTo>
                  <a:pt x="0" y="21600"/>
                </a:lnTo>
                <a:close/>
              </a:path>
              <a:path fill="lightenLess" w="21734" h="21600">
                <a:moveTo>
                  <a:pt x="0" y="0"/>
                </a:moveTo>
                <a:lnTo>
                  <a:pt x="21734" y="0"/>
                </a:lnTo>
                <a:lnTo>
                  <a:pt x="16334" y="5400"/>
                </a:lnTo>
                <a:lnTo>
                  <a:pt x="5400" y="5400"/>
                </a:lnTo>
                <a:close/>
              </a:path>
              <a:path fill="darken" w="21734" h="21600">
                <a:moveTo>
                  <a:pt x="21734" y="0"/>
                </a:moveTo>
                <a:lnTo>
                  <a:pt x="21734" y="21600"/>
                </a:lnTo>
                <a:lnTo>
                  <a:pt x="16334" y="16200"/>
                </a:lnTo>
                <a:lnTo>
                  <a:pt x="16334" y="5400"/>
                </a:lnTo>
                <a:close/>
              </a:path>
              <a:path fill="darkenLess" w="21734" h="21600">
                <a:moveTo>
                  <a:pt x="21734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334" y="16200"/>
                </a:lnTo>
                <a:close/>
              </a:path>
              <a:path fill="lighten" w="21734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734" h="21600">
                <a:moveTo>
                  <a:pt x="6842" y="6775"/>
                </a:moveTo>
                <a:lnTo>
                  <a:pt x="14892" y="10800"/>
                </a:lnTo>
                <a:lnTo>
                  <a:pt x="6842" y="1482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8" action="ppaction://hlinksldjump"/>
          </p:cNvPr>
          <p:cNvSpPr/>
          <p:nvPr/>
        </p:nvSpPr>
        <p:spPr>
          <a:xfrm>
            <a:off x="611280" y="5373720"/>
            <a:ext cx="431640" cy="431640"/>
          </a:xfrm>
          <a:custGeom>
            <a:avLst/>
            <a:gdLst>
              <a:gd name="textAreaLeft" fmla="*/ 108000 w 431640"/>
              <a:gd name="textAreaRight" fmla="*/ 324000 w 43164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14825" y="10800"/>
                </a:lnTo>
                <a:lnTo>
                  <a:pt x="6775" y="1482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9" action="ppaction://hlinksldjump"/>
          </p:cNvPr>
          <p:cNvSpPr/>
          <p:nvPr/>
        </p:nvSpPr>
        <p:spPr>
          <a:xfrm>
            <a:off x="8604360" y="6237360"/>
            <a:ext cx="539640" cy="620640"/>
          </a:xfrm>
          <a:custGeom>
            <a:avLst/>
            <a:gdLst>
              <a:gd name="textAreaLeft" fmla="*/ 135000 w 539640"/>
              <a:gd name="textAreaRight" fmla="*/ 405000 w 539640"/>
              <a:gd name="textAreaTop" fmla="*/ 135000 h 620640"/>
              <a:gd name="textAreaBottom" fmla="*/ 485640 h 620640"/>
            </a:gdLst>
            <a:ahLst/>
            <a:rect l="textAreaLeft" t="textAreaTop" r="textAreaRight" b="textAreaBottom"/>
            <a:pathLst>
              <a:path w="21600" h="24840">
                <a:moveTo>
                  <a:pt x="0" y="0"/>
                </a:moveTo>
                <a:lnTo>
                  <a:pt x="21600" y="0"/>
                </a:lnTo>
                <a:lnTo>
                  <a:pt x="21600" y="24840"/>
                </a:lnTo>
                <a:lnTo>
                  <a:pt x="0" y="24840"/>
                </a:lnTo>
                <a:close/>
              </a:path>
              <a:path fill="lightenLess" w="21600" h="2484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4840">
                <a:moveTo>
                  <a:pt x="21600" y="0"/>
                </a:moveTo>
                <a:lnTo>
                  <a:pt x="21600" y="24840"/>
                </a:lnTo>
                <a:lnTo>
                  <a:pt x="16200" y="19440"/>
                </a:lnTo>
                <a:lnTo>
                  <a:pt x="16200" y="5400"/>
                </a:lnTo>
                <a:close/>
              </a:path>
              <a:path fill="darkenLess" w="21600" h="24840">
                <a:moveTo>
                  <a:pt x="21600" y="24840"/>
                </a:moveTo>
                <a:lnTo>
                  <a:pt x="0" y="24840"/>
                </a:lnTo>
                <a:lnTo>
                  <a:pt x="5400" y="19440"/>
                </a:lnTo>
                <a:lnTo>
                  <a:pt x="16200" y="19440"/>
                </a:lnTo>
                <a:close/>
              </a:path>
              <a:path fill="lighten" w="21600" h="24840">
                <a:moveTo>
                  <a:pt x="0" y="24840"/>
                </a:moveTo>
                <a:lnTo>
                  <a:pt x="0" y="0"/>
                </a:lnTo>
                <a:lnTo>
                  <a:pt x="5400" y="5400"/>
                </a:lnTo>
                <a:lnTo>
                  <a:pt x="5400" y="19440"/>
                </a:lnTo>
                <a:close/>
              </a:path>
              <a:path fill="darken" w="21600" h="24840">
                <a:moveTo>
                  <a:pt x="6775" y="10520"/>
                </a:moveTo>
                <a:lnTo>
                  <a:pt x="8790" y="10520"/>
                </a:lnTo>
                <a:lnTo>
                  <a:pt x="8790" y="13585"/>
                </a:lnTo>
                <a:cubicBezTo>
                  <a:pt x="8790" y="14115"/>
                  <a:pt x="9250" y="14535"/>
                  <a:pt x="9845" y="14535"/>
                </a:cubicBezTo>
                <a:lnTo>
                  <a:pt x="10800" y="14535"/>
                </a:lnTo>
                <a:cubicBezTo>
                  <a:pt x="11395" y="14535"/>
                  <a:pt x="11855" y="14115"/>
                  <a:pt x="11855" y="13585"/>
                </a:cubicBezTo>
                <a:lnTo>
                  <a:pt x="11855" y="10520"/>
                </a:lnTo>
                <a:lnTo>
                  <a:pt x="10800" y="10520"/>
                </a:lnTo>
                <a:lnTo>
                  <a:pt x="12815" y="8505"/>
                </a:lnTo>
                <a:lnTo>
                  <a:pt x="14925" y="10520"/>
                </a:lnTo>
                <a:lnTo>
                  <a:pt x="13870" y="10520"/>
                </a:lnTo>
                <a:lnTo>
                  <a:pt x="13870" y="13585"/>
                </a:lnTo>
                <a:cubicBezTo>
                  <a:pt x="13870" y="15175"/>
                  <a:pt x="12390" y="16645"/>
                  <a:pt x="10800" y="16645"/>
                </a:cubicBezTo>
                <a:lnTo>
                  <a:pt x="9845" y="16645"/>
                </a:lnTo>
                <a:cubicBezTo>
                  <a:pt x="8255" y="16645"/>
                  <a:pt x="6775" y="15175"/>
                  <a:pt x="6775" y="13585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«МИСТЕР СПОРТ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0">
              <a:spcBef>
                <a:spcPts val="11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ОНЕСТИ НА ГОЛОВЕ ЯБЛОКО, НЕ УРОНИВ ЕГО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110880 w 468360"/>
              <a:gd name="textAreaRight" fmla="*/ 357480 w 468360"/>
              <a:gd name="textAreaTop" fmla="*/ 110880 h 476280"/>
              <a:gd name="textAreaBottom" fmla="*/ 36540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16475" y="5125"/>
                </a:lnTo>
                <a:lnTo>
                  <a:pt x="5125" y="5125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16475" y="16840"/>
                </a:lnTo>
                <a:lnTo>
                  <a:pt x="16475" y="5125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5125" y="16840"/>
                </a:lnTo>
                <a:lnTo>
                  <a:pt x="16475" y="16840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5125" y="5125"/>
                </a:lnTo>
                <a:lnTo>
                  <a:pt x="5125" y="16840"/>
                </a:lnTo>
                <a:close/>
              </a:path>
              <a:path fill="darken" w="21600" h="21965">
                <a:moveTo>
                  <a:pt x="10800" y="6779"/>
                </a:moveTo>
                <a:lnTo>
                  <a:pt x="12355" y="8355"/>
                </a:lnTo>
                <a:lnTo>
                  <a:pt x="12355" y="7304"/>
                </a:lnTo>
                <a:lnTo>
                  <a:pt x="13427" y="7304"/>
                </a:lnTo>
                <a:lnTo>
                  <a:pt x="13427" y="9427"/>
                </a:lnTo>
                <a:lnTo>
                  <a:pt x="15004" y="10982"/>
                </a:lnTo>
                <a:lnTo>
                  <a:pt x="14005" y="10982"/>
                </a:lnTo>
                <a:lnTo>
                  <a:pt x="14005" y="15323"/>
                </a:lnTo>
                <a:lnTo>
                  <a:pt x="7595" y="15323"/>
                </a:lnTo>
                <a:lnTo>
                  <a:pt x="7595" y="10982"/>
                </a:lnTo>
                <a:lnTo>
                  <a:pt x="6596" y="10982"/>
                </a:lnTo>
                <a:close/>
              </a:path>
              <a:path fill="darkenLess" w="21600" h="21965">
                <a:moveTo>
                  <a:pt x="12355" y="8355"/>
                </a:moveTo>
                <a:lnTo>
                  <a:pt x="12355" y="7304"/>
                </a:lnTo>
                <a:lnTo>
                  <a:pt x="13427" y="7304"/>
                </a:lnTo>
                <a:lnTo>
                  <a:pt x="13427" y="9427"/>
                </a:lnTo>
                <a:close/>
              </a:path>
              <a:path fill="darkenLess" w="21600" h="21965">
                <a:moveTo>
                  <a:pt x="10243" y="13095"/>
                </a:moveTo>
                <a:lnTo>
                  <a:pt x="11357" y="13095"/>
                </a:lnTo>
                <a:lnTo>
                  <a:pt x="11357" y="15323"/>
                </a:lnTo>
                <a:lnTo>
                  <a:pt x="14005" y="15323"/>
                </a:lnTo>
                <a:lnTo>
                  <a:pt x="14005" y="10982"/>
                </a:lnTo>
                <a:lnTo>
                  <a:pt x="7595" y="10982"/>
                </a:lnTo>
                <a:lnTo>
                  <a:pt x="7595" y="15323"/>
                </a:lnTo>
                <a:lnTo>
                  <a:pt x="10243" y="1532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«МИСТЕР СПОРТ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0">
              <a:spcBef>
                <a:spcPts val="11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ОКАЗАТЬ ФИГУРЫ ВЫСШЕГО ПИЛОТАЖА, ПРЫГАЯ НА СКАКАЛК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119160 w 539640"/>
              <a:gd name="textAreaRight" fmla="*/ 420840 w 539640"/>
              <a:gd name="textAreaTop" fmla="*/ 119160 h 476280"/>
              <a:gd name="textAreaBottom" fmla="*/ 3574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19071" y="5400"/>
                </a:lnTo>
                <a:lnTo>
                  <a:pt x="5400" y="5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19071" y="16200"/>
                </a:lnTo>
                <a:lnTo>
                  <a:pt x="19071" y="5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9071" y="16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4471" h="21600">
                <a:moveTo>
                  <a:pt x="12236" y="6800"/>
                </a:moveTo>
                <a:lnTo>
                  <a:pt x="13716" y="8300"/>
                </a:lnTo>
                <a:lnTo>
                  <a:pt x="13716" y="7300"/>
                </a:lnTo>
                <a:lnTo>
                  <a:pt x="14736" y="7300"/>
                </a:lnTo>
                <a:lnTo>
                  <a:pt x="14736" y="9320"/>
                </a:lnTo>
                <a:lnTo>
                  <a:pt x="16236" y="10800"/>
                </a:lnTo>
                <a:lnTo>
                  <a:pt x="15286" y="10800"/>
                </a:lnTo>
                <a:lnTo>
                  <a:pt x="15286" y="14930"/>
                </a:lnTo>
                <a:lnTo>
                  <a:pt x="9186" y="14930"/>
                </a:lnTo>
                <a:lnTo>
                  <a:pt x="9186" y="10800"/>
                </a:lnTo>
                <a:lnTo>
                  <a:pt x="8236" y="10800"/>
                </a:lnTo>
                <a:close/>
              </a:path>
              <a:path fill="darkenLess" w="24471" h="21600">
                <a:moveTo>
                  <a:pt x="13716" y="8300"/>
                </a:moveTo>
                <a:lnTo>
                  <a:pt x="13716" y="7300"/>
                </a:lnTo>
                <a:lnTo>
                  <a:pt x="14736" y="7300"/>
                </a:lnTo>
                <a:lnTo>
                  <a:pt x="14736" y="9320"/>
                </a:lnTo>
                <a:close/>
              </a:path>
              <a:path fill="darkenLess" w="24471" h="21600">
                <a:moveTo>
                  <a:pt x="11706" y="12810"/>
                </a:moveTo>
                <a:lnTo>
                  <a:pt x="12766" y="12810"/>
                </a:lnTo>
                <a:lnTo>
                  <a:pt x="12766" y="14930"/>
                </a:lnTo>
                <a:lnTo>
                  <a:pt x="15286" y="14930"/>
                </a:lnTo>
                <a:lnTo>
                  <a:pt x="15286" y="10800"/>
                </a:lnTo>
                <a:lnTo>
                  <a:pt x="9186" y="10800"/>
                </a:lnTo>
                <a:lnTo>
                  <a:pt x="9186" y="14930"/>
                </a:lnTo>
                <a:lnTo>
                  <a:pt x="11706" y="1493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«МИСТЕР СПОРТ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0" algn="ctr">
              <a:spcBef>
                <a:spcPts val="11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ОТЖАТЬСЯ ОТ ПОЛ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2" action="ppaction://hlinksldjump"/>
          </p:cNvPr>
          <p:cNvSpPr/>
          <p:nvPr/>
        </p:nvSpPr>
        <p:spPr>
          <a:xfrm>
            <a:off x="8677440" y="6381720"/>
            <a:ext cx="466560" cy="476280"/>
          </a:xfrm>
          <a:custGeom>
            <a:avLst/>
            <a:gdLst>
              <a:gd name="textAreaLeft" fmla="*/ 88920 w 466560"/>
              <a:gd name="textAreaRight" fmla="*/ 377640 w 466560"/>
              <a:gd name="textAreaTop" fmla="*/ 88920 h 476280"/>
              <a:gd name="textAreaBottom" fmla="*/ 387360 h 476280"/>
            </a:gdLst>
            <a:ahLst/>
            <a:rect l="textAreaLeft" t="textAreaTop" r="textAreaRight" b="textAreaBottom"/>
            <a:pathLst>
              <a:path w="21600" h="22050">
                <a:moveTo>
                  <a:pt x="0" y="0"/>
                </a:moveTo>
                <a:lnTo>
                  <a:pt x="21600" y="0"/>
                </a:lnTo>
                <a:lnTo>
                  <a:pt x="21600" y="22050"/>
                </a:lnTo>
                <a:lnTo>
                  <a:pt x="0" y="22050"/>
                </a:lnTo>
                <a:close/>
              </a:path>
              <a:path fill="lightenLess" w="21600" h="22050">
                <a:moveTo>
                  <a:pt x="0" y="0"/>
                </a:moveTo>
                <a:lnTo>
                  <a:pt x="21600" y="0"/>
                </a:lnTo>
                <a:lnTo>
                  <a:pt x="17486" y="4114"/>
                </a:lnTo>
                <a:lnTo>
                  <a:pt x="4114" y="4114"/>
                </a:lnTo>
                <a:close/>
              </a:path>
              <a:path fill="darken" w="21600" h="22050">
                <a:moveTo>
                  <a:pt x="21600" y="0"/>
                </a:moveTo>
                <a:lnTo>
                  <a:pt x="21600" y="22050"/>
                </a:lnTo>
                <a:lnTo>
                  <a:pt x="17486" y="17936"/>
                </a:lnTo>
                <a:lnTo>
                  <a:pt x="17486" y="4114"/>
                </a:lnTo>
                <a:close/>
              </a:path>
              <a:path fill="darkenLess" w="21600" h="22050">
                <a:moveTo>
                  <a:pt x="21600" y="22050"/>
                </a:moveTo>
                <a:lnTo>
                  <a:pt x="0" y="22050"/>
                </a:lnTo>
                <a:lnTo>
                  <a:pt x="4114" y="17936"/>
                </a:lnTo>
                <a:lnTo>
                  <a:pt x="17486" y="17936"/>
                </a:lnTo>
                <a:close/>
              </a:path>
              <a:path fill="lighten" w="21600" h="22050">
                <a:moveTo>
                  <a:pt x="0" y="22050"/>
                </a:moveTo>
                <a:lnTo>
                  <a:pt x="0" y="0"/>
                </a:lnTo>
                <a:lnTo>
                  <a:pt x="4114" y="4114"/>
                </a:lnTo>
                <a:lnTo>
                  <a:pt x="4114" y="17936"/>
                </a:lnTo>
                <a:close/>
              </a:path>
              <a:path fill="darken" w="21600" h="22050">
                <a:moveTo>
                  <a:pt x="10800" y="6072"/>
                </a:moveTo>
                <a:lnTo>
                  <a:pt x="12632" y="7929"/>
                </a:lnTo>
                <a:lnTo>
                  <a:pt x="12632" y="6691"/>
                </a:lnTo>
                <a:lnTo>
                  <a:pt x="13895" y="6691"/>
                </a:lnTo>
                <a:lnTo>
                  <a:pt x="13895" y="9192"/>
                </a:lnTo>
                <a:lnTo>
                  <a:pt x="15753" y="11025"/>
                </a:lnTo>
                <a:lnTo>
                  <a:pt x="14576" y="11025"/>
                </a:lnTo>
                <a:lnTo>
                  <a:pt x="14576" y="16138"/>
                </a:lnTo>
                <a:lnTo>
                  <a:pt x="7024" y="16138"/>
                </a:lnTo>
                <a:lnTo>
                  <a:pt x="7024" y="11025"/>
                </a:lnTo>
                <a:lnTo>
                  <a:pt x="5847" y="11025"/>
                </a:lnTo>
                <a:close/>
              </a:path>
              <a:path fill="darkenLess" w="21600" h="22050">
                <a:moveTo>
                  <a:pt x="12632" y="7929"/>
                </a:moveTo>
                <a:lnTo>
                  <a:pt x="12632" y="6691"/>
                </a:lnTo>
                <a:lnTo>
                  <a:pt x="13895" y="6691"/>
                </a:lnTo>
                <a:lnTo>
                  <a:pt x="13895" y="9192"/>
                </a:lnTo>
                <a:close/>
              </a:path>
              <a:path fill="darkenLess" w="21600" h="22050">
                <a:moveTo>
                  <a:pt x="10144" y="13514"/>
                </a:moveTo>
                <a:lnTo>
                  <a:pt x="11456" y="13514"/>
                </a:lnTo>
                <a:lnTo>
                  <a:pt x="11456" y="16138"/>
                </a:lnTo>
                <a:lnTo>
                  <a:pt x="14576" y="16138"/>
                </a:lnTo>
                <a:lnTo>
                  <a:pt x="14576" y="11025"/>
                </a:lnTo>
                <a:lnTo>
                  <a:pt x="7024" y="11025"/>
                </a:lnTo>
                <a:lnTo>
                  <a:pt x="7024" y="16138"/>
                </a:lnTo>
                <a:lnTo>
                  <a:pt x="10144" y="1613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«МИСТЕР СПОРТ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0">
              <a:spcBef>
                <a:spcPts val="11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ИНУТЬ ДАЛЬШЕ ВСЕХ ВОЗДУШНЫЙ ШАР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" action="ppaction://hlinksldjump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119160 w 539640"/>
              <a:gd name="textAreaRight" fmla="*/ 420840 w 539640"/>
              <a:gd name="textAreaTop" fmla="*/ 119160 h 476280"/>
              <a:gd name="textAreaBottom" fmla="*/ 3574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19071" y="5400"/>
                </a:lnTo>
                <a:lnTo>
                  <a:pt x="5400" y="5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19071" y="16200"/>
                </a:lnTo>
                <a:lnTo>
                  <a:pt x="19071" y="5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9071" y="16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4471" h="21600">
                <a:moveTo>
                  <a:pt x="12236" y="6800"/>
                </a:moveTo>
                <a:lnTo>
                  <a:pt x="13716" y="8300"/>
                </a:lnTo>
                <a:lnTo>
                  <a:pt x="13716" y="7300"/>
                </a:lnTo>
                <a:lnTo>
                  <a:pt x="14736" y="7300"/>
                </a:lnTo>
                <a:lnTo>
                  <a:pt x="14736" y="9320"/>
                </a:lnTo>
                <a:lnTo>
                  <a:pt x="16236" y="10800"/>
                </a:lnTo>
                <a:lnTo>
                  <a:pt x="15286" y="10800"/>
                </a:lnTo>
                <a:lnTo>
                  <a:pt x="15286" y="14930"/>
                </a:lnTo>
                <a:lnTo>
                  <a:pt x="9186" y="14930"/>
                </a:lnTo>
                <a:lnTo>
                  <a:pt x="9186" y="10800"/>
                </a:lnTo>
                <a:lnTo>
                  <a:pt x="8236" y="10800"/>
                </a:lnTo>
                <a:close/>
              </a:path>
              <a:path fill="darkenLess" w="24471" h="21600">
                <a:moveTo>
                  <a:pt x="13716" y="8300"/>
                </a:moveTo>
                <a:lnTo>
                  <a:pt x="13716" y="7300"/>
                </a:lnTo>
                <a:lnTo>
                  <a:pt x="14736" y="7300"/>
                </a:lnTo>
                <a:lnTo>
                  <a:pt x="14736" y="9320"/>
                </a:lnTo>
                <a:close/>
              </a:path>
              <a:path fill="darkenLess" w="24471" h="21600">
                <a:moveTo>
                  <a:pt x="11706" y="12810"/>
                </a:moveTo>
                <a:lnTo>
                  <a:pt x="12766" y="12810"/>
                </a:lnTo>
                <a:lnTo>
                  <a:pt x="12766" y="14930"/>
                </a:lnTo>
                <a:lnTo>
                  <a:pt x="15286" y="14930"/>
                </a:lnTo>
                <a:lnTo>
                  <a:pt x="15286" y="10800"/>
                </a:lnTo>
                <a:lnTo>
                  <a:pt x="9186" y="10800"/>
                </a:lnTo>
                <a:lnTo>
                  <a:pt x="9186" y="14930"/>
                </a:lnTo>
                <a:lnTo>
                  <a:pt x="11706" y="1493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«МИСТЕР СПОРТ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0" algn="ctr">
              <a:spcBef>
                <a:spcPts val="11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ОТЖАТЬ ГИРЮ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117000 w 468360"/>
              <a:gd name="textAreaRight" fmla="*/ 351360 w 468360"/>
              <a:gd name="textAreaTop" fmla="*/ 117000 h 549360"/>
              <a:gd name="textAreaBottom" fmla="*/ 43236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16200" y="19933"/>
                </a:lnTo>
                <a:lnTo>
                  <a:pt x="16200" y="5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5400" y="19933"/>
                </a:lnTo>
                <a:lnTo>
                  <a:pt x="16200" y="19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5400" y="5400"/>
                </a:lnTo>
                <a:lnTo>
                  <a:pt x="5400" y="19933"/>
                </a:lnTo>
                <a:close/>
              </a:path>
              <a:path fill="darken" w="21600" h="25333">
                <a:moveTo>
                  <a:pt x="10800" y="8666"/>
                </a:moveTo>
                <a:lnTo>
                  <a:pt x="12280" y="10166"/>
                </a:lnTo>
                <a:lnTo>
                  <a:pt x="12280" y="9166"/>
                </a:lnTo>
                <a:lnTo>
                  <a:pt x="13300" y="9166"/>
                </a:lnTo>
                <a:lnTo>
                  <a:pt x="13300" y="11186"/>
                </a:lnTo>
                <a:lnTo>
                  <a:pt x="14800" y="12666"/>
                </a:lnTo>
                <a:lnTo>
                  <a:pt x="13850" y="12666"/>
                </a:lnTo>
                <a:lnTo>
                  <a:pt x="13850" y="16796"/>
                </a:lnTo>
                <a:lnTo>
                  <a:pt x="7750" y="16796"/>
                </a:lnTo>
                <a:lnTo>
                  <a:pt x="7750" y="12666"/>
                </a:lnTo>
                <a:lnTo>
                  <a:pt x="6800" y="12666"/>
                </a:lnTo>
                <a:close/>
              </a:path>
              <a:path fill="darkenLess" w="21600" h="25333">
                <a:moveTo>
                  <a:pt x="12280" y="10166"/>
                </a:moveTo>
                <a:lnTo>
                  <a:pt x="12280" y="9166"/>
                </a:lnTo>
                <a:lnTo>
                  <a:pt x="13300" y="9166"/>
                </a:lnTo>
                <a:lnTo>
                  <a:pt x="13300" y="11186"/>
                </a:lnTo>
                <a:close/>
              </a:path>
              <a:path fill="darkenLess" w="21600" h="25333">
                <a:moveTo>
                  <a:pt x="10270" y="14676"/>
                </a:moveTo>
                <a:lnTo>
                  <a:pt x="11330" y="14676"/>
                </a:lnTo>
                <a:lnTo>
                  <a:pt x="11330" y="16796"/>
                </a:lnTo>
                <a:lnTo>
                  <a:pt x="13850" y="16796"/>
                </a:lnTo>
                <a:lnTo>
                  <a:pt x="13850" y="12666"/>
                </a:lnTo>
                <a:lnTo>
                  <a:pt x="7750" y="12666"/>
                </a:lnTo>
                <a:lnTo>
                  <a:pt x="7750" y="16796"/>
                </a:lnTo>
                <a:lnTo>
                  <a:pt x="10270" y="1679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«МИСТЕР СПОРТ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0">
              <a:spcBef>
                <a:spcPts val="11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ОТАНЦЕВАТЬ РОК-Н-РОЛ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2" action="ppaction://hlinksldjump"/>
          </p:cNvPr>
          <p:cNvSpPr/>
          <p:nvPr/>
        </p:nvSpPr>
        <p:spPr>
          <a:xfrm>
            <a:off x="8675640" y="6319800"/>
            <a:ext cx="468360" cy="538200"/>
          </a:xfrm>
          <a:custGeom>
            <a:avLst/>
            <a:gdLst>
              <a:gd name="textAreaLeft" fmla="*/ 117000 w 468360"/>
              <a:gd name="textAreaRight" fmla="*/ 351360 w 468360"/>
              <a:gd name="textAreaTop" fmla="*/ 117000 h 538200"/>
              <a:gd name="textAreaBottom" fmla="*/ 421200 h 538200"/>
            </a:gdLst>
            <a:ahLst/>
            <a:rect l="textAreaLeft" t="textAreaTop" r="textAreaRight" b="textAreaBottom"/>
            <a:pathLst>
              <a:path w="21600" h="24818">
                <a:moveTo>
                  <a:pt x="0" y="0"/>
                </a:moveTo>
                <a:lnTo>
                  <a:pt x="21600" y="0"/>
                </a:lnTo>
                <a:lnTo>
                  <a:pt x="21600" y="24818"/>
                </a:lnTo>
                <a:lnTo>
                  <a:pt x="0" y="24818"/>
                </a:lnTo>
                <a:close/>
              </a:path>
              <a:path fill="lightenLess" w="21600" h="24818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4818">
                <a:moveTo>
                  <a:pt x="21600" y="0"/>
                </a:moveTo>
                <a:lnTo>
                  <a:pt x="21600" y="24818"/>
                </a:lnTo>
                <a:lnTo>
                  <a:pt x="16200" y="19418"/>
                </a:lnTo>
                <a:lnTo>
                  <a:pt x="16200" y="5400"/>
                </a:lnTo>
                <a:close/>
              </a:path>
              <a:path fill="darkenLess" w="21600" h="24818">
                <a:moveTo>
                  <a:pt x="21600" y="24818"/>
                </a:moveTo>
                <a:lnTo>
                  <a:pt x="0" y="24818"/>
                </a:lnTo>
                <a:lnTo>
                  <a:pt x="5400" y="19418"/>
                </a:lnTo>
                <a:lnTo>
                  <a:pt x="16200" y="19418"/>
                </a:lnTo>
                <a:close/>
              </a:path>
              <a:path fill="lighten" w="21600" h="24818">
                <a:moveTo>
                  <a:pt x="0" y="24818"/>
                </a:moveTo>
                <a:lnTo>
                  <a:pt x="0" y="0"/>
                </a:lnTo>
                <a:lnTo>
                  <a:pt x="5400" y="5400"/>
                </a:lnTo>
                <a:lnTo>
                  <a:pt x="5400" y="19418"/>
                </a:lnTo>
                <a:close/>
              </a:path>
              <a:path fill="darken" w="21600" h="24818">
                <a:moveTo>
                  <a:pt x="10800" y="8409"/>
                </a:moveTo>
                <a:lnTo>
                  <a:pt x="12280" y="9909"/>
                </a:lnTo>
                <a:lnTo>
                  <a:pt x="12280" y="8909"/>
                </a:lnTo>
                <a:lnTo>
                  <a:pt x="13300" y="8909"/>
                </a:lnTo>
                <a:lnTo>
                  <a:pt x="13300" y="10929"/>
                </a:lnTo>
                <a:lnTo>
                  <a:pt x="14800" y="12409"/>
                </a:lnTo>
                <a:lnTo>
                  <a:pt x="13850" y="12409"/>
                </a:lnTo>
                <a:lnTo>
                  <a:pt x="13850" y="16539"/>
                </a:lnTo>
                <a:lnTo>
                  <a:pt x="7750" y="16539"/>
                </a:lnTo>
                <a:lnTo>
                  <a:pt x="7750" y="12409"/>
                </a:lnTo>
                <a:lnTo>
                  <a:pt x="6800" y="12409"/>
                </a:lnTo>
                <a:close/>
              </a:path>
              <a:path fill="darkenLess" w="21600" h="24818">
                <a:moveTo>
                  <a:pt x="12280" y="9909"/>
                </a:moveTo>
                <a:lnTo>
                  <a:pt x="12280" y="8909"/>
                </a:lnTo>
                <a:lnTo>
                  <a:pt x="13300" y="8909"/>
                </a:lnTo>
                <a:lnTo>
                  <a:pt x="13300" y="10929"/>
                </a:lnTo>
                <a:close/>
              </a:path>
              <a:path fill="darkenLess" w="21600" h="24818">
                <a:moveTo>
                  <a:pt x="10270" y="14419"/>
                </a:moveTo>
                <a:lnTo>
                  <a:pt x="11330" y="14419"/>
                </a:lnTo>
                <a:lnTo>
                  <a:pt x="11330" y="16539"/>
                </a:lnTo>
                <a:lnTo>
                  <a:pt x="13850" y="16539"/>
                </a:lnTo>
                <a:lnTo>
                  <a:pt x="13850" y="12409"/>
                </a:lnTo>
                <a:lnTo>
                  <a:pt x="7750" y="12409"/>
                </a:lnTo>
                <a:lnTo>
                  <a:pt x="7750" y="16539"/>
                </a:lnTo>
                <a:lnTo>
                  <a:pt x="10270" y="1653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9:33:49Z</dcterms:created>
  <dc:creator>HomeCenter</dc:creator>
  <dc:description/>
  <dc:language>en-US</dc:language>
  <cp:lastModifiedBy>HomeCenter</cp:lastModifiedBy>
  <dcterms:modified xsi:type="dcterms:W3CDTF">2012-04-10T03:40:26Z</dcterms:modified>
  <cp:revision>7</cp:revision>
  <dc:subject/>
  <dc:title>23 ФЕВРАЛЯ</dc:title>
</cp:coreProperties>
</file>