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35.jpeg" ContentType="image/jpeg"/>
  <Override PartName="/ppt/media/image9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6.gif" ContentType="image/gif"/>
  <Override PartName="/ppt/media/image30.gif" ContentType="image/gif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82C-0CE1-4310-9F3B-739536BD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D21-1B11-4921-A25A-6E6E5D9B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32E-B8C6-40A3-8543-17A573A3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022-5698-4AFE-B2E9-712F8981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464-720C-4E85-AEBA-2007399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2D9-3FB6-46C0-A510-EF22E0BB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1A5-1B8B-4A6F-ADE9-B342147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7FB-27F9-4771-AE61-1C1C1ED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47F-45B0-4501-8EC7-7FC4DEA7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D59-941C-4BD1-BDFC-935E36A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822-E5FC-4E39-A5ED-318E6E9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7E0-C1B4-4BC2-937F-E99622C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D920-F5AD-4054-8A3E-B243A1393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gif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ИРОДА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hoto 105"/>
          <p:cNvPicPr/>
          <p:nvPr/>
        </p:nvPicPr>
        <p:blipFill>
          <a:blip r:embed="rId1"/>
          <a:stretch/>
        </p:blipFill>
        <p:spPr>
          <a:xfrm>
            <a:off x="-19080" y="3500280"/>
            <a:ext cx="3206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14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СЛЕДОВАНИЯ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кук"/>
          <p:cNvPicPr/>
          <p:nvPr/>
        </p:nvPicPr>
        <p:blipFill>
          <a:blip r:embed="rId2"/>
          <a:stretch/>
        </p:blipFill>
        <p:spPr>
          <a:xfrm>
            <a:off x="324000" y="981000"/>
            <a:ext cx="1628640" cy="2185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1" name="Picture 9" descr="амудсен"/>
          <p:cNvPicPr/>
          <p:nvPr/>
        </p:nvPicPr>
        <p:blipFill>
          <a:blip r:embed="rId3"/>
          <a:stretch/>
        </p:blipFill>
        <p:spPr>
          <a:xfrm>
            <a:off x="6804000" y="981000"/>
            <a:ext cx="1806480" cy="2185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2" name="Picture 10" descr="скотт"/>
          <p:cNvPicPr/>
          <p:nvPr/>
        </p:nvPicPr>
        <p:blipFill>
          <a:blip r:embed="rId4"/>
          <a:stretch/>
        </p:blipFill>
        <p:spPr>
          <a:xfrm>
            <a:off x="3635280" y="981000"/>
            <a:ext cx="1641600" cy="21877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3" name="Text Box 14"/>
          <p:cNvSpPr/>
          <p:nvPr/>
        </p:nvSpPr>
        <p:spPr>
          <a:xfrm>
            <a:off x="771480" y="3633840"/>
            <a:ext cx="14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17928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Ж. 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56400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СКО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673272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АМУД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беллинсгаузен"/>
          <p:cNvPicPr/>
          <p:nvPr/>
        </p:nvPicPr>
        <p:blipFill>
          <a:blip r:embed="rId5"/>
          <a:stretch/>
        </p:blipFill>
        <p:spPr>
          <a:xfrm>
            <a:off x="1908000" y="4005360"/>
            <a:ext cx="1727280" cy="2157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8" name="AutoShape 24"/>
          <p:cNvSpPr/>
          <p:nvPr/>
        </p:nvSpPr>
        <p:spPr>
          <a:xfrm>
            <a:off x="1042920" y="6308640"/>
            <a:ext cx="3384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. БЕЛЛИНСГ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лазарев"/>
          <p:cNvPicPr/>
          <p:nvPr/>
        </p:nvPicPr>
        <p:blipFill>
          <a:blip r:embed="rId6"/>
          <a:stretch/>
        </p:blipFill>
        <p:spPr>
          <a:xfrm>
            <a:off x="5508720" y="3933720"/>
            <a:ext cx="1712880" cy="2232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10" name="AutoShape 26"/>
          <p:cNvSpPr/>
          <p:nvPr/>
        </p:nvSpPr>
        <p:spPr>
          <a:xfrm>
            <a:off x="5435640" y="6308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 ЛАЗ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076720" y="333360"/>
            <a:ext cx="3816360" cy="101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395280" y="3716280"/>
            <a:ext cx="381636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Ж. 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24000" y="1989000"/>
            <a:ext cx="381636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СКО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4000" y="5589720"/>
            <a:ext cx="374472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АМУД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24000" y="404640"/>
            <a:ext cx="38890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. БЕЛЛИНСГАУ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 ЛАЗ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03640" y="3357720"/>
            <a:ext cx="388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Е ПЕРЕСЕЧЕНИЕ ЮЖНОГО ПОЛЯРНОГО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076720" y="1916280"/>
            <a:ext cx="3816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ТОРОЕ ДОСТИЖЕНИЕ  ЮЖНОГО ПОЛЮ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76720" y="5373720"/>
            <a:ext cx="3745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Е ДОСТИЖЕНИЕ ЮЖНОГО ПОЛЮ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ИНЕНТ УЧЁ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полярники"/>
          <p:cNvPicPr/>
          <p:nvPr/>
        </p:nvPicPr>
        <p:blipFill>
          <a:blip r:embed="rId2"/>
          <a:stretch/>
        </p:blipFill>
        <p:spPr>
          <a:xfrm>
            <a:off x="1714680" y="1428840"/>
            <a:ext cx="5744880" cy="42861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ДУНАРОДНЫЙ ГЕОФИЗИЧЕСКИ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олярники2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525600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pic>
        <p:nvPicPr>
          <p:cNvPr id="123" name="Picture 5" descr="полярник"/>
          <p:cNvPicPr/>
          <p:nvPr/>
        </p:nvPicPr>
        <p:blipFill>
          <a:blip r:embed="rId3"/>
          <a:stretch/>
        </p:blipFill>
        <p:spPr>
          <a:xfrm>
            <a:off x="1547640" y="1989000"/>
            <a:ext cx="5640480" cy="42307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4360" y="4365720"/>
            <a:ext cx="845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2421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ледяной матер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земля уилк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250920" y="189000"/>
            <a:ext cx="8642160" cy="914400"/>
          </a:xfrm>
          <a:prstGeom prst="roundRect">
            <a:avLst>
              <a:gd name="adj" fmla="val 4531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НА ЗЕМЛЕ УИЛ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hoto 105"/>
          <p:cNvPicPr/>
          <p:nvPr/>
        </p:nvPicPr>
        <p:blipFill>
          <a:blip r:embed="rId2"/>
          <a:stretch/>
        </p:blipFill>
        <p:spPr>
          <a:xfrm>
            <a:off x="0" y="3429000"/>
            <a:ext cx="298764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2195640" y="1413000"/>
            <a:ext cx="6948360" cy="2736720"/>
          </a:xfrm>
          <a:prstGeom prst="cloudCallout">
            <a:avLst>
              <a:gd name="adj1" fmla="val -56578"/>
              <a:gd name="adj2" fmla="val 7935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МОЩНЫЙ СЛОЙ ЛЬ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ЩИНА ЛЬДА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744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осс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росса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Photo 115"/>
          <p:cNvPicPr/>
          <p:nvPr/>
        </p:nvPicPr>
        <p:blipFill>
          <a:blip r:embed="rId3"/>
          <a:stretch/>
        </p:blipFill>
        <p:spPr>
          <a:xfrm>
            <a:off x="0" y="3184560"/>
            <a:ext cx="3529080" cy="3673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2627280" y="907920"/>
            <a:ext cx="6121440" cy="3025800"/>
          </a:xfrm>
          <a:prstGeom prst="cloudCallout">
            <a:avLst>
              <a:gd name="adj1" fmla="val -55652"/>
              <a:gd name="adj2" fmla="val 6432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БОЛЬШОЙ ПРИБРЕЖНЫЙ ЛЕДНИК -ШЕЛЬФОВЫЙ ЛЕДНИК РО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ЛЕДН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47 350 км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1187280" y="0"/>
            <a:ext cx="6409080" cy="765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РО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ледник ламбе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37" name="AutoShape 7"/>
          <p:cNvSpPr/>
          <p:nvPr/>
        </p:nvSpPr>
        <p:spPr>
          <a:xfrm>
            <a:off x="1835280" y="189000"/>
            <a:ext cx="5689440" cy="647640"/>
          </a:xfrm>
          <a:prstGeom prst="roundRect">
            <a:avLst>
              <a:gd name="adj" fmla="val 31616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ЛАМБ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Photo 115"/>
          <p:cNvPicPr/>
          <p:nvPr/>
        </p:nvPicPr>
        <p:blipFill>
          <a:blip r:embed="rId2"/>
          <a:stretch/>
        </p:blipFill>
        <p:spPr>
          <a:xfrm>
            <a:off x="0" y="3213000"/>
            <a:ext cx="3382920" cy="3645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2627280" y="1052640"/>
            <a:ext cx="5832360" cy="3024000"/>
          </a:xfrm>
          <a:prstGeom prst="cloudCallout">
            <a:avLst>
              <a:gd name="adj1" fmla="val -58708"/>
              <a:gd name="adj2" fmla="val 5892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БОЛЬШОЙ ДВИЖУЩИЙСЯ ЛЕДНИК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ИН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7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ИРИН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7"/>
          <p:cNvSpPr/>
          <p:nvPr/>
        </p:nvSpPr>
        <p:spPr>
          <a:xfrm>
            <a:off x="3995640" y="2852640"/>
            <a:ext cx="1008000" cy="432000"/>
          </a:xfrm>
          <a:prstGeom prst="leftArrow">
            <a:avLst>
              <a:gd name="adj1" fmla="val 49315"/>
              <a:gd name="adj2" fmla="val 103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8"/>
          <p:cNvSpPr/>
          <p:nvPr/>
        </p:nvSpPr>
        <p:spPr>
          <a:xfrm>
            <a:off x="5148360" y="2492280"/>
            <a:ext cx="1368360" cy="432000"/>
          </a:xfrm>
          <a:prstGeom prst="rightArrow">
            <a:avLst>
              <a:gd name="adj1" fmla="val 50000"/>
              <a:gd name="adj2" fmla="val 791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6877080" y="22050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,7м/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бант"/>
          <p:cNvPicPr/>
          <p:nvPr/>
        </p:nvPicPr>
        <p:blipFill>
          <a:blip r:embed="rId1"/>
          <a:stretch/>
        </p:blipFill>
        <p:spPr>
          <a:xfrm>
            <a:off x="0" y="1197000"/>
            <a:ext cx="2536920" cy="298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арка"/>
          <p:cNvPicPr/>
          <p:nvPr/>
        </p:nvPicPr>
        <p:blipFill>
          <a:blip r:embed="rId2"/>
          <a:stretch/>
        </p:blipFill>
        <p:spPr>
          <a:xfrm>
            <a:off x="2556000" y="177336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лапти"/>
          <p:cNvPicPr/>
          <p:nvPr/>
        </p:nvPicPr>
        <p:blipFill>
          <a:blip r:embed="rId3"/>
          <a:stretch/>
        </p:blipFill>
        <p:spPr>
          <a:xfrm>
            <a:off x="6156360" y="1413000"/>
            <a:ext cx="200340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/>
          <p:cNvSpPr/>
          <p:nvPr/>
        </p:nvSpPr>
        <p:spPr>
          <a:xfrm>
            <a:off x="250920" y="148428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658800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86728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507672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48436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101080" y="2852640"/>
            <a:ext cx="1042920" cy="647640"/>
          </a:xfrm>
          <a:prstGeom prst="roundRect">
            <a:avLst>
              <a:gd name="adj" fmla="val 4852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9528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Б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5928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М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579600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ЛАП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684360" y="4437000"/>
            <a:ext cx="50292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3203640" y="4437000"/>
            <a:ext cx="57636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4572000" y="4437000"/>
            <a:ext cx="57636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594036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673272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637236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9528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305928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Р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8"/>
          <p:cNvSpPr/>
          <p:nvPr/>
        </p:nvSpPr>
        <p:spPr>
          <a:xfrm>
            <a:off x="579600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9"/>
          <p:cNvSpPr/>
          <p:nvPr/>
        </p:nvSpPr>
        <p:spPr>
          <a:xfrm>
            <a:off x="8101080" y="5877000"/>
            <a:ext cx="1042920" cy="647640"/>
          </a:xfrm>
          <a:prstGeom prst="roundRect">
            <a:avLst>
              <a:gd name="adj" fmla="val 4852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1692360" y="189000"/>
            <a:ext cx="61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ЕБУ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ЛЕДСТВИЕ ДВИЖЕНИЯ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столовой"/>
          <p:cNvPicPr/>
          <p:nvPr/>
        </p:nvPicPr>
        <p:blipFill>
          <a:blip r:embed="rId1"/>
          <a:srcRect l="0" t="0" r="0" b="6612"/>
          <a:stretch/>
        </p:blipFill>
        <p:spPr>
          <a:xfrm>
            <a:off x="468360" y="2013120"/>
            <a:ext cx="8136000" cy="452412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195" name="Text Box 10"/>
          <p:cNvSpPr/>
          <p:nvPr/>
        </p:nvSpPr>
        <p:spPr>
          <a:xfrm>
            <a:off x="2556000" y="558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ЛОВОЙ АЙС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571760" y="1143000"/>
            <a:ext cx="533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ЙСБЕР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Photo 105"/>
          <p:cNvPicPr/>
          <p:nvPr/>
        </p:nvPicPr>
        <p:blipFill>
          <a:blip r:embed="rId2"/>
          <a:stretch/>
        </p:blipFill>
        <p:spPr>
          <a:xfrm>
            <a:off x="0" y="306864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979640" y="692280"/>
            <a:ext cx="7164360" cy="2808000"/>
          </a:xfrm>
          <a:prstGeom prst="cloudCallout">
            <a:avLst>
              <a:gd name="adj1" fmla="val -47208"/>
              <a:gd name="adj2" fmla="val 7928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ИТЕЛЬНОСТЬ ЖИЗНИ АНТАРКТИЧЕСКИХ АЙСБЕР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 –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ЛЕДСТВИЕ ДВИЖЕНИЯ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56000" y="558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ЛОВОЙ АЙС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трещины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410364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202" name="Text Box 8"/>
          <p:cNvSpPr/>
          <p:nvPr/>
        </p:nvSpPr>
        <p:spPr>
          <a:xfrm>
            <a:off x="2050920" y="141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РЕЩ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995640" y="2852640"/>
            <a:ext cx="1008000" cy="432000"/>
          </a:xfrm>
          <a:prstGeom prst="leftArrow">
            <a:avLst>
              <a:gd name="adj1" fmla="val 49315"/>
              <a:gd name="adj2" fmla="val 103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5148360" y="2492280"/>
            <a:ext cx="1368360" cy="432000"/>
          </a:xfrm>
          <a:prstGeom prst="rightArrow">
            <a:avLst>
              <a:gd name="adj1" fmla="val 50000"/>
              <a:gd name="adj2" fmla="val 791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877080" y="22050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,7м/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5724360" y="314172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240 h 358560"/>
              <a:gd name="textAreaBottom" fmla="*/ 2113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5940360" y="335772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240 h 358560"/>
              <a:gd name="textAreaBottom" fmla="*/ 2113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516720" y="3068640"/>
            <a:ext cx="360360" cy="35892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600 h 358920"/>
              <a:gd name="textAreaBottom" fmla="*/ 2113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5219640" y="364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5 – 16 см/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4"/>
          <p:cNvSpPr/>
          <p:nvPr/>
        </p:nvSpPr>
        <p:spPr>
          <a:xfrm>
            <a:off x="3780000" y="3933720"/>
            <a:ext cx="0" cy="863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2050920" y="400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4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Photo 114"/>
          <p:cNvPicPr/>
          <p:nvPr/>
        </p:nvPicPr>
        <p:blipFill>
          <a:blip r:embed="rId2"/>
          <a:stretch/>
        </p:blipFill>
        <p:spPr>
          <a:xfrm>
            <a:off x="5508720" y="2924280"/>
            <a:ext cx="3004920" cy="35226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6"/>
          <p:cNvSpPr/>
          <p:nvPr/>
        </p:nvSpPr>
        <p:spPr>
          <a:xfrm>
            <a:off x="0" y="333360"/>
            <a:ext cx="6156360" cy="2984400"/>
          </a:xfrm>
          <a:prstGeom prst="cloudCallout">
            <a:avLst>
              <a:gd name="adj1" fmla="val 51444"/>
              <a:gd name="adj2" fmla="val 6803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ЙТЕ ХАРАКТЕРИСТИКУ ПОДЛЁДНОГО РЕЛЬЕФА АНТАРК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5515" y="10800"/>
                </a:moveTo>
                <a:lnTo>
                  <a:pt x="5010" y="17806"/>
                </a:lnTo>
                <a:lnTo>
                  <a:pt x="5010" y="3794"/>
                </a:lnTo>
                <a:close/>
              </a:path>
              <a:path fill="darken" w="24033" h="21600">
                <a:moveTo>
                  <a:pt x="17361" y="3794"/>
                </a:moveTo>
                <a:lnTo>
                  <a:pt x="17361" y="17806"/>
                </a:lnTo>
                <a:lnTo>
                  <a:pt x="19023" y="17806"/>
                </a:lnTo>
                <a:lnTo>
                  <a:pt x="1902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Photo 115"/>
          <p:cNvPicPr/>
          <p:nvPr/>
        </p:nvPicPr>
        <p:blipFill>
          <a:blip r:embed="rId2"/>
          <a:stretch/>
        </p:blipFill>
        <p:spPr>
          <a:xfrm>
            <a:off x="4535640" y="206064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>
            <a:hlinkClick r:id="rId3" action="ppaction://hlinksldjump"/>
          </p:cNvPr>
          <p:cNvSpPr/>
          <p:nvPr/>
        </p:nvSpPr>
        <p:spPr>
          <a:xfrm>
            <a:off x="8569440" y="6281640"/>
            <a:ext cx="574560" cy="576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68">
                <a:moveTo>
                  <a:pt x="0" y="0"/>
                </a:moveTo>
                <a:lnTo>
                  <a:pt x="21600" y="0"/>
                </a:lnTo>
                <a:lnTo>
                  <a:pt x="21600" y="21668"/>
                </a:lnTo>
                <a:lnTo>
                  <a:pt x="0" y="21668"/>
                </a:lnTo>
                <a:close/>
              </a:path>
              <a:path fill="lightenLess" w="21600" h="216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8">
                <a:moveTo>
                  <a:pt x="21600" y="0"/>
                </a:moveTo>
                <a:lnTo>
                  <a:pt x="21600" y="21668"/>
                </a:lnTo>
                <a:lnTo>
                  <a:pt x="20200" y="20268"/>
                </a:lnTo>
                <a:lnTo>
                  <a:pt x="20200" y="1400"/>
                </a:lnTo>
                <a:close/>
              </a:path>
              <a:path fill="darkenLess" w="21600" h="21668">
                <a:moveTo>
                  <a:pt x="21600" y="21668"/>
                </a:moveTo>
                <a:lnTo>
                  <a:pt x="0" y="21668"/>
                </a:lnTo>
                <a:lnTo>
                  <a:pt x="1400" y="20268"/>
                </a:lnTo>
                <a:lnTo>
                  <a:pt x="20200" y="20268"/>
                </a:lnTo>
                <a:close/>
              </a:path>
              <a:path fill="lighten" w="21600" h="21668">
                <a:moveTo>
                  <a:pt x="0" y="216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8"/>
                </a:lnTo>
                <a:close/>
              </a:path>
              <a:path fill="darken" w="21600" h="21668">
                <a:moveTo>
                  <a:pt x="3794" y="7526"/>
                </a:moveTo>
                <a:lnTo>
                  <a:pt x="7301" y="7526"/>
                </a:lnTo>
                <a:lnTo>
                  <a:pt x="7301" y="12862"/>
                </a:lnTo>
                <a:cubicBezTo>
                  <a:pt x="7301" y="13784"/>
                  <a:pt x="8102" y="14515"/>
                  <a:pt x="9138" y="14515"/>
                </a:cubicBezTo>
                <a:lnTo>
                  <a:pt x="10800" y="14515"/>
                </a:lnTo>
                <a:cubicBezTo>
                  <a:pt x="11836" y="14515"/>
                  <a:pt x="12636" y="13784"/>
                  <a:pt x="12636" y="12862"/>
                </a:cubicBezTo>
                <a:lnTo>
                  <a:pt x="12636" y="7526"/>
                </a:lnTo>
                <a:lnTo>
                  <a:pt x="10800" y="7526"/>
                </a:lnTo>
                <a:lnTo>
                  <a:pt x="14308" y="4019"/>
                </a:lnTo>
                <a:lnTo>
                  <a:pt x="17981" y="7526"/>
                </a:lnTo>
                <a:lnTo>
                  <a:pt x="16144" y="7526"/>
                </a:lnTo>
                <a:lnTo>
                  <a:pt x="16144" y="12862"/>
                </a:lnTo>
                <a:cubicBezTo>
                  <a:pt x="16144" y="15630"/>
                  <a:pt x="13568" y="18188"/>
                  <a:pt x="10800" y="18188"/>
                </a:cubicBezTo>
                <a:lnTo>
                  <a:pt x="9138" y="18188"/>
                </a:lnTo>
                <a:cubicBezTo>
                  <a:pt x="6370" y="18188"/>
                  <a:pt x="3794" y="15630"/>
                  <a:pt x="3794" y="128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0" y="404640"/>
            <a:ext cx="5796000" cy="2265480"/>
          </a:xfrm>
          <a:prstGeom prst="wedgeEllipseCallout">
            <a:avLst>
              <a:gd name="adj1" fmla="val 52875"/>
              <a:gd name="adj2" fmla="val 71305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ЛЁДНЫЙ РЕЛЬЕФ АНТАРКТИДЫ РАЗНООБРАЗЕН: ЕСТЬ ГОРЫ И РАВН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4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5796000" y="33336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6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7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8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9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0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52"/>
          <p:cNvSpPr/>
          <p:nvPr/>
        </p:nvSpPr>
        <p:spPr>
          <a:xfrm>
            <a:off x="2236680" y="288288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5">
            <a:hlinkClick r:id="rId1" action="ppaction://hlinksldjump"/>
          </p:cNvPr>
          <p:cNvSpPr/>
          <p:nvPr/>
        </p:nvSpPr>
        <p:spPr>
          <a:xfrm>
            <a:off x="8496360" y="624672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14941" y="10800"/>
                </a:moveTo>
                <a:lnTo>
                  <a:pt x="4436" y="17806"/>
                </a:lnTo>
                <a:lnTo>
                  <a:pt x="4436" y="3794"/>
                </a:lnTo>
                <a:close/>
              </a:path>
              <a:path fill="darken" w="22884" h="21600">
                <a:moveTo>
                  <a:pt x="16786" y="3794"/>
                </a:moveTo>
                <a:lnTo>
                  <a:pt x="16786" y="17806"/>
                </a:lnTo>
                <a:lnTo>
                  <a:pt x="18449" y="17806"/>
                </a:lnTo>
                <a:lnTo>
                  <a:pt x="184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5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Photo 114"/>
          <p:cNvPicPr/>
          <p:nvPr/>
        </p:nvPicPr>
        <p:blipFill>
          <a:blip r:embed="rId3"/>
          <a:stretch/>
        </p:blipFill>
        <p:spPr>
          <a:xfrm>
            <a:off x="755640" y="2492280"/>
            <a:ext cx="3535200" cy="41436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/>
          <p:cNvSpPr/>
          <p:nvPr/>
        </p:nvSpPr>
        <p:spPr>
          <a:xfrm>
            <a:off x="3492360" y="333360"/>
            <a:ext cx="5651640" cy="2698920"/>
          </a:xfrm>
          <a:prstGeom prst="wedgeEllipseCallout">
            <a:avLst>
              <a:gd name="adj1" fmla="val -52273"/>
              <a:gd name="adj2" fmla="val 66351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ЧЁМ РАЗЛИЧИЯ РЕЛЬЕФА ЗАПАДНОЙ И ВОСТОЧНОЙ АНТАРКТ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Photo 105"/>
          <p:cNvPicPr/>
          <p:nvPr/>
        </p:nvPicPr>
        <p:blipFill>
          <a:blip r:embed="rId2"/>
          <a:stretch/>
        </p:blipFill>
        <p:spPr>
          <a:xfrm>
            <a:off x="250920" y="2924280"/>
            <a:ext cx="3529080" cy="3933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9"/>
          <p:cNvSpPr/>
          <p:nvPr/>
        </p:nvSpPr>
        <p:spPr>
          <a:xfrm>
            <a:off x="2556000" y="0"/>
            <a:ext cx="6408720" cy="3860640"/>
          </a:xfrm>
          <a:prstGeom prst="cloudCallout">
            <a:avLst>
              <a:gd name="adj1" fmla="val -51810"/>
              <a:gd name="adj2" fmla="val 61675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АЯ АНТАРКТИДА СИЛЬНО РАСЧЛЕНЕНА, А ПОВЕРХНОСТЬ ВОСТОЧНОЙ АНТАРКТИДЫ БОЛЕЕ Р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Photo 114"/>
          <p:cNvPicPr/>
          <p:nvPr/>
        </p:nvPicPr>
        <p:blipFill>
          <a:blip r:embed="rId2"/>
          <a:stretch/>
        </p:blipFill>
        <p:spPr>
          <a:xfrm>
            <a:off x="0" y="2714760"/>
            <a:ext cx="3535200" cy="414324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7"/>
          <p:cNvSpPr/>
          <p:nvPr/>
        </p:nvSpPr>
        <p:spPr>
          <a:xfrm>
            <a:off x="2484360" y="620640"/>
            <a:ext cx="6335640" cy="2481480"/>
          </a:xfrm>
          <a:prstGeom prst="wedgeEllipseCallout">
            <a:avLst>
              <a:gd name="adj1" fmla="val -48898"/>
              <a:gd name="adj2" fmla="val 71689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ОБЪЯСНЯЮТСЯ РАЗЛИЧИЯ В ПОДЛЁДНОМ РЕЛЬЕФЕ ЗАПАДНОЙ И ВОСТОЧНОЙ АНТАРКТ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Photo 105"/>
          <p:cNvPicPr/>
          <p:nvPr/>
        </p:nvPicPr>
        <p:blipFill>
          <a:blip r:embed="rId2"/>
          <a:stretch/>
        </p:blipFill>
        <p:spPr>
          <a:xfrm>
            <a:off x="0" y="3429000"/>
            <a:ext cx="349236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7"/>
          <p:cNvSpPr/>
          <p:nvPr/>
        </p:nvSpPr>
        <p:spPr>
          <a:xfrm>
            <a:off x="2700360" y="260280"/>
            <a:ext cx="6443640" cy="3168720"/>
          </a:xfrm>
          <a:prstGeom prst="cloudCallout">
            <a:avLst>
              <a:gd name="adj1" fmla="val -56430"/>
              <a:gd name="adj2" fmla="val 85773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АЯ АНТАРКТИДА ЛЕЖИТ НА ДРЕВНЕЙ ПЛАТФОРМЕ, А ЗАПАДНАЯ АНТАРКТИДА НАХОДИТСЯ В ЗОНЕ НОВОЙ СКЛАДЧАТ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эребус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403280" y="7128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900000" y="189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УЛКАН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285920" y="1143000"/>
            <a:ext cx="6840360" cy="1273320"/>
          </a:xfrm>
          <a:prstGeom prst="roundRect">
            <a:avLst>
              <a:gd name="adj" fmla="val 32431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Й ВЫСОКИЙ ВУЛ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ГО ВЫСОТА – 3794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эребус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тазиев"/>
          <p:cNvPicPr/>
          <p:nvPr/>
        </p:nvPicPr>
        <p:blipFill>
          <a:blip r:embed="rId2"/>
          <a:stretch/>
        </p:blipFill>
        <p:spPr>
          <a:xfrm>
            <a:off x="5786280" y="2786040"/>
            <a:ext cx="3110040" cy="371484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282" name="Text Box 6"/>
          <p:cNvSpPr/>
          <p:nvPr/>
        </p:nvSpPr>
        <p:spPr>
          <a:xfrm>
            <a:off x="5364000" y="616572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АРУН ТАЗ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5"/>
          <p:cNvSpPr/>
          <p:nvPr/>
        </p:nvSpPr>
        <p:spPr>
          <a:xfrm>
            <a:off x="0" y="0"/>
            <a:ext cx="4067280" cy="1700280"/>
          </a:xfrm>
          <a:prstGeom prst="cloudCallout">
            <a:avLst>
              <a:gd name="adj1" fmla="val 44263"/>
              <a:gd name="adj2" fmla="val 69328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ИЛЬ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пингвины"/>
          <p:cNvPicPr/>
          <p:nvPr/>
        </p:nvPicPr>
        <p:blipFill>
          <a:blip r:embed="rId2"/>
          <a:srcRect l="0" t="2531" r="0" b="5568"/>
          <a:stretch/>
        </p:blipFill>
        <p:spPr>
          <a:xfrm>
            <a:off x="2484360" y="2598840"/>
            <a:ext cx="5040360" cy="38653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285" name="AutoShape 5"/>
          <p:cNvSpPr/>
          <p:nvPr/>
        </p:nvSpPr>
        <p:spPr>
          <a:xfrm>
            <a:off x="5148360" y="1052640"/>
            <a:ext cx="3995640" cy="2158920"/>
          </a:xfrm>
          <a:prstGeom prst="cloudCallout">
            <a:avLst>
              <a:gd name="adj1" fmla="val -6138"/>
              <a:gd name="adj2" fmla="val 9308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НИЗКАЯ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9,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0" y="1268280"/>
            <a:ext cx="3995640" cy="2016360"/>
          </a:xfrm>
          <a:prstGeom prst="cloudCallout">
            <a:avLst>
              <a:gd name="adj1" fmla="val 26083"/>
              <a:gd name="adj2" fmla="val 81416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5"/>
          <p:cNvSpPr/>
          <p:nvPr/>
        </p:nvSpPr>
        <p:spPr>
          <a:xfrm>
            <a:off x="357120" y="0"/>
            <a:ext cx="8569440" cy="1500120"/>
          </a:xfrm>
          <a:prstGeom prst="roundRect">
            <a:avLst>
              <a:gd name="adj" fmla="val 31597"/>
            </a:avLst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ТАРКТИД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АМЫЙ ХОЛ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МАТЕРИК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Photo 106"/>
          <p:cNvPicPr/>
          <p:nvPr/>
        </p:nvPicPr>
        <p:blipFill>
          <a:blip r:embed="rId2"/>
          <a:stretch/>
        </p:blipFill>
        <p:spPr>
          <a:xfrm>
            <a:off x="5651640" y="2924280"/>
            <a:ext cx="3492360" cy="39337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8"/>
          <p:cNvSpPr/>
          <p:nvPr/>
        </p:nvSpPr>
        <p:spPr>
          <a:xfrm>
            <a:off x="0" y="1773360"/>
            <a:ext cx="4824360" cy="64908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0" y="2565360"/>
            <a:ext cx="4824360" cy="72072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0" y="3500280"/>
            <a:ext cx="4824360" cy="6494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>
            <a:off x="0" y="4437000"/>
            <a:ext cx="4824360" cy="6476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РАЖЕНИЕ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0" y="5300640"/>
            <a:ext cx="4824360" cy="6494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А  МАТ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восток"/>
          <p:cNvPicPr/>
          <p:nvPr/>
        </p:nvPicPr>
        <p:blipFill>
          <a:blip r:embed="rId2"/>
          <a:stretch/>
        </p:blipFill>
        <p:spPr>
          <a:xfrm>
            <a:off x="1258920" y="1700280"/>
            <a:ext cx="6769080" cy="44956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АНЦИЯ «ВОСТОК» - ПОЛЮС ХО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ТАНЦИЯ «РУССКАЯ» - ПОЛЮС ВЕТ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русская2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41418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НТАРКТИДА – ЗЕМЛЯ ВЕ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971640" y="1844640"/>
            <a:ext cx="7704000" cy="720720"/>
          </a:xfrm>
          <a:prstGeom prst="roundRect">
            <a:avLst>
              <a:gd name="adj" fmla="val 46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ЧИНЫ ОБРАЗОВАНИЯ В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41720"/>
            <a:ext cx="27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68360" y="4149720"/>
            <a:ext cx="23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низ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763640" y="5229360"/>
            <a:ext cx="23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419640" y="4149720"/>
            <a:ext cx="23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ысо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203640" y="3141720"/>
            <a:ext cx="273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161928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464328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47640" y="4724280"/>
            <a:ext cx="1295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3059280" y="4724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7" descr="Photo 114"/>
          <p:cNvPicPr/>
          <p:nvPr/>
        </p:nvPicPr>
        <p:blipFill>
          <a:blip r:embed="rId2"/>
          <a:stretch/>
        </p:blipFill>
        <p:spPr>
          <a:xfrm>
            <a:off x="6084720" y="2708280"/>
            <a:ext cx="3059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72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7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АРКТ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50920" y="407664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6804000" y="4005360"/>
            <a:ext cx="2017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Т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635280" y="530064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635280" y="400536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2411280" y="4221000"/>
            <a:ext cx="8654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5580000" y="4149720"/>
            <a:ext cx="865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324000" y="537372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2484360" y="5445000"/>
            <a:ext cx="863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1785960" y="1500120"/>
            <a:ext cx="6531120" cy="1571760"/>
          </a:xfrm>
          <a:prstGeom prst="foldedCorner">
            <a:avLst>
              <a:gd name="adj" fmla="val 21462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ktos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Е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Photo 105"/>
          <p:cNvPicPr/>
          <p:nvPr/>
        </p:nvPicPr>
        <p:blipFill>
          <a:blip r:embed="rId2"/>
          <a:stretch/>
        </p:blipFill>
        <p:spPr>
          <a:xfrm>
            <a:off x="324000" y="2205000"/>
            <a:ext cx="4103640" cy="42451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/>
          <p:cNvSpPr/>
          <p:nvPr/>
        </p:nvSpPr>
        <p:spPr>
          <a:xfrm>
            <a:off x="3851280" y="0"/>
            <a:ext cx="5040360" cy="2843280"/>
          </a:xfrm>
          <a:prstGeom prst="cloudCallout">
            <a:avLst>
              <a:gd name="adj1" fmla="val -71541"/>
              <a:gd name="adj2" fmla="val 8059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РОСТЬ В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 – 16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А ПУР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ТАРКТИЧЕСКАЯ ПУСТЫ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АЗИСЫ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АНТАРКТИЧЕСКОЙ ПУСТЫ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ГАНИЧЕСКИЙ МИР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215040" y="1197000"/>
            <a:ext cx="2928960" cy="1655640"/>
          </a:xfrm>
          <a:prstGeom prst="cloudCallout">
            <a:avLst>
              <a:gd name="adj1" fmla="val -94254"/>
              <a:gd name="adj2" fmla="val 204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2824200" y="13644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ПЕРАТОРСКИЕ ПИНГВ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императоские"/>
          <p:cNvPicPr/>
          <p:nvPr/>
        </p:nvPicPr>
        <p:blipFill>
          <a:blip r:embed="rId2"/>
          <a:srcRect l="0" t="0" r="0" b="8504"/>
          <a:stretch/>
        </p:blipFill>
        <p:spPr>
          <a:xfrm>
            <a:off x="826920" y="1773360"/>
            <a:ext cx="7345440" cy="447984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320" name="Picture 8" descr="пингвиненок"/>
          <p:cNvPicPr/>
          <p:nvPr/>
        </p:nvPicPr>
        <p:blipFill>
          <a:blip r:embed="rId3"/>
          <a:stretch/>
        </p:blipFill>
        <p:spPr>
          <a:xfrm>
            <a:off x="1116000" y="1916280"/>
            <a:ext cx="6769080" cy="414180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1" name="AutoShape 9"/>
          <p:cNvSpPr/>
          <p:nvPr/>
        </p:nvSpPr>
        <p:spPr>
          <a:xfrm>
            <a:off x="2195640" y="5373720"/>
            <a:ext cx="5400720" cy="148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КРУПНЫ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Т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адели"/>
          <p:cNvPicPr/>
          <p:nvPr/>
        </p:nvPicPr>
        <p:blipFill>
          <a:blip r:embed="rId2"/>
          <a:stretch/>
        </p:blipFill>
        <p:spPr>
          <a:xfrm>
            <a:off x="2484360" y="836640"/>
            <a:ext cx="4322880" cy="57625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ИНГВИН А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РСКОЙ ЛЕОПАРД – ВРАГ ПИНГВИ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леопард"/>
          <p:cNvPicPr/>
          <p:nvPr/>
        </p:nvPicPr>
        <p:blipFill>
          <a:blip r:embed="rId2"/>
          <a:stretch/>
        </p:blipFill>
        <p:spPr>
          <a:xfrm>
            <a:off x="1332000" y="1773360"/>
            <a:ext cx="6480000" cy="45003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буревестник"/>
          <p:cNvPicPr/>
          <p:nvPr/>
        </p:nvPicPr>
        <p:blipFill>
          <a:blip r:embed="rId2"/>
          <a:stretch/>
        </p:blipFill>
        <p:spPr>
          <a:xfrm>
            <a:off x="250920" y="476280"/>
            <a:ext cx="4752720" cy="31575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pic>
        <p:nvPicPr>
          <p:cNvPr id="327" name="Picture 5" descr="поморник"/>
          <p:cNvPicPr/>
          <p:nvPr/>
        </p:nvPicPr>
        <p:blipFill>
          <a:blip r:embed="rId3"/>
          <a:stretch/>
        </p:blipFill>
        <p:spPr>
          <a:xfrm>
            <a:off x="5580000" y="476280"/>
            <a:ext cx="3149640" cy="477828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8" name="AutoShape 6"/>
          <p:cNvSpPr/>
          <p:nvPr/>
        </p:nvSpPr>
        <p:spPr>
          <a:xfrm>
            <a:off x="1042920" y="4005360"/>
            <a:ext cx="316872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РЕВЕ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5508720" y="5516640"/>
            <a:ext cx="316872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6"/>
          <p:cNvSpPr/>
          <p:nvPr/>
        </p:nvSpPr>
        <p:spPr>
          <a:xfrm>
            <a:off x="3780000" y="3716280"/>
            <a:ext cx="1223640" cy="122544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ЗЁ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7"/>
          <p:cNvSpPr/>
          <p:nvPr/>
        </p:nvSpPr>
        <p:spPr>
          <a:xfrm>
            <a:off x="7164360" y="3284640"/>
            <a:ext cx="890640" cy="81756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8"/>
          <p:cNvSpPr/>
          <p:nvPr/>
        </p:nvSpPr>
        <p:spPr>
          <a:xfrm>
            <a:off x="5003640" y="3645000"/>
            <a:ext cx="1179720" cy="117792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м/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АНТАРК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700360" y="1052640"/>
            <a:ext cx="6191280" cy="3456000"/>
          </a:xfrm>
          <a:prstGeom prst="wedgeRoundRectCallout">
            <a:avLst>
              <a:gd name="adj1" fmla="val -42435"/>
              <a:gd name="adj2" fmla="val 61666"/>
              <a:gd name="adj3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КА – ЭТО МАТЕРИК С ОКРУЖАЮЩИМИ ЕГО РАЙОНАМИ ТИХОГО, АТЛАНТИЧЕСКОГО И ИНДИЙСКОГО ОКЕ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 АНТАРКТ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7, 84 МЛН. КМ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ингвин6"/>
          <p:cNvPicPr/>
          <p:nvPr/>
        </p:nvPicPr>
        <p:blipFill>
          <a:blip r:embed="rId2"/>
          <a:stretch/>
        </p:blipFill>
        <p:spPr>
          <a:xfrm>
            <a:off x="0" y="3933720"/>
            <a:ext cx="2657520" cy="29242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5515" y="10800"/>
                </a:moveTo>
                <a:lnTo>
                  <a:pt x="5010" y="17806"/>
                </a:lnTo>
                <a:lnTo>
                  <a:pt x="5010" y="3794"/>
                </a:lnTo>
                <a:close/>
              </a:path>
              <a:path fill="darken" w="24033" h="21600">
                <a:moveTo>
                  <a:pt x="17361" y="3794"/>
                </a:moveTo>
                <a:lnTo>
                  <a:pt x="17361" y="17806"/>
                </a:lnTo>
                <a:lnTo>
                  <a:pt x="19023" y="17806"/>
                </a:lnTo>
                <a:lnTo>
                  <a:pt x="1902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hoto 105"/>
          <p:cNvPicPr/>
          <p:nvPr/>
        </p:nvPicPr>
        <p:blipFill>
          <a:blip r:embed="rId2"/>
          <a:stretch/>
        </p:blipFill>
        <p:spPr>
          <a:xfrm>
            <a:off x="0" y="2708280"/>
            <a:ext cx="3924360" cy="4149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7"/>
          <p:cNvSpPr/>
          <p:nvPr/>
        </p:nvSpPr>
        <p:spPr>
          <a:xfrm>
            <a:off x="3132000" y="1125360"/>
            <a:ext cx="5689800" cy="3383280"/>
          </a:xfrm>
          <a:prstGeom prst="cloudCallout">
            <a:avLst>
              <a:gd name="adj1" fmla="val -64370"/>
              <a:gd name="adj2" fmla="val 44930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 ЭТО ЧАСТЬ СВЕТА, СОСТОЯЩАЯ ИЗ МАТЕРИКА АНТАРКТИДА И РЯДОМ ЛЕЖАЩИХ ОСТРО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hoto 114"/>
          <p:cNvPicPr/>
          <p:nvPr/>
        </p:nvPicPr>
        <p:blipFill>
          <a:blip r:embed="rId2"/>
          <a:stretch/>
        </p:blipFill>
        <p:spPr>
          <a:xfrm>
            <a:off x="5892840" y="3048120"/>
            <a:ext cx="325116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0" y="836640"/>
            <a:ext cx="6300720" cy="4392720"/>
          </a:xfrm>
          <a:prstGeom prst="cloudCallout">
            <a:avLst>
              <a:gd name="adj1" fmla="val 59222"/>
              <a:gd name="adj2" fmla="val 30773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 САМЫЙ ЮЖНЫЙ МАТЕРИК ЗЕМЛИ, ЦЕНТР КОТОРОГО СОВПАДАЕТ С ЮЖНЫМ ГЕОГРАФИЧЕСКИМ ПОЛЮ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АНТАРКТИДЫ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,1 МЛН. КМ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>
            <a:hlinkClick r:id="rId3" action="ppaction://hlinksldjump"/>
          </p:cNvPr>
          <p:cNvSpPr/>
          <p:nvPr/>
        </p:nvSpPr>
        <p:spPr>
          <a:xfrm>
            <a:off x="428760" y="6215040"/>
            <a:ext cx="504720" cy="406440"/>
          </a:xfrm>
          <a:custGeom>
            <a:avLst/>
            <a:gdLst>
              <a:gd name="textAreaLeft" fmla="*/ 26280 w 504720"/>
              <a:gd name="textAreaRight" fmla="*/ 478440 w 5047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6403" y="7493"/>
                </a:moveTo>
                <a:lnTo>
                  <a:pt x="9910" y="7493"/>
                </a:lnTo>
                <a:lnTo>
                  <a:pt x="9910" y="12828"/>
                </a:lnTo>
                <a:cubicBezTo>
                  <a:pt x="9910" y="13751"/>
                  <a:pt x="10711" y="14482"/>
                  <a:pt x="11747" y="14482"/>
                </a:cubicBezTo>
                <a:lnTo>
                  <a:pt x="13409" y="14482"/>
                </a:lnTo>
                <a:cubicBezTo>
                  <a:pt x="14445" y="14482"/>
                  <a:pt x="15246" y="13751"/>
                  <a:pt x="15246" y="12828"/>
                </a:cubicBezTo>
                <a:lnTo>
                  <a:pt x="15246" y="7493"/>
                </a:lnTo>
                <a:lnTo>
                  <a:pt x="13409" y="7493"/>
                </a:lnTo>
                <a:lnTo>
                  <a:pt x="16917" y="3985"/>
                </a:lnTo>
                <a:lnTo>
                  <a:pt x="20590" y="7493"/>
                </a:lnTo>
                <a:lnTo>
                  <a:pt x="18753" y="7493"/>
                </a:lnTo>
                <a:lnTo>
                  <a:pt x="18753" y="12828"/>
                </a:lnTo>
                <a:cubicBezTo>
                  <a:pt x="18753" y="15596"/>
                  <a:pt x="16177" y="18155"/>
                  <a:pt x="13409" y="18155"/>
                </a:cubicBezTo>
                <a:lnTo>
                  <a:pt x="11747" y="18155"/>
                </a:lnTo>
                <a:cubicBezTo>
                  <a:pt x="8979" y="18155"/>
                  <a:pt x="6403" y="15596"/>
                  <a:pt x="64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268360" y="0"/>
            <a:ext cx="4537080" cy="792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000160" y="1357200"/>
            <a:ext cx="5915160" cy="3500640"/>
          </a:xfrm>
          <a:prstGeom prst="foldedCorner">
            <a:avLst>
              <a:gd name="adj" fmla="val 15319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НИЯ 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РОДА 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hoto 105"/>
          <p:cNvPicPr/>
          <p:nvPr/>
        </p:nvPicPr>
        <p:blipFill>
          <a:blip r:embed="rId2"/>
          <a:stretch/>
        </p:blipFill>
        <p:spPr>
          <a:xfrm>
            <a:off x="-19080" y="3500280"/>
            <a:ext cx="3206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карта"/>
          <p:cNvPicPr/>
          <p:nvPr/>
        </p:nvPicPr>
        <p:blipFill>
          <a:blip r:embed="rId1"/>
          <a:stretch/>
        </p:blipFill>
        <p:spPr>
          <a:xfrm>
            <a:off x="-36360" y="148428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34920" y="4005360"/>
            <a:ext cx="88930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1403280" y="5734080"/>
            <a:ext cx="1736640" cy="36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5796000" y="5661000"/>
            <a:ext cx="1828800" cy="37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395280" y="4508640"/>
            <a:ext cx="3948120" cy="466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0"/>
          <p:cNvSpPr/>
          <p:nvPr/>
        </p:nvSpPr>
        <p:spPr>
          <a:xfrm>
            <a:off x="4643280" y="4508640"/>
            <a:ext cx="4016520" cy="552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90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ЕОГРАФИЧЕСКОЕ ПОЛОЖЕНИЕ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02:56Z</dcterms:created>
  <dc:creator>HomeCenter</dc:creator>
  <dc:description/>
  <dc:language>en-US</dc:language>
  <cp:lastModifiedBy>HomeCenter</cp:lastModifiedBy>
  <dcterms:modified xsi:type="dcterms:W3CDTF">2013-01-27T15:56:12Z</dcterms:modified>
  <cp:revision>13</cp:revision>
  <dc:subject/>
  <dc:title>Слайд 1</dc:title>
</cp:coreProperties>
</file>