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jpeg" ContentType="image/jpeg"/>
  <Override PartName="/ppt/media/image27.jpeg" ContentType="image/jpeg"/>
  <Override PartName="/ppt/media/image26.jpeg" ContentType="image/jpeg"/>
  <Override PartName="/ppt/media/image21.jpeg" ContentType="image/jpeg"/>
  <Override PartName="/ppt/media/image20.jpeg" ContentType="image/jpeg"/>
  <Override PartName="/ppt/media/image19.png" ContentType="image/png"/>
  <Override PartName="/ppt/media/image18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5.png" ContentType="image/pn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5.gif" ContentType="image/gif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33.jpeg" ContentType="image/jpeg"/>
  <Override PartName="/ppt/media/image34.png" ContentType="image/png"/>
  <Override PartName="/ppt/media/image12.jpeg" ContentType="image/jpeg"/>
  <Override PartName="/ppt/media/image6.png" ContentType="image/png"/>
  <Override PartName="/ppt/media/image36.jpeg" ContentType="image/jpeg"/>
  <Override PartName="/ppt/media/image2.jpeg" ContentType="image/jpeg"/>
  <Override PartName="/ppt/media/image23.jpeg" ContentType="image/jpeg"/>
  <Override PartName="/ppt/media/image10.jpeg" ContentType="image/jpeg"/>
  <Override PartName="/ppt/media/image14.png" ContentType="image/png"/>
  <Override PartName="/ppt/media/image15.jpeg" ContentType="image/jpeg"/>
  <Override PartName="/ppt/media/image16.jpeg" ContentType="image/jpeg"/>
  <Override PartName="/ppt/media/image1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52097-0C23-45FC-A4CB-DF967AE5E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854B5-72A6-471A-8D1F-92801CC65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622A2-17F9-4B43-AC17-13B008A93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76F98-C691-4C3D-AF8E-C1AB1AE0D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C9098-2C47-4678-93D6-54746071F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191AB-7998-44AE-91B5-C488DEC8B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1D59A-C43D-44AF-A718-B80108C87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BE7B1-9F7D-492C-BE8D-89732A0A8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8F083-C84C-4F48-8EAD-17AFC4743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94B23-CCE4-4F6A-990A-D7B046FF1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3601C-8666-4FFA-859A-9C17EBACB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E4394-6758-49EB-9E9D-D356A852E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22E2A-3809-4CF1-8AD4-A82DC95E3B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17.xml"/><Relationship Id="rId3" Type="http://schemas.openxmlformats.org/officeDocument/2006/relationships/slide" Target="slide18.xml"/><Relationship Id="rId4" Type="http://schemas.openxmlformats.org/officeDocument/2006/relationships/slide" Target="slide19.xml"/><Relationship Id="rId5" Type="http://schemas.openxmlformats.org/officeDocument/2006/relationships/slide" Target="slide20.xml"/><Relationship Id="rId6" Type="http://schemas.openxmlformats.org/officeDocument/2006/relationships/slide" Target="slide20.xml"/><Relationship Id="rId7" Type="http://schemas.openxmlformats.org/officeDocument/2006/relationships/slide" Target="slide21.xml"/><Relationship Id="rId8" Type="http://schemas.openxmlformats.org/officeDocument/2006/relationships/slide" Target="slide22.xml"/><Relationship Id="rId9" Type="http://schemas.openxmlformats.org/officeDocument/2006/relationships/slide" Target="slide23.xml"/><Relationship Id="rId10" Type="http://schemas.openxmlformats.org/officeDocument/2006/relationships/slide" Target="slide24.xml"/><Relationship Id="rId11" Type="http://schemas.openxmlformats.org/officeDocument/2006/relationships/slide" Target="slide25.xml"/><Relationship Id="rId1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" Target="slide16.xml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8.xml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4.xml"/><Relationship Id="rId3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4.xml"/><Relationship Id="rId3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" Target="slide4.xml"/><Relationship Id="rId3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" Target="slide4.xml"/><Relationship Id="rId3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" Target="slide4.xml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280" y="1773000"/>
            <a:ext cx="55422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99ff"/>
                </a:solidFill>
                <a:latin typeface="Times New Roman"/>
              </a:rPr>
              <a:t>БЕЗОПАСНЫЙ </a:t>
            </a:r>
            <a:br>
              <a:rPr sz="4000"/>
            </a:br>
            <a:r>
              <a:rPr b="1" lang="en-US" sz="4000" spc="-1" strike="noStrike">
                <a:solidFill>
                  <a:srgbClr val="3399ff"/>
                </a:solidFill>
                <a:latin typeface="Times New Roman"/>
              </a:rPr>
              <a:t>ИНТЕРНЕТ </a:t>
            </a:r>
            <a:br>
              <a:rPr sz="4000"/>
            </a:br>
            <a:r>
              <a:rPr b="1" lang="en-US" sz="4000" spc="-1" strike="noStrike">
                <a:solidFill>
                  <a:srgbClr val="3399ff"/>
                </a:solidFill>
                <a:latin typeface="Times New Roman"/>
              </a:rPr>
              <a:t>С ФИКСИКАМ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360" y="4220640"/>
            <a:ext cx="655164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Автор: Ясакова Елена Александровна, классный руководитель5 клас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МБОУ БГО «Борисоглебская СОШ № 3»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г. Борисоглебск, Воронежская об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484360" y="616572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Bookman Old Style"/>
              </a:rPr>
              <a:t>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5724360" y="0"/>
            <a:ext cx="3419640" cy="25653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284880" y="3645000"/>
            <a:ext cx="2859120" cy="32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ПРАВИЛА РАБОТЫ ЗА КОМПЬЮТЕРОМ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 ОТ ФИКСИ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39640" y="907920"/>
            <a:ext cx="820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.Проводить перед компьютером не более 2-3 часов в день, устраивая 15 минутные перерывы через каждые полчаса рабо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68360" y="1989000"/>
            <a:ext cx="806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.Лучше работать за компьютером в первой половине дн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2781360"/>
            <a:ext cx="676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.Комната должна быть хорошо освеще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68360" y="3357720"/>
            <a:ext cx="676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.Мебель должна соответствовать рост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4005360"/>
            <a:ext cx="648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5.Расстояние от монитора до глаз – 60 с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68360" y="4653000"/>
            <a:ext cx="662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6.Периодически делать зарядку для гла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5300640"/>
            <a:ext cx="712944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7.Сидение за компьютером перемежать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физическими упражнения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6477120" y="3429000"/>
            <a:ext cx="2666880" cy="299736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539640" y="616572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Times New Roman"/>
              </a:rPr>
              <a:t>правильная посадка за компьютер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332000" y="1484280"/>
            <a:ext cx="4535280" cy="50403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6029280" y="3357720"/>
            <a:ext cx="2793960" cy="3139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79280" y="609300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гимнастика для гла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79280" y="609300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187280" y="1052640"/>
            <a:ext cx="6624720" cy="272088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6350040" y="3718080"/>
            <a:ext cx="2793960" cy="313992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 flipH="1" rot="10852200">
            <a:off x="2548080" y="4204440"/>
            <a:ext cx="3100320" cy="1672200"/>
          </a:xfrm>
          <a:prstGeom prst="cloudCallout">
            <a:avLst>
              <a:gd name="adj1" fmla="val 98606"/>
              <a:gd name="adj2" fmla="val 2356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Выполняем эти упражнения вместе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34920" y="980640"/>
            <a:ext cx="693396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физические упражн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79280" y="609300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6516720" y="1628640"/>
            <a:ext cx="2227320" cy="22273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rcRect l="0" t="0" r="0" b="3805"/>
          <a:stretch/>
        </p:blipFill>
        <p:spPr>
          <a:xfrm>
            <a:off x="1692360" y="1916280"/>
            <a:ext cx="3768480" cy="46386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6227640" y="4094280"/>
            <a:ext cx="2916360" cy="27637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0" y="0"/>
            <a:ext cx="2340000" cy="19890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3203640" y="0"/>
            <a:ext cx="3024000" cy="1052640"/>
          </a:xfrm>
          <a:prstGeom prst="cloudCallout">
            <a:avLst>
              <a:gd name="adj1" fmla="val -81865"/>
              <a:gd name="adj2" fmla="val 1003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Повторяйте вместе с нами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8209080" cy="27367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16360" y="2178000"/>
            <a:ext cx="4427640" cy="42624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900000" y="5877000"/>
            <a:ext cx="316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ИНТЕРН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50920" y="2492280"/>
            <a:ext cx="4608360" cy="33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Сетевая паутин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оплела весь бел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свет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не пройти детишка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мимо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Что же это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ИНТЕРНЕТ ОТКРЫВАЕТ БОЛЬШИЕ ВОЗМОЖНОСТИ  ДЛЯ ОБЩЕНИЯ И</a:t>
            </a:r>
            <a:br>
              <a:rPr sz="3200"/>
            </a:b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САМОРАЗВИТИЯ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rcRect l="0" t="0" r="0" b="7559"/>
          <a:stretch/>
        </p:blipFill>
        <p:spPr>
          <a:xfrm>
            <a:off x="1692360" y="2060640"/>
            <a:ext cx="5651280" cy="39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ОПАСНОСТИ ИНТЕРНЕТА</a:t>
            </a:r>
            <a:br>
              <a:rPr sz="3200"/>
            </a:b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ФИКСИКИ ПРЕДУПРЕЖДАЮТ</a:t>
            </a:r>
            <a:r>
              <a:rPr b="1" lang="en-US" sz="3200" spc="-1" strike="noStrike">
                <a:solidFill>
                  <a:srgbClr val="0000ff"/>
                </a:solidFill>
                <a:latin typeface="Bookman Old Style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6029280" y="3357720"/>
            <a:ext cx="3114720" cy="350028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468360" y="1628640"/>
            <a:ext cx="336600" cy="33660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8360" y="2205000"/>
            <a:ext cx="336600" cy="33660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68360" y="2781360"/>
            <a:ext cx="336600" cy="33660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8360" y="4437000"/>
            <a:ext cx="336600" cy="33660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68360" y="6165720"/>
            <a:ext cx="336600" cy="33660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68360" y="3357720"/>
            <a:ext cx="336600" cy="33624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68360" y="5589720"/>
            <a:ext cx="336600" cy="33624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68360" y="3933720"/>
            <a:ext cx="336600" cy="33660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68360" y="5013360"/>
            <a:ext cx="336600" cy="33660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116000" y="1557360"/>
            <a:ext cx="41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Times New Roman"/>
                <a:hlinkClick r:id="rId2" action="ppaction://hlinksldjump"/>
              </a:rPr>
              <a:t>преступники в Интернет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187280" y="2133720"/>
            <a:ext cx="424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Times New Roman"/>
                <a:hlinkClick r:id="rId3" action="ppaction://hlinksldjump"/>
              </a:rPr>
              <a:t>вредоносные програм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187280" y="2708280"/>
            <a:ext cx="352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Times New Roman"/>
                <a:hlinkClick r:id="rId4" action="ppaction://hlinksldjump"/>
              </a:rPr>
              <a:t>азартные иг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187280" y="3213000"/>
            <a:ext cx="352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Times New Roman"/>
                <a:hlinkClick r:id="rId5" action="ppaction://hlinksldjump"/>
              </a:rPr>
              <a:t>пиратство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Times New Roman"/>
                <a:hlinkClick r:id="rId6" action="ppaction://hlinksldjump"/>
              </a:rPr>
              <a:t>on-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187280" y="3789360"/>
            <a:ext cx="460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Times New Roman"/>
                <a:hlinkClick r:id="rId7" action="ppaction://hlinksldjump"/>
              </a:rPr>
              <a:t>Интернет - хулиганст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87280" y="4365720"/>
            <a:ext cx="460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Times New Roman"/>
                <a:hlinkClick r:id="rId8" action="ppaction://hlinksldjump"/>
              </a:rPr>
              <a:t>Интернет - мошенничест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187280" y="4941720"/>
            <a:ext cx="482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Times New Roman"/>
                <a:hlinkClick r:id="rId9" action="ppaction://hlinksldjump"/>
              </a:rPr>
              <a:t>недостоверная информа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187280" y="5445000"/>
            <a:ext cx="460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Times New Roman"/>
                <a:hlinkClick r:id="rId10" action="ppaction://hlinksldjump"/>
              </a:rPr>
              <a:t>материалы нежелательного содерж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87280" y="6165720"/>
            <a:ext cx="396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Times New Roman"/>
                <a:hlinkClick r:id="rId11" action="ppaction://hlinksldjump"/>
              </a:rPr>
              <a:t>Интернет - дневн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8459640" y="981000"/>
            <a:ext cx="486000" cy="976320"/>
          </a:xfrm>
          <a:prstGeom prst="downArrow">
            <a:avLst>
              <a:gd name="adj1" fmla="val 50000"/>
              <a:gd name="adj2" fmla="val 5022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ПРЕСТУПНИКИ В ИНТЕРНЕ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856908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Преступники преимущественно устанавливают контак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в чатах, при обмене мгновенными сообщениями, по электронн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почте или на форумах. Для решения своих проблем многие из Ва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обращаются за поддержкой. Злоумышленники част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сами там обитают; они стараются привлечь Вас свои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вниманием, заботливостью, добротой и даже подарками, нередк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затрачивая на эти усилия значительное время, деньги и энерги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Обычно они хорошо осведомлены о музыкальных новинках 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Ваших современных увлечениях. Они выслушивают ваши пробле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и сочувствуют Вам. Но постепенно злоумышленник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вносят в свои беседы оттенок сексуальности или демонстрирую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материалы откровенно эротического содержания, пытаяс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ослабить моральные запреты, сдерживающие молодых люд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Некоторые преступники могут действовать быстрее других и сраз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же заводить сексуальные беседы. Преступники могут такж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оценивать возможность встречи с Вами в реальной жиз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7380360" y="4581360"/>
            <a:ext cx="1763640" cy="2276640"/>
          </a:xfrm>
          <a:prstGeom prst="rect">
            <a:avLst/>
          </a:prstGeom>
          <a:ln w="0">
            <a:noFill/>
          </a:ln>
        </p:spPr>
      </p:pic>
      <p:sp>
        <p:nvSpPr>
          <p:cNvPr id="141" name="">
            <a:hlinkClick r:id="rId2" action="ppaction://hlinksldjump"/>
          </p:cNvPr>
          <p:cNvSpPr/>
          <p:nvPr/>
        </p:nvSpPr>
        <p:spPr>
          <a:xfrm>
            <a:off x="684360" y="558972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ВРЕДОНОСНЫЕ ПРОГРАМ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39640" y="1052640"/>
            <a:ext cx="79200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 вредоносным программам относятся вирусы, черви и «троянские кони» - это компьютерные программы, которые могут нанести вред вашему компьютеру и хранящимся на нем данным. Они также могут снижать скорость обмена данными с Интернетом и даже использовать ваш компьютер для распространения своих копий на компьютеры ваших друзей, родственников, коллег и по всей остальной глобальной Cе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>
            <a:hlinkClick r:id="rId1" action="ppaction://hlinksldjump"/>
          </p:cNvPr>
          <p:cNvSpPr/>
          <p:nvPr/>
        </p:nvSpPr>
        <p:spPr>
          <a:xfrm>
            <a:off x="684360" y="558972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rcRect l="0" t="0" r="0" b="25197"/>
          <a:stretch/>
        </p:blipFill>
        <p:spPr>
          <a:xfrm>
            <a:off x="1908000" y="3411360"/>
            <a:ext cx="590400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АЗАРТНЫЕ ИГ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39640" y="1052640"/>
            <a:ext cx="79200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Разница между игровыми сайтами и сайтами с азартными играми состоит в том, что на игровых сайтах обычно содержатся настольные и словесные игры, аркады и головоломки с системой начисления очков. Здесь не тратятся деньги: ни настоящие, ни игровые. В отличие от игровых сайтов, сайты с азартными играми могут допускать, что люди выигрывают или проигрывают игровые деньги. Сайты с играми на деньги обычно содержат игры, связанные с выигрышем или проигрышем настоящих дене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>
            <a:hlinkClick r:id="rId1" action="ppaction://hlinksldjump"/>
          </p:cNvPr>
          <p:cNvSpPr/>
          <p:nvPr/>
        </p:nvSpPr>
        <p:spPr>
          <a:xfrm>
            <a:off x="684360" y="558972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71640" y="3860640"/>
            <a:ext cx="4753080" cy="285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932360" y="2133720"/>
            <a:ext cx="4211640" cy="38494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1403280" y="0"/>
            <a:ext cx="6553440" cy="16462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19280" y="5950080"/>
            <a:ext cx="56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КОМПЬЮТЕ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1854360"/>
            <a:ext cx="5148360" cy="37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Что за чудо - агрегат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Может делать вс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одряд 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еть, играть, читать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считать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Самым лучшим друг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стат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ПИРАТСТВО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ON-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39640" y="1052640"/>
            <a:ext cx="79200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>
            <a:hlinkClick r:id="rId1" action="ppaction://hlinksldjump"/>
          </p:cNvPr>
          <p:cNvSpPr/>
          <p:nvPr/>
        </p:nvSpPr>
        <p:spPr>
          <a:xfrm>
            <a:off x="684360" y="558972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50920" y="1197000"/>
            <a:ext cx="864216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Онлайновое пиратство – это незаконное копирование и распространение (как для деловых, так и для личных целей) материалов, защищенных авторским правом – например, музыки, фильмов, игр или программ – без разрешения правообладател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1979640" y="3068640"/>
            <a:ext cx="5334120" cy="342900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>
            <a:off x="6372360" y="2276640"/>
            <a:ext cx="2447640" cy="24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ИНТЕРНЕТ-ХУЛИГАНСТ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39640" y="1052640"/>
            <a:ext cx="79200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>
            <a:hlinkClick r:id="rId1" action="ppaction://hlinksldjump"/>
          </p:cNvPr>
          <p:cNvSpPr/>
          <p:nvPr/>
        </p:nvSpPr>
        <p:spPr>
          <a:xfrm>
            <a:off x="684360" y="558972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50920" y="1197000"/>
            <a:ext cx="864216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Так же как и в обычной жизни, в Интернете появились свои хулиганы, которые осложняют жизнь другим пользователям Интернета.  По сути, они те же дворовые хулиганы, которые получают удовольствие, хамя и грубя окружающи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2556000" y="2997360"/>
            <a:ext cx="5329080" cy="35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ИНТЕРНЕТ-МОШЕННИЧЕСТ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39640" y="1052640"/>
            <a:ext cx="79200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>
            <a:hlinkClick r:id="rId1" action="ppaction://hlinksldjump"/>
          </p:cNvPr>
          <p:cNvSpPr/>
          <p:nvPr/>
        </p:nvSpPr>
        <p:spPr>
          <a:xfrm>
            <a:off x="395280" y="558972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50920" y="981000"/>
            <a:ext cx="864216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реди Интернет-мошенничества широкое распространение получила применяемая хакерами техника «phishing», состоящая в том, что в фальшивое электронное письмо включается ссылка, ведущая на популярный узел, но в действительности она приводит пользователя на мошеннический узел, который выглядит точно так же, как официальный. Убедив пользователя в том, что он находится на официальном узле, хакеры пытаются склонить его к вводу паролей, номеров кредитных карт и другой секретной информации, которая потом может и будет использована с ущербом для пользовател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2"/>
          <a:srcRect l="0" t="0" r="0" b="2765"/>
          <a:stretch/>
        </p:blipFill>
        <p:spPr>
          <a:xfrm>
            <a:off x="1547640" y="4149720"/>
            <a:ext cx="3745080" cy="241128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3"/>
          <a:srcRect l="0" t="0" r="0" b="2700"/>
          <a:stretch/>
        </p:blipFill>
        <p:spPr>
          <a:xfrm>
            <a:off x="5494320" y="4149720"/>
            <a:ext cx="3649680" cy="24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НЕДОСТОВЕРНАЯ ИНФОРМАЦ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39640" y="1052640"/>
            <a:ext cx="79200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>
            <a:hlinkClick r:id="rId1" action="ppaction://hlinksldjump"/>
          </p:cNvPr>
          <p:cNvSpPr/>
          <p:nvPr/>
        </p:nvSpPr>
        <p:spPr>
          <a:xfrm>
            <a:off x="395280" y="558972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50920" y="981000"/>
            <a:ext cx="8642160" cy="20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Интернет предлагает колоссальное количество возможностей для обучения, но есть и большая доля информации, которую никак нельзя назвать ни полезной, ни надежной. Пользователи Сети должны мыслить критически, чтобы оценить точность материалов; поскольку абсолютно любой может опубликовать информацию в Интернет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Рисунок 3" descr="information-sign-20695242.jpg"/>
          <p:cNvPicPr/>
          <p:nvPr/>
        </p:nvPicPr>
        <p:blipFill>
          <a:blip r:embed="rId2"/>
          <a:stretch/>
        </p:blipFill>
        <p:spPr>
          <a:xfrm>
            <a:off x="3203640" y="2781360"/>
            <a:ext cx="353052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МАТЕРИАЛЫ НЕЖЕЛАТЕЛЬНОГО СОДЕРЖ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9640" y="1052640"/>
            <a:ext cx="79200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>
            <a:hlinkClick r:id="rId1" action="ppaction://hlinksldjump"/>
          </p:cNvPr>
          <p:cNvSpPr/>
          <p:nvPr/>
        </p:nvSpPr>
        <p:spPr>
          <a:xfrm>
            <a:off x="395280" y="558972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50920" y="1268280"/>
            <a:ext cx="864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50920" y="1413000"/>
            <a:ext cx="864216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К материалам нежелательного содержания относятся: материалы порнографического, ненавистнического содержания, материалы суицидальной направленности, сектантскими материалы, материалы с  ненормативной лексик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2195640" y="2781360"/>
            <a:ext cx="2881080" cy="3863880"/>
          </a:xfrm>
          <a:prstGeom prst="rect">
            <a:avLst/>
          </a:prstGeom>
          <a:ln w="0">
            <a:noFill/>
          </a:ln>
        </p:spPr>
      </p:pic>
      <p:pic>
        <p:nvPicPr>
          <p:cNvPr id="178" name="Рисунок 3" descr="1272261657_26017_2.jpg"/>
          <p:cNvPicPr/>
          <p:nvPr/>
        </p:nvPicPr>
        <p:blipFill>
          <a:blip r:embed="rId3"/>
          <a:stretch/>
        </p:blipFill>
        <p:spPr>
          <a:xfrm>
            <a:off x="5651640" y="3357720"/>
            <a:ext cx="2612880" cy="26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ИНТЕРНЕТ-ДНЕВН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39640" y="1052640"/>
            <a:ext cx="79200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>
            <a:hlinkClick r:id="rId1" action="ppaction://hlinksldjump"/>
          </p:cNvPr>
          <p:cNvSpPr/>
          <p:nvPr/>
        </p:nvSpPr>
        <p:spPr>
          <a:xfrm>
            <a:off x="395280" y="558972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50920" y="1268280"/>
            <a:ext cx="864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95280" y="1125360"/>
            <a:ext cx="8352000" cy="33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Увлечение веб-журналами (или, иначе говоря, блогами) распространяется со скоростью пожара, особенно среди подростков, которые порой ведут Интернет-дневники без ведома взрослых. Последние исследования показывают, что сегодня примерно половина всех веб-журналов принадлежат подросткам. При этом двое из трех раскрывают свой возраст; трое из пяти публикуют сведения о месте проживания и контактную информацию, а каждый пятый сообщает свое полное имя. Не секрет, что подробное раскрытие личных данных потенциально опасн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Рисунок 3" descr="image4-011.jpg"/>
          <p:cNvPicPr/>
          <p:nvPr/>
        </p:nvPicPr>
        <p:blipFill>
          <a:blip r:embed="rId2"/>
          <a:stretch/>
        </p:blipFill>
        <p:spPr>
          <a:xfrm>
            <a:off x="5076720" y="3645000"/>
            <a:ext cx="3888000" cy="30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835164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ПОЛЕЗНЫЕ СОВЕТЫ </a:t>
            </a:r>
            <a:br>
              <a:rPr sz="3200"/>
            </a:b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ОТ ФИКСИКОВ</a:t>
            </a:r>
            <a:br>
              <a:rPr sz="3200"/>
            </a:b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ЗАЩИТИ СВОЙ КОМПЬЮТЕР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9640" y="1052640"/>
            <a:ext cx="79200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50920" y="1268280"/>
            <a:ext cx="864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4468680"/>
            <a:ext cx="2627280" cy="238932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6275520" y="3633840"/>
            <a:ext cx="2868480" cy="322416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179280" y="1700280"/>
            <a:ext cx="8785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Установите законное антивирусное и антишпионское программное обеспечение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9280" y="2492280"/>
            <a:ext cx="705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Постоянно обновляйте все программное обеспечение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79280" y="3284640"/>
            <a:ext cx="655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Брандмауэр должен быть всегда включен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195640" y="3716280"/>
            <a:ext cx="468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е вставляйте неизвестные флеш-накопители  в свой компьютер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340000" y="4797360"/>
            <a:ext cx="41036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Не переходите по ссылкам и не нажимайте кнопки во всплывающих сообщениях, которые кажутся подозрительным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835164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ПОЛЕЗНЫЕ СОВЕТЫ </a:t>
            </a:r>
            <a:br>
              <a:rPr sz="3200"/>
            </a:b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ОТ ФИКСИКОВ</a:t>
            </a:r>
            <a:br>
              <a:rPr sz="3200"/>
            </a:b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ЗАЩИТИ СЕБЯ В ИНТЕРНЕТЕ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39640" y="1052640"/>
            <a:ext cx="79200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50920" y="189000"/>
            <a:ext cx="889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6275520" y="3633840"/>
            <a:ext cx="2868480" cy="322416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179280" y="1700280"/>
            <a:ext cx="878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Никогда не предоставляйте секретные сведения (такие как номер счета или пароль) в ответе на сообщение электронной почты, мгновенное сообщение или социальной се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79280" y="2924280"/>
            <a:ext cx="705672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Никогда не отвечайте на просьбы прислать деньги от «членов семьи», на предложения о сделке, которые слишком хороши, чтобы быть правдой, на сообщения о розыгрышах лотереи, в которых вы не участвовали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50920" y="4653000"/>
            <a:ext cx="6553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режде чем вводить секретные сведения на веб-странице, обратите внимание на наличие таких признаков, как адрес веб-страницы, начинающийся с префикса https и значка в виде закрытого замка          рядом с адресной строкой, который обозначает безопасное соедин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Замок"/>
          <p:cNvPicPr/>
          <p:nvPr/>
        </p:nvPicPr>
        <p:blipFill>
          <a:blip r:embed="rId2"/>
          <a:stretch/>
        </p:blipFill>
        <p:spPr>
          <a:xfrm>
            <a:off x="2627280" y="5805360"/>
            <a:ext cx="324000" cy="30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835164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ПОЛЕЗНЫЕ СОВЕТЫ </a:t>
            </a:r>
            <a:br>
              <a:rPr sz="3200"/>
            </a:b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ОТ ФИКСИКОВ</a:t>
            </a:r>
            <a:br>
              <a:rPr sz="3200"/>
            </a:b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НАДЕЖНЫЕ ПАРОЛИ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39640" y="1052640"/>
            <a:ext cx="79200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50920" y="189000"/>
            <a:ext cx="889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6275520" y="3633840"/>
            <a:ext cx="2868480" cy="322416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79280" y="1700280"/>
            <a:ext cx="878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Придумайте пароли, представляющие собой длинные фразы или предложения и содержащие сочетание строчных, прописных букв, цифр и символ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79280" y="2924280"/>
            <a:ext cx="705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Используйте на разных сайтах разные пароли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79280" y="3645000"/>
            <a:ext cx="590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Старайтесь периодически менять пароли (например, от электронн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почты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83516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ПОЛЕЗНЫЕ СОВЕТЫ </a:t>
            </a:r>
            <a:br>
              <a:rPr sz="3200"/>
            </a:b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ОТ ФИКСИКОВ</a:t>
            </a:r>
            <a:br>
              <a:rPr sz="3200"/>
            </a:b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О БЕЗОПАСНОСТИ В СОЦИАЛЬНЫХ СЕТЯХ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539640" y="1052640"/>
            <a:ext cx="79200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0920" y="189000"/>
            <a:ext cx="889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6275520" y="3633840"/>
            <a:ext cx="2868480" cy="322416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324000" y="2060640"/>
            <a:ext cx="8461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 службах Facebook и Twitter  настройте список пользователей, которые могут просматривать ваш профиль или фотографии, помеченные вашим именем, контролируйте способы поиска информации и добавления комментариев о вас, а также узнайте, как можно заблокировать некоторых пользовате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50920" y="4149720"/>
            <a:ext cx="70563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Никогда не публикуйте информацию, которую вы не хотели бы видеть на доске объявлений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50920" y="5157720"/>
            <a:ext cx="5903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Подходите избирательно к предложениям дружбы. Периодически анализируйте, кто имеет доступ к вашим страницам, а также просматривайте информацию, которую эти пользователи публикуют о ва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КОМПЬЮТЕР</a:t>
            </a:r>
            <a:br>
              <a:rPr sz="3200"/>
            </a:b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 МОЖЕТ СТАТЬ ДЛЯ ВАС ДОБРЫМ ДРУГОМ И ПОМОЩНИК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116000" y="2060640"/>
            <a:ext cx="727236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23640" y="-360"/>
            <a:ext cx="8351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ПОЛЕЗНЫЕ СОВЕТЫ </a:t>
            </a:r>
            <a:br>
              <a:rPr sz="3200"/>
            </a:b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ОТ ФИКСИКОВ</a:t>
            </a:r>
            <a:br>
              <a:rPr sz="3200"/>
            </a:b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О СЕТЕВОМ ЭТИКЕ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39640" y="1052640"/>
            <a:ext cx="79200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50920" y="260280"/>
            <a:ext cx="889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6275520" y="3633840"/>
            <a:ext cx="2868480" cy="322416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324000" y="2060640"/>
            <a:ext cx="84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Приветствуйте собеседника в начале письма и прощайтесь 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конц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24000" y="2924280"/>
            <a:ext cx="705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Пишите кратко, грамотно и аккуратн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24000" y="3573360"/>
            <a:ext cx="640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Отвечая на сообщение, необходимо цитировать его наибол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существенные места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24000" y="4724280"/>
            <a:ext cx="5472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Ваши письма должны заканчиваться краткой «подписью», автоматически добавляемой к каждому сообщению, которое вы отправляете, но эта подпись не должна бы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длиннее четырех-пяти стро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23640" y="-360"/>
            <a:ext cx="8351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Times New Roman"/>
              </a:rPr>
              <a:t>ПОМНИТЕ О НАШИХ СОВЕТАХ</a:t>
            </a:r>
            <a:r>
              <a:rPr b="1" lang="en-US" sz="3600" spc="-1" strike="noStrike">
                <a:solidFill>
                  <a:srgbClr val="0000ff"/>
                </a:solidFill>
                <a:latin typeface="Bookman Old Style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39640" y="1052640"/>
            <a:ext cx="79200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50920" y="189000"/>
            <a:ext cx="889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324000" y="2852640"/>
            <a:ext cx="3371760" cy="378936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4067280" y="1996920"/>
            <a:ext cx="4897440" cy="447516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250920" y="1268280"/>
            <a:ext cx="8642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И ТОГДА ИНТЕРНЕТ СТАНЕТ ВАШИМ НАДЕЖНЫМ И ПОЛЕЗНЫМ ДРУГ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539640" y="1052640"/>
            <a:ext cx="79200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0" y="189000"/>
            <a:ext cx="889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826560" y="404640"/>
            <a:ext cx="792036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ИНТЕРНЕТ БЕЗОПАСЕН </a:t>
            </a:r>
            <a:br>
              <a:rPr sz="3200"/>
            </a:b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ТОЛЬКО В РУКАХ ЗНАЮЩЕГО ПОЛЬЗОВАТЕЛ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1116000" y="2060640"/>
            <a:ext cx="727236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539640" y="1052640"/>
            <a:ext cx="79200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0" y="189000"/>
            <a:ext cx="889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468360" y="1701720"/>
            <a:ext cx="3368520" cy="336888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2"/>
          <a:stretch/>
        </p:blipFill>
        <p:spPr>
          <a:xfrm>
            <a:off x="3635280" y="2565360"/>
            <a:ext cx="5508720" cy="384660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2"/>
          <p:cNvSpPr>
            <a:spLocks noGrp="1"/>
          </p:cNvSpPr>
          <p:nvPr>
            <p:ph type="title"/>
          </p:nvPr>
        </p:nvSpPr>
        <p:spPr>
          <a:xfrm>
            <a:off x="826560" y="404640"/>
            <a:ext cx="792036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В ДОБРЫЙ ПУТЬ, РЕБЯТА, ПО ЛАБИРНТАМ БЕЗОПАСНОГО ИНТЕРНЕТ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КОМПЬЮТЕР </a:t>
            </a:r>
            <a:br>
              <a:rPr sz="3200"/>
            </a:b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МОЖЕТ СТАТЬ ВАШИМ ВРАГ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55640" y="1690560"/>
            <a:ext cx="7561440" cy="581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врагом вашему здоровь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2781360"/>
            <a:ext cx="554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1" action="ppaction://hlinksldjump"/>
              </a:rPr>
              <a:t>опорно-двигательный аппара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11280" y="4076640"/>
            <a:ext cx="554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зр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4724280"/>
            <a:ext cx="554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сих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11280" y="3429000"/>
            <a:ext cx="554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2" action="ppaction://hlinksldjump"/>
              </a:rPr>
              <a:t>кисти ру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5373720"/>
            <a:ext cx="554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бщее физическое недомог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4356000" y="3375000"/>
            <a:ext cx="4597560" cy="33735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826920" y="616572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Times New Roman"/>
              </a:rPr>
              <a:t>сидячее положение в течение длительного времен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55640" y="2708280"/>
            <a:ext cx="431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головные бо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55640" y="3860640"/>
            <a:ext cx="431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ердечно-сосудистые заболе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55640" y="3284640"/>
            <a:ext cx="42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стеохондро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5310360" y="1700280"/>
            <a:ext cx="3833640" cy="4938480"/>
          </a:xfrm>
          <a:prstGeom prst="rect">
            <a:avLst/>
          </a:prstGeom>
          <a:ln w="0">
            <a:noFill/>
          </a:ln>
        </p:spPr>
      </p:pic>
      <p:sp>
        <p:nvSpPr>
          <p:cNvPr id="66" name="">
            <a:hlinkClick r:id="rId2" action="ppaction://hlinksldjump"/>
          </p:cNvPr>
          <p:cNvSpPr/>
          <p:nvPr/>
        </p:nvSpPr>
        <p:spPr>
          <a:xfrm>
            <a:off x="826920" y="595008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Times New Roman"/>
              </a:rPr>
              <a:t>электромагнитное излуч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050920" y="1557360"/>
            <a:ext cx="5040360" cy="5040360"/>
          </a:xfrm>
          <a:prstGeom prst="rect">
            <a:avLst/>
          </a:prstGeom>
          <a:ln w="0">
            <a:noFill/>
          </a:ln>
        </p:spPr>
      </p:pic>
      <p:sp>
        <p:nvSpPr>
          <p:cNvPr id="69" name="">
            <a:hlinkClick r:id="rId2" action="ppaction://hlinksldjump"/>
          </p:cNvPr>
          <p:cNvSpPr/>
          <p:nvPr/>
        </p:nvSpPr>
        <p:spPr>
          <a:xfrm>
            <a:off x="826920" y="595008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Times New Roman"/>
              </a:rPr>
              <a:t>воздействие на зре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55640" y="2708280"/>
            <a:ext cx="431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головные бо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55640" y="3284640"/>
            <a:ext cx="42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отеря остроты зр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140360" y="1887480"/>
            <a:ext cx="5003640" cy="4970520"/>
          </a:xfrm>
          <a:prstGeom prst="rect">
            <a:avLst/>
          </a:prstGeom>
          <a:ln w="0">
            <a:noFill/>
          </a:ln>
        </p:spPr>
      </p:pic>
      <p:sp>
        <p:nvSpPr>
          <p:cNvPr id="74" name="">
            <a:hlinkClick r:id="rId2" action="ppaction://hlinksldjump"/>
          </p:cNvPr>
          <p:cNvSpPr/>
          <p:nvPr/>
        </p:nvSpPr>
        <p:spPr>
          <a:xfrm>
            <a:off x="826920" y="595008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Times New Roman"/>
              </a:rPr>
              <a:t>перегрузка суставов кистей ру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55640" y="2133720"/>
            <a:ext cx="432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овреждения суставного и связочного аппарата кисти ру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55640" y="4076640"/>
            <a:ext cx="424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хронические заболевания кистей ру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4886280" y="2276640"/>
            <a:ext cx="4257720" cy="4581360"/>
          </a:xfrm>
          <a:prstGeom prst="rect">
            <a:avLst/>
          </a:prstGeom>
          <a:ln w="0">
            <a:noFill/>
          </a:ln>
        </p:spPr>
      </p:pic>
      <p:sp>
        <p:nvSpPr>
          <p:cNvPr id="79" name="">
            <a:hlinkClick r:id="rId2" action="ppaction://hlinksldjump"/>
          </p:cNvPr>
          <p:cNvSpPr/>
          <p:nvPr/>
        </p:nvSpPr>
        <p:spPr>
          <a:xfrm>
            <a:off x="826920" y="595008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Times New Roman"/>
              </a:rPr>
              <a:t>стресс при потере информа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55640" y="2708280"/>
            <a:ext cx="46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сихические расстрой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55640" y="3716280"/>
            <a:ext cx="42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инфарк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4067280" y="2044800"/>
            <a:ext cx="5076720" cy="4813200"/>
          </a:xfrm>
          <a:prstGeom prst="rect">
            <a:avLst/>
          </a:prstGeom>
          <a:ln w="0">
            <a:noFill/>
          </a:ln>
        </p:spPr>
      </p:pic>
      <p:sp>
        <p:nvSpPr>
          <p:cNvPr id="84" name="">
            <a:hlinkClick r:id="rId2" action="ppaction://hlinksldjump"/>
          </p:cNvPr>
          <p:cNvSpPr/>
          <p:nvPr/>
        </p:nvSpPr>
        <p:spPr>
          <a:xfrm>
            <a:off x="826920" y="595008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9T03:16:58Z</dcterms:created>
  <dc:creator>HomeCenter</dc:creator>
  <dc:description/>
  <dc:language>en-US</dc:language>
  <cp:lastModifiedBy>HomeCenter</cp:lastModifiedBy>
  <dcterms:modified xsi:type="dcterms:W3CDTF">2013-01-27T07:10:51Z</dcterms:modified>
  <cp:revision>7</cp:revision>
  <dc:subject/>
  <dc:title>БЕЗОПАСНЫЙ  ИНТЕРНЕТ</dc:title>
</cp:coreProperties>
</file>