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CA7-2B0B-4FD0-81DA-84A8671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856-65DF-4CF4-9BDA-175FB32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4F8-09E7-40D7-8BA0-1271235D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2FA-F3A9-4BD3-8F69-15EC970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809-5ACF-409D-8172-668E2DA2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EE7-720A-46A2-9D49-AB97A71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A3B-892F-4E97-8B87-E8285C0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7FD-1219-4FD3-B65C-550ECD1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432-0DCE-420E-9F69-EC96BDD1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5F6-44A1-49D0-95FB-10AAB73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FE0-5F1A-47C5-9C20-175E2C7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E25-900A-41EA-9314-474F4BD1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967-FD57-40B1-8C37-89F38688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55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БЕЗОПАСНЫЙ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ИНТЕРНЕТ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С ФИКС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220640"/>
            <a:ext cx="6551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Автор: Ясакова Елена Александровна, классный руководитель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МБОУ БГО «Борисоглебская СОШ № 3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г. Борисоглебск, Воронеж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284880" y="3645000"/>
            <a:ext cx="28591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ПРАВИЛА РАБОТЫ ЗА КОМПЬЮТЕРОМ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ОТ ФИКС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907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Проводить перед компьютером не более 2-3 часов в день, устраивая 15 минутные перерывы через каждые полчас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989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Лучше работать за компьютером в первой половине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Комната должна быть хорошо осве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357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Мебель должна соответствовать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00536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Расстояние от монитора до глаз – 60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653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Периодически делать зарядку для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Сидение за компьютером перемежа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ими упраж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266688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правильная посадка за компьют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4535280" cy="504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29280" y="3357720"/>
            <a:ext cx="2793960" cy="313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272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50040" y="3718080"/>
            <a:ext cx="2793960" cy="3139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rot="10852200">
            <a:off x="2548080" y="4204440"/>
            <a:ext cx="3100320" cy="1672200"/>
          </a:xfrm>
          <a:prstGeom prst="cloudCallout">
            <a:avLst>
              <a:gd name="adj1" fmla="val 98606"/>
              <a:gd name="adj2" fmla="val 23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яем эти упражнения вмес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6933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физ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227320" cy="22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0" r="0" b="3805"/>
          <a:stretch/>
        </p:blipFill>
        <p:spPr>
          <a:xfrm>
            <a:off x="1692360" y="1916280"/>
            <a:ext cx="3768480" cy="463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227640" y="4094280"/>
            <a:ext cx="2916360" cy="276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40000" cy="198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03640" y="0"/>
            <a:ext cx="3024000" cy="1052640"/>
          </a:xfrm>
          <a:prstGeom prst="cloudCallout">
            <a:avLst>
              <a:gd name="adj1" fmla="val -81865"/>
              <a:gd name="adj2" fmla="val 1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торяйте вместе с 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16360" y="2178000"/>
            <a:ext cx="4427640" cy="426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587700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492280"/>
            <a:ext cx="4608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тевая паут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лела весь 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пройти детиш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 ОТКРЫВАЕТ БОЛЬШИЕ ВОЗМОЖНОСТИ  ДЛЯ ОБЩЕНИЯ И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РАЗВИТ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7559"/>
          <a:stretch/>
        </p:blipFill>
        <p:spPr>
          <a:xfrm>
            <a:off x="1692360" y="2060640"/>
            <a:ext cx="56512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ПАСНОСТИ ИНТЕРНЕТА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ФИКСИКИ ПРЕДУПРЕЖДАЮТ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29280" y="3357720"/>
            <a:ext cx="3114720" cy="35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162864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20500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8136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43700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16572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357720"/>
            <a:ext cx="336600" cy="336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589720"/>
            <a:ext cx="336600" cy="336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93372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013360"/>
            <a:ext cx="336600" cy="3366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1557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преступники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1337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редонос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2708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азарт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3213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пиратство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789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Интернет - хулиг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365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Интернет - мошен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94172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недостовер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544500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материалы нежелательного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6165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Интернет - дне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59640" y="98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ЕСТУПНИКИ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ступники преимущественно устанавливают конт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чатах, при обмене мгновенными сообщениями, по электр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те или на форумах. Для решения своих проблем многие из В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щаются за поддержкой. Злоумышленники ча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там обитают; они стараются привлечь Вас сво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иманием, заботливостью, добротой и даже подарками, нере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трачивая на эти усилия значительное время, деньги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ычно они хорошо осведомлены о музыкальных новинка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ших современных увлечениях. Они выслушивают ваши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сочувствуют Вам. Но постепенно злоумышлен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носят в свои беседы оттенок сексуальности или демонстрир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териалы откровенно эротического содержания, пытая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лабить моральные запреты, сдерживающие молод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которые преступники могут действовать быстрее других и с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е заводить сексуальные беседы. Преступники могут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ценивать возможность встречи с Вами в реаль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763640" cy="227664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ВРЕДОНОС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вредоносным программам относятся вирусы, черви и «троянские кони» - это компьютерные программы, которые могут нанести вред вашему компьютеру и хранящимся на нем данным. Они также могут снижать скорость обмена данными с Интернетом и даже использовать ваш компьютер для распространения своих копий на компьютеры ваших друзей, родственников, коллег и по всей остальной глобальной C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0" t="0" r="0" b="25197"/>
          <a:stretch/>
        </p:blipFill>
        <p:spPr>
          <a:xfrm>
            <a:off x="1908000" y="3411360"/>
            <a:ext cx="5904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АЗАРТ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ица между игровыми сайтами и сайтами с азартными играми состоит в том, что на игровых сайтах обычно содержатся настольные и словесные игры, аркады и головоломки с системой начисления очков. Здесь не тратятся деньги: ни настоящие, ни игровые. 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е с выигрышем или проигрышем настоящих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4753080" cy="28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211640" cy="384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553440" cy="164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59500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4360"/>
            <a:ext cx="514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за чудо - агрег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т делать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яд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ть, играть, 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мым лучши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ИРАТСТВО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197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лайновое пиратство – это незаконное копирование и распространение (как для деловых, так и для личных целей) материалов, защищенных авторским правом – например, музыки, фильмов, игр или программ – без разрешения правооблад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533412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2276640"/>
            <a:ext cx="2447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ХУЛИГ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684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197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же как и в обычной жизни, 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56000" y="2997360"/>
            <a:ext cx="5329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МОШЕН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98100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и Интернет-мошенничества широкое распространение получила применяемая хакерами техника «phishing», 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Убедив пользователя в том, что он находится на официальном узле, хакеры пытаются склонить его к вводу паролей, номеров кредитных карт и другой секретной информации, которая потом может и будет использована с ущербом для польз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2765"/>
          <a:stretch/>
        </p:blipFill>
        <p:spPr>
          <a:xfrm>
            <a:off x="1547640" y="4149720"/>
            <a:ext cx="3745080" cy="241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0" t="0" r="0" b="2700"/>
          <a:stretch/>
        </p:blipFill>
        <p:spPr>
          <a:xfrm>
            <a:off x="5494320" y="4149720"/>
            <a:ext cx="36496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НЕДОСТОВЕР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81000"/>
            <a:ext cx="86421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тернет предлагает колоссальное количество возможностей для обучения, но есть и большая доля информации, которую никак нельзя назвать ни полезной, ни надежной. 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information-sign-20695242.jpg"/>
          <p:cNvPicPr/>
          <p:nvPr/>
        </p:nvPicPr>
        <p:blipFill>
          <a:blip r:embed="rId2"/>
          <a:stretch/>
        </p:blipFill>
        <p:spPr>
          <a:xfrm>
            <a:off x="3203640" y="2781360"/>
            <a:ext cx="3530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МАТЕРИАЛЫ НЕЖЕЛАТЕЛЬНОГО СОДЕР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413000"/>
            <a:ext cx="8642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материалам нежелательного содержания относятся: материалы порнографического, ненавистнического содержания, материалы суицидальной направленности, сектантскими материалы, материалы с  ненормативной лекс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2881080" cy="38638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1272261657_26017_2.jpg"/>
          <p:cNvPicPr/>
          <p:nvPr/>
        </p:nvPicPr>
        <p:blipFill>
          <a:blip r:embed="rId3"/>
          <a:stretch/>
        </p:blipFill>
        <p:spPr>
          <a:xfrm>
            <a:off x="5651640" y="3357720"/>
            <a:ext cx="2612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-ДНЕВ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39528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125360"/>
            <a:ext cx="8352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Последние исследования показывают, что сегодня примерно половина всех веб-журналов принадлежат подросткам. При этом двое из трех раскрывают свой возраст; трое из пяти публикуют сведения о месте проживания и контактную информацию, а каждый пятый сообщает свое полное имя. Не секрет, что подробное раскрытие личных данных потенциально оп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" descr="image4-011.jpg"/>
          <p:cNvPicPr/>
          <p:nvPr/>
        </p:nvPicPr>
        <p:blipFill>
          <a:blip r:embed="rId2"/>
          <a:stretch/>
        </p:blipFill>
        <p:spPr>
          <a:xfrm>
            <a:off x="5076720" y="3645000"/>
            <a:ext cx="38880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ЗАЩИТИ СВОЙ КОМПЬЮТЕ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26828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68680"/>
            <a:ext cx="2627280" cy="2389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170028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ите законное антивирусное и антишпионское программное обесп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2492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оянно обновляйте все программное обеспеч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3284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рандмауэр должен быть всегда включ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371628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вставляйте неизвестные флеш-накопители  в свой компью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79736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переходите по ссылкам и не нажимайте кнопки во всплывающих сообщениях, которые кажутся подозритель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ЗАЩИТИ СЕБЯ В ИНТЕРНЕ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170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предоставляйте секретные сведения (такие как номер счета или пароль) в ответе на сообщение электронной почты, мгновенное сообщение или социальной с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924280"/>
            <a:ext cx="7056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отвечайте на просьбы прислать деньги от «членов семьи», на предложения о сделке, которые слишком хороши, чтобы быть правдой, на сообщения о розыгрышах лотереи, в которых вы не участвов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653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жде чем вводить секретные сведения на веб-странице, обратите внимание на наличие таких признаков, как адрес веб-страницы, начинающийся с префикса https и значка в виде закрытого замка          рядом с адресной строкой, который обозначает безопас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Замок"/>
          <p:cNvPicPr/>
          <p:nvPr/>
        </p:nvPicPr>
        <p:blipFill>
          <a:blip r:embed="rId2"/>
          <a:stretch/>
        </p:blipFill>
        <p:spPr>
          <a:xfrm>
            <a:off x="2627280" y="5805360"/>
            <a:ext cx="3240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НАДЕЖНЫЕ ПАРО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17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думайте пароли, представляющие собой длинные фразы или предложения и содержащие сочетание строчных, прописных букв, цифр и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924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уйте на разных сайтах разные паро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64500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райтесь периодически менять пароли (например, от электр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 БЕЗОПАСНОСТИ В СОЦИАЛЬНЫХ СЕТ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2060640"/>
            <a:ext cx="84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лужбах Facebook и Twitter  настройте список пользователей, которые могут просматривать ваш профиль или фотографии, помеченные вашим именем, контролируйте способы поиска информации и добавления комментариев о вас, а также узнайте, как можно заблокировать некоторых 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149720"/>
            <a:ext cx="705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когда не публикуйте информацию, которую вы не хотели бы видеть на доске объявл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5157720"/>
            <a:ext cx="59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ходите избирательно к предложениям дружбы. Периодически анализируйте, кто имеет доступ к вашим страницам, а также просматривайте информацию, которую эти пользователи публикуют о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МОЖЕТ СТАТЬ ДЛЯ ВАС ДОБРЫМ ДРУГОМ И ПОМОЩ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27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ОЛЕЗНЫЕ СОВЕТЫ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Т ФИКСИКОВ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 СЕТЕВОМ ЭТИК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6028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275520" y="3633840"/>
            <a:ext cx="2868480" cy="3224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2060640"/>
            <a:ext cx="84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ветствуйте собеседника в начале письма и прощайтес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924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шите кратко, грамотно и акку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57336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чая на сообщение, необходимо цитировать его наи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щественные ме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72428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ши письма должны заканчиваться краткой «подписью», автоматически добавляемой к каждому сообщению, которое вы отправляете, но эта подпись не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линнее четырех-пяти ст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ПОМНИТЕ О НАШИХ СОВЕТАХ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371760" cy="378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067280" y="1996920"/>
            <a:ext cx="4897440" cy="4475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0920" y="1268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 ТОГДА ИНТЕРНЕТ СТАНЕТ ВАШИМ НАДЕЖНЫМ И ПОЛЕЗНЫ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НТЕРНЕТ БЕЗОПАСЕН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ТОЛЬКО В РУКАХ ЗНАЮЩЕГО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27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89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3368520" cy="3368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35280" y="2565360"/>
            <a:ext cx="5508720" cy="384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 ДОБРЫЙ ПУТЬ, РЕБЯТА, ПО ЛАБИРНТАМ БЕЗОПАСНОГО ИНТЕРН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ОМПЬЮТЕР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МОЖЕТ СТАТЬ ВАШИМ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690560"/>
            <a:ext cx="7561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рагом вашему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781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порно-двигательный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076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724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429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кисти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373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е физическое недомо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56000" y="3375000"/>
            <a:ext cx="4597560" cy="3373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сидячее положение в течение длительн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708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86064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дечно-сосудист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328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еохонд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10360" y="1700280"/>
            <a:ext cx="3833640" cy="49384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электромагнитное изл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воздействие на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708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28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еря остроты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40360" y="1887480"/>
            <a:ext cx="5003640" cy="49705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перегрузка суставов кистей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133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еждения суставного и связочного аппарата кисти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4076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онические заболевания кистей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86280" y="2276640"/>
            <a:ext cx="4257720" cy="4581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стресс при потер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сихические рас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3716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ар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2044800"/>
            <a:ext cx="5076720" cy="48132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26920" y="5950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3:16:58Z</dcterms:created>
  <dc:creator>HomeCenter</dc:creator>
  <dc:description/>
  <dc:language>en-US</dc:language>
  <cp:lastModifiedBy>HomeCenter</cp:lastModifiedBy>
  <dcterms:modified xsi:type="dcterms:W3CDTF">2013-01-27T07:10:51Z</dcterms:modified>
  <cp:revision>7</cp:revision>
  <dc:subject/>
  <dc:title>БЕЗОПАСНЫЙ  ИНТЕРНЕТ</dc:title>
</cp:coreProperties>
</file>