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B5B-3AF9-4E34-B993-9A186433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3A7-2D81-48DC-9F71-7867C042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518-639A-4A27-BC14-7749D3B9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242-5D01-4B3B-8B58-FB0DCF94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2316-8E57-4ECB-BFE9-17DD5838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7B73-27D5-4B3A-BC50-DA0EA0D5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AF67-0825-4F70-8A9D-DBB42897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E8AF-19CD-4338-8068-74FD607E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4988-4A14-48B8-8040-B4343964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9E50-B382-408C-A938-4F246C0B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806E-4CF8-4129-AB58-5C7563D6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48D-2D32-4565-8525-00E3AD20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779F-5A6B-46DE-A37D-A0A58AEF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5C3F-CD1D-40EE-9829-C568EF1A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FFB4-098F-4B80-A4E6-5456C001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E81E-AC66-4AB1-8D3A-0A2AC386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A7EB-9FEE-41C8-9887-548E7020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D20-BCA3-4DFC-97C0-0248EB52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0B8-BCB4-467B-B92E-9C5FC87B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05B-CFA1-4932-9FF6-D2F25B4F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A31-BA15-41E7-9EC6-1B910CFB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F91-A85A-4794-A43C-7804B556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077-A086-4951-A112-E4D13FEA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8BB-2EA0-4681-92E4-6FD50251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3339-2279-4E7B-887A-F8D3D6B1AA4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CE1A-6EEB-4B01-8D64-AFE17768D89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39560" y="2420640"/>
            <a:ext cx="82296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Impact"/>
              </a:rPr>
              <a:t>Шар. Конус. Цилиндр.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63600" y="105552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6 класс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7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U001"/>
          <p:cNvPicPr/>
          <p:nvPr/>
        </p:nvPicPr>
        <p:blipFill>
          <a:blip r:embed="rId1"/>
          <a:srcRect l="18820" t="3492" r="13547" b="7924"/>
          <a:stretch/>
        </p:blipFill>
        <p:spPr>
          <a:xfrm>
            <a:off x="3624120" y="2374920"/>
            <a:ext cx="2254320" cy="4298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1280" y="1099800"/>
            <a:ext cx="75769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з предметов какой формы сложена башня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Называйте сверху вниз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4"/>
          <p:cNvPicPr/>
          <p:nvPr/>
        </p:nvPicPr>
        <p:blipFill>
          <a:blip r:embed="rId1">
            <a:lum contrast="18000"/>
          </a:blip>
          <a:srcRect l="2333" t="1631" r="2823" b="0"/>
          <a:stretch/>
        </p:blipFill>
        <p:spPr>
          <a:xfrm>
            <a:off x="1679400" y="2522520"/>
            <a:ext cx="5864400" cy="3556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0200" y="1057320"/>
            <a:ext cx="777708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рисунке изображены различные геометрические тел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кие из них являются многогранниками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U006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879800" y="2563920"/>
            <a:ext cx="4038840" cy="2944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42120" y="934200"/>
            <a:ext cx="755352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рисунке в первой строчке изображён вид фигуры сбоку, 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 во второй – вид фигуры сверху. 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кие это фигуры?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4" descr="U007"/>
          <p:cNvPicPr/>
          <p:nvPr/>
        </p:nvPicPr>
        <p:blipFill>
          <a:blip r:embed="rId2"/>
          <a:stretch/>
        </p:blipFill>
        <p:spPr>
          <a:xfrm>
            <a:off x="915840" y="2565360"/>
            <a:ext cx="4038840" cy="294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10840" y="709560"/>
            <a:ext cx="8496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круглом столе стоят три конуса разного цвета: красный, синий и зелёный. Вокруг стола сидят дети: Маша, Ваня, Даша, Коля, Рая и Петя. Кто из детей видит такую картину, как изображено на рисунках а); б); в)?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4" name="Group 32"/>
          <p:cNvGrpSpPr/>
          <p:nvPr/>
        </p:nvGrpSpPr>
        <p:grpSpPr>
          <a:xfrm>
            <a:off x="3203640" y="2392200"/>
            <a:ext cx="2554920" cy="2698920"/>
            <a:chOff x="3203640" y="2392200"/>
            <a:chExt cx="2554920" cy="2698920"/>
          </a:xfrm>
        </p:grpSpPr>
        <p:sp>
          <p:nvSpPr>
            <p:cNvPr id="125" name="AutoShape 33"/>
            <p:cNvSpPr/>
            <p:nvPr/>
          </p:nvSpPr>
          <p:spPr>
            <a:xfrm>
              <a:off x="3203640" y="2392200"/>
              <a:ext cx="2535120" cy="26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34"/>
            <p:cNvSpPr/>
            <p:nvPr/>
          </p:nvSpPr>
          <p:spPr>
            <a:xfrm>
              <a:off x="3407760" y="2674800"/>
              <a:ext cx="2185200" cy="2122560"/>
            </a:xfrm>
            <a:prstGeom prst="flowChartConnector">
              <a:avLst/>
            </a:prstGeom>
            <a:solidFill>
              <a:srgbClr val="ccff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Oval 35"/>
            <p:cNvSpPr/>
            <p:nvPr/>
          </p:nvSpPr>
          <p:spPr>
            <a:xfrm>
              <a:off x="4158720" y="2722320"/>
              <a:ext cx="733320" cy="675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36"/>
            <p:cNvSpPr/>
            <p:nvPr/>
          </p:nvSpPr>
          <p:spPr>
            <a:xfrm>
              <a:off x="4716000" y="3745440"/>
              <a:ext cx="731160" cy="6624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37"/>
            <p:cNvSpPr/>
            <p:nvPr/>
          </p:nvSpPr>
          <p:spPr>
            <a:xfrm>
              <a:off x="3535920" y="3702240"/>
              <a:ext cx="720360" cy="664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WordArt 38"/>
            <p:cNvSpPr txBox="1"/>
            <p:nvPr/>
          </p:nvSpPr>
          <p:spPr>
            <a:xfrm>
              <a:off x="4299840" y="2398680"/>
              <a:ext cx="430200" cy="22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Маша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1" name="WordArt 39"/>
            <p:cNvSpPr txBox="1"/>
            <p:nvPr/>
          </p:nvSpPr>
          <p:spPr>
            <a:xfrm rot="3213000">
              <a:off x="5373000" y="2979000"/>
              <a:ext cx="362160" cy="22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Ваня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2" name="WordArt 40"/>
            <p:cNvSpPr txBox="1"/>
            <p:nvPr/>
          </p:nvSpPr>
          <p:spPr>
            <a:xfrm rot="17918400">
              <a:off x="5346720" y="4287960"/>
              <a:ext cx="425880" cy="22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Даша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3" name="WordArt 41"/>
            <p:cNvSpPr txBox="1"/>
            <p:nvPr/>
          </p:nvSpPr>
          <p:spPr>
            <a:xfrm>
              <a:off x="4334400" y="4859640"/>
              <a:ext cx="378000" cy="22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Коля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4" name="WordArt 42"/>
            <p:cNvSpPr txBox="1"/>
            <p:nvPr/>
          </p:nvSpPr>
          <p:spPr>
            <a:xfrm rot="2860200">
              <a:off x="3286440" y="4185720"/>
              <a:ext cx="262080" cy="22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Рая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5" name="WordArt 43"/>
            <p:cNvSpPr txBox="1"/>
            <p:nvPr/>
          </p:nvSpPr>
          <p:spPr>
            <a:xfrm rot="18181200">
              <a:off x="3221280" y="2978640"/>
              <a:ext cx="362160" cy="22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Петя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36" name="Group 44"/>
          <p:cNvGrpSpPr/>
          <p:nvPr/>
        </p:nvGrpSpPr>
        <p:grpSpPr>
          <a:xfrm>
            <a:off x="1316160" y="5237280"/>
            <a:ext cx="1846080" cy="1035000"/>
            <a:chOff x="1316160" y="5237280"/>
            <a:chExt cx="1846080" cy="1035000"/>
          </a:xfrm>
        </p:grpSpPr>
        <p:sp>
          <p:nvSpPr>
            <p:cNvPr id="137" name="AutoShape 45"/>
            <p:cNvSpPr/>
            <p:nvPr/>
          </p:nvSpPr>
          <p:spPr>
            <a:xfrm>
              <a:off x="1316160" y="5237280"/>
              <a:ext cx="1846080" cy="10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Rectangle 46"/>
            <p:cNvSpPr/>
            <p:nvPr/>
          </p:nvSpPr>
          <p:spPr>
            <a:xfrm>
              <a:off x="1322280" y="6037560"/>
              <a:ext cx="1801080" cy="1760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47"/>
            <p:cNvSpPr/>
            <p:nvPr/>
          </p:nvSpPr>
          <p:spPr>
            <a:xfrm>
              <a:off x="1414800" y="5266080"/>
              <a:ext cx="456120" cy="761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48"/>
            <p:cNvSpPr/>
            <p:nvPr/>
          </p:nvSpPr>
          <p:spPr>
            <a:xfrm>
              <a:off x="1970640" y="5266080"/>
              <a:ext cx="456120" cy="7624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AutoShape 49"/>
            <p:cNvSpPr/>
            <p:nvPr/>
          </p:nvSpPr>
          <p:spPr>
            <a:xfrm>
              <a:off x="2548440" y="5262120"/>
              <a:ext cx="458280" cy="761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2" name="Group 50"/>
          <p:cNvGrpSpPr/>
          <p:nvPr/>
        </p:nvGrpSpPr>
        <p:grpSpPr>
          <a:xfrm>
            <a:off x="6075360" y="5237280"/>
            <a:ext cx="1838160" cy="1050840"/>
            <a:chOff x="6075360" y="5237280"/>
            <a:chExt cx="1838160" cy="1050840"/>
          </a:xfrm>
        </p:grpSpPr>
        <p:sp>
          <p:nvSpPr>
            <p:cNvPr id="143" name="AutoShape 51"/>
            <p:cNvSpPr/>
            <p:nvPr/>
          </p:nvSpPr>
          <p:spPr>
            <a:xfrm>
              <a:off x="6075360" y="5237280"/>
              <a:ext cx="183816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6081480" y="6049800"/>
              <a:ext cx="1793160" cy="1785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53"/>
            <p:cNvSpPr/>
            <p:nvPr/>
          </p:nvSpPr>
          <p:spPr>
            <a:xfrm>
              <a:off x="6173280" y="5266440"/>
              <a:ext cx="454320" cy="772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AutoShape 54"/>
            <p:cNvSpPr/>
            <p:nvPr/>
          </p:nvSpPr>
          <p:spPr>
            <a:xfrm>
              <a:off x="6727320" y="5266440"/>
              <a:ext cx="454320" cy="774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55"/>
            <p:cNvSpPr/>
            <p:nvPr/>
          </p:nvSpPr>
          <p:spPr>
            <a:xfrm>
              <a:off x="7302240" y="5262840"/>
              <a:ext cx="456480" cy="7729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6"/>
          <p:cNvGrpSpPr/>
          <p:nvPr/>
        </p:nvGrpSpPr>
        <p:grpSpPr>
          <a:xfrm>
            <a:off x="3662280" y="5210280"/>
            <a:ext cx="1903320" cy="1068120"/>
            <a:chOff x="3662280" y="5210280"/>
            <a:chExt cx="1903320" cy="1068120"/>
          </a:xfrm>
        </p:grpSpPr>
        <p:sp>
          <p:nvSpPr>
            <p:cNvPr id="149" name="AutoShape 57"/>
            <p:cNvSpPr/>
            <p:nvPr/>
          </p:nvSpPr>
          <p:spPr>
            <a:xfrm>
              <a:off x="3662280" y="5210280"/>
              <a:ext cx="190332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Rectangle 58"/>
            <p:cNvSpPr/>
            <p:nvPr/>
          </p:nvSpPr>
          <p:spPr>
            <a:xfrm>
              <a:off x="3668400" y="6036120"/>
              <a:ext cx="1856880" cy="1814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AutoShape 59"/>
            <p:cNvSpPr/>
            <p:nvPr/>
          </p:nvSpPr>
          <p:spPr>
            <a:xfrm>
              <a:off x="3763800" y="5239800"/>
              <a:ext cx="470160" cy="785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AutoShape 60"/>
            <p:cNvSpPr/>
            <p:nvPr/>
          </p:nvSpPr>
          <p:spPr>
            <a:xfrm>
              <a:off x="4337280" y="5239800"/>
              <a:ext cx="470160" cy="7869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AutoShape 61"/>
            <p:cNvSpPr/>
            <p:nvPr/>
          </p:nvSpPr>
          <p:spPr>
            <a:xfrm>
              <a:off x="4932720" y="5236200"/>
              <a:ext cx="472680" cy="785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4" name="Rectangle 63"/>
          <p:cNvSpPr/>
          <p:nvPr/>
        </p:nvSpPr>
        <p:spPr>
          <a:xfrm>
            <a:off x="1981440" y="63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64"/>
          <p:cNvSpPr/>
          <p:nvPr/>
        </p:nvSpPr>
        <p:spPr>
          <a:xfrm>
            <a:off x="4212720" y="630864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5"/>
          <p:cNvSpPr/>
          <p:nvPr/>
        </p:nvSpPr>
        <p:spPr>
          <a:xfrm>
            <a:off x="6734520" y="63086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07480" y="442800"/>
            <a:ext cx="805356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рисунке изображены некоторые геометрические тела. Возможно, точка зрения не очень привычна. Какие тела, если на них смотреть с соответствующей стороны, могут  выглядеть так, как на рисунке? Какие из рисунков могут соответствовать одному и тому же телу?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4" descr="U005"/>
          <p:cNvPicPr/>
          <p:nvPr/>
        </p:nvPicPr>
        <p:blipFill>
          <a:blip r:embed="rId1">
            <a:lum contrast="24000"/>
          </a:blip>
          <a:srcRect l="557" t="4271" r="0" b="0"/>
          <a:stretch/>
        </p:blipFill>
        <p:spPr>
          <a:xfrm>
            <a:off x="1922400" y="2478240"/>
            <a:ext cx="5529240" cy="3876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05960" y="750960"/>
            <a:ext cx="7543800" cy="92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гадайте ребусы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5" descr="U020"/>
          <p:cNvPicPr/>
          <p:nvPr/>
        </p:nvPicPr>
        <p:blipFill>
          <a:blip r:embed="rId1">
            <a:lum contrast="6000"/>
          </a:blip>
          <a:srcRect l="3278" t="14422" r="1424" b="21074"/>
          <a:stretch/>
        </p:blipFill>
        <p:spPr>
          <a:xfrm>
            <a:off x="863640" y="2481120"/>
            <a:ext cx="3125880" cy="184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U021"/>
          <p:cNvPicPr/>
          <p:nvPr/>
        </p:nvPicPr>
        <p:blipFill>
          <a:blip r:embed="rId2">
            <a:lum contrast="24000"/>
          </a:blip>
          <a:srcRect l="966" t="0" r="13873" b="19930"/>
          <a:stretch/>
        </p:blipFill>
        <p:spPr>
          <a:xfrm>
            <a:off x="858960" y="4440240"/>
            <a:ext cx="3122640" cy="203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U015"/>
          <p:cNvPicPr/>
          <p:nvPr/>
        </p:nvPicPr>
        <p:blipFill>
          <a:blip r:embed="rId3">
            <a:lum contrast="6000"/>
          </a:blip>
          <a:srcRect l="24873" t="5508" r="25485" b="10407"/>
          <a:stretch/>
        </p:blipFill>
        <p:spPr>
          <a:xfrm>
            <a:off x="4151160" y="2552760"/>
            <a:ext cx="3471840" cy="3914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300"/>
                            </p:stCondLst>
                            <p:childTnLst>
                              <p:par>
                                <p:cTn id="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3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00"/>
                            </p:stCondLst>
                            <p:childTnLst>
                              <p:par>
                                <p:cTn id="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06360" y="1114200"/>
            <a:ext cx="683136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кая фигура лишняя? Почему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Picture 4" descr="U022"/>
          <p:cNvPicPr/>
          <p:nvPr/>
        </p:nvPicPr>
        <p:blipFill>
          <a:blip r:embed="rId1"/>
          <a:srcRect l="1351" t="6626" r="4587" b="1949"/>
          <a:stretch/>
        </p:blipFill>
        <p:spPr>
          <a:xfrm>
            <a:off x="1924200" y="2505240"/>
            <a:ext cx="5074920" cy="342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367280" y="765720"/>
            <a:ext cx="62434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йдите объём аквариум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4" descr="U017"/>
          <p:cNvPicPr/>
          <p:nvPr/>
        </p:nvPicPr>
        <p:blipFill>
          <a:blip r:embed="rId1">
            <a:lum contrast="24000"/>
          </a:blip>
          <a:srcRect l="8765" t="8504" r="16038" b="10270"/>
          <a:stretch/>
        </p:blipFill>
        <p:spPr>
          <a:xfrm>
            <a:off x="1974960" y="2498760"/>
            <a:ext cx="4835520" cy="330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5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5"/>
          <p:cNvPicPr/>
          <p:nvPr/>
        </p:nvPicPr>
        <p:blipFill>
          <a:blip r:embed="rId1"/>
          <a:srcRect l="12353" t="6040" r="7712" b="3903"/>
          <a:stretch/>
        </p:blipFill>
        <p:spPr>
          <a:xfrm>
            <a:off x="2889360" y="2424240"/>
            <a:ext cx="2931840" cy="3732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28760" y="848880"/>
            <a:ext cx="841824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 куба отрезали угол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колько граней у получившейся фигуры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U009"/>
          <p:cNvPicPr/>
          <p:nvPr/>
        </p:nvPicPr>
        <p:blipFill>
          <a:blip r:embed="rId1">
            <a:lum contrast="6000"/>
          </a:blip>
          <a:srcRect l="3246" t="14954" r="3909" b="22605"/>
          <a:stretch/>
        </p:blipFill>
        <p:spPr>
          <a:xfrm>
            <a:off x="1865160" y="2386080"/>
            <a:ext cx="5600880" cy="3306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969400" cy="8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акие ещё предметы имеют форму цилиндр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54920" y="90864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ормы каких геометрических фигур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огут иметь сечения конуса?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17" descr="U010"/>
          <p:cNvPicPr/>
          <p:nvPr/>
        </p:nvPicPr>
        <p:blipFill>
          <a:blip r:embed="rId1">
            <a:lum contrast="6000"/>
          </a:blip>
          <a:srcRect l="847" t="5559" r="3246" b="6828"/>
          <a:stretch/>
        </p:blipFill>
        <p:spPr>
          <a:xfrm>
            <a:off x="1650960" y="2471760"/>
            <a:ext cx="592632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94400" y="803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Сообщение «Шар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73720" y="947520"/>
            <a:ext cx="441936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Шар – это пространственная фигура. Поверхность шара называют сфер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лово «сфера» произошло от греческого слова «сфайра», которое переводится на русский язык как «мяч»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 нужно путать понятия «шар» и  «сфера». Сфера – это, можно сказать, оболочка или граница ша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яч, глобус – это сферы, а вот арбуз, апельсин, Солнце, Луна, Земля и остальные планеты имеют форму немного сплющенного ша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U008"/>
          <p:cNvPicPr/>
          <p:nvPr/>
        </p:nvPicPr>
        <p:blipFill>
          <a:blip r:embed="rId1">
            <a:lum contrast="18000"/>
          </a:blip>
          <a:srcRect l="0" t="9588" r="0" b="5472"/>
          <a:stretch/>
        </p:blipFill>
        <p:spPr>
          <a:xfrm>
            <a:off x="806400" y="2781360"/>
            <a:ext cx="3762360" cy="2442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5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15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15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15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15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U0041"/>
          <p:cNvPicPr/>
          <p:nvPr/>
        </p:nvPicPr>
        <p:blipFill>
          <a:blip r:embed="rId1">
            <a:lum contrast="30000"/>
          </a:blip>
          <a:srcRect l="4213" t="13673" r="4300" b="10562"/>
          <a:stretch/>
        </p:blipFill>
        <p:spPr>
          <a:xfrm>
            <a:off x="944640" y="996840"/>
            <a:ext cx="2975040" cy="3340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39760" y="186840"/>
            <a:ext cx="4978440" cy="625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фера обладает очень интересным свойством – все её точки одинаково удалены от центра шар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резок, соединяющий любую точку сферы с центром шара, называется радиусом шара.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а рисунке отрезки ОА, ОВ, О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и ОС являются радиусам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резок, соединяющий две точки сферы и проходящий через центр шара, называется диаметром шара. На рисунке отрезок 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является диаметром шара. Диаметр шара равен двум радиуса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Любое сечение шара имеет вид круга. Если рассекать шар ближе к центру, то круги будут больше, если дальше от центра, то радиусы кругов будут меньш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6T17:29:31Z</dcterms:created>
  <dc:creator>Зайцев Анатолий Семенович</dc:creator>
  <dc:description/>
  <dc:language>en-US</dc:language>
  <cp:lastModifiedBy>Admin</cp:lastModifiedBy>
  <dcterms:modified xsi:type="dcterms:W3CDTF">2013-01-27T08:54:40Z</dcterms:modified>
  <cp:revision>15</cp:revision>
  <dc:subject/>
  <dc:title>Разгадайте ребусы</dc:title>
</cp:coreProperties>
</file>