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45A-71E6-41B1-8897-A4069228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D15-9C68-4FA6-93D6-AA74CCEE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31D-71C3-4553-BF49-A73CC2E9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105-C019-40CB-88E6-14E99E59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2FE-221D-46B1-8690-5A7FCDE1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EA3-4610-4001-BB9B-0430859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6AF1-C9DB-4B13-9A07-E1A125D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BD1E-9B90-4699-884F-48E66FB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BF3-A485-4ED4-9087-C2053786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459-E173-4BBE-A5FD-0B88FD87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3D3-9AE1-4EE7-BB93-11DBCA5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D32-003B-4525-BF32-1BE0DA0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648-EB53-44C6-8D68-77ADAD6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EA7F-B8C9-4E41-92E3-6AAB61A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06F-4730-4793-AEE4-9A8576CC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F0C9-3E47-4F37-A477-864A2D17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6B85-4F58-47B4-997B-FCFCB120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0FA-66FC-44F3-90D7-F076322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2E1-88F8-4545-9DF8-F656C73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0C3-051F-4145-A6D6-578CE1FB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CAC-6F3D-4B84-B338-D703ACC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34C-7EE4-4BAA-9938-0CC1A0C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698-2C35-4DAA-A2B1-5201E64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590-110E-4E2E-819D-AD4F1DA8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D3F-FA3A-4E7D-9588-26153A0C9C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7BE-CEBF-4213-BFFD-230BD3E408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39560" y="2420640"/>
            <a:ext cx="82296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Impact"/>
              </a:rPr>
              <a:t>Шар. Конус. Цилиндр.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63600" y="105552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6 клас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U001"/>
          <p:cNvPicPr/>
          <p:nvPr/>
        </p:nvPicPr>
        <p:blipFill>
          <a:blip r:embed="rId1"/>
          <a:srcRect l="18820" t="3492" r="13547" b="7924"/>
          <a:stretch/>
        </p:blipFill>
        <p:spPr>
          <a:xfrm>
            <a:off x="3624120" y="2374920"/>
            <a:ext cx="2254320" cy="4298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099800"/>
            <a:ext cx="75769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з предметов какой формы сложена башня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Называйте сверху вниз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"/>
          <p:cNvPicPr/>
          <p:nvPr/>
        </p:nvPicPr>
        <p:blipFill>
          <a:blip r:embed="rId1">
            <a:lum contrast="18000"/>
          </a:blip>
          <a:srcRect l="2333" t="1631" r="2823" b="0"/>
          <a:stretch/>
        </p:blipFill>
        <p:spPr>
          <a:xfrm>
            <a:off x="1679400" y="2522520"/>
            <a:ext cx="5864400" cy="3556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0200" y="1057320"/>
            <a:ext cx="777708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изображены различные геометрические тел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ие из них являются многогранниками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U006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879800" y="2563920"/>
            <a:ext cx="4038840" cy="2944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42120" y="934200"/>
            <a:ext cx="755352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в первой строчке изображён вид фигуры сбоку, 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 во второй – вид фигуры сверху. 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ие это фигуры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U007"/>
          <p:cNvPicPr/>
          <p:nvPr/>
        </p:nvPicPr>
        <p:blipFill>
          <a:blip r:embed="rId2"/>
          <a:stretch/>
        </p:blipFill>
        <p:spPr>
          <a:xfrm>
            <a:off x="915840" y="2565360"/>
            <a:ext cx="403884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0840" y="709560"/>
            <a:ext cx="8496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круглом столе стоят три конуса разного цвета: красный, синий и зелёный. Вокруг стола сидят дети: Маша, Ваня, Даша, Коля, Рая и Петя. Кто из детей видит такую картину, как изображено на рисунках а); б); в)?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Group 32"/>
          <p:cNvGrpSpPr/>
          <p:nvPr/>
        </p:nvGrpSpPr>
        <p:grpSpPr>
          <a:xfrm>
            <a:off x="3203640" y="2392200"/>
            <a:ext cx="2554920" cy="2698920"/>
            <a:chOff x="3203640" y="2392200"/>
            <a:chExt cx="2554920" cy="2698920"/>
          </a:xfrm>
        </p:grpSpPr>
        <p:sp>
          <p:nvSpPr>
            <p:cNvPr id="125" name="AutoShape 33"/>
            <p:cNvSpPr/>
            <p:nvPr/>
          </p:nvSpPr>
          <p:spPr>
            <a:xfrm>
              <a:off x="3203640" y="2392200"/>
              <a:ext cx="2535120" cy="26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34"/>
            <p:cNvSpPr/>
            <p:nvPr/>
          </p:nvSpPr>
          <p:spPr>
            <a:xfrm>
              <a:off x="3407760" y="2674800"/>
              <a:ext cx="2185200" cy="2122560"/>
            </a:xfrm>
            <a:prstGeom prst="flowChartConnector">
              <a:avLst/>
            </a:prstGeom>
            <a:solidFill>
              <a:srgbClr val="ccff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4158720" y="2722320"/>
              <a:ext cx="733320" cy="675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36"/>
            <p:cNvSpPr/>
            <p:nvPr/>
          </p:nvSpPr>
          <p:spPr>
            <a:xfrm>
              <a:off x="4716000" y="3745440"/>
              <a:ext cx="731160" cy="6624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37"/>
            <p:cNvSpPr/>
            <p:nvPr/>
          </p:nvSpPr>
          <p:spPr>
            <a:xfrm>
              <a:off x="3535920" y="3702240"/>
              <a:ext cx="720360" cy="66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WordArt 38"/>
            <p:cNvSpPr txBox="1"/>
            <p:nvPr/>
          </p:nvSpPr>
          <p:spPr>
            <a:xfrm>
              <a:off x="4299840" y="2398680"/>
              <a:ext cx="43020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Маша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1" name="WordArt 39"/>
            <p:cNvSpPr txBox="1"/>
            <p:nvPr/>
          </p:nvSpPr>
          <p:spPr>
            <a:xfrm rot="3213000">
              <a:off x="5373000" y="2979000"/>
              <a:ext cx="36216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Ван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2" name="WordArt 40"/>
            <p:cNvSpPr txBox="1"/>
            <p:nvPr/>
          </p:nvSpPr>
          <p:spPr>
            <a:xfrm rot="17918400">
              <a:off x="5346720" y="4287960"/>
              <a:ext cx="42588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Даша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3" name="WordArt 41"/>
            <p:cNvSpPr txBox="1"/>
            <p:nvPr/>
          </p:nvSpPr>
          <p:spPr>
            <a:xfrm>
              <a:off x="4334400" y="4859640"/>
              <a:ext cx="378000" cy="22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Кол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4" name="WordArt 42"/>
            <p:cNvSpPr txBox="1"/>
            <p:nvPr/>
          </p:nvSpPr>
          <p:spPr>
            <a:xfrm rot="2860200">
              <a:off x="3286440" y="4185720"/>
              <a:ext cx="26208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Ра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5" name="WordArt 43"/>
            <p:cNvSpPr txBox="1"/>
            <p:nvPr/>
          </p:nvSpPr>
          <p:spPr>
            <a:xfrm rot="18181200">
              <a:off x="3221280" y="2978640"/>
              <a:ext cx="362160" cy="22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Петя</a:t>
              </a:r>
              <a:endParaRPr b="0" lang="en-US" sz="10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6" name="Group 44"/>
          <p:cNvGrpSpPr/>
          <p:nvPr/>
        </p:nvGrpSpPr>
        <p:grpSpPr>
          <a:xfrm>
            <a:off x="1316160" y="5237280"/>
            <a:ext cx="1846080" cy="1035000"/>
            <a:chOff x="1316160" y="5237280"/>
            <a:chExt cx="1846080" cy="1035000"/>
          </a:xfrm>
        </p:grpSpPr>
        <p:sp>
          <p:nvSpPr>
            <p:cNvPr id="137" name="AutoShape 45"/>
            <p:cNvSpPr/>
            <p:nvPr/>
          </p:nvSpPr>
          <p:spPr>
            <a:xfrm>
              <a:off x="1316160" y="5237280"/>
              <a:ext cx="1846080" cy="10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Rectangle 46"/>
            <p:cNvSpPr/>
            <p:nvPr/>
          </p:nvSpPr>
          <p:spPr>
            <a:xfrm>
              <a:off x="1322280" y="6037560"/>
              <a:ext cx="1801080" cy="1760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47"/>
            <p:cNvSpPr/>
            <p:nvPr/>
          </p:nvSpPr>
          <p:spPr>
            <a:xfrm>
              <a:off x="1414800" y="5266080"/>
              <a:ext cx="456120" cy="761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48"/>
            <p:cNvSpPr/>
            <p:nvPr/>
          </p:nvSpPr>
          <p:spPr>
            <a:xfrm>
              <a:off x="1970640" y="5266080"/>
              <a:ext cx="456120" cy="762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AutoShape 49"/>
            <p:cNvSpPr/>
            <p:nvPr/>
          </p:nvSpPr>
          <p:spPr>
            <a:xfrm>
              <a:off x="2548440" y="5262120"/>
              <a:ext cx="458280" cy="761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2" name="Group 50"/>
          <p:cNvGrpSpPr/>
          <p:nvPr/>
        </p:nvGrpSpPr>
        <p:grpSpPr>
          <a:xfrm>
            <a:off x="6075360" y="5237280"/>
            <a:ext cx="1838160" cy="1050840"/>
            <a:chOff x="6075360" y="5237280"/>
            <a:chExt cx="1838160" cy="1050840"/>
          </a:xfrm>
        </p:grpSpPr>
        <p:sp>
          <p:nvSpPr>
            <p:cNvPr id="143" name="AutoShape 51"/>
            <p:cNvSpPr/>
            <p:nvPr/>
          </p:nvSpPr>
          <p:spPr>
            <a:xfrm>
              <a:off x="6075360" y="5237280"/>
              <a:ext cx="183816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6081480" y="6049800"/>
              <a:ext cx="1793160" cy="1785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53"/>
            <p:cNvSpPr/>
            <p:nvPr/>
          </p:nvSpPr>
          <p:spPr>
            <a:xfrm>
              <a:off x="6173280" y="5266440"/>
              <a:ext cx="454320" cy="772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AutoShape 54"/>
            <p:cNvSpPr/>
            <p:nvPr/>
          </p:nvSpPr>
          <p:spPr>
            <a:xfrm>
              <a:off x="6727320" y="5266440"/>
              <a:ext cx="454320" cy="774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55"/>
            <p:cNvSpPr/>
            <p:nvPr/>
          </p:nvSpPr>
          <p:spPr>
            <a:xfrm>
              <a:off x="7302240" y="5262840"/>
              <a:ext cx="456480" cy="772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6"/>
          <p:cNvGrpSpPr/>
          <p:nvPr/>
        </p:nvGrpSpPr>
        <p:grpSpPr>
          <a:xfrm>
            <a:off x="3662280" y="5210280"/>
            <a:ext cx="1903320" cy="1068120"/>
            <a:chOff x="3662280" y="5210280"/>
            <a:chExt cx="1903320" cy="1068120"/>
          </a:xfrm>
        </p:grpSpPr>
        <p:sp>
          <p:nvSpPr>
            <p:cNvPr id="149" name="AutoShape 57"/>
            <p:cNvSpPr/>
            <p:nvPr/>
          </p:nvSpPr>
          <p:spPr>
            <a:xfrm>
              <a:off x="3662280" y="5210280"/>
              <a:ext cx="190332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Rectangle 58"/>
            <p:cNvSpPr/>
            <p:nvPr/>
          </p:nvSpPr>
          <p:spPr>
            <a:xfrm>
              <a:off x="3668400" y="6036120"/>
              <a:ext cx="1856880" cy="1814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AutoShape 59"/>
            <p:cNvSpPr/>
            <p:nvPr/>
          </p:nvSpPr>
          <p:spPr>
            <a:xfrm>
              <a:off x="3763800" y="5239800"/>
              <a:ext cx="470160" cy="785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AutoShape 60"/>
            <p:cNvSpPr/>
            <p:nvPr/>
          </p:nvSpPr>
          <p:spPr>
            <a:xfrm>
              <a:off x="4337280" y="5239800"/>
              <a:ext cx="470160" cy="7869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61"/>
            <p:cNvSpPr/>
            <p:nvPr/>
          </p:nvSpPr>
          <p:spPr>
            <a:xfrm>
              <a:off x="4932720" y="5236200"/>
              <a:ext cx="472680" cy="785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Rectangle 63"/>
          <p:cNvSpPr/>
          <p:nvPr/>
        </p:nvSpPr>
        <p:spPr>
          <a:xfrm>
            <a:off x="198144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4"/>
          <p:cNvSpPr/>
          <p:nvPr/>
        </p:nvSpPr>
        <p:spPr>
          <a:xfrm>
            <a:off x="4212720" y="6308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5"/>
          <p:cNvSpPr/>
          <p:nvPr/>
        </p:nvSpPr>
        <p:spPr>
          <a:xfrm>
            <a:off x="6734520" y="6308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07480" y="442800"/>
            <a:ext cx="805356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 рисунке изображены некоторые геометрические тела. Возможно, точка зрения не очень привычна. Какие тела, если на них смотреть с соответствующей стороны, могут  выглядеть так, как на рисунке? Какие из рисунков могут соответствовать одному и тому же телу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4" descr="U005"/>
          <p:cNvPicPr/>
          <p:nvPr/>
        </p:nvPicPr>
        <p:blipFill>
          <a:blip r:embed="rId1">
            <a:lum contrast="24000"/>
          </a:blip>
          <a:srcRect l="557" t="4271" r="0" b="0"/>
          <a:stretch/>
        </p:blipFill>
        <p:spPr>
          <a:xfrm>
            <a:off x="1922400" y="2478240"/>
            <a:ext cx="5529240" cy="387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05960" y="750960"/>
            <a:ext cx="754380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гадайте ребусы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5" descr="U020"/>
          <p:cNvPicPr/>
          <p:nvPr/>
        </p:nvPicPr>
        <p:blipFill>
          <a:blip r:embed="rId1">
            <a:lum contrast="6000"/>
          </a:blip>
          <a:srcRect l="3278" t="14422" r="1424" b="21074"/>
          <a:stretch/>
        </p:blipFill>
        <p:spPr>
          <a:xfrm>
            <a:off x="863640" y="2481120"/>
            <a:ext cx="3125880" cy="184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U021"/>
          <p:cNvPicPr/>
          <p:nvPr/>
        </p:nvPicPr>
        <p:blipFill>
          <a:blip r:embed="rId2">
            <a:lum contrast="24000"/>
          </a:blip>
          <a:srcRect l="966" t="0" r="13873" b="19930"/>
          <a:stretch/>
        </p:blipFill>
        <p:spPr>
          <a:xfrm>
            <a:off x="858960" y="4440240"/>
            <a:ext cx="3122640" cy="203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U015"/>
          <p:cNvPicPr/>
          <p:nvPr/>
        </p:nvPicPr>
        <p:blipFill>
          <a:blip r:embed="rId3">
            <a:lum contrast="6000"/>
          </a:blip>
          <a:srcRect l="24873" t="5508" r="25485" b="10407"/>
          <a:stretch/>
        </p:blipFill>
        <p:spPr>
          <a:xfrm>
            <a:off x="4151160" y="2552760"/>
            <a:ext cx="347184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"/>
                            </p:stCondLst>
                            <p:childTnLst>
                              <p:par>
                                <p:cTn id="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3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06360" y="1114200"/>
            <a:ext cx="683136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ая фигура лишняя? Почему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U022"/>
          <p:cNvPicPr/>
          <p:nvPr/>
        </p:nvPicPr>
        <p:blipFill>
          <a:blip r:embed="rId1"/>
          <a:srcRect l="1351" t="6626" r="4587" b="1949"/>
          <a:stretch/>
        </p:blipFill>
        <p:spPr>
          <a:xfrm>
            <a:off x="1924200" y="2505240"/>
            <a:ext cx="5074920" cy="342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67280" y="765720"/>
            <a:ext cx="6243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йдите объём аквариум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U017"/>
          <p:cNvPicPr/>
          <p:nvPr/>
        </p:nvPicPr>
        <p:blipFill>
          <a:blip r:embed="rId1">
            <a:lum contrast="24000"/>
          </a:blip>
          <a:srcRect l="8765" t="8504" r="16038" b="10270"/>
          <a:stretch/>
        </p:blipFill>
        <p:spPr>
          <a:xfrm>
            <a:off x="1974960" y="2498760"/>
            <a:ext cx="4835520" cy="330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5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"/>
          <p:cNvPicPr/>
          <p:nvPr/>
        </p:nvPicPr>
        <p:blipFill>
          <a:blip r:embed="rId1"/>
          <a:srcRect l="12353" t="6040" r="7712" b="3903"/>
          <a:stretch/>
        </p:blipFill>
        <p:spPr>
          <a:xfrm>
            <a:off x="2889360" y="2424240"/>
            <a:ext cx="2931840" cy="3732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848880"/>
            <a:ext cx="841824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 куба отрезали уго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колько граней у получившейся фигур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009"/>
          <p:cNvPicPr/>
          <p:nvPr/>
        </p:nvPicPr>
        <p:blipFill>
          <a:blip r:embed="rId1">
            <a:lum contrast="6000"/>
          </a:blip>
          <a:srcRect l="3246" t="14954" r="3909" b="22605"/>
          <a:stretch/>
        </p:blipFill>
        <p:spPr>
          <a:xfrm>
            <a:off x="1865160" y="2386080"/>
            <a:ext cx="5600880" cy="3306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969400" cy="8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ие ещё предметы имеют форму цилиндр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4920" y="908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ормы каких геометрических фигур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огут иметь сечения конуса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17" descr="U010"/>
          <p:cNvPicPr/>
          <p:nvPr/>
        </p:nvPicPr>
        <p:blipFill>
          <a:blip r:embed="rId1">
            <a:lum contrast="6000"/>
          </a:blip>
          <a:srcRect l="847" t="5559" r="3246" b="6828"/>
          <a:stretch/>
        </p:blipFill>
        <p:spPr>
          <a:xfrm>
            <a:off x="1650960" y="2471760"/>
            <a:ext cx="592632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94400" y="803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Сообщение «Шар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73720" y="947520"/>
            <a:ext cx="441936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Шар – это пространственная фигура. Поверхность шара называют сфер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лово «сфера» произошло от греческого слова «сфайра», которое переводится на русский язык как «мяч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 нужно путать понятия «шар» и  «сфера». Сфера – это, можно сказать, оболочка или граница ша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яч, глобус – это сферы, а вот арбуз, апельсин, Солнце, Луна, Земля и остальные планеты имеют форму немного сплющенного ша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U008"/>
          <p:cNvPicPr/>
          <p:nvPr/>
        </p:nvPicPr>
        <p:blipFill>
          <a:blip r:embed="rId1">
            <a:lum contrast="18000"/>
          </a:blip>
          <a:srcRect l="0" t="9588" r="0" b="5472"/>
          <a:stretch/>
        </p:blipFill>
        <p:spPr>
          <a:xfrm>
            <a:off x="806400" y="2781360"/>
            <a:ext cx="3762360" cy="2442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5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5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15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15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15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U0041"/>
          <p:cNvPicPr/>
          <p:nvPr/>
        </p:nvPicPr>
        <p:blipFill>
          <a:blip r:embed="rId1">
            <a:lum contrast="30000"/>
          </a:blip>
          <a:srcRect l="4213" t="13673" r="4300" b="10562"/>
          <a:stretch/>
        </p:blipFill>
        <p:spPr>
          <a:xfrm>
            <a:off x="944640" y="996840"/>
            <a:ext cx="2975040" cy="3340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39760" y="186840"/>
            <a:ext cx="4978440" cy="625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фера обладает очень интересным свойством – все её точки одинаково удалены от центра ша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резок, соединяющий любую точку сферы с центром шара, называется радиусом шара.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 рисунке отрезки ОА, ОВ, О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и ОС являются радиус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резок, соединяющий две точки сферы и проходящий через центр шара, называется диаметром шара. На рисунке отрезок 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является диаметром шара. Диаметр шара равен двум радиус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Любое сечение шара имеет вид круга. Если рассекать шар ближе к центру, то круги будут больше, если дальше от центра, то радиусы кругов будут меньш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17:29:31Z</dcterms:created>
  <dc:creator>Зайцев Анатолий Семенович</dc:creator>
  <dc:description/>
  <dc:language>en-US</dc:language>
  <cp:lastModifiedBy>Admin</cp:lastModifiedBy>
  <dcterms:modified xsi:type="dcterms:W3CDTF">2013-01-27T08:54:40Z</dcterms:modified>
  <cp:revision>15</cp:revision>
  <dc:subject/>
  <dc:title>Разгадайте ребусы</dc:title>
</cp:coreProperties>
</file>