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16F-D26A-4347-B102-A94E506A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66D-AF95-4616-A424-6B7FD7C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25F-4429-4A2D-A49A-1BA91EA9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10E-51F7-4B76-8014-560324F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B43-0DBC-4815-9C01-B829D00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C97-C9B0-4CE3-9BB5-5D362460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181-DE3D-48C5-A10B-3E686F14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62B-F157-42D9-8F39-FCBBB3A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E06-F378-48C8-917C-0C68C72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6CF-B7B9-443B-81BF-A81F30F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398-4ABF-4315-896D-F302A8E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585-CD97-43D7-8739-3D996A0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8680-E99E-485C-A0F8-95AC9D19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й четвероноги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505400" cy="355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бина Алин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ход за лап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й любимы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сведения о породе мопс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 историю по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об особенностях содерж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44643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мская соба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725640" cy="468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27520" cy="48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4248000" cy="482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1280" y="155736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5280" y="1268280"/>
            <a:ext cx="835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917"/>
          <a:stretch/>
        </p:blipFill>
        <p:spPr>
          <a:xfrm>
            <a:off x="1403280" y="2421000"/>
            <a:ext cx="6400800" cy="41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6337440" cy="41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ас шерсти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чёрн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еребрист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абрикос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64087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ь по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40720" cy="519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1285920"/>
            <a:ext cx="7920000" cy="5572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93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ны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64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6913800" cy="468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7056360" cy="471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7344000" cy="470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55640" y="1557360"/>
            <a:ext cx="74167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6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0720" cy="48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6912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42160" cy="496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242120" cy="488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632720" cy="511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7775280" cy="507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мление моп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cc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3:36:14Z</dcterms:created>
  <dc:creator>1</dc:creator>
  <dc:description/>
  <dc:language>en-US</dc:language>
  <cp:lastModifiedBy>1</cp:lastModifiedBy>
  <dcterms:modified xsi:type="dcterms:W3CDTF">2012-11-04T14:59:42Z</dcterms:modified>
  <cp:revision>11</cp:revision>
  <dc:subject/>
  <dc:title>Слайд 1</dc:title>
</cp:coreProperties>
</file>