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png" ContentType="image/png"/>
  <Override PartName="/ppt/media/image23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2.jpeg" ContentType="image/jpeg"/>
  <Override PartName="/ppt/media/image9.png" ContentType="image/png"/>
  <Override PartName="/ppt/media/image38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6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6.png" ContentType="image/png"/>
  <Override PartName="/ppt/media/image5.png" ContentType="image/png"/>
  <Override PartName="/ppt/media/image35.jpeg" ContentType="image/jpe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29.jpeg" ContentType="image/jpeg"/>
  <Override PartName="/ppt/media/image3.wmf" ContentType="image/x-wmf"/>
  <Override PartName="/ppt/media/image1.png" ContentType="image/png"/>
  <Override PartName="/ppt/media/image24.png" ContentType="image/png"/>
  <Override PartName="/ppt/media/image14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392-744F-4760-9FE1-D6FDE575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5DC0-10BE-4034-8DCE-63D361EA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B2E-3FEA-44E8-8FF9-03422B2D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6B5A-8190-420C-8329-28EEDFDA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5BFE-30F1-4AA5-9384-4A22BEA4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2EEB-2262-4201-80E6-05D514D5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1434-148C-4E16-8D0C-29B51C93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2FD5-AA8C-47BA-8D04-CE484127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8761-E427-4470-AB04-799F2F57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F393-61AA-4014-896F-2287BC33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3622-8877-4769-9C50-4D54739F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FDA-842D-45C5-8263-4E2723F1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2605-E72D-4A1D-A0A4-B26C1593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1598-A717-4A57-A8EA-FB50691A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FBC7-714C-48D2-AFC9-E5D5D8E0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CC60-A8A2-4F80-9FBD-EE7AC634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AAC4-4C11-45ED-9D63-C9B94BD1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5FC9-2F43-4643-8EB6-DDEC8555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04D1-E356-4B89-A61E-177AE96E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AFB-F6D3-4FFA-86D2-C94E3019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B57-41E1-4AB5-9084-62FA0FBA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EED-B870-4D45-A84A-0F680B88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BEF-783D-4BF5-A130-1A946215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1E6-A5FB-4C78-A966-F910E9B0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5F90-B3E7-4B4A-B79D-947BF6329D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90A4-1F9B-486E-8730-95348A8DA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rcom.ru/tvv/chocolad.htm" TargetMode="External"/><Relationship Id="rId2" Type="http://schemas.openxmlformats.org/officeDocument/2006/relationships/hyperlink" Target="http://www.moviemagic.ru/review/Choco/choco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355640" y="4581000"/>
            <a:ext cx="3808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Выполнил учен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3 «А»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Костин Владисла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Руководитель: Белова Л.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4" descr="C:\Users\Татьяна\Pictures\Шок алёнка.jpg"/>
          <p:cNvPicPr/>
          <p:nvPr/>
        </p:nvPicPr>
        <p:blipFill>
          <a:blip r:embed="rId1"/>
          <a:stretch/>
        </p:blipFill>
        <p:spPr>
          <a:xfrm>
            <a:off x="179280" y="3716280"/>
            <a:ext cx="2952720" cy="2799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619280" y="907920"/>
            <a:ext cx="619272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>
                    <a:alpha val="73000"/>
                  </a:srgbClr>
                </a:solidFill>
                <a:latin typeface="Arial"/>
              </a:rPr>
              <a:t>Мой любим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>
                  <a:alpha val="73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>
                    <a:alpha val="73000"/>
                  </a:srgbClr>
                </a:solidFill>
                <a:latin typeface="Arial"/>
              </a:rPr>
              <a:t>шоколад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>
                  <a:alpha val="73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>
                    <a:alpha val="73000"/>
                  </a:srgbClr>
                </a:solidFill>
                <a:latin typeface="Arial"/>
              </a:rPr>
              <a:t>за и проти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>
                  <a:alpha val="73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1814633000abc16a8cb0a8b0a4880bd42f856d2d74.jpg"/>
          <p:cNvPicPr/>
          <p:nvPr/>
        </p:nvPicPr>
        <p:blipFill>
          <a:blip r:embed="rId1"/>
          <a:stretch/>
        </p:blipFill>
        <p:spPr>
          <a:xfrm rot="647400">
            <a:off x="4264200" y="-3240"/>
            <a:ext cx="4608360" cy="4005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3816360" cy="2994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500720" y="342900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00000" y="3429000"/>
            <a:ext cx="3816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640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7 век - популярность в Европ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виде напитк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700000" y="249228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Швейцария, 1819 год–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85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ервая шоколадная плит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85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85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77080" y="0"/>
            <a:ext cx="1914480" cy="237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2160360" cy="2160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50920" y="4508640"/>
            <a:ext cx="561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75 год– появл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лочного шоколад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ниэль Пе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 rot="19702200">
            <a:off x="5364000" y="3219120"/>
            <a:ext cx="28576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Классификация шоколад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по форме и консистенции:</a:t>
            </a: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шоколад в плитках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шоколад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фигурный шоколад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 виде шоколадной глазури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1873440" cy="137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Татьяна\Pictures\собака.jpg"/>
          <p:cNvPicPr/>
          <p:nvPr/>
        </p:nvPicPr>
        <p:blipFill>
          <a:blip r:embed="rId2"/>
          <a:stretch/>
        </p:blipFill>
        <p:spPr>
          <a:xfrm>
            <a:off x="5076720" y="5157720"/>
            <a:ext cx="12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15382" t="0" r="0" b="0"/>
          <a:stretch/>
        </p:blipFill>
        <p:spPr>
          <a:xfrm>
            <a:off x="7236000" y="3284640"/>
            <a:ext cx="17539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Классификация шоколад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по содержанию какао продукт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обыкновенный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35-55% шоколад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горький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&gt;55% шоколад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белый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не содержит какао-порошок,  однако содержит какао-масл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11280" y="1628640"/>
            <a:ext cx="5688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по содержанию добаво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шоколад без добавл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шоколад с добавления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шоколад с начинк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по способу обработки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сертный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обыкновенный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орист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308720" y="4076640"/>
            <a:ext cx="1317600" cy="1638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Классификация шоколад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Хранение шоколад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5184720" cy="5472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835280" y="1125360"/>
            <a:ext cx="5184720" cy="5472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763640" y="1125360"/>
            <a:ext cx="53276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566064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Tahoma"/>
              </a:rPr>
              <a:t>Москва         Санкт-Петербур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422960" cy="583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0" y="189000"/>
            <a:ext cx="43657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2160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Праг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497480" cy="65977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356000" y="260280"/>
            <a:ext cx="43941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Барселона, Исп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62800" cy="5043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424720" cy="5129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395280" y="1268280"/>
            <a:ext cx="8424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потребляйте шоколад в небольших количеств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м больше в шоколаде какао-масла, тем он полезнее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мый полезный шоколад – горьк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Шоколад – лучшее средство от плохого настро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Шоколад не вредит зуб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следует давать шоколад детям  младше шести лет.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я восстановления сил нужно съесть горький шокола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Выводы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Содержимое 2"/>
          <p:cNvSpPr/>
          <p:nvPr/>
        </p:nvSpPr>
        <p:spPr>
          <a:xfrm>
            <a:off x="250920" y="476280"/>
            <a:ext cx="9586800" cy="55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3300"/>
                </a:solidFill>
                <a:uFillTx/>
                <a:latin typeface="Tahoma"/>
              </a:rPr>
              <a:t>Цель: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знать о влиянии шоколада на организм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663300"/>
                </a:solidFill>
                <a:uFillTx/>
                <a:latin typeface="Tahoma"/>
              </a:rPr>
              <a:t>Задачи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обрать материал о шоколад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ровести социологический опрос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роанализировать собранную информаци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делать для себя вы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2" descr="C:\Users\Татьяна\Pictures\заяц шок.jpg"/>
          <p:cNvPicPr/>
          <p:nvPr/>
        </p:nvPicPr>
        <p:blipFill>
          <a:blip r:embed="rId1"/>
          <a:stretch/>
        </p:blipFill>
        <p:spPr>
          <a:xfrm>
            <a:off x="6084720" y="3789360"/>
            <a:ext cx="205452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точники информаци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dvornik.ru/…/articles/645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www.rcom.ru/tvv/chocolad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hnochoc.narod.ru/technology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moviemagic.ru/review/Choco/choco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Любите ли вы шоколад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24217" t="0" r="28569" b="0"/>
          <a:stretch/>
        </p:blipFill>
        <p:spPr>
          <a:xfrm>
            <a:off x="539640" y="1916280"/>
            <a:ext cx="5184720" cy="347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4140360" y="2924280"/>
          <a:ext cx="4679640" cy="3309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2924280"/>
                    <a:ext cx="467964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Какие шоколадные изделия  вы предпочитаете ?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1413000"/>
          <a:ext cx="4392360" cy="377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3000"/>
                    <a:ext cx="4392360" cy="37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356000" y="2924280"/>
          <a:ext cx="4248360" cy="3454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2924280"/>
                    <a:ext cx="4248360" cy="34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Какие разновидности шоколада в плитках вы  предпочитаете?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1557360"/>
          <a:ext cx="4319640" cy="347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4319640" cy="34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427640" y="2924280"/>
          <a:ext cx="4392360" cy="3368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2924280"/>
                    <a:ext cx="439236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Какую марку производителя  шоколадных изделий вы предпочитаете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9640" y="692280"/>
          <a:ext cx="3961080" cy="511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92280"/>
                    <a:ext cx="3961080" cy="51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427640" y="2924280"/>
          <a:ext cx="4103640" cy="3740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2924280"/>
                    <a:ext cx="410364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032360" y="3184560"/>
          <a:ext cx="5111640" cy="367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360" y="3184560"/>
                    <a:ext cx="51116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Как часто вы едите шоколад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9640" y="1413000"/>
          <a:ext cx="4537080" cy="338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13000"/>
                    <a:ext cx="453708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Как вы думаете, шоколад полезен для здоровья человека?    </a:t>
            </a:r>
            <a:r>
              <a:rPr b="0" i="1" lang="en-US" sz="4000" spc="-1" strike="noStrike">
                <a:solidFill>
                  <a:srgbClr val="663300"/>
                </a:solidFill>
                <a:latin typeface="Tahoma"/>
              </a:rPr>
              <a:t>             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5640" y="1916280"/>
          <a:ext cx="4392720" cy="388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439272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211640" y="2997360"/>
          <a:ext cx="4060800" cy="36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2997360"/>
                    <a:ext cx="406080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8" descr="2009_08_08_19_54_58.jpg"/>
          <p:cNvPicPr/>
          <p:nvPr/>
        </p:nvPicPr>
        <p:blipFill>
          <a:blip r:embed="rId1"/>
          <a:stretch/>
        </p:blipFill>
        <p:spPr>
          <a:xfrm>
            <a:off x="395280" y="1844640"/>
            <a:ext cx="3780000" cy="4267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f_17420125.jpg"/>
          <p:cNvPicPr/>
          <p:nvPr/>
        </p:nvPicPr>
        <p:blipFill>
          <a:blip r:embed="rId2"/>
          <a:stretch/>
        </p:blipFill>
        <p:spPr>
          <a:xfrm>
            <a:off x="4572000" y="1700280"/>
            <a:ext cx="4103640" cy="4465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95280" y="333360"/>
            <a:ext cx="4103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Более 3000 лет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екс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404640"/>
            <a:ext cx="4103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Христофор Колумб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Европа, 17 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03:21:36Z</dcterms:created>
  <dc:creator>1</dc:creator>
  <dc:description/>
  <dc:language>en-US</dc:language>
  <cp:lastModifiedBy>1</cp:lastModifiedBy>
  <dcterms:modified xsi:type="dcterms:W3CDTF">2012-03-16T03:15:06Z</dcterms:modified>
  <cp:revision>21</cp:revision>
  <dc:subject/>
  <dc:title>Слайд 1</dc:title>
</cp:coreProperties>
</file>