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4.png" ContentType="image/png"/>
  <Override PartName="/ppt/media/image15.jpeg" ContentType="image/jpeg"/>
  <Override PartName="/ppt/media/image13.jpeg" ContentType="image/jpeg"/>
  <Override PartName="/ppt/media/image1.jpeg" ContentType="image/jpeg"/>
  <Override PartName="/ppt/media/image5.png" ContentType="image/png"/>
  <Override PartName="/ppt/media/image16.jpeg" ContentType="image/jpeg"/>
  <Override PartName="/ppt/media/chimes.wav" ContentType="audio/x-wav"/>
  <Override PartName="/ppt/media/image10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B44D-C0FF-4B68-8EDF-D8456026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E8D2-7DF8-41CF-B24A-DF6A6D2F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CC06-E9A4-4A67-9F6F-0D61FE2B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2D2F-6671-4C2D-90C5-CEA69F4C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FEC4-0BF5-473A-B526-22749BB9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B430-5E44-4F1E-8155-4AF1F6D4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EDF1-88C7-4BFB-BF71-9425995D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C938-665A-4B13-8CDA-04215CC5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E2F5-4B5C-423F-84C4-058014B8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651B-B485-49F7-978A-C8122034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7ECC-F209-47C0-ABE1-1E15A070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339C-A706-4AA3-B543-E246796D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AE6F-9BC0-4E9C-B3B2-2C015C5C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A399-FD66-4652-897B-E9422F9A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121E-80C4-4DBE-9EB3-1AAC2D22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1F5F-DA4B-4D18-B69E-B9604183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A05D-4E40-4348-9329-ABAEB71F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B0B4-6517-4EFA-AFB0-3862FAA6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B5D-668A-44A1-BFA3-4567DA79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F7C-8D99-4557-A17C-3E8B2677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3AC1-DDB6-4023-823F-24AF3685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8420-2971-4BE6-A0AB-36EC7D72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25B5-6776-410E-B909-6C5B0932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85CA-6D47-4428-AD2D-99BC9843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4E3F-FF96-46A9-B382-4E9AA80A3CB7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CAF1-C6BE-4F1C-9ED7-FF9935DFF7D4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Внеклассное экологическое мероприятие, посвященное зимующим птицам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457200"/>
            <a:ext cx="76201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заботимся о птицах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52680" y="228600"/>
            <a:ext cx="6038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КОУ "Бережновская СОШ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2280" y="6172200"/>
            <a:ext cx="8839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полнила ученица 7 класса Бочковая Татьяна Юрь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Comic Sans MS"/>
              </a:rPr>
              <a:t>1 конкурс «Птичья страничка»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Расскажите о птицах, зимующих в нашей местност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к вы помогаете им перенести сложный зимний период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Comic Sans MS"/>
              </a:rPr>
              <a:t>2 конкурс «Узнай птицу»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2" name="Изображение 1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Изображение 1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10552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Изображение 2" descr="Снимок экрана 2012-10-21 в 22.31.57.png"/>
          <p:cNvPicPr/>
          <p:nvPr/>
        </p:nvPicPr>
        <p:blipFill>
          <a:blip r:embed="rId1"/>
          <a:stretch/>
        </p:blipFill>
        <p:spPr>
          <a:xfrm>
            <a:off x="2209680" y="533520"/>
            <a:ext cx="46483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8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800600" cy="601992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split dir="out" orient="vert"/>
    <p:sndAc>
      <p:stSnd>
        <p:snd r:embed="rId2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4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Объект 10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4956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Изображение 1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Изображение 1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61722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Изображение 1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4864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9800" y="476280"/>
            <a:ext cx="7124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А СЕГОДНЯ ПРИЛЕТЕЛ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11280" y="5257800"/>
            <a:ext cx="7921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omic Sans MS"/>
              </a:rPr>
              <a:t>ДРУЖНОЙ СТАЙКОЙ…</a:t>
            </a:r>
            <a:endParaRPr b="0" lang="en-US" sz="47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2" name="Рисунок 3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473440" cy="360036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split dir="out" orient="vert"/>
    <p:sndAc>
      <p:stSnd>
        <p:snd r:embed="rId2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3" descr=""/>
          <p:cNvPicPr/>
          <p:nvPr/>
        </p:nvPicPr>
        <p:blipFill>
          <a:blip r:embed="rId1"/>
          <a:stretch/>
        </p:blipFill>
        <p:spPr>
          <a:xfrm>
            <a:off x="220968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split dir="out" orient="ver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1" descr="0_2275f_f578765c_XL.jpeg"/>
          <p:cNvPicPr/>
          <p:nvPr/>
        </p:nvPicPr>
        <p:blipFill>
          <a:blip r:embed="rId1"/>
          <a:stretch/>
        </p:blipFill>
        <p:spPr>
          <a:xfrm>
            <a:off x="1905120" y="152280"/>
            <a:ext cx="548640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1" descr="SDC12359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219320" y="609480"/>
            <a:ext cx="69339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Comic Sans MS"/>
              </a:rPr>
              <a:t>3 конкурс «Про птиц»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07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Какая птица выводит птенцов зимой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Птица, которая прилетает к нам с первым снегом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Какие птицы перекочевывают на зиму к жилью человека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Название какой зимующей птицы созвучно с названием танца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Назовите зимующих птиц, на голове которых есть хохол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В холодную погоду воробьи взъерошенные, почему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Какие птицы строят гнезда в январе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Когда температура тела воробья ниже — зимой или летом? 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Как называются птицы, которые живут с нами постоянно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Клесты, зимородки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негирь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иница большая, сорока, ворона, галк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Чечетка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виристель, чечетка, хохлатая синиц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Легко сохранять тепло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Клес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Температура тела воробья всегда одинаковая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Оседлы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124080" y="304920"/>
            <a:ext cx="2819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Comic Sans MS"/>
              </a:rPr>
              <a:t>Физическая минутк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Лебеди летят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рыльями машут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Прогнулись над водой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чают головой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Прямо и гордо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Умеют держаться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И очень бесшумно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На место садятся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Comic Sans MS"/>
              </a:rPr>
              <a:t>4 конкурс «О ком это?»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акую птицу называют лесным доктором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акая птица ходит по стволу вниз головой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У какой зимующей птицы самый длинный язык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акая зимующая птица имеет очень длинный хвост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та птица – труженик, зимой имеет свою кузницу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У этой птицы клюв необычный, крестообразный, чтобы шишки легко расклёвывать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7) Народные названия какой птицы — сизак, сизарь. В разговорной речи часто употребляются слова «гуля», «гулька»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8) Эта небольшая птичка – настоящая красавица. Её ярко-жёлтое брюшко не спутаешь ни с какой другой птицей. 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9) Птица с хохолком на голове, прилетающая к нам зимой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Дятел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Поползень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Дятел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орок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Дятел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У клест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изый голубь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Большая синиц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виристель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81280" y="304920"/>
            <a:ext cx="2362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Comic Sans MS"/>
              </a:rPr>
              <a:t>5 конкурс «Ночлег»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) Как вороны и галки ночуют?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) Где дятлы и синицы спят?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) Какие птицы ночуют, зарывшись в снег? 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) Утки с удовольствием залезают в воду в самый сильный мороз.  Почему?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) Чем питается большая синица зимой, когда все насекомые спят? 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Стаями, прижавшись друг к другу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В дуплах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Тетерева, рябчик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В мороз вода теплее, чем воздух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Разыскивает в щелях и скважинах насекомых, яйца, личинк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429000" y="457200"/>
            <a:ext cx="2438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Comic Sans MS"/>
              </a:rPr>
              <a:t>6 конкурс «Столовая»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Для какой птицы зимой семена репейника являются любимым кормом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Чем любит лакомиться зимой клёст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Что птицам страшнее голод или холод зимой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) Назовите корма для зимней подкормки птиц. 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)  Семена какого сорного растения едят только снегири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) Какая птица зимой питается личинками насекомых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7) Чем можно объяснить, что ласточки, стрижи, мухоловки на зиму улетают на юг, а синицы, дятлы и поползни остаются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8) Какая птица за сутки съедает столько корма, сколько весит сама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) Снегири –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   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Голуби, воробьи –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   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Синички -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8007480" cy="41907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Расширить знания о птицах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Закрепить знания о птицах, зимующих в наших краях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Воспитывать заботливое отношение к ним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Познакомить с птицами, занесенными в Красную книгу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438280" y="533160"/>
            <a:ext cx="4114800" cy="685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Цель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ОТВЕТЫ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Для щегл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еменами ели, сосны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Голод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емена подсолнуха, конопли, арбуза, дыни, тыквы, лебеды, крапивы, репейника, конского щавеля, ягоды рябины, бузины, клюквы, хлебные крошки, сырое сало и мясо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Конского щавел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Дятел, большая синиц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Мухоловки, стрижи и ласточки ловят насекомых в воздухе, а осенью насекомые забираются в убежища, т.е. становятся для этих птиц недоступными. Синицы, дятлы и поползни приспосабливаются к добыванию насекомых, их личинок, куколок и яиц из зимних убежищ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Большая синиц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емечки арбуза, тыквы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Крупу, хлеб, зерно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Несоленое сало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09800" y="476280"/>
            <a:ext cx="7124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ПТИЦАМ ГОЛОДНО ЗИМОЙ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4" name="Объект 3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3888000" cy="39531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4"/>
          <p:cNvSpPr/>
          <p:nvPr/>
        </p:nvSpPr>
        <p:spPr>
          <a:xfrm>
            <a:off x="1042920" y="580068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КОРМИТЕ ПТИЦ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split dir="out" orient="vert"/>
    <p:sndAc>
      <p:stSnd>
        <p:snd r:embed="rId2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Синицы----------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лесты----------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Снегири--------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Воробьи----------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Голуби--------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Comic Sans MS"/>
              </a:rPr>
              <a:t>Необходимо разложить корм, соответствующий птицам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0" y="53316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71600" y="1600200"/>
            <a:ext cx="6477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годы рябины, пшено, семе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дсолнечника. кусочек са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819520" y="2514600"/>
            <a:ext cx="34574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едровые орех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КОГО УГОСТИМ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2" name="Объект 13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2089440" cy="190512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4" descr=""/>
          <p:cNvPicPr/>
          <p:nvPr/>
        </p:nvPicPr>
        <p:blipFill>
          <a:blip r:embed="rId2"/>
          <a:stretch/>
        </p:blipFill>
        <p:spPr>
          <a:xfrm>
            <a:off x="3200400" y="1523880"/>
            <a:ext cx="2305080" cy="190512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15" descr=""/>
          <p:cNvPicPr/>
          <p:nvPr/>
        </p:nvPicPr>
        <p:blipFill>
          <a:blip r:embed="rId3"/>
          <a:stretch/>
        </p:blipFill>
        <p:spPr>
          <a:xfrm>
            <a:off x="5867280" y="2209680"/>
            <a:ext cx="2233800" cy="1676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28800" y="411192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иницы----------кусочек с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лесты----------кедровые орех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негири--------ягоды ряб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оробьи----------пш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Голуби---------семена подсолнечника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480" y="3657600"/>
            <a:ext cx="2057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 advTm="30000">
    <p:split dir="out" orient="vert"/>
    <p:sndAc>
      <p:stSnd>
        <p:snd r:embed="rId4" name="chimes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Comic Sans MS"/>
              </a:rPr>
              <a:t>7 конкурс «Кормушка»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Задание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ждой команде изготовить кормушки для птиц из подручного материала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Подготовить защиту своей работы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99"/>
                </a:solidFill>
                <a:latin typeface="Comic Sans MS"/>
              </a:rPr>
              <a:t>8 конкурс «Продолжи пословицу о птицах»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Лучше синица в руках, чем .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Как сорока хвостом, так болтун .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Осенью и у воробья .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И сова своих детей .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Птицы сильны крыльями, а люди – .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Всякая пташка хлопочет – своего гнезда .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Птице даны крылья, а человеку- .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ОТВЕТЫ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Лучше синица в руках, чем журавль в небе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Как сорока хвостом, так болтун языком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Осенью и у воробья пир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И сова своих детей хвалит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Птицы сильны крыльями, а люди – дружбой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Всякая пташка хлопочет – своего гнезда хочет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Птице даны крылья, а человеку- разум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Приметы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. Синичка с утра начинает пищать – ожидай ночью мороз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. Воробьи дружно расчирикались – к оттепели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. Ворона под крыло клюв прячет – к холоду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. Перед метелью воробьи чирикают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. Перед сильным ветром воробьи стайками перелетают с места на место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. Синицы порхают под окном – к холоду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7. В марте птички щебечут к хорошей погоде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8. Снегирь зимой поёт на снег, вьюгу и слякоть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. Если сядет тебе на руку синица, нужно загадать желание. Если вещая птаха подаёт голос – загаданному сбыться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Comic Sans MS"/>
              </a:rPr>
              <a:t>9 конкурс «Музыкальный»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оманды по очереди исполняют песни связанные с птицами, побеждает та команда, которая исполнит больше всего песен о птицах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66"/>
                </a:solidFill>
                <a:latin typeface="Comic Sans MS"/>
              </a:rPr>
              <a:t>10 конкурс «Их надо охранять»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Назовите птиц нашей области, занесенных в Красную книгу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Кормушки для птиц должны быть скромными, лучше не яркими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При закреплении кормушек на деревья не обламывайте ветки, не повреждайте ствол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Во время подкормки птиц не оставляйте газеты, бумагу, полиэтиленовые пакеты, жестяные банки и коробочки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Постоянно следите, чтобы не было снега в кормушках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Вовремя, желательно в один и тот же час, подсыпайте корм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Что мы знаем о кормушках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66"/>
                </a:solidFill>
                <a:latin typeface="Comic Sans MS"/>
              </a:rPr>
              <a:t>Домашнее задание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Изготовить скворечники, кормушки. Развесить их в местах частого прилета зимующих птиц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Регулярное вести наблюдение за поведением зимующих птиц в нашей местност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Не оставлять птиц без корма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99"/>
                </a:solidFill>
                <a:latin typeface="Comic Sans MS"/>
              </a:rPr>
              <a:t>МЫ ОБЕЩАЕМ 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Мы обещаем!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Мы будем, будем, птицы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С вами дружить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В мире, согласии жить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Будем помнить всегда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Что вы с нами верные друзья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Comic Sans MS"/>
              </a:rPr>
              <a:t>Корм зимующих птиц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9903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Семена подсолнечника едят почти все птицы и, в первую очередь, синицы и поползни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Семена дыни и тыквы едят почти все птицы, кроме синицы и поползней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Овес, если нет ничего лучше, едят овсянки, воробьи, синицы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Пшено и просо – любимая еда овсянок и воробьев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Семена репейника – основной корм щеглов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Семена лебеды, полыни, конопли, конского щавеля, крапивы, охотно едят все зерноядные птицы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9140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Ягоды рябины и калины – любимая пища снегирей и свиристелей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Хлебные крошки едят синицы и воробьи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Сыро (несоленое) сало – превосходный корм для синиц, поползней и дятлов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Сырое мясо – хорошая пища для синиц и поползней, а так же для ворон, галок и сорок. Сало и мясо подвешивают на ниточках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Comic Sans MS"/>
              </a:rPr>
              <a:t>Правила подкормки птиц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7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Во время подкормки птиц не сорите в лесу, парке, саду: не оставляйте там газеты, бумажные и полиэтиленовые пакеты, жестяные банки и коробочк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ормушки для птиц должны быть очень скромными, лучше не раскрашенными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533160"/>
            <a:ext cx="8007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орма в кормушках должно быть немного и только нужного птицам: семена дикорастущих трав, крошки хлеба, подсолнухи, кусочки несоленого сала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ормите птиц регулярно. Птиц нельзя подкармливать время от времени: именно зимой им очень нужна ваша поддержка, именно в морозы и метели гибнет большая часть птиц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66"/>
                </a:solidFill>
                <a:latin typeface="Comic Sans MS"/>
              </a:rPr>
              <a:t>Это интересно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9140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Самыми морозостойкими считаются утки и гуси. Опыты, проводившиеся норвежскими учеными, показали, что они выносят температуру до минус 110 градусов, в то время, как белые медведи и тюлени выдерживают только до 80 градусов. Большинство же других животных не переносят температуру минус 45 градусов. Температура тела птиц-40-42 градуса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90920" y="4572000"/>
            <a:ext cx="37335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1T16:27:45Z</dcterms:created>
  <dc:creator>6758645</dc:creator>
  <dc:description/>
  <dc:language>en-US</dc:language>
  <cp:lastModifiedBy>6758645</cp:lastModifiedBy>
  <dcterms:modified xsi:type="dcterms:W3CDTF">2013-01-27T08:54:1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