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5.png" ContentType="image/pn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18C-23F6-43F6-9AFC-75C2A6CB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A6B-2102-437D-AA77-0C7BFE4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E04-25E8-473E-8571-3D98E769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861-B3A7-4BAD-B8D1-37B0AC22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FFE-94B1-47ED-8F88-5FF87F43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2DBB-1A6F-4E43-AA2A-8D47548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3F64-470B-4995-97F5-584F63E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ACE-16DC-4406-B7BF-96037429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C36B-6950-4597-B9F0-C657DBB3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C910-EE83-46B4-917B-91DE162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9084-FD34-41D8-924D-ED50339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ACA-242B-497B-BA65-71AD0622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41D-12F2-4399-BDB4-AC3C7FE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6D6-8301-4A6C-A2BA-FD028F1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5A7-FCC5-4348-8FA6-A481CBE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46E-D495-452D-90C8-8E08D236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87A-2D1B-4684-BC52-89C0EBCD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0DC-18A3-40E9-A124-542F0D3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177-8191-4CAE-A3B0-1C91F5C1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DDE-1F42-4FFE-84ED-47A7AB35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F9B-09ED-4B0E-B6D9-8E1E145A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943-7B3E-4C88-AFB0-945643C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7C6-A98B-4D40-B737-AD68E1D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2FA-9550-42F1-B2FC-A9066B2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B00-6634-448E-981D-C6B75C837F6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CC3-8F7F-4C35-ABDA-893334CF696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неклассное экологическое мероприятие, посвященное зимующим птица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457200"/>
            <a:ext cx="7620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заботимся о птицах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52680" y="228600"/>
            <a:ext cx="6038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"Бережновская СОШ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6172200"/>
            <a:ext cx="8839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полнила ученица 7 класса Бочковая Татьяна Юрь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1 конкурс «Птичья страничка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сскажите о птицах, зимующих в нашей мест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вы помогаете им перенести сложный зимний период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2 конкурс «Узнай птицу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Изображение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209680" y="53352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8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plit dir="out" orient="vert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4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10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95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Изображение 1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А СЕГОДНЯ ПРИЛЕТ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11280" y="5257800"/>
            <a:ext cx="7921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omic Sans MS"/>
              </a:rPr>
              <a:t>ДРУЖНОЙ СТАЙКОЙ…</a:t>
            </a:r>
            <a:endParaRPr b="0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22096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0_2275f_f578765c_XL.jpeg"/>
          <p:cNvPicPr/>
          <p:nvPr/>
        </p:nvPicPr>
        <p:blipFill>
          <a:blip r:embed="rId1"/>
          <a:stretch/>
        </p:blipFill>
        <p:spPr>
          <a:xfrm>
            <a:off x="1905120" y="152280"/>
            <a:ext cx="54864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SDC1235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609480"/>
            <a:ext cx="69339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3 конкурс «Про птиц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ая птица выводит птенцов зим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тица, которая прилетает к нам с первым снегом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ие птицы перекочевывают на зиму к жилью человек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звание какой зимующей птицы созвучно с названием танц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зовите зимующих птиц, на голове которых есть хохол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 холодную погоду воробьи взъерошенные, почему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ие птицы строят гнезда в январе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огда температура тела воробья ниже — зимой или летом?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ак называются птицы, которые живут с нами постоянно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лесты, зимородк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негир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иница большая, сорока, ворона, галк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ечетка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виристель, чечетка, хохлатая синиц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егко сохранять тепл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лес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емпература тела воробья всегда одинакова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длы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24080" y="30492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Физическая минут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Лебеди летя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рыльями машу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рогнулись над водо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чают голово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рямо и горд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Умеют держаться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 очень бесшум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 место садятс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4 конкурс «О ком это?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ую птицу называют лесным доктором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ая птица ходит по стволу вниз голов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какой зимующей птицы самый длинный язык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ая зимующая птица имеет очень длинный хвост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а птица – труженик, зимой имеет свою кузницу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 этой птицы клюв необычный, крестообразный, чтобы шишки легко расклёвывать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7) Народные названия какой птицы — сизак, сизарь. В разговорной речи часто употребляются слова «гуля», «гулька»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8) Эта небольшая птичка – настоящая красавица. Её ярко-жёлтое брюшко не спутаешь ни с какой другой птицей.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9) Птица с хохолком на голове, прилетающая к нам зимой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оползен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орок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У клес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изый голуб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Большая синиц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виристел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812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5 конкурс «Ночлег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 Как вороны и галки ночуют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) Где дятлы и синицы спят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 Какие птицы ночуют, зарывшись в снег? 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) Утки с удовольствием залезают в воду в самый сильный мороз.  Почему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) Чем питается большая синица зимой, когда все насекомые спят? 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таями, прижавшись друг к другу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дупла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етерева, рябчи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 мороз вода теплее, чем возду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зыскивает в щелях и скважинах насекомых, яйца, личин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29000" y="4572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6 конкурс «Столовая»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ля какой птицы зимой семена репейника являются любимым кормом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Чем любит лакомиться зимой клёст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Что птицам страшнее голод или холод зимой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Назовите корма для зимней подкормки птиц.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 Семена какого сорного растения едят только снегири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) Какая птица зимой питается личинками насекомых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) Чем можно объяснить, что ласточки, стрижи, мухоловки на зиму улетают на юг, а синицы, дятлы и поползни остаются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) Какая птица за сутки съедает столько корма, сколько весит сама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Снегир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Голуби, воробь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  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инички -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Расширить знания о птицах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крепить знания о птицах, зимующих в наших краях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спитывать заботливое отношение к ним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знакомить с птицами, занесенными в Красную книг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114800" cy="685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Для щегл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нами ели, сосн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Голод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на подсолнуха, конопли, арбуза, дыни, тыквы, лебеды, крапивы, репейника, конского щавеля, ягоды рябины, бузины, клюквы, хлебные крошки, сырое сало и мяс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онского щавел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Дятел, большая синиц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ухоловки, стрижи и ласточки ловят насекомых в воздухе, а осенью насекомые забираются в убежища, т.е. становятся для этих птиц недоступными. Синицы, дятлы и поползни приспосабливаются к добыванию насекомых, их личинок, куколок и яиц из зимних убежищ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ольшая синиц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емечки арбуза, тыкв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рупу, хлеб, зерн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соленое сал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476280"/>
            <a:ext cx="7124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ТИЦАМ ГОЛОДНО ЗИМОЙ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4" name="Объект 3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888000" cy="3953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042920" y="5800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КОРМИТЕ ПТИЦ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split dir="out" orient="vert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иницы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лесты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негири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робьи--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Голуби-------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Comic Sans MS"/>
              </a:rPr>
              <a:t>Необходимо разложить корм, соответствующий птицам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0" y="53316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71600" y="16002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годы рябины, пшено, сем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солнечника. кусочек с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19520" y="2514600"/>
            <a:ext cx="3457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ОГО УГОСТИМ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Объект 1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089440" cy="19051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30508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23380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41119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иницы----------кусочек с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лесты----------кедровые оре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негири--------ягоды ряб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оробьи----------пш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олуби---------семена подсолнечник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3657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30000">
    <p:split dir="out" orient="vert"/>
    <p:sndAc>
      <p:stSnd>
        <p:snd r:embed="rId4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7 конкурс «Кормушка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дание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ждой команде изготовить кормушки для птиц из подручного материал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дготовить защиту своей работ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Comic Sans MS"/>
              </a:rPr>
              <a:t>8 конкурс «Продолжи пословицу о птицах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учше синица в руках, чем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 сорока хвостом, так болтун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нью и у воробья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 сова своих детей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ы сильны крыльями, а люди –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сякая пташка хлопочет – своего гнезда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е даны крылья, а человеку-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Лучше синица в руках, чем журавль в неб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Как сорока хвостом, так болтун языко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Осенью и у воробья пир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 сова своих детей хвали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ы сильны крыльями, а люди – дружбо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сякая пташка хлопочет – своего гнезда хоче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тице даны крылья, а человеку- разу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Приметы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Синичка с утра начинает пищать – ожидай ночью мороз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Воробьи дружно расчирикались – к оттепел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 Ворона под крыло клюв прячет – к холоду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. Перед метелью воробьи чирикают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. Перед сильным ветром воробьи стайками перелетают с места на место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 Синицы порхают под окном – к холод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. В марте птички щебечут к хорошей погод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. Снегирь зимой поёт на снег, вьюгу и сляко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. Если сядет тебе на руку синица, нужно загадать желание. Если вещая птаха подаёт голос – загаданному сбыться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Comic Sans MS"/>
              </a:rPr>
              <a:t>9 конкурс «Музыкальный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манды по очереди исполняют песни связанные с птицами, побеждает та команда, которая исполнит больше всего песен о птица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omic Sans MS"/>
              </a:rPr>
              <a:t>10 конкурс «Их надо охранять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зовите птиц нашей области, занесенных в Красную книг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Кормушки для птиц должны быть скромными, лучше не ярким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При закреплении кормушек на деревья не обламывайте ветки, не повреждайте ствол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Во время подкормки птиц не оставляйте газеты, бумагу, полиэтиленовые пакеты, жестяные банки и коробочк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Постоянно следите, чтобы не было снега в кормушках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Вовремя, желательно в один и тот же час, подсыпайте кор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Что мы знаем о кормушках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зготовить скворечники, кормушки. Развесить их в местах частого прилета зимующих птиц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егулярное вести наблюдение за поведением зимующих птиц в нашей мест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е оставлять птиц без корма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Comic Sans MS"/>
              </a:rPr>
              <a:t>МЫ ОБЕЩАЕМ 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Мы обещаем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Мы будем, будем, птицы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С вами дружить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В мире, согласии жить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Будем помнить всегда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Что вы с нами верные друзья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Корм зимующих птиц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подсолнечника едят почти все птицы и, в первую очередь, синицы и поползн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дыни и тыквы едят почти все птицы, кроме синицы и поползней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Овес, если нет ничего лучше, едят овсянки, воробьи, синицы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шено и просо – любимая еда овсянок и воробье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репейника – основной корм щеглов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емена лебеды, полыни, конопли, конского щавеля, крапивы, охотно едят все зерноядные птицы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Ягоды рябины и калины – любимая пища снегирей и свиристелей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Хлебные крошки едят синицы и воробьи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Сыро (несоленое) сало – превосходный корм для синиц, поползней и дятл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Сырое мясо – хорошая пища для синиц и поползней, а так же для ворон, галок и сорок. Сало и мясо подвешивают на ниточках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omic Sans MS"/>
              </a:rPr>
              <a:t>Правила подкормки пти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о время подкормки птиц не сорите в лесу, парке, саду: не оставляйте там газеты, бумажные и полиэтиленовые пакеты, жестяные банки и коробочк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ушки для птиц должны быть очень скромными, лучше не раскрашенным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а в кормушках должно быть немного и только нужного птицам: семена дикорастущих трав, крошки хлеба, подсолнухи, кусочки несоленого сал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рмите птиц регулярно. Птиц нельзя подкармливать время от времени: именно зимой им очень нужна ваша поддержка, именно в морозы и метели гибнет большая часть птиц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Comic Sans MS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Самыми морозостойкими считаются утки и гуси. Опыты, проводившиеся норвежскими учеными, показали, что они выносят температуру до минус 110 градусов, в то время, как белые медведи и тюлени выдерживают только до 80 градусов. Большинство же других животных не переносят температуру минус 45 градусов. Температура тела птиц-40-42 градус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27:45Z</dcterms:created>
  <dc:creator>6758645</dc:creator>
  <dc:description/>
  <dc:language>en-US</dc:language>
  <cp:lastModifiedBy>6758645</cp:lastModifiedBy>
  <dcterms:modified xsi:type="dcterms:W3CDTF">2013-01-27T08:5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