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9.gif" ContentType="image/gif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E2C-57AA-4C22-99E4-9EE798D4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080-C03D-4F9B-B36C-FEFA4EF6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083-6841-4EC1-87CF-2F5B0E3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461-5587-497C-91AE-B6822A30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2B1-D113-414B-A7D1-EDC81F0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4FF-3E78-437A-AC45-C0F716C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9CE-CD7F-4723-93EC-359AE43F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32D-418B-486D-A9D8-96C52B8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CEA-401B-45B1-A46C-12874A7E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7C9-AF3B-4513-8CA8-5ECDA05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209-0EEB-45B4-933D-C8BA88E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EC9-B3DE-4CA8-BAB0-B12453D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13C3-9890-46FF-9E74-4B15932B3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89.beon.ru/3/83/38303/19/4403719/13688__original_preview.jpe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ые приме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огоде: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авда или вымысе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360"/>
            <a:ext cx="6761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вторы: Клочкова Оле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Гаврикова Васили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ГБОУ СОШ 1149, 4 «А»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оводитель: Краснова Ирина Яковл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static.freepik.com/darmowe-zdjecie/wiosna-lato-jesie%C5%84-pejza%C5%BC-zimowy_411788.jpg"/>
          <p:cNvPicPr/>
          <p:nvPr/>
        </p:nvPicPr>
        <p:blipFill>
          <a:blip r:embed="rId2"/>
          <a:stretch/>
        </p:blipFill>
        <p:spPr>
          <a:xfrm>
            <a:off x="1042920" y="103320"/>
            <a:ext cx="7058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323\Рабочий стол\Новая папка (3)\smoke_pipes[1].jpg"/>
          <p:cNvPicPr/>
          <p:nvPr/>
        </p:nvPicPr>
        <p:blipFill>
          <a:blip r:embed="rId1"/>
          <a:stretch/>
        </p:blipFill>
        <p:spPr>
          <a:xfrm>
            <a:off x="139680" y="2060640"/>
            <a:ext cx="4498920" cy="401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323\Рабочий стол\Новая папка (3)\24[1].jpg"/>
          <p:cNvPicPr/>
          <p:nvPr/>
        </p:nvPicPr>
        <p:blipFill>
          <a:blip r:embed="rId2"/>
          <a:stretch/>
        </p:blipFill>
        <p:spPr>
          <a:xfrm>
            <a:off x="4638600" y="2133720"/>
            <a:ext cx="4340160" cy="3943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28600" y="228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Если дым из труб и от костра поднимается прямо вверх это предвещает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932360" y="1413000"/>
            <a:ext cx="2971800" cy="520560"/>
          </a:xfrm>
          <a:prstGeom prst="rect">
            <a:avLst/>
          </a:prstGeom>
          <a:solidFill>
            <a:srgbClr val="c6d9f0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рошую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768"/>
          <p:cNvPicPr/>
          <p:nvPr/>
        </p:nvPicPr>
        <p:blipFill>
          <a:blip r:embed="rId1"/>
          <a:stretch/>
        </p:blipFill>
        <p:spPr>
          <a:xfrm>
            <a:off x="3780000" y="1341360"/>
            <a:ext cx="171900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02"/>
          <p:cNvPicPr/>
          <p:nvPr/>
        </p:nvPicPr>
        <p:blipFill>
          <a:blip r:embed="rId2"/>
          <a:stretch/>
        </p:blipFill>
        <p:spPr>
          <a:xfrm>
            <a:off x="5940360" y="1484280"/>
            <a:ext cx="2819520" cy="220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ью осад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3789000"/>
            <a:ext cx="3736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утром трава суха – к ночи жди дожд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уга на западе – к дождю, на востоке к –  теплой сухой погод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ния на западе – к дожд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3860640"/>
            <a:ext cx="4392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абевание дождя к вечеру – признак улучшения пог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ождь пошёл с обеда – затянется на су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ерняя роса –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6047"/>
          <p:cNvPicPr/>
          <p:nvPr/>
        </p:nvPicPr>
        <p:blipFill>
          <a:blip r:embed="rId3"/>
          <a:stretch/>
        </p:blipFill>
        <p:spPr>
          <a:xfrm>
            <a:off x="539640" y="1413000"/>
            <a:ext cx="2779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9960" y="115560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гда месяц родится вниз рогами (к югу), то зимою будет теплый, а летом жаркий месяц; когда рогами вверх, то зимою холодный, а летом ветря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га к ветру, но нижний крутой, верхний отлогий, то первая половина месяца зимой холодная, летом ветреная; если же верхний рог круче, а нижний отложе, то та же примета на вторую половину меся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915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Лу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Картинка 47 из 59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346640"/>
            <a:ext cx="1839960" cy="158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post-82284-1210441266[1]"/>
          <p:cNvPicPr/>
          <p:nvPr/>
        </p:nvPicPr>
        <p:blipFill>
          <a:blip r:embed="rId3"/>
          <a:stretch/>
        </p:blipFill>
        <p:spPr>
          <a:xfrm>
            <a:off x="324000" y="1484280"/>
            <a:ext cx="3313080" cy="2521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9360" y="395748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га луны остры и ярки - к теплой сухой погоде. Круты - к морозу, отлоги рога - к нена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усклый месяц - к сырости. Ясный - к суху. В синеве - к дождю; в красне - к ветру, с ушами - к мор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сная, кругловатая луна - зимой к стужи. Летом - к теплой сухой пого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льцо вокруг луны - к вет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447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омощью Звез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9040" y="1125000"/>
            <a:ext cx="356544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огда млечный путь светит, то будет хорошая погода. Когда же кажется, что звёзды в нем словно бегут, то будет ве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Черные круги около звезд - к дожд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елые и красные - к теплой сухой погоде.</a:t>
            </a: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мные, зеленые и бледные круги - к дожд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10408-1642-7[1]"/>
          <p:cNvPicPr/>
          <p:nvPr/>
        </p:nvPicPr>
        <p:blipFill>
          <a:blip r:embed="rId1"/>
          <a:stretch/>
        </p:blipFill>
        <p:spPr>
          <a:xfrm>
            <a:off x="138240" y="1198440"/>
            <a:ext cx="2681280" cy="237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1_08[1]"/>
          <p:cNvPicPr/>
          <p:nvPr/>
        </p:nvPicPr>
        <p:blipFill>
          <a:blip r:embed="rId2"/>
          <a:stretch/>
        </p:blipFill>
        <p:spPr>
          <a:xfrm>
            <a:off x="6324480" y="1341360"/>
            <a:ext cx="2687760" cy="317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8a1048541cad[1]"/>
          <p:cNvPicPr/>
          <p:nvPr/>
        </p:nvPicPr>
        <p:blipFill>
          <a:blip r:embed="rId3"/>
          <a:stretch/>
        </p:blipFill>
        <p:spPr>
          <a:xfrm>
            <a:off x="2575080" y="4221000"/>
            <a:ext cx="3336840" cy="263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08000" y="4149720"/>
            <a:ext cx="2467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ильно блестят звёзды летом - к жаре, зимой - к моро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емнеют - к переменной погоде, ветру и гр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192720" y="4581360"/>
            <a:ext cx="2951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ало звезд видно - к пасмурной погоде и дожд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откуда лучи звезд будут длинные, оттуда будет ве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живот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5280" y="103572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шка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ижется - к ненастью. Кошка моется, лижет лапу - к теплой сухой погоде; Мордочку хоронит - к морозу, либо - к ненастью; в печурку садится - к морозу, непогоде; скребет пол - к ветру и метели: стену дерёт - к непогоде. Крепко спит - к теплу: лежит животом или носом к верху - к теп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урица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на одной ноге стоит - к стуже. Наседка сажает под себя цыплят - к нена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роны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учу собираются - к ненастью, купаются - тоже; каркают стаей летом - к ненастью; зимой - к моро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go.mail.ru/click?url=http%3A%2F%2Fworldofanimals.ru%2FstLmenu%2F17%2Fpictst4%2F9.jpg&amp;title=imgfulla"/>
          <p:cNvPicPr/>
          <p:nvPr/>
        </p:nvPicPr>
        <p:blipFill>
          <a:blip r:embed="rId1"/>
          <a:stretch/>
        </p:blipFill>
        <p:spPr>
          <a:xfrm>
            <a:off x="539640" y="4937040"/>
            <a:ext cx="7704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323\Рабочий стол\Новая папка (3)\41[1].jpg"/>
          <p:cNvPicPr/>
          <p:nvPr/>
        </p:nvPicPr>
        <p:blipFill>
          <a:blip r:embed="rId1"/>
          <a:stretch/>
        </p:blipFill>
        <p:spPr>
          <a:xfrm>
            <a:off x="3059280" y="2867040"/>
            <a:ext cx="2776320" cy="2573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79280" y="189000"/>
            <a:ext cx="8663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еред дождём в саду закрываются цветки ного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ветки мальвы, одуванчика и мать - и – маче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323\Рабочий стол\Новая папка (3)\calendula_officinalis[1].jpg"/>
          <p:cNvPicPr/>
          <p:nvPr/>
        </p:nvPicPr>
        <p:blipFill>
          <a:blip r:embed="rId2">
            <a:lum contrast="42000"/>
          </a:blip>
          <a:stretch/>
        </p:blipFill>
        <p:spPr>
          <a:xfrm rot="310200">
            <a:off x="5798880" y="3776760"/>
            <a:ext cx="3039840" cy="285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323\Рабочий стол\Новая папка (3)\10372_PICT0216small[1].jpg"/>
          <p:cNvPicPr/>
          <p:nvPr/>
        </p:nvPicPr>
        <p:blipFill>
          <a:blip r:embed="rId3"/>
          <a:stretch/>
        </p:blipFill>
        <p:spPr>
          <a:xfrm>
            <a:off x="22320" y="4076640"/>
            <a:ext cx="3578040" cy="2967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авда или вымысел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авдываются ли приме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ы решили отобрать несколько примет и в течение ноября 2012 года провести наблюдения за погодой, чтобы отмечать  верность примет или наобор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 некоторые из н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льцо вокруг луны - к вет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Ясная, круглая луна - зимой к стуж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шка лежит животом или носиком к верху - к теп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шка скребет пол - к ветру и ме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</a:rPr>
              <a:t>Наши  наблю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268280"/>
          <a:ext cx="8929800" cy="4835520"/>
        </p:xfrm>
        <a:graphic>
          <a:graphicData uri="http://schemas.openxmlformats.org/drawingml/2006/table">
            <a:tbl>
              <a:tblPr/>
              <a:tblGrid>
                <a:gridCol w="1190880"/>
                <a:gridCol w="1050840"/>
                <a:gridCol w="3430440"/>
                <a:gridCol w="881280"/>
                <a:gridCol w="1152360"/>
                <a:gridCol w="1224000"/>
              </a:tblGrid>
              <a:tr h="67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ая при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да до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да после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о вокруг луны - к ветр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ые приметы совп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сная, круглая луна - зимой к сту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168" descr="DSC00194"/>
          <p:cNvPicPr/>
          <p:nvPr/>
        </p:nvPicPr>
        <p:blipFill>
          <a:blip r:embed="rId1"/>
          <a:stretch/>
        </p:blipFill>
        <p:spPr>
          <a:xfrm>
            <a:off x="2376360" y="2060640"/>
            <a:ext cx="352764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Line 184"/>
          <p:cNvSpPr/>
          <p:nvPr/>
        </p:nvSpPr>
        <p:spPr>
          <a:xfrm flipV="1">
            <a:off x="7524720" y="213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8000" y="260280"/>
          <a:ext cx="8928000" cy="6416640"/>
        </p:xfrm>
        <a:graphic>
          <a:graphicData uri="http://schemas.openxmlformats.org/drawingml/2006/table">
            <a:tbl>
              <a:tblPr/>
              <a:tblGrid>
                <a:gridCol w="1368360"/>
                <a:gridCol w="1008000"/>
                <a:gridCol w="3265560"/>
                <a:gridCol w="1120680"/>
                <a:gridCol w="971640"/>
                <a:gridCol w="1193760"/>
              </a:tblGrid>
              <a:tr h="22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ка лежит животом или носиком к верху - к теп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ая примета совп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роны каркают стаей зимой к мор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 -9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                 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ые приметы совп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ьно блестят звёзды зимой к мор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</a:rPr>
                        <a:t>Кошка скребет пол - к ветру и ме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 -8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чер вете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ая примета совп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Picture 198" descr="DSC00192"/>
          <p:cNvPicPr/>
          <p:nvPr/>
        </p:nvPicPr>
        <p:blipFill>
          <a:blip r:embed="rId1"/>
          <a:stretch/>
        </p:blipFill>
        <p:spPr>
          <a:xfrm>
            <a:off x="2606760" y="36828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Line 204"/>
          <p:cNvSpPr/>
          <p:nvPr/>
        </p:nvSpPr>
        <p:spPr>
          <a:xfrm flipV="1">
            <a:off x="6443640" y="26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9"/>
          <p:cNvSpPr/>
          <p:nvPr/>
        </p:nvSpPr>
        <p:spPr>
          <a:xfrm flipV="1">
            <a:off x="7451640" y="436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8" descr=""/>
          <p:cNvPicPr/>
          <p:nvPr/>
        </p:nvPicPr>
        <p:blipFill>
          <a:blip r:embed="rId2"/>
          <a:stretch/>
        </p:blipFill>
        <p:spPr>
          <a:xfrm>
            <a:off x="3214800" y="3384720"/>
            <a:ext cx="2489040" cy="15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3"/>
          <a:stretch/>
        </p:blipFill>
        <p:spPr>
          <a:xfrm>
            <a:off x="2484360" y="2535120"/>
            <a:ext cx="2481480" cy="162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"/>
          <p:cNvPicPr/>
          <p:nvPr/>
        </p:nvPicPr>
        <p:blipFill>
          <a:blip r:embed="rId4"/>
          <a:stretch/>
        </p:blipFill>
        <p:spPr>
          <a:xfrm>
            <a:off x="2649600" y="5157720"/>
            <a:ext cx="2754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ые приметы о погоде: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авда или вымы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661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 себе вопрос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ываются ли приметы?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едя свои наблюдения мы можем с уверенностью сказать, ч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предки были очень прозорливые лю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инство прим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вязанных с солнцем, облаками , ветром, животным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ываются и в наши д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многовековые наблюдения до сих пор помогают нам в определении пог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739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узнать сбываются или нет народные приметы о пог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етить библиоте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знакомиться с необходимой литерату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етить сайты в 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блюдать за погодой и приметами, сравнивать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формить наблюдения в презент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274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АСИБО  ЗА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6" descr="http://static.freepik.com/darmowe-zdjecie/wiosna-lato-jesie%C5%84-pejza%C5%BC-zimowy_411788.jpg"/>
          <p:cNvPicPr/>
          <p:nvPr/>
        </p:nvPicPr>
        <p:blipFill>
          <a:blip r:embed="rId1"/>
          <a:stretch/>
        </p:blipFill>
        <p:spPr>
          <a:xfrm>
            <a:off x="755640" y="4005360"/>
            <a:ext cx="7777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ы хотим рассказать вам о наших наблюдениях за погодой и исполнением примет о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еловек – дитя природы. Издавна человек не только созерцал природу, но и всегда стремился познать 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лагодаря наблюдениям за природой накоплены народные приметы для предсказания пого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и заботливо передавались из поколения в поколение, и сохранились до наших д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infatyt.narod.ru/img/pg/pg3_b.gif"/>
          <p:cNvPicPr/>
          <p:nvPr/>
        </p:nvPicPr>
        <p:blipFill>
          <a:blip r:embed="rId1"/>
          <a:srcRect l="0" t="9657" r="1806" b="2803"/>
          <a:stretch/>
        </p:blipFill>
        <p:spPr>
          <a:xfrm>
            <a:off x="539640" y="4941720"/>
            <a:ext cx="81360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меты в прогнозах по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856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ль примет в прогнозах погоды велика, с их помощью можно дать достаточно точный прогноз погоды на ближайший де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с очень заинтересовала эта тема, так как моя бабушка всегда умела предсказывать погоду, глядя, например, на облака за окном. Это меня так увлекло, что я решила рассказать об этом своей подруге, и мы увлеклись наблюдениями за прим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ы заметили, что наиболее достоверными являются те приметы, которые основаны на местных признаках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Еще необходимо помнить, что использование для прогноза только одной какой-либо приметы является мало надёжным предсказанием.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`00741011"/>
          <p:cNvPicPr/>
          <p:nvPr/>
        </p:nvPicPr>
        <p:blipFill>
          <a:blip r:embed="rId1"/>
          <a:stretch/>
        </p:blipFill>
        <p:spPr>
          <a:xfrm>
            <a:off x="684360" y="5183280"/>
            <a:ext cx="1852560" cy="14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`Clouds26"/>
          <p:cNvPicPr/>
          <p:nvPr/>
        </p:nvPicPr>
        <p:blipFill>
          <a:blip r:embed="rId2"/>
          <a:stretch/>
        </p:blipFill>
        <p:spPr>
          <a:xfrm>
            <a:off x="3708360" y="4930920"/>
            <a:ext cx="185580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`Tutsky"/>
          <p:cNvPicPr/>
          <p:nvPr/>
        </p:nvPicPr>
        <p:blipFill>
          <a:blip r:embed="rId3"/>
          <a:stretch/>
        </p:blipFill>
        <p:spPr>
          <a:xfrm>
            <a:off x="6659640" y="5173560"/>
            <a:ext cx="18730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такое примет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та – это явление, случай, который в народе считается предвестием чего-либо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kochetova.onego.ru/13opt.jpg"/>
          <p:cNvPicPr/>
          <p:nvPr/>
        </p:nvPicPr>
        <p:blipFill>
          <a:blip r:embed="rId1"/>
          <a:stretch/>
        </p:blipFill>
        <p:spPr>
          <a:xfrm>
            <a:off x="2987640" y="3728880"/>
            <a:ext cx="3154320" cy="27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кие бывают приметы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 пог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588760"/>
            <a:ext cx="403236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Долгосроч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то дождливое – зима снеж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ёплая осень – к долгой зи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нежная зима – к затяжной вес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4080" y="2604600"/>
            <a:ext cx="403236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Краткосроч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черняя радуга – к хорошей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тренний туман – к теплой сухой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ренькое утро – красненький денёк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52400" y="1700280"/>
            <a:ext cx="7550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Длительность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G00434_"/>
          <p:cNvPicPr/>
          <p:nvPr/>
        </p:nvPicPr>
        <p:blipFill>
          <a:blip r:embed="rId1"/>
          <a:stretch/>
        </p:blipFill>
        <p:spPr>
          <a:xfrm>
            <a:off x="93600" y="1484280"/>
            <a:ext cx="131760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7740720" y="1233360"/>
            <a:ext cx="1301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32523"/>
                </a:solidFill>
                <a:uFillTx/>
                <a:latin typeface="Calibri"/>
              </a:rPr>
              <a:t>По прогнозным механизмам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Оказывается погоду можно определить еще и с помощью некоторых животных , растений, по облакам или даже по самочувствию челове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419720"/>
            <a:ext cx="4032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Calibri"/>
              </a:rPr>
              <a:t>Местны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Обл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Осад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Л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1640" y="4436640"/>
            <a:ext cx="403236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Calibri"/>
              </a:rPr>
              <a:t>Живые с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2050560" y="3860640"/>
            <a:ext cx="121932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6019920" y="3886200"/>
            <a:ext cx="114300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056"/>
          <p:cNvPicPr/>
          <p:nvPr/>
        </p:nvPicPr>
        <p:blipFill>
          <a:blip r:embed="rId1"/>
          <a:stretch/>
        </p:blipFill>
        <p:spPr>
          <a:xfrm>
            <a:off x="4876920" y="3657600"/>
            <a:ext cx="3778200" cy="2467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обла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37371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Перистые облака предвещают ненастье от двух дней и бо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Если кучевые облака к вечеру исчезают - 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Багровые зори – к дожд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олотая заря –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НЕБО2"/>
          <p:cNvPicPr/>
          <p:nvPr/>
        </p:nvPicPr>
        <p:blipFill>
          <a:blip r:embed="rId2"/>
          <a:stretch/>
        </p:blipFill>
        <p:spPr>
          <a:xfrm>
            <a:off x="762120" y="1371600"/>
            <a:ext cx="349236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imageplanet.ru/images/wallpapers/sky/cumulus_clouds.jpg"/>
          <p:cNvPicPr/>
          <p:nvPr/>
        </p:nvPicPr>
        <p:blipFill>
          <a:blip r:embed="rId1"/>
          <a:stretch/>
        </p:blipFill>
        <p:spPr>
          <a:xfrm>
            <a:off x="1000080" y="1865160"/>
            <a:ext cx="7345440" cy="5303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95720" y="549360"/>
            <a:ext cx="86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гда днём жарко, душно и быстро увеличи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учевые облака, это предвещае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TextBox 6"/>
          <p:cNvGrpSpPr/>
          <p:nvPr/>
        </p:nvGrpSpPr>
        <p:grpSpPr>
          <a:xfrm>
            <a:off x="6553080" y="1292400"/>
            <a:ext cx="1463760" cy="701640"/>
            <a:chOff x="6553080" y="1292400"/>
            <a:chExt cx="1463760" cy="701640"/>
          </a:xfrm>
        </p:grpSpPr>
        <p:pic>
          <p:nvPicPr>
            <p:cNvPr id="75" name="TextBox 6" descr=""/>
            <p:cNvPicPr/>
            <p:nvPr/>
          </p:nvPicPr>
          <p:blipFill>
            <a:blip r:embed="rId2"/>
            <a:stretch/>
          </p:blipFill>
          <p:spPr>
            <a:xfrm>
              <a:off x="6553080" y="1292400"/>
              <a:ext cx="1463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6"/>
            <p:cNvSpPr/>
            <p:nvPr/>
          </p:nvSpPr>
          <p:spPr>
            <a:xfrm>
              <a:off x="6737400" y="138096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гроз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7:08:54Z</dcterms:created>
  <dc:creator>113</dc:creator>
  <dc:description/>
  <dc:language>en-US</dc:language>
  <cp:lastModifiedBy>Ирина</cp:lastModifiedBy>
  <dcterms:modified xsi:type="dcterms:W3CDTF">2013-01-27T08:43:30Z</dcterms:modified>
  <cp:revision>111</cp:revision>
  <dc:subject/>
  <dc:title>Слайд 1</dc:title>
</cp:coreProperties>
</file>