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F85-6279-4C20-B075-720AB337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F64-73B0-4F5E-B16E-3F38DCD8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6CF-3236-411F-B586-00D2833E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432-DCD2-4AAB-9902-25636B32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5A1-6B72-498B-A4DE-AC9E8CB5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B66-E0BB-41BE-AC75-26686353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551-A2F1-4264-AC2D-DABF95A0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802-F5F2-4039-B961-85EB2045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051-1506-4AE0-BCE9-D5CDD74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704-C98E-45A9-A851-68F7B0C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94B-926A-4E36-8388-677FE1B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D3E-B18A-4D09-8AAC-F33B72E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225E-F27D-4074-9609-EA1D022F7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1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60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Georgia"/>
              </a:rPr>
              <a:t>МБОУ «Кингисеппская средняя общеобразовательная школа № 2» г.Кингисеппа Ле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2484360" y="1268280"/>
            <a:ext cx="3382920" cy="2894040"/>
          </a:xfrm>
          <a:prstGeom prst="ellipse">
            <a:avLst/>
          </a:prstGeom>
          <a:solidFill>
            <a:srgbClr val="00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780000" y="6237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Georgia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08000" y="1628640"/>
            <a:ext cx="251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Обуч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т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для 10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к 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33"/>
                </a:solidFill>
                <a:uFillTx/>
                <a:latin typeface="Georgia"/>
              </a:rPr>
              <a:t>по  тем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851280" y="1484280"/>
            <a:ext cx="52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00"/>
                </a:solidFill>
                <a:latin typeface="Georgi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4140360" y="27082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Georgi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2771640" y="5729400"/>
            <a:ext cx="416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Georgia"/>
              </a:rPr>
              <a:t>Учитель : Николаева Т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6012000" y="170028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33"/>
                </a:solidFill>
                <a:uFillTx/>
                <a:latin typeface="Georgia"/>
              </a:rPr>
              <a:t>«Изопроцессы и их  граф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33"/>
                </a:solidFill>
                <a:uFillTx/>
                <a:latin typeface="Georgia"/>
              </a:rPr>
              <a:t>Зако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33"/>
                </a:solidFill>
                <a:uFillTx/>
                <a:latin typeface="Georgia"/>
              </a:rPr>
              <a:t>иде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33"/>
                </a:solidFill>
                <a:uFillTx/>
                <a:latin typeface="Georgia"/>
              </a:rPr>
              <a:t>газов»</a:t>
            </a: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3063960" y="192708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3">
            <a:hlinkClick r:id="" action="ppaction://hlinkshowjump?jump=nextslide"/>
          </p:cNvPr>
          <p:cNvSpPr/>
          <p:nvPr/>
        </p:nvSpPr>
        <p:spPr>
          <a:xfrm>
            <a:off x="8388360" y="609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539640" y="260280"/>
            <a:ext cx="842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 О Л О Д Е Ц !!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AutoShape 5">
            <a:hlinkClick r:id="rId2" action="ppaction://hlinksldjump"/>
          </p:cNvPr>
          <p:cNvSpPr/>
          <p:nvPr/>
        </p:nvSpPr>
        <p:spPr>
          <a:xfrm>
            <a:off x="8244000" y="5589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Рисунок3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6156360" y="1557360"/>
            <a:ext cx="2265480" cy="2247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6588000" y="4005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77080" y="4437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КНОПОЧКУ НАЖМИ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79280" y="185760"/>
            <a:ext cx="579456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IMG_0001"/>
          <p:cNvPicPr/>
          <p:nvPr/>
        </p:nvPicPr>
        <p:blipFill>
          <a:blip r:embed="rId2"/>
          <a:stretch/>
        </p:blipFill>
        <p:spPr>
          <a:xfrm>
            <a:off x="179280" y="981000"/>
            <a:ext cx="5472360" cy="165600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sp>
        <p:nvSpPr>
          <p:cNvPr id="108" name="Text Box 8"/>
          <p:cNvSpPr/>
          <p:nvPr/>
        </p:nvSpPr>
        <p:spPr>
          <a:xfrm>
            <a:off x="46836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50920" y="2781360"/>
            <a:ext cx="4608360" cy="1191240"/>
          </a:xfrm>
          <a:prstGeom prst="rect">
            <a:avLst/>
          </a:prstGeom>
          <a:solidFill>
            <a:srgbClr val="ffffff">
              <a:alpha val="52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Какой из графиков является графиком </a:t>
            </a: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Georgia"/>
              </a:rPr>
              <a:t>изохорного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 процесс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920" y="2852640"/>
            <a:ext cx="417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324000" y="4941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1763640" y="5589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3276720" y="4941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5940360" y="551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7451640" y="40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50021">
              <a:alpha val="78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732720" y="1197000"/>
            <a:ext cx="24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«цветочек»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39640" y="4797360"/>
            <a:ext cx="5050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3" action="ppaction://hlinksldjump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1979640" y="551664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4" action="ppaction://hlinksldjump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3419640" y="4797360"/>
            <a:ext cx="4316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5" action="ppaction://hlinksldjump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>
            <a:hlinkClick r:id="rId6" action="ppaction://hlinksldjump"/>
          </p:cNvPr>
          <p:cNvSpPr/>
          <p:nvPr/>
        </p:nvSpPr>
        <p:spPr>
          <a:xfrm>
            <a:off x="6012000" y="5373720"/>
            <a:ext cx="360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7" action="ppaction://hlinksldjump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7596360" y="393372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8" action="ppaction://hlinksldjump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324000" y="549360"/>
            <a:ext cx="30240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НЕВЕРНО 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900000" y="4941720"/>
            <a:ext cx="80391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Times New Roman"/>
              </a:rPr>
              <a:t>МОЖЕТ, ЗЕЛЬЯ ВОЛШЕБНОГО ??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AutoShape 7">
            <a:hlinkClick r:id="rId2" action="ppaction://hlinksldjump"/>
          </p:cNvPr>
          <p:cNvSpPr/>
          <p:nvPr/>
        </p:nvSpPr>
        <p:spPr>
          <a:xfrm>
            <a:off x="8101080" y="40464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7500"/>
                </a:moveTo>
                <a:lnTo>
                  <a:pt x="7301" y="7500"/>
                </a:lnTo>
                <a:lnTo>
                  <a:pt x="7301" y="12835"/>
                </a:lnTo>
                <a:cubicBezTo>
                  <a:pt x="7301" y="13758"/>
                  <a:pt x="8102" y="14489"/>
                  <a:pt x="9138" y="14489"/>
                </a:cubicBezTo>
                <a:lnTo>
                  <a:pt x="10800" y="14489"/>
                </a:lnTo>
                <a:cubicBezTo>
                  <a:pt x="11836" y="14489"/>
                  <a:pt x="12636" y="13758"/>
                  <a:pt x="12636" y="12835"/>
                </a:cubicBezTo>
                <a:lnTo>
                  <a:pt x="12636" y="7500"/>
                </a:lnTo>
                <a:lnTo>
                  <a:pt x="10800" y="7500"/>
                </a:lnTo>
                <a:lnTo>
                  <a:pt x="14308" y="3992"/>
                </a:lnTo>
                <a:lnTo>
                  <a:pt x="17981" y="7500"/>
                </a:lnTo>
                <a:lnTo>
                  <a:pt x="16144" y="7500"/>
                </a:lnTo>
                <a:lnTo>
                  <a:pt x="16144" y="12835"/>
                </a:lnTo>
                <a:cubicBezTo>
                  <a:pt x="16144" y="15603"/>
                  <a:pt x="13568" y="18162"/>
                  <a:pt x="10800" y="18162"/>
                </a:cubicBezTo>
                <a:lnTo>
                  <a:pt x="9138" y="18162"/>
                </a:lnTo>
                <a:cubicBezTo>
                  <a:pt x="6370" y="18162"/>
                  <a:pt x="3794" y="15603"/>
                  <a:pt x="3794" y="12835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8101080" y="98100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Рисунок8"/>
          <p:cNvPicPr/>
          <p:nvPr/>
        </p:nvPicPr>
        <p:blipFill>
          <a:blip r:embed="rId2"/>
          <a:stretch/>
        </p:blipFill>
        <p:spPr>
          <a:xfrm>
            <a:off x="250920" y="1484280"/>
            <a:ext cx="2200320" cy="2319480"/>
          </a:xfrm>
          <a:prstGeom prst="rect">
            <a:avLst/>
          </a:prstGeom>
          <a:ln w="0">
            <a:noFill/>
          </a:ln>
        </p:spPr>
      </p:pic>
      <p:sp>
        <p:nvSpPr>
          <p:cNvPr id="128" name="WordArt 4"/>
          <p:cNvSpPr txBox="1"/>
          <p:nvPr/>
        </p:nvSpPr>
        <p:spPr>
          <a:xfrm>
            <a:off x="611280" y="189000"/>
            <a:ext cx="532908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ЭТО ДА !!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7020000" y="3141720"/>
            <a:ext cx="15526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ЗГ !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30" name="Picture 10" descr="Рисунок4"/>
          <p:cNvPicPr/>
          <p:nvPr/>
        </p:nvPicPr>
        <p:blipFill>
          <a:blip r:embed="rId3"/>
          <a:stretch/>
        </p:blipFill>
        <p:spPr>
          <a:xfrm>
            <a:off x="6588000" y="476280"/>
            <a:ext cx="2016360" cy="1739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>
            <a:hlinkClick r:id="rId4" action="ppaction://hlinksldjump"/>
          </p:cNvPr>
          <p:cNvSpPr/>
          <p:nvPr/>
        </p:nvSpPr>
        <p:spPr>
          <a:xfrm>
            <a:off x="8244000" y="6021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932360" y="61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А ВОТ И КНОПОЧК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79280" y="190440"/>
            <a:ext cx="576108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IMG_0002"/>
          <p:cNvPicPr/>
          <p:nvPr/>
        </p:nvPicPr>
        <p:blipFill>
          <a:blip r:embed="rId2"/>
          <a:stretch/>
        </p:blipFill>
        <p:spPr>
          <a:xfrm>
            <a:off x="179280" y="907920"/>
            <a:ext cx="5545080" cy="172908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sp>
        <p:nvSpPr>
          <p:cNvPr id="135" name="Text Box 4"/>
          <p:cNvSpPr/>
          <p:nvPr/>
        </p:nvSpPr>
        <p:spPr>
          <a:xfrm>
            <a:off x="179280" y="2924280"/>
            <a:ext cx="4392720" cy="1191240"/>
          </a:xfrm>
          <a:prstGeom prst="rect">
            <a:avLst/>
          </a:prstGeom>
          <a:solidFill>
            <a:srgbClr val="ffffff">
              <a:alpha val="52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Какой из этих графиков является графиком </a:t>
            </a: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Georgia"/>
              </a:rPr>
              <a:t>изобарного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 процесс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24000" y="5589720"/>
            <a:ext cx="831600" cy="831600"/>
          </a:xfrm>
          <a:prstGeom prst="flowChartExtract">
            <a:avLst/>
          </a:prstGeom>
          <a:solidFill>
            <a:srgbClr val="9933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692360" y="4797360"/>
            <a:ext cx="863640" cy="827280"/>
          </a:xfrm>
          <a:prstGeom prst="flowChartExtract">
            <a:avLst/>
          </a:prstGeom>
          <a:solidFill>
            <a:srgbClr val="cc99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2916360" y="5445000"/>
            <a:ext cx="831600" cy="831960"/>
          </a:xfrm>
          <a:prstGeom prst="flowChartExtract">
            <a:avLst/>
          </a:prstGeom>
          <a:solidFill>
            <a:srgbClr val="a50021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227640" y="5877000"/>
            <a:ext cx="831960" cy="831600"/>
          </a:xfrm>
          <a:prstGeom prst="flowChartExtract">
            <a:avLst/>
          </a:prstGeom>
          <a:solidFill>
            <a:srgbClr val="ff99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7667640" y="4724280"/>
            <a:ext cx="831960" cy="831960"/>
          </a:xfrm>
          <a:prstGeom prst="flowChartExtract">
            <a:avLst/>
          </a:prstGeom>
          <a:solidFill>
            <a:srgbClr val="99663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7812000" y="1773360"/>
            <a:ext cx="831960" cy="831600"/>
          </a:xfrm>
          <a:prstGeom prst="flowChartExtract">
            <a:avLst/>
          </a:prstGeom>
          <a:solidFill>
            <a:srgbClr val="ffcc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7236000" y="1052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68360" y="5516640"/>
            <a:ext cx="4316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3" action="ppaction://hlinksldjump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1835280" y="479736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4" action="ppaction://hlinksldjump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3059280" y="537372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5" action="ppaction://hlinksldjump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6300720" y="5734080"/>
            <a:ext cx="504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6" action="ppaction://hlinksldjump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7812000" y="4641840"/>
            <a:ext cx="5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684360" y="5661000"/>
            <a:ext cx="770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ВЕРНО !!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009880" y="765000"/>
            <a:ext cx="5124240" cy="293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ПРОБУЙ ЕЩЁ РАЗ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956720" y="422100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7500"/>
                </a:moveTo>
                <a:lnTo>
                  <a:pt x="7301" y="7500"/>
                </a:lnTo>
                <a:lnTo>
                  <a:pt x="7301" y="12835"/>
                </a:lnTo>
                <a:cubicBezTo>
                  <a:pt x="7301" y="13758"/>
                  <a:pt x="8102" y="14489"/>
                  <a:pt x="9138" y="14489"/>
                </a:cubicBezTo>
                <a:lnTo>
                  <a:pt x="10800" y="14489"/>
                </a:lnTo>
                <a:cubicBezTo>
                  <a:pt x="11836" y="14489"/>
                  <a:pt x="12636" y="13758"/>
                  <a:pt x="12636" y="12835"/>
                </a:cubicBezTo>
                <a:lnTo>
                  <a:pt x="12636" y="7500"/>
                </a:lnTo>
                <a:lnTo>
                  <a:pt x="10800" y="7500"/>
                </a:lnTo>
                <a:lnTo>
                  <a:pt x="14308" y="3992"/>
                </a:lnTo>
                <a:lnTo>
                  <a:pt x="17981" y="7500"/>
                </a:lnTo>
                <a:lnTo>
                  <a:pt x="16144" y="7500"/>
                </a:lnTo>
                <a:lnTo>
                  <a:pt x="16144" y="12835"/>
                </a:lnTo>
                <a:cubicBezTo>
                  <a:pt x="16144" y="15603"/>
                  <a:pt x="13568" y="18162"/>
                  <a:pt x="10800" y="18162"/>
                </a:cubicBezTo>
                <a:lnTo>
                  <a:pt x="9138" y="18162"/>
                </a:lnTo>
                <a:cubicBezTo>
                  <a:pt x="6370" y="18162"/>
                  <a:pt x="3794" y="15603"/>
                  <a:pt x="3794" y="12835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539640" y="551664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ЛАЕШЬ УСПЕХИ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8101080" y="62064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627280" y="3284640"/>
            <a:ext cx="2376360" cy="1657080"/>
          </a:xfrm>
          <a:prstGeom prst="cloudCallout">
            <a:avLst>
              <a:gd name="adj1" fmla="val 69504"/>
              <a:gd name="adj2" fmla="val -65134"/>
            </a:avLst>
          </a:prstGeom>
          <a:solidFill>
            <a:srgbClr val="bbe0e3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16360" y="3500280"/>
            <a:ext cx="172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АЖМИ КНОПКУ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79280" y="190440"/>
            <a:ext cx="576108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IMG_0002"/>
          <p:cNvPicPr/>
          <p:nvPr/>
        </p:nvPicPr>
        <p:blipFill>
          <a:blip r:embed="rId2"/>
          <a:stretch/>
        </p:blipFill>
        <p:spPr>
          <a:xfrm>
            <a:off x="179280" y="907920"/>
            <a:ext cx="5545080" cy="172908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157" name="Picture 4" descr="IMG"/>
          <p:cNvPicPr/>
          <p:nvPr/>
        </p:nvPicPr>
        <p:blipFill>
          <a:blip r:embed="rId3"/>
          <a:stretch/>
        </p:blipFill>
        <p:spPr>
          <a:xfrm>
            <a:off x="250920" y="4076640"/>
            <a:ext cx="1500120" cy="116352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sp>
        <p:nvSpPr>
          <p:cNvPr id="158" name="Text Box 5"/>
          <p:cNvSpPr/>
          <p:nvPr/>
        </p:nvSpPr>
        <p:spPr>
          <a:xfrm>
            <a:off x="179280" y="2997360"/>
            <a:ext cx="4897440" cy="82548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Какой из графиков соответствует данно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468360" y="5445000"/>
            <a:ext cx="914400" cy="800280"/>
          </a:xfrm>
          <a:prstGeom prst="flowChartPunchedTap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95640" y="5445000"/>
            <a:ext cx="914400" cy="800280"/>
          </a:xfrm>
          <a:prstGeom prst="flowChartPunchedTap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4221000"/>
            <a:ext cx="914400" cy="800280"/>
          </a:xfrm>
          <a:prstGeom prst="flowChartPunchedTap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6659640" y="5516640"/>
            <a:ext cx="914400" cy="799920"/>
          </a:xfrm>
          <a:prstGeom prst="flowChartPunchedTap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7380360" y="4149720"/>
            <a:ext cx="914400" cy="800280"/>
          </a:xfrm>
          <a:prstGeom prst="flowChartPunchedTap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020000" y="126828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«флаж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3"/>
          <p:cNvSpPr/>
          <p:nvPr/>
        </p:nvSpPr>
        <p:spPr>
          <a:xfrm>
            <a:off x="8101080" y="5589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6084720" y="3429000"/>
            <a:ext cx="2232360" cy="1978200"/>
          </a:xfrm>
          <a:prstGeom prst="wedgeRoundRectCallout">
            <a:avLst>
              <a:gd name="adj1" fmla="val -108106"/>
              <a:gd name="adj2" fmla="val 67495"/>
              <a:gd name="adj3" fmla="val 16667"/>
            </a:avLst>
          </a:prstGeom>
          <a:solidFill>
            <a:srgbClr val="80808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084720" y="3808440"/>
            <a:ext cx="21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СКОР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НАЖИМАЙ 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НА КНОПКУ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0" y="981000"/>
            <a:ext cx="8748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ПОЗДРАВЛЯЮ С ПОБЕДОЙ !!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179280" y="190440"/>
            <a:ext cx="579456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79280" y="83664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Как изменится д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идеального газа при увелич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его объёма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и уменьшении абсолю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температуры в 2 раз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>
            <a:hlinkClick r:id="rId2" action="ppaction://hlinksldjump"/>
          </p:cNvPr>
          <p:cNvSpPr/>
          <p:nvPr/>
        </p:nvSpPr>
        <p:spPr>
          <a:xfrm>
            <a:off x="250920" y="2852640"/>
            <a:ext cx="650880" cy="66204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2040"/>
              <a:gd name="textAreaBottom" fmla="*/ 419400 h 662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>
            <a:hlinkClick r:id="rId3" action="ppaction://hlinksldjump"/>
          </p:cNvPr>
          <p:cNvSpPr/>
          <p:nvPr/>
        </p:nvSpPr>
        <p:spPr>
          <a:xfrm>
            <a:off x="250920" y="3645000"/>
            <a:ext cx="650880" cy="66204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2040"/>
              <a:gd name="textAreaBottom" fmla="*/ 419400 h 662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99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>
            <a:hlinkClick r:id="rId4" action="ppaction://hlinksldjump"/>
          </p:cNvPr>
          <p:cNvSpPr/>
          <p:nvPr/>
        </p:nvSpPr>
        <p:spPr>
          <a:xfrm>
            <a:off x="250920" y="6021360"/>
            <a:ext cx="650880" cy="66204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2040"/>
              <a:gd name="textAreaBottom" fmla="*/ 419400 h 662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250920" y="4437000"/>
            <a:ext cx="650880" cy="66204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2040"/>
              <a:gd name="textAreaBottom" fmla="*/ 419400 h 662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66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250920" y="5229360"/>
            <a:ext cx="650880" cy="661680"/>
          </a:xfrm>
          <a:custGeom>
            <a:avLst/>
            <a:gdLst>
              <a:gd name="textAreaLeft" fmla="*/ 151560 w 650880"/>
              <a:gd name="textAreaRight" fmla="*/ 498960 w 650880"/>
              <a:gd name="textAreaTop" fmla="*/ 69480 h 661680"/>
              <a:gd name="textAreaBottom" fmla="*/ 419040 h 661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6633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6877080" y="119700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«сердечко»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971640" y="2924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меньшится в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1187280" y="3851280"/>
            <a:ext cx="29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971640" y="378936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меньшится в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971640" y="4581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танется неизм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971640" y="530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величится в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971640" y="602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величится в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 rot="5400000">
            <a:off x="-2160360" y="274464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ДУМАЙ ЕЩЁ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AutoShape 7">
            <a:hlinkClick r:id="rId2" action="ppaction://hlinksldjump"/>
          </p:cNvPr>
          <p:cNvSpPr/>
          <p:nvPr/>
        </p:nvSpPr>
        <p:spPr>
          <a:xfrm>
            <a:off x="7885080" y="141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877080" y="33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НАЖМИ 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КНОПКУ 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258920" y="3068640"/>
            <a:ext cx="66261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507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Times New Roman"/>
              </a:rPr>
              <a:t>У Р А !!!</a:t>
            </a:r>
            <a:endParaRPr b="0" lang="en-US" sz="4400" spc="1" strike="noStrike">
              <a:ln w="507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AutoShape 5">
            <a:hlinkClick r:id="rId2" action="ppaction://hlinksldjump"/>
          </p:cNvPr>
          <p:cNvSpPr/>
          <p:nvPr/>
        </p:nvSpPr>
        <p:spPr>
          <a:xfrm>
            <a:off x="8172360" y="595008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185760"/>
            <a:ext cx="5761080" cy="539640"/>
          </a:xfrm>
          <a:prstGeom prst="rect">
            <a:avLst/>
          </a:prstGeom>
          <a:solidFill>
            <a:srgbClr val="ff9900">
              <a:alpha val="35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68360" y="1268280"/>
            <a:ext cx="57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то установил зако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Georgia"/>
              </a:rPr>
              <a:t>PV = const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 при </a:t>
            </a:r>
            <a:r>
              <a:rPr b="1" i="1" lang="ru-RU" sz="3600" spc="-1" strike="noStrike" u="sng">
                <a:solidFill>
                  <a:srgbClr val="a50021"/>
                </a:solidFill>
                <a:uFillTx/>
                <a:latin typeface="Georgia"/>
              </a:rPr>
              <a:t>Т = </a:t>
            </a:r>
            <a:r>
              <a:rPr b="1" i="1" lang="en-US" sz="3600" spc="-1" strike="noStrike" u="sng">
                <a:solidFill>
                  <a:srgbClr val="a50021"/>
                </a:solidFill>
                <a:uFillTx/>
                <a:latin typeface="Georgia"/>
              </a:rPr>
              <a:t>const</a:t>
            </a:r>
            <a:r>
              <a:rPr b="1" i="1" lang="en-US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421000"/>
            <a:ext cx="2894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Гей - Люс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68360" y="3860640"/>
            <a:ext cx="2894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Менделе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и Клапей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68360" y="2997360"/>
            <a:ext cx="2894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68360" y="4797360"/>
            <a:ext cx="2894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>
            <a:hlinkClick r:id="rId2" action="ppaction://hlinksldjump"/>
          </p:cNvPr>
          <p:cNvSpPr/>
          <p:nvPr/>
        </p:nvSpPr>
        <p:spPr>
          <a:xfrm>
            <a:off x="3276720" y="2349360"/>
            <a:ext cx="914400" cy="914400"/>
          </a:xfrm>
          <a:prstGeom prst="irregularSeal1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>
            <a:hlinkClick r:id="rId3" action="ppaction://hlinksldjump"/>
          </p:cNvPr>
          <p:cNvSpPr/>
          <p:nvPr/>
        </p:nvSpPr>
        <p:spPr>
          <a:xfrm>
            <a:off x="7308720" y="5661000"/>
            <a:ext cx="914400" cy="91440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>
            <a:hlinkClick r:id="rId4" action="ppaction://hlinksldjump"/>
          </p:cNvPr>
          <p:cNvSpPr/>
          <p:nvPr/>
        </p:nvSpPr>
        <p:spPr>
          <a:xfrm>
            <a:off x="3348000" y="3716280"/>
            <a:ext cx="914400" cy="914400"/>
          </a:xfrm>
          <a:prstGeom prst="irregularSeal1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>
            <a:hlinkClick r:id="rId5" action="ppaction://hlinksldjump"/>
          </p:cNvPr>
          <p:cNvSpPr/>
          <p:nvPr/>
        </p:nvSpPr>
        <p:spPr>
          <a:xfrm>
            <a:off x="2916360" y="5300640"/>
            <a:ext cx="914400" cy="914400"/>
          </a:xfrm>
          <a:prstGeom prst="irregularSeal1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971640" y="508464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Бой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и Марио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6994800" y="514044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Georgia"/>
              </a:rPr>
              <a:t>Шар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6948360" y="1197000"/>
            <a:ext cx="18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 «кляксу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0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4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58920" y="4869000"/>
            <a:ext cx="74930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ЩЁ РАЗОК !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020000" y="40464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НАЖМИ 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КНОПКУ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>
            <a:hlinkClick r:id="rId2" action="ppaction://hlinksldjump"/>
          </p:cNvPr>
          <p:cNvSpPr/>
          <p:nvPr/>
        </p:nvSpPr>
        <p:spPr>
          <a:xfrm>
            <a:off x="7956720" y="141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2" action="ppaction://hlinksldjump"/>
          </p:cNvPr>
          <p:cNvSpPr/>
          <p:nvPr/>
        </p:nvSpPr>
        <p:spPr>
          <a:xfrm>
            <a:off x="8244000" y="5877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24000" y="2708280"/>
            <a:ext cx="3058920" cy="1657440"/>
          </a:xfrm>
          <a:prstGeom prst="wedgeRoundRectCallout">
            <a:avLst>
              <a:gd name="adj1" fmla="val 99143"/>
              <a:gd name="adj2" fmla="val -45402"/>
              <a:gd name="adj3" fmla="val 16667"/>
            </a:avLst>
          </a:pr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95280" y="272736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ОЛОДЕЦ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АВИЛЬН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79280" y="190440"/>
            <a:ext cx="5761080" cy="539640"/>
          </a:xfrm>
          <a:prstGeom prst="rect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MG"/>
          <p:cNvPicPr/>
          <p:nvPr/>
        </p:nvPicPr>
        <p:blipFill>
          <a:blip r:embed="rId2"/>
          <a:stretch/>
        </p:blipFill>
        <p:spPr>
          <a:xfrm>
            <a:off x="179280" y="907920"/>
            <a:ext cx="5905440" cy="1800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91" name="Rectangle 9"/>
          <p:cNvSpPr/>
          <p:nvPr/>
        </p:nvSpPr>
        <p:spPr>
          <a:xfrm>
            <a:off x="250920" y="2924280"/>
            <a:ext cx="4249800" cy="1922760"/>
          </a:xfrm>
          <a:prstGeom prst="rect">
            <a:avLst/>
          </a:prstGeom>
          <a:solidFill>
            <a:srgbClr val="ffffff">
              <a:alpha val="52000"/>
            </a:srgbClr>
          </a:solidFill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Какой из графиков является графиком </a:t>
            </a: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Georgia"/>
              </a:rPr>
              <a:t>изотермического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процесса в идеальном газ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7524720" y="4076640"/>
            <a:ext cx="1214640" cy="75240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752400"/>
              <a:gd name="textAreaBottom" fmla="*/ 658440 h 752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eorgia"/>
                <a:hlinkClick r:id="rId3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093080" y="5229360"/>
            <a:ext cx="1214280" cy="75240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752400"/>
              <a:gd name="textAreaBottom" fmla="*/ 658440 h 752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eorgia"/>
                <a:hlinkClick r:id="rId4" action="ppaction://hlinksldjump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5508720" y="5805360"/>
            <a:ext cx="1214280" cy="752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752760"/>
              <a:gd name="textAreaBottom" fmla="*/ 658800 h 7527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eorgia"/>
                <a:hlinkClick r:id="rId5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826920" y="5157720"/>
            <a:ext cx="1214640" cy="75240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752400"/>
              <a:gd name="textAreaBottom" fmla="*/ 658440 h 752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Georgia"/>
                <a:hlinkClick r:id="rId6" action="ppaction://hlinksldjump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2556000" y="5661000"/>
            <a:ext cx="1214280" cy="75240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752400"/>
              <a:gd name="textAreaBottom" fmla="*/ 658440 h 752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Georgia"/>
                <a:hlinkClick r:id="rId7" action="ppaction://hlinksldjump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7093080" y="1413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Нажми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Georgia"/>
              </a:rPr>
              <a:t>«ленту»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84360" y="4869000"/>
            <a:ext cx="712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 ПОДУМАТЬ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2" action="ppaction://hlinksldjump"/>
          </p:cNvPr>
          <p:cNvSpPr/>
          <p:nvPr/>
        </p:nvSpPr>
        <p:spPr>
          <a:xfrm>
            <a:off x="8388360" y="3333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7020000" y="1341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НАЖМИ НА КНОПКУ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11:47Z</dcterms:created>
  <dc:creator>user</dc:creator>
  <dc:description/>
  <dc:language>en-US</dc:language>
  <cp:lastModifiedBy>Admin</cp:lastModifiedBy>
  <dcterms:modified xsi:type="dcterms:W3CDTF">2013-01-27T15:22:04Z</dcterms:modified>
  <cp:revision>55</cp:revision>
  <dc:subject/>
  <dc:title>Слайд 1</dc:title>
</cp:coreProperties>
</file>