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68C-9DF8-43F7-A9CB-171740A3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147-D7B0-4FE5-B75F-F3BD13CE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6E3-1B74-4936-921A-D7F5334B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163-8060-4C70-AFDB-36F8B081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3B5-5DFB-4B16-ABD6-172DEB7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F05-4D37-4C4B-A080-E9520640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44A-AC83-4943-BF5A-2C207511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5FB-DA1C-455E-8B62-7761CF1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AF8-4F3C-44F7-8A83-44D72FF5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499-5C51-4140-BBA8-4FE3EF32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35E-8B13-46B0-A963-4452E568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A52-5211-417B-BAAF-545CD48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6A67-C35F-466A-84E7-4234F80BE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07552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втор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ызова Ольга Николаевна (учитель английского языка МБОУ СОШ №41 и учащиеся 4 «а» класса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зентация к проектной работе «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ts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j0216724"/>
          <p:cNvPicPr/>
          <p:nvPr/>
        </p:nvPicPr>
        <p:blipFill>
          <a:blip r:embed="rId1"/>
          <a:stretch/>
        </p:blipFill>
        <p:spPr>
          <a:xfrm>
            <a:off x="3357720" y="2857680"/>
            <a:ext cx="1717560" cy="1871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403280" y="476280"/>
            <a:ext cx="6383520" cy="22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 LIKE PE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6"/>
          <p:cNvSpPr txBox="1"/>
          <p:nvPr/>
        </p:nvSpPr>
        <p:spPr>
          <a:xfrm>
            <a:off x="971640" y="333360"/>
            <a:ext cx="583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ополагающий вопрос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11"/>
          <p:cNvSpPr txBox="1"/>
          <p:nvPr/>
        </p:nvSpPr>
        <p:spPr>
          <a:xfrm>
            <a:off x="611280" y="2492280"/>
            <a:ext cx="504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ные ответы детей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12"/>
          <p:cNvSpPr txBox="1"/>
          <p:nvPr/>
        </p:nvSpPr>
        <p:spPr>
          <a:xfrm>
            <a:off x="281160" y="3141720"/>
            <a:ext cx="53704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Они добрые, милые, забавные и смешны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С ними можно гулять и играть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О них можно заботить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Они помогают нам стать добре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WordArt 13"/>
          <p:cNvSpPr txBox="1"/>
          <p:nvPr/>
        </p:nvSpPr>
        <p:spPr>
          <a:xfrm>
            <a:off x="539640" y="83664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чему мы заводим домашних животных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24" descr="MCj04345810000[1]"/>
          <p:cNvPicPr/>
          <p:nvPr/>
        </p:nvPicPr>
        <p:blipFill>
          <a:blip r:embed="rId1"/>
          <a:stretch/>
        </p:blipFill>
        <p:spPr>
          <a:xfrm>
            <a:off x="5975280" y="3500280"/>
            <a:ext cx="30304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971640" y="1341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( РАССУЖДАЕМ ВМЕСТЕ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9640" y="1700280"/>
            <a:ext cx="6696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1.Какие животные могут жить вместе с челове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2.Чем питаются наши домашние любим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3.Как ухаживать за домашним питомц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4. Как правильно обращаться с домашним живот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5.Как не нанести вред «маленькому другу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324000" y="404640"/>
            <a:ext cx="856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нам интересно узнать о домашних животных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15" descr="MCj03981450000[1]"/>
          <p:cNvPicPr/>
          <p:nvPr/>
        </p:nvPicPr>
        <p:blipFill>
          <a:blip r:embed="rId1"/>
          <a:stretch/>
        </p:blipFill>
        <p:spPr>
          <a:xfrm>
            <a:off x="6732720" y="3860640"/>
            <a:ext cx="2411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4000" y="1268280"/>
          <a:ext cx="8280360" cy="3970440"/>
        </p:xfrm>
        <a:graphic>
          <a:graphicData uri="http://schemas.openxmlformats.org/drawingml/2006/table">
            <a:tbl>
              <a:tblPr/>
              <a:tblGrid>
                <a:gridCol w="2112840"/>
                <a:gridCol w="3174840"/>
                <a:gridCol w="299268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 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н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редстоит у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Что едят домашние животны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Чем можно кормить домашних животных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Как и когда нужно кормит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Где берут кор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are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.Как ухаживать за домашним питомцем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Как можно играть с домашним питомце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к ухаживать за ни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Как можно навредить питомцу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. Что и как делать, если ваш питомец заболе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ожет заболеть у домашних питомце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Как ему помоч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Кто и как лечит животных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54"/>
          <p:cNvSpPr/>
          <p:nvPr/>
        </p:nvSpPr>
        <p:spPr>
          <a:xfrm>
            <a:off x="241200" y="5445000"/>
            <a:ext cx="890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ам интересно ответить на первые три вопроса, то вам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руппу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ам интересно ответить на вторые три вопроса, то вам в </a:t>
            </a: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группу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ам интересно ответить на третьи три вопроса, то вам в 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группу №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8"/>
          <p:cNvSpPr txBox="1"/>
          <p:nvPr/>
        </p:nvSpPr>
        <p:spPr>
          <a:xfrm>
            <a:off x="2333520" y="189000"/>
            <a:ext cx="4476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ы по группам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69" descr="MCj04345950000[1]"/>
          <p:cNvPicPr/>
          <p:nvPr/>
        </p:nvPicPr>
        <p:blipFill>
          <a:blip r:embed="rId1"/>
          <a:stretch/>
        </p:blipFill>
        <p:spPr>
          <a:xfrm>
            <a:off x="395280" y="18900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0" descr="MCj04300890000[1]"/>
          <p:cNvPicPr/>
          <p:nvPr/>
        </p:nvPicPr>
        <p:blipFill>
          <a:blip r:embed="rId2"/>
          <a:stretch/>
        </p:blipFill>
        <p:spPr>
          <a:xfrm>
            <a:off x="7346880" y="5013360"/>
            <a:ext cx="1797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900000" y="1557360"/>
            <a:ext cx="590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неделя (1урок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чаем на вопрос: «Почему мы заводим домашних питомцев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лимся на группы по интересам, составляем план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уждаем, где взять интересную информацию и как с ней работ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-2 неделя (3 урок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спределяем между собой задания, которое каждый из них будет    выполнять в группе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яем  задания своей группы совмест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Выбираем животных, которых интерес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блюдаем за поведением домашних живот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бираем английские слова, описывающие повадки и характерные особенности живот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 неделя (2 урок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ридумываем название своей работы (на английском язык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формляем результат своей работы в виде докладов, рисунков и букл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Защищаем свой проект: читаем доклады,  организуем выставку рисунков, разыгрываем сценки 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 to v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Награждаем всех участников проек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4c2"/>
          <p:cNvPicPr/>
          <p:nvPr/>
        </p:nvPicPr>
        <p:blipFill>
          <a:blip r:embed="rId1"/>
          <a:stretch/>
        </p:blipFill>
        <p:spPr>
          <a:xfrm>
            <a:off x="6012000" y="4005360"/>
            <a:ext cx="288108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WordArt 8"/>
          <p:cNvSpPr txBox="1"/>
          <p:nvPr/>
        </p:nvSpPr>
        <p:spPr>
          <a:xfrm>
            <a:off x="723960" y="260280"/>
            <a:ext cx="7696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апы и сроки проведения проекта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87280" y="1052640"/>
          <a:ext cx="6840720" cy="4759200"/>
        </p:xfrm>
        <a:graphic>
          <a:graphicData uri="http://schemas.openxmlformats.org/drawingml/2006/table">
            <a:tbl>
              <a:tblPr/>
              <a:tblGrid>
                <a:gridCol w="1818000"/>
                <a:gridCol w="2363760"/>
                <a:gridCol w="265896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представленных результатов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for pets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aref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n take care of my pet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to vet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ценка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to vet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45" descr="AN02724_"/>
          <p:cNvPicPr/>
          <p:nvPr/>
        </p:nvPicPr>
        <p:blipFill>
          <a:blip r:embed="rId1"/>
          <a:stretch/>
        </p:blipFill>
        <p:spPr>
          <a:xfrm>
            <a:off x="250920" y="4076640"/>
            <a:ext cx="1455480" cy="2519280"/>
          </a:xfrm>
          <a:prstGeom prst="rect">
            <a:avLst/>
          </a:prstGeom>
          <a:ln w="0">
            <a:noFill/>
          </a:ln>
        </p:spPr>
      </p:pic>
      <p:sp>
        <p:nvSpPr>
          <p:cNvPr id="63" name="WordArt 49"/>
          <p:cNvSpPr txBox="1"/>
          <p:nvPr/>
        </p:nvSpPr>
        <p:spPr>
          <a:xfrm>
            <a:off x="395280" y="189000"/>
            <a:ext cx="8424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зультаты исследования будут представлен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Picture 55" descr="MCj04346050000[1]"/>
          <p:cNvPicPr/>
          <p:nvPr/>
        </p:nvPicPr>
        <p:blipFill>
          <a:blip r:embed="rId2"/>
          <a:stretch/>
        </p:blipFill>
        <p:spPr>
          <a:xfrm>
            <a:off x="7812000" y="907920"/>
            <a:ext cx="115272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468360" y="549360"/>
            <a:ext cx="835344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аем успехов юным исследователям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28" descr="MCj04300650000[1]"/>
          <p:cNvPicPr/>
          <p:nvPr/>
        </p:nvPicPr>
        <p:blipFill>
          <a:blip r:embed="rId1"/>
          <a:stretch/>
        </p:blipFill>
        <p:spPr>
          <a:xfrm>
            <a:off x="3276720" y="3573360"/>
            <a:ext cx="2808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4:20:27Z</dcterms:created>
  <dc:creator>Глызов</dc:creator>
  <dc:description/>
  <dc:language>en-US</dc:language>
  <cp:lastModifiedBy>Глызовы </cp:lastModifiedBy>
  <dcterms:modified xsi:type="dcterms:W3CDTF">2013-01-28T16:54:31Z</dcterms:modified>
  <cp:revision>16</cp:revision>
  <dc:subject/>
  <dc:title>   Автор: Глызова Ольга Николаевна Участники: ученики 3 «А» класса</dc:title>
</cp:coreProperties>
</file>