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FFE0-E00B-4A27-964A-FEEAB1932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BFF9-F2E9-41ED-96A9-0C5355BE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3D89-442D-48A8-AEDF-CDC25BA58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5598-C18A-478C-91C4-9E4A11065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ECB2-4F1D-49DD-87AE-119523EC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70E1-ACEB-4CF2-A2B1-56EE3CB6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A33F-E27E-4EA9-BD9E-8AB87150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3E5A-1878-4447-8610-8E66786D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A59F-A598-41E4-9473-05DD27E5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960A-80D9-4A6D-9AC4-71912D8D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6FBC-66B2-4E26-9C75-4D82AAE8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CD1E-FB53-4969-8B84-8D871B9F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3C43-4A15-41EB-A401-35592113B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image" Target="../media/image7.jpeg"/><Relationship Id="rId4" Type="http://schemas.openxmlformats.org/officeDocument/2006/relationships/image" Target="../media/image5.jpeg"/><Relationship Id="rId5" Type="http://schemas.openxmlformats.org/officeDocument/2006/relationships/image" Target="../media/image10.jpeg"/><Relationship Id="rId6" Type="http://schemas.openxmlformats.org/officeDocument/2006/relationships/image" Target="../media/image13.jpeg"/><Relationship Id="rId7" Type="http://schemas.openxmlformats.org/officeDocument/2006/relationships/image" Target="../media/image16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5.xml"/><Relationship Id="rId5" Type="http://schemas.openxmlformats.org/officeDocument/2006/relationships/slide" Target="slide10.xml"/><Relationship Id="rId6" Type="http://schemas.openxmlformats.org/officeDocument/2006/relationships/slide" Target="slide12.xml"/><Relationship Id="rId7" Type="http://schemas.openxmlformats.org/officeDocument/2006/relationships/slide" Target="slide11.xml"/><Relationship Id="rId8" Type="http://schemas.openxmlformats.org/officeDocument/2006/relationships/slide" Target="slide13.xml"/><Relationship Id="rId9" Type="http://schemas.openxmlformats.org/officeDocument/2006/relationships/slide" Target="slide5.xml"/><Relationship Id="rId10" Type="http://schemas.openxmlformats.org/officeDocument/2006/relationships/slide" Target="slide7.xml"/><Relationship Id="rId11" Type="http://schemas.openxmlformats.org/officeDocument/2006/relationships/slide" Target="slide9.xml"/><Relationship Id="rId12" Type="http://schemas.openxmlformats.org/officeDocument/2006/relationships/slide" Target="slide8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амый лучший гор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ворческий про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автор: Хаустова Валент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07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ОРИСОГЛЕБСКИЙ КРАЕВЕДЧЕСКИЙ МУЗ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музей"/>
          <p:cNvPicPr/>
          <p:nvPr/>
        </p:nvPicPr>
        <p:blipFill>
          <a:blip r:embed="rId2"/>
          <a:stretch/>
        </p:blipFill>
        <p:spPr>
          <a:xfrm>
            <a:off x="1332000" y="1557360"/>
            <a:ext cx="6337080" cy="475776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5"/>
          <p:cNvSpPr/>
          <p:nvPr/>
        </p:nvSpPr>
        <p:spPr>
          <a:xfrm>
            <a:off x="8604360" y="260280"/>
            <a:ext cx="322200" cy="324000"/>
          </a:xfrm>
          <a:custGeom>
            <a:avLst/>
            <a:gdLst>
              <a:gd name="textAreaLeft" fmla="*/ 20880 w 322200"/>
              <a:gd name="textAreaRight" fmla="*/ 301320 w 32220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721">
                <a:moveTo>
                  <a:pt x="0" y="0"/>
                </a:moveTo>
                <a:lnTo>
                  <a:pt x="21600" y="0"/>
                </a:lnTo>
                <a:lnTo>
                  <a:pt x="21600" y="21721"/>
                </a:lnTo>
                <a:lnTo>
                  <a:pt x="0" y="21721"/>
                </a:lnTo>
                <a:close/>
              </a:path>
              <a:path fill="lightenLess" w="21600" h="217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21">
                <a:moveTo>
                  <a:pt x="21600" y="0"/>
                </a:moveTo>
                <a:lnTo>
                  <a:pt x="21600" y="21721"/>
                </a:lnTo>
                <a:lnTo>
                  <a:pt x="20200" y="20321"/>
                </a:lnTo>
                <a:lnTo>
                  <a:pt x="20200" y="1400"/>
                </a:lnTo>
                <a:close/>
              </a:path>
              <a:path fill="darkenLess" w="21600" h="21721">
                <a:moveTo>
                  <a:pt x="21600" y="21721"/>
                </a:moveTo>
                <a:lnTo>
                  <a:pt x="0" y="21721"/>
                </a:lnTo>
                <a:lnTo>
                  <a:pt x="1400" y="20321"/>
                </a:lnTo>
                <a:lnTo>
                  <a:pt x="20200" y="20321"/>
                </a:lnTo>
                <a:close/>
              </a:path>
              <a:path fill="lighten" w="21600" h="21721">
                <a:moveTo>
                  <a:pt x="0" y="2172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21"/>
                </a:lnTo>
                <a:close/>
              </a:path>
              <a:path fill="darken" w="21600" h="21721">
                <a:moveTo>
                  <a:pt x="3794" y="7553"/>
                </a:moveTo>
                <a:lnTo>
                  <a:pt x="7301" y="7553"/>
                </a:lnTo>
                <a:lnTo>
                  <a:pt x="7301" y="12888"/>
                </a:lnTo>
                <a:cubicBezTo>
                  <a:pt x="7301" y="13811"/>
                  <a:pt x="8102" y="14542"/>
                  <a:pt x="9138" y="14542"/>
                </a:cubicBezTo>
                <a:lnTo>
                  <a:pt x="10800" y="14542"/>
                </a:lnTo>
                <a:cubicBezTo>
                  <a:pt x="11836" y="14542"/>
                  <a:pt x="12636" y="13811"/>
                  <a:pt x="12636" y="12888"/>
                </a:cubicBezTo>
                <a:lnTo>
                  <a:pt x="12636" y="7553"/>
                </a:lnTo>
                <a:lnTo>
                  <a:pt x="10800" y="7553"/>
                </a:lnTo>
                <a:lnTo>
                  <a:pt x="14308" y="4045"/>
                </a:lnTo>
                <a:lnTo>
                  <a:pt x="17981" y="7553"/>
                </a:lnTo>
                <a:lnTo>
                  <a:pt x="16144" y="7553"/>
                </a:lnTo>
                <a:lnTo>
                  <a:pt x="16144" y="12888"/>
                </a:lnTo>
                <a:cubicBezTo>
                  <a:pt x="16144" y="15656"/>
                  <a:pt x="13568" y="18215"/>
                  <a:pt x="10800" y="18215"/>
                </a:cubicBezTo>
                <a:lnTo>
                  <a:pt x="9138" y="18215"/>
                </a:lnTo>
                <a:cubicBezTo>
                  <a:pt x="6370" y="18215"/>
                  <a:pt x="3794" y="15656"/>
                  <a:pt x="3794" y="1288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07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УЗЕЙ ЛЕТНОГО УЧИЛИЩА ИМЕНИ В. П. ЧКА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"/>
          <p:cNvSpPr/>
          <p:nvPr/>
        </p:nvSpPr>
        <p:spPr>
          <a:xfrm>
            <a:off x="8604360" y="260280"/>
            <a:ext cx="322200" cy="324000"/>
          </a:xfrm>
          <a:custGeom>
            <a:avLst/>
            <a:gdLst>
              <a:gd name="textAreaLeft" fmla="*/ 20880 w 322200"/>
              <a:gd name="textAreaRight" fmla="*/ 301320 w 32220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721">
                <a:moveTo>
                  <a:pt x="0" y="0"/>
                </a:moveTo>
                <a:lnTo>
                  <a:pt x="21600" y="0"/>
                </a:lnTo>
                <a:lnTo>
                  <a:pt x="21600" y="21721"/>
                </a:lnTo>
                <a:lnTo>
                  <a:pt x="0" y="21721"/>
                </a:lnTo>
                <a:close/>
              </a:path>
              <a:path fill="lightenLess" w="21600" h="217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21">
                <a:moveTo>
                  <a:pt x="21600" y="0"/>
                </a:moveTo>
                <a:lnTo>
                  <a:pt x="21600" y="21721"/>
                </a:lnTo>
                <a:lnTo>
                  <a:pt x="20200" y="20321"/>
                </a:lnTo>
                <a:lnTo>
                  <a:pt x="20200" y="1400"/>
                </a:lnTo>
                <a:close/>
              </a:path>
              <a:path fill="darkenLess" w="21600" h="21721">
                <a:moveTo>
                  <a:pt x="21600" y="21721"/>
                </a:moveTo>
                <a:lnTo>
                  <a:pt x="0" y="21721"/>
                </a:lnTo>
                <a:lnTo>
                  <a:pt x="1400" y="20321"/>
                </a:lnTo>
                <a:lnTo>
                  <a:pt x="20200" y="20321"/>
                </a:lnTo>
                <a:close/>
              </a:path>
              <a:path fill="lighten" w="21600" h="21721">
                <a:moveTo>
                  <a:pt x="0" y="2172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21"/>
                </a:lnTo>
                <a:close/>
              </a:path>
              <a:path fill="darken" w="21600" h="21721">
                <a:moveTo>
                  <a:pt x="3794" y="7553"/>
                </a:moveTo>
                <a:lnTo>
                  <a:pt x="7301" y="7553"/>
                </a:lnTo>
                <a:lnTo>
                  <a:pt x="7301" y="12888"/>
                </a:lnTo>
                <a:cubicBezTo>
                  <a:pt x="7301" y="13811"/>
                  <a:pt x="8102" y="14542"/>
                  <a:pt x="9138" y="14542"/>
                </a:cubicBezTo>
                <a:lnTo>
                  <a:pt x="10800" y="14542"/>
                </a:lnTo>
                <a:cubicBezTo>
                  <a:pt x="11836" y="14542"/>
                  <a:pt x="12636" y="13811"/>
                  <a:pt x="12636" y="12888"/>
                </a:cubicBezTo>
                <a:lnTo>
                  <a:pt x="12636" y="7553"/>
                </a:lnTo>
                <a:lnTo>
                  <a:pt x="10800" y="7553"/>
                </a:lnTo>
                <a:lnTo>
                  <a:pt x="14308" y="4045"/>
                </a:lnTo>
                <a:lnTo>
                  <a:pt x="17981" y="7553"/>
                </a:lnTo>
                <a:lnTo>
                  <a:pt x="16144" y="7553"/>
                </a:lnTo>
                <a:lnTo>
                  <a:pt x="16144" y="12888"/>
                </a:lnTo>
                <a:cubicBezTo>
                  <a:pt x="16144" y="15656"/>
                  <a:pt x="13568" y="18215"/>
                  <a:pt x="10800" y="18215"/>
                </a:cubicBezTo>
                <a:lnTo>
                  <a:pt x="9138" y="18215"/>
                </a:lnTo>
                <a:cubicBezTo>
                  <a:pt x="6370" y="18215"/>
                  <a:pt x="3794" y="15656"/>
                  <a:pt x="3794" y="1288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самолет 2"/>
          <p:cNvPicPr/>
          <p:nvPr/>
        </p:nvPicPr>
        <p:blipFill>
          <a:blip r:embed="rId2"/>
          <a:srcRect l="0" t="0" r="0" b="4405"/>
          <a:stretch/>
        </p:blipFill>
        <p:spPr>
          <a:xfrm>
            <a:off x="826920" y="1628640"/>
            <a:ext cx="7488360" cy="47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5071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АРТИННАЯ ГАЛЕРЕ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8604360" y="260280"/>
            <a:ext cx="322200" cy="324000"/>
          </a:xfrm>
          <a:custGeom>
            <a:avLst/>
            <a:gdLst>
              <a:gd name="textAreaLeft" fmla="*/ 20880 w 322200"/>
              <a:gd name="textAreaRight" fmla="*/ 301320 w 32220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721">
                <a:moveTo>
                  <a:pt x="0" y="0"/>
                </a:moveTo>
                <a:lnTo>
                  <a:pt x="21600" y="0"/>
                </a:lnTo>
                <a:lnTo>
                  <a:pt x="21600" y="21721"/>
                </a:lnTo>
                <a:lnTo>
                  <a:pt x="0" y="21721"/>
                </a:lnTo>
                <a:close/>
              </a:path>
              <a:path fill="lightenLess" w="21600" h="217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21">
                <a:moveTo>
                  <a:pt x="21600" y="0"/>
                </a:moveTo>
                <a:lnTo>
                  <a:pt x="21600" y="21721"/>
                </a:lnTo>
                <a:lnTo>
                  <a:pt x="20200" y="20321"/>
                </a:lnTo>
                <a:lnTo>
                  <a:pt x="20200" y="1400"/>
                </a:lnTo>
                <a:close/>
              </a:path>
              <a:path fill="darkenLess" w="21600" h="21721">
                <a:moveTo>
                  <a:pt x="21600" y="21721"/>
                </a:moveTo>
                <a:lnTo>
                  <a:pt x="0" y="21721"/>
                </a:lnTo>
                <a:lnTo>
                  <a:pt x="1400" y="20321"/>
                </a:lnTo>
                <a:lnTo>
                  <a:pt x="20200" y="20321"/>
                </a:lnTo>
                <a:close/>
              </a:path>
              <a:path fill="lighten" w="21600" h="21721">
                <a:moveTo>
                  <a:pt x="0" y="2172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21"/>
                </a:lnTo>
                <a:close/>
              </a:path>
              <a:path fill="darken" w="21600" h="21721">
                <a:moveTo>
                  <a:pt x="3794" y="7553"/>
                </a:moveTo>
                <a:lnTo>
                  <a:pt x="7301" y="7553"/>
                </a:lnTo>
                <a:lnTo>
                  <a:pt x="7301" y="12888"/>
                </a:lnTo>
                <a:cubicBezTo>
                  <a:pt x="7301" y="13811"/>
                  <a:pt x="8102" y="14542"/>
                  <a:pt x="9138" y="14542"/>
                </a:cubicBezTo>
                <a:lnTo>
                  <a:pt x="10800" y="14542"/>
                </a:lnTo>
                <a:cubicBezTo>
                  <a:pt x="11836" y="14542"/>
                  <a:pt x="12636" y="13811"/>
                  <a:pt x="12636" y="12888"/>
                </a:cubicBezTo>
                <a:lnTo>
                  <a:pt x="12636" y="7553"/>
                </a:lnTo>
                <a:lnTo>
                  <a:pt x="10800" y="7553"/>
                </a:lnTo>
                <a:lnTo>
                  <a:pt x="14308" y="4045"/>
                </a:lnTo>
                <a:lnTo>
                  <a:pt x="17981" y="7553"/>
                </a:lnTo>
                <a:lnTo>
                  <a:pt x="16144" y="7553"/>
                </a:lnTo>
                <a:lnTo>
                  <a:pt x="16144" y="12888"/>
                </a:lnTo>
                <a:cubicBezTo>
                  <a:pt x="16144" y="15656"/>
                  <a:pt x="13568" y="18215"/>
                  <a:pt x="10800" y="18215"/>
                </a:cubicBezTo>
                <a:lnTo>
                  <a:pt x="9138" y="18215"/>
                </a:lnTo>
                <a:cubicBezTo>
                  <a:pt x="6370" y="18215"/>
                  <a:pt x="3794" y="15656"/>
                  <a:pt x="3794" y="1288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Gallereya"/>
          <p:cNvPicPr/>
          <p:nvPr/>
        </p:nvPicPr>
        <p:blipFill>
          <a:blip r:embed="rId2"/>
          <a:stretch/>
        </p:blipFill>
        <p:spPr>
          <a:xfrm>
            <a:off x="1403280" y="1197000"/>
            <a:ext cx="6361200" cy="50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5071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РАМАТИЧЕСКИЙ ТЕА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3"/>
          <p:cNvSpPr/>
          <p:nvPr/>
        </p:nvSpPr>
        <p:spPr>
          <a:xfrm>
            <a:off x="8604360" y="260280"/>
            <a:ext cx="322200" cy="324000"/>
          </a:xfrm>
          <a:custGeom>
            <a:avLst/>
            <a:gdLst>
              <a:gd name="textAreaLeft" fmla="*/ 20880 w 322200"/>
              <a:gd name="textAreaRight" fmla="*/ 301320 w 32220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721">
                <a:moveTo>
                  <a:pt x="0" y="0"/>
                </a:moveTo>
                <a:lnTo>
                  <a:pt x="21600" y="0"/>
                </a:lnTo>
                <a:lnTo>
                  <a:pt x="21600" y="21721"/>
                </a:lnTo>
                <a:lnTo>
                  <a:pt x="0" y="21721"/>
                </a:lnTo>
                <a:close/>
              </a:path>
              <a:path fill="lightenLess" w="21600" h="217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21">
                <a:moveTo>
                  <a:pt x="21600" y="0"/>
                </a:moveTo>
                <a:lnTo>
                  <a:pt x="21600" y="21721"/>
                </a:lnTo>
                <a:lnTo>
                  <a:pt x="20200" y="20321"/>
                </a:lnTo>
                <a:lnTo>
                  <a:pt x="20200" y="1400"/>
                </a:lnTo>
                <a:close/>
              </a:path>
              <a:path fill="darkenLess" w="21600" h="21721">
                <a:moveTo>
                  <a:pt x="21600" y="21721"/>
                </a:moveTo>
                <a:lnTo>
                  <a:pt x="0" y="21721"/>
                </a:lnTo>
                <a:lnTo>
                  <a:pt x="1400" y="20321"/>
                </a:lnTo>
                <a:lnTo>
                  <a:pt x="20200" y="20321"/>
                </a:lnTo>
                <a:close/>
              </a:path>
              <a:path fill="lighten" w="21600" h="21721">
                <a:moveTo>
                  <a:pt x="0" y="2172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21"/>
                </a:lnTo>
                <a:close/>
              </a:path>
              <a:path fill="darken" w="21600" h="21721">
                <a:moveTo>
                  <a:pt x="3794" y="7553"/>
                </a:moveTo>
                <a:lnTo>
                  <a:pt x="7301" y="7553"/>
                </a:lnTo>
                <a:lnTo>
                  <a:pt x="7301" y="12888"/>
                </a:lnTo>
                <a:cubicBezTo>
                  <a:pt x="7301" y="13811"/>
                  <a:pt x="8102" y="14542"/>
                  <a:pt x="9138" y="14542"/>
                </a:cubicBezTo>
                <a:lnTo>
                  <a:pt x="10800" y="14542"/>
                </a:lnTo>
                <a:cubicBezTo>
                  <a:pt x="11836" y="14542"/>
                  <a:pt x="12636" y="13811"/>
                  <a:pt x="12636" y="12888"/>
                </a:cubicBezTo>
                <a:lnTo>
                  <a:pt x="12636" y="7553"/>
                </a:lnTo>
                <a:lnTo>
                  <a:pt x="10800" y="7553"/>
                </a:lnTo>
                <a:lnTo>
                  <a:pt x="14308" y="4045"/>
                </a:lnTo>
                <a:lnTo>
                  <a:pt x="17981" y="7553"/>
                </a:lnTo>
                <a:lnTo>
                  <a:pt x="16144" y="7553"/>
                </a:lnTo>
                <a:lnTo>
                  <a:pt x="16144" y="12888"/>
                </a:lnTo>
                <a:cubicBezTo>
                  <a:pt x="16144" y="15656"/>
                  <a:pt x="13568" y="18215"/>
                  <a:pt x="10800" y="18215"/>
                </a:cubicBezTo>
                <a:lnTo>
                  <a:pt x="9138" y="18215"/>
                </a:lnTo>
                <a:cubicBezTo>
                  <a:pt x="6370" y="18215"/>
                  <a:pt x="3794" y="15656"/>
                  <a:pt x="3794" y="1288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театр2"/>
          <p:cNvPicPr/>
          <p:nvPr/>
        </p:nvPicPr>
        <p:blipFill>
          <a:blip r:embed="rId2"/>
          <a:stretch/>
        </p:blipFill>
        <p:spPr>
          <a:xfrm>
            <a:off x="395280" y="1268280"/>
            <a:ext cx="4392720" cy="3295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театр"/>
          <p:cNvPicPr/>
          <p:nvPr/>
        </p:nvPicPr>
        <p:blipFill>
          <a:blip r:embed="rId3"/>
          <a:stretch/>
        </p:blipFill>
        <p:spPr>
          <a:xfrm>
            <a:off x="4356000" y="3141720"/>
            <a:ext cx="435456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оимость экскур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Аренда автобуса – 35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Экскурсия в краеведческий музей – 55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Экскурсия в картинную галерею – 50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Театр имени Н. Г. Чернышевского – 50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Комплексный обед – 270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Экскурсовод – 40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ИТОГО: 500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ы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Борисоглебск - культурный центр Воронежск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Разработка туристического тура для гостей го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мать"/>
          <p:cNvPicPr/>
          <p:nvPr/>
        </p:nvPicPr>
        <p:blipFill>
          <a:blip r:embed="rId3"/>
          <a:stretch/>
        </p:blipFill>
        <p:spPr>
          <a:xfrm>
            <a:off x="500040" y="357120"/>
            <a:ext cx="8217000" cy="6215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веч"/>
          <p:cNvPicPr/>
          <p:nvPr/>
        </p:nvPicPr>
        <p:blipFill>
          <a:blip r:embed="rId4"/>
          <a:stretch/>
        </p:blipFill>
        <p:spPr>
          <a:xfrm>
            <a:off x="1500120" y="95400"/>
            <a:ext cx="5072040" cy="6762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летний теаьр"/>
          <p:cNvPicPr/>
          <p:nvPr/>
        </p:nvPicPr>
        <p:blipFill>
          <a:blip r:embed="rId5"/>
          <a:stretch/>
        </p:blipFill>
        <p:spPr>
          <a:xfrm>
            <a:off x="214200" y="160200"/>
            <a:ext cx="8929800" cy="6697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админ"/>
          <p:cNvPicPr/>
          <p:nvPr/>
        </p:nvPicPr>
        <p:blipFill>
          <a:blip r:embed="rId6"/>
          <a:stretch/>
        </p:blipFill>
        <p:spPr>
          <a:xfrm>
            <a:off x="0" y="0"/>
            <a:ext cx="9144000" cy="6332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Gallereya"/>
          <p:cNvPicPr/>
          <p:nvPr/>
        </p:nvPicPr>
        <p:blipFill>
          <a:blip r:embed="rId7"/>
          <a:stretch/>
        </p:blipFill>
        <p:spPr>
          <a:xfrm>
            <a:off x="285840" y="55440"/>
            <a:ext cx="8501040" cy="6802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театр"/>
          <p:cNvPicPr/>
          <p:nvPr/>
        </p:nvPicPr>
        <p:blipFill>
          <a:blip r:embed="rId8"/>
          <a:stretch/>
        </p:blipFill>
        <p:spPr>
          <a:xfrm>
            <a:off x="428760" y="452520"/>
            <a:ext cx="8545320" cy="64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8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700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4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0"/>
                            </p:stCondLst>
                            <p:childTnLst>
                              <p:par>
                                <p:cTn id="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7000"/>
                            </p:stCondLst>
                            <p:childTnLst>
                              <p:par>
                                <p:cTn id="7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2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0"/>
                            </p:stCondLst>
                            <p:childTnLst>
                              <p:par>
                                <p:cTn id="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2000"/>
                            </p:stCondLst>
                            <p:childTnLst>
                              <p:par>
                                <p:cTn id="7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0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500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539640" y="549360"/>
            <a:ext cx="80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ЛЬ: разработать маршрут экскурсии по  Борисоглебс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539640" y="2781360"/>
            <a:ext cx="83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ыявить достопримечательности го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истематизировать собранный матери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азработать маршрут экскур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овести финансовую калькуляцию экскур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аршрут экскур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324000" y="1989000"/>
            <a:ext cx="482400" cy="503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2124000" y="1484280"/>
            <a:ext cx="482760" cy="503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5076720" y="3213000"/>
            <a:ext cx="482760" cy="503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7380360" y="4941720"/>
            <a:ext cx="482400" cy="503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3564000" y="2205000"/>
            <a:ext cx="482400" cy="503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8459640" y="6021360"/>
            <a:ext cx="482760" cy="503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7596360" y="3284640"/>
            <a:ext cx="482400" cy="503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 flipV="1">
            <a:off x="826920" y="1773000"/>
            <a:ext cx="1297080" cy="43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4"/>
          <p:cNvSpPr/>
          <p:nvPr/>
        </p:nvSpPr>
        <p:spPr>
          <a:xfrm>
            <a:off x="2556000" y="1844640"/>
            <a:ext cx="1008000" cy="50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5"/>
          <p:cNvSpPr/>
          <p:nvPr/>
        </p:nvSpPr>
        <p:spPr>
          <a:xfrm>
            <a:off x="7740720" y="5373720"/>
            <a:ext cx="792000" cy="719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6"/>
          <p:cNvSpPr/>
          <p:nvPr/>
        </p:nvSpPr>
        <p:spPr>
          <a:xfrm flipV="1">
            <a:off x="7667640" y="3789000"/>
            <a:ext cx="144360" cy="115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8"/>
          <p:cNvSpPr/>
          <p:nvPr/>
        </p:nvSpPr>
        <p:spPr>
          <a:xfrm>
            <a:off x="5580000" y="3500280"/>
            <a:ext cx="201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9"/>
          <p:cNvSpPr/>
          <p:nvPr/>
        </p:nvSpPr>
        <p:spPr>
          <a:xfrm flipH="1" flipV="1">
            <a:off x="3995640" y="2565360"/>
            <a:ext cx="1152720" cy="719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395280" y="2421000"/>
            <a:ext cx="401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3924360" y="2924280"/>
            <a:ext cx="401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3" action="ppaction://hlinksldjump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2124000" y="2060640"/>
            <a:ext cx="401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4" action="ppaction://hlinksldjump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4"/>
          <p:cNvSpPr/>
          <p:nvPr/>
        </p:nvSpPr>
        <p:spPr>
          <a:xfrm>
            <a:off x="5148360" y="3716280"/>
            <a:ext cx="401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5" action="ppaction://hlinksldjump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5"/>
          <p:cNvSpPr/>
          <p:nvPr/>
        </p:nvSpPr>
        <p:spPr>
          <a:xfrm>
            <a:off x="7093080" y="5445000"/>
            <a:ext cx="401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6" action="ppaction://hlinksldjump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7812000" y="2708280"/>
            <a:ext cx="401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7" action="ppaction://hlinksldjump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8"/>
          <p:cNvSpPr/>
          <p:nvPr/>
        </p:nvSpPr>
        <p:spPr>
          <a:xfrm>
            <a:off x="8532720" y="5445000"/>
            <a:ext cx="401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8" action="ppaction://hlinksldjump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9"/>
          <p:cNvSpPr/>
          <p:nvPr/>
        </p:nvSpPr>
        <p:spPr>
          <a:xfrm>
            <a:off x="1214280" y="1428840"/>
            <a:ext cx="35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omic Sans MS"/>
                <a:hlinkClick r:id="rId9" action="ppaction://hlinksldjump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0"/>
          <p:cNvSpPr/>
          <p:nvPr/>
        </p:nvSpPr>
        <p:spPr>
          <a:xfrm>
            <a:off x="4067280" y="198900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omic Sans MS"/>
                <a:hlinkClick r:id="rId10" action="ppaction://hlinksldjump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2"/>
          <p:cNvSpPr/>
          <p:nvPr/>
        </p:nvSpPr>
        <p:spPr>
          <a:xfrm>
            <a:off x="4500720" y="2349360"/>
            <a:ext cx="37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omic Sans MS"/>
                <a:hlinkClick r:id="rId11" action="ppaction://hlinksldjump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3"/>
          <p:cNvSpPr/>
          <p:nvPr/>
        </p:nvSpPr>
        <p:spPr>
          <a:xfrm>
            <a:off x="4917600" y="2589120"/>
            <a:ext cx="34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omic Sans MS"/>
                <a:hlinkClick r:id="rId12" action="ppaction://hlinksldjump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5"/>
          <p:cNvSpPr/>
          <p:nvPr/>
        </p:nvSpPr>
        <p:spPr>
          <a:xfrm>
            <a:off x="539640" y="501336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ремя экскурсии – 9 час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ХРАМ БОРИСА И ГЛЕ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бор и гле"/>
          <p:cNvPicPr/>
          <p:nvPr/>
        </p:nvPicPr>
        <p:blipFill>
          <a:blip r:embed="rId2"/>
          <a:stretch/>
        </p:blipFill>
        <p:spPr>
          <a:xfrm>
            <a:off x="250920" y="890640"/>
            <a:ext cx="5689440" cy="4265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город"/>
          <p:cNvPicPr/>
          <p:nvPr/>
        </p:nvPicPr>
        <p:blipFill>
          <a:blip r:embed="rId3"/>
          <a:stretch/>
        </p:blipFill>
        <p:spPr>
          <a:xfrm>
            <a:off x="5219640" y="3860640"/>
            <a:ext cx="3665520" cy="274968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8"/>
          <p:cNvSpPr/>
          <p:nvPr/>
        </p:nvSpPr>
        <p:spPr>
          <a:xfrm>
            <a:off x="8604360" y="260280"/>
            <a:ext cx="322200" cy="324000"/>
          </a:xfrm>
          <a:custGeom>
            <a:avLst/>
            <a:gdLst>
              <a:gd name="textAreaLeft" fmla="*/ 20880 w 322200"/>
              <a:gd name="textAreaRight" fmla="*/ 301320 w 32220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721">
                <a:moveTo>
                  <a:pt x="0" y="0"/>
                </a:moveTo>
                <a:lnTo>
                  <a:pt x="21600" y="0"/>
                </a:lnTo>
                <a:lnTo>
                  <a:pt x="21600" y="21721"/>
                </a:lnTo>
                <a:lnTo>
                  <a:pt x="0" y="21721"/>
                </a:lnTo>
                <a:close/>
              </a:path>
              <a:path fill="lightenLess" w="21600" h="217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21">
                <a:moveTo>
                  <a:pt x="21600" y="0"/>
                </a:moveTo>
                <a:lnTo>
                  <a:pt x="21600" y="21721"/>
                </a:lnTo>
                <a:lnTo>
                  <a:pt x="20200" y="20321"/>
                </a:lnTo>
                <a:lnTo>
                  <a:pt x="20200" y="1400"/>
                </a:lnTo>
                <a:close/>
              </a:path>
              <a:path fill="darkenLess" w="21600" h="21721">
                <a:moveTo>
                  <a:pt x="21600" y="21721"/>
                </a:moveTo>
                <a:lnTo>
                  <a:pt x="0" y="21721"/>
                </a:lnTo>
                <a:lnTo>
                  <a:pt x="1400" y="20321"/>
                </a:lnTo>
                <a:lnTo>
                  <a:pt x="20200" y="20321"/>
                </a:lnTo>
                <a:close/>
              </a:path>
              <a:path fill="lighten" w="21600" h="21721">
                <a:moveTo>
                  <a:pt x="0" y="2172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21"/>
                </a:lnTo>
                <a:close/>
              </a:path>
              <a:path fill="darken" w="21600" h="21721">
                <a:moveTo>
                  <a:pt x="3794" y="7553"/>
                </a:moveTo>
                <a:lnTo>
                  <a:pt x="7301" y="7553"/>
                </a:lnTo>
                <a:lnTo>
                  <a:pt x="7301" y="12888"/>
                </a:lnTo>
                <a:cubicBezTo>
                  <a:pt x="7301" y="13811"/>
                  <a:pt x="8102" y="14542"/>
                  <a:pt x="9138" y="14542"/>
                </a:cubicBezTo>
                <a:lnTo>
                  <a:pt x="10800" y="14542"/>
                </a:lnTo>
                <a:cubicBezTo>
                  <a:pt x="11836" y="14542"/>
                  <a:pt x="12636" y="13811"/>
                  <a:pt x="12636" y="12888"/>
                </a:cubicBezTo>
                <a:lnTo>
                  <a:pt x="12636" y="7553"/>
                </a:lnTo>
                <a:lnTo>
                  <a:pt x="10800" y="7553"/>
                </a:lnTo>
                <a:lnTo>
                  <a:pt x="14308" y="4045"/>
                </a:lnTo>
                <a:lnTo>
                  <a:pt x="17981" y="7553"/>
                </a:lnTo>
                <a:lnTo>
                  <a:pt x="16144" y="7553"/>
                </a:lnTo>
                <a:lnTo>
                  <a:pt x="16144" y="12888"/>
                </a:lnTo>
                <a:cubicBezTo>
                  <a:pt x="16144" y="15656"/>
                  <a:pt x="13568" y="18215"/>
                  <a:pt x="10800" y="18215"/>
                </a:cubicBezTo>
                <a:lnTo>
                  <a:pt x="9138" y="18215"/>
                </a:lnTo>
                <a:cubicBezTo>
                  <a:pt x="6370" y="18215"/>
                  <a:pt x="3794" y="15656"/>
                  <a:pt x="3794" y="1288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ЕМОРИАЛ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ВЕЧНАЯ ПАМЯТ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веч"/>
          <p:cNvPicPr/>
          <p:nvPr/>
        </p:nvPicPr>
        <p:blipFill>
          <a:blip r:embed="rId2"/>
          <a:stretch/>
        </p:blipFill>
        <p:spPr>
          <a:xfrm>
            <a:off x="5364000" y="1557360"/>
            <a:ext cx="3353040" cy="4470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мемориал"/>
          <p:cNvPicPr/>
          <p:nvPr/>
        </p:nvPicPr>
        <p:blipFill>
          <a:blip r:embed="rId3"/>
          <a:stretch/>
        </p:blipFill>
        <p:spPr>
          <a:xfrm>
            <a:off x="395280" y="2133720"/>
            <a:ext cx="4470480" cy="3352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мать"/>
          <p:cNvPicPr/>
          <p:nvPr/>
        </p:nvPicPr>
        <p:blipFill>
          <a:blip r:embed="rId4"/>
          <a:stretch/>
        </p:blipFill>
        <p:spPr>
          <a:xfrm>
            <a:off x="324000" y="1268280"/>
            <a:ext cx="5154480" cy="3899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пам"/>
          <p:cNvPicPr/>
          <p:nvPr/>
        </p:nvPicPr>
        <p:blipFill>
          <a:blip r:embed="rId5"/>
          <a:stretch/>
        </p:blipFill>
        <p:spPr>
          <a:xfrm>
            <a:off x="4859280" y="3429000"/>
            <a:ext cx="3960720" cy="297324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9"/>
          <p:cNvSpPr/>
          <p:nvPr/>
        </p:nvSpPr>
        <p:spPr>
          <a:xfrm>
            <a:off x="8604360" y="260280"/>
            <a:ext cx="322200" cy="324000"/>
          </a:xfrm>
          <a:custGeom>
            <a:avLst/>
            <a:gdLst>
              <a:gd name="textAreaLeft" fmla="*/ 20880 w 322200"/>
              <a:gd name="textAreaRight" fmla="*/ 301320 w 32220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721">
                <a:moveTo>
                  <a:pt x="0" y="0"/>
                </a:moveTo>
                <a:lnTo>
                  <a:pt x="21600" y="0"/>
                </a:lnTo>
                <a:lnTo>
                  <a:pt x="21600" y="21721"/>
                </a:lnTo>
                <a:lnTo>
                  <a:pt x="0" y="21721"/>
                </a:lnTo>
                <a:close/>
              </a:path>
              <a:path fill="lightenLess" w="21600" h="217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21">
                <a:moveTo>
                  <a:pt x="21600" y="0"/>
                </a:moveTo>
                <a:lnTo>
                  <a:pt x="21600" y="21721"/>
                </a:lnTo>
                <a:lnTo>
                  <a:pt x="20200" y="20321"/>
                </a:lnTo>
                <a:lnTo>
                  <a:pt x="20200" y="1400"/>
                </a:lnTo>
                <a:close/>
              </a:path>
              <a:path fill="darkenLess" w="21600" h="21721">
                <a:moveTo>
                  <a:pt x="21600" y="21721"/>
                </a:moveTo>
                <a:lnTo>
                  <a:pt x="0" y="21721"/>
                </a:lnTo>
                <a:lnTo>
                  <a:pt x="1400" y="20321"/>
                </a:lnTo>
                <a:lnTo>
                  <a:pt x="20200" y="20321"/>
                </a:lnTo>
                <a:close/>
              </a:path>
              <a:path fill="lighten" w="21600" h="21721">
                <a:moveTo>
                  <a:pt x="0" y="2172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21"/>
                </a:lnTo>
                <a:close/>
              </a:path>
              <a:path fill="darken" w="21600" h="21721">
                <a:moveTo>
                  <a:pt x="3794" y="7553"/>
                </a:moveTo>
                <a:lnTo>
                  <a:pt x="7301" y="7553"/>
                </a:lnTo>
                <a:lnTo>
                  <a:pt x="7301" y="12888"/>
                </a:lnTo>
                <a:cubicBezTo>
                  <a:pt x="7301" y="13811"/>
                  <a:pt x="8102" y="14542"/>
                  <a:pt x="9138" y="14542"/>
                </a:cubicBezTo>
                <a:lnTo>
                  <a:pt x="10800" y="14542"/>
                </a:lnTo>
                <a:cubicBezTo>
                  <a:pt x="11836" y="14542"/>
                  <a:pt x="12636" y="13811"/>
                  <a:pt x="12636" y="12888"/>
                </a:cubicBezTo>
                <a:lnTo>
                  <a:pt x="12636" y="7553"/>
                </a:lnTo>
                <a:lnTo>
                  <a:pt x="10800" y="7553"/>
                </a:lnTo>
                <a:lnTo>
                  <a:pt x="14308" y="4045"/>
                </a:lnTo>
                <a:lnTo>
                  <a:pt x="17981" y="7553"/>
                </a:lnTo>
                <a:lnTo>
                  <a:pt x="16144" y="7553"/>
                </a:lnTo>
                <a:lnTo>
                  <a:pt x="16144" y="12888"/>
                </a:lnTo>
                <a:cubicBezTo>
                  <a:pt x="16144" y="15656"/>
                  <a:pt x="13568" y="18215"/>
                  <a:pt x="10800" y="18215"/>
                </a:cubicBezTo>
                <a:lnTo>
                  <a:pt x="9138" y="18215"/>
                </a:lnTo>
                <a:cubicBezTo>
                  <a:pt x="6370" y="18215"/>
                  <a:pt x="3794" y="15656"/>
                  <a:pt x="3794" y="1288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07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ЛОЩАДЬ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БОРЦАМ ЗА ВЛАСТЬ СОВЕТ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борцы"/>
          <p:cNvPicPr/>
          <p:nvPr/>
        </p:nvPicPr>
        <p:blipFill>
          <a:blip r:embed="rId2"/>
          <a:stretch/>
        </p:blipFill>
        <p:spPr>
          <a:xfrm>
            <a:off x="1403280" y="1557360"/>
            <a:ext cx="6350040" cy="476244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6"/>
          <p:cNvSpPr/>
          <p:nvPr/>
        </p:nvSpPr>
        <p:spPr>
          <a:xfrm>
            <a:off x="8604360" y="260280"/>
            <a:ext cx="322200" cy="324000"/>
          </a:xfrm>
          <a:custGeom>
            <a:avLst/>
            <a:gdLst>
              <a:gd name="textAreaLeft" fmla="*/ 20880 w 322200"/>
              <a:gd name="textAreaRight" fmla="*/ 301320 w 32220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721">
                <a:moveTo>
                  <a:pt x="0" y="0"/>
                </a:moveTo>
                <a:lnTo>
                  <a:pt x="21600" y="0"/>
                </a:lnTo>
                <a:lnTo>
                  <a:pt x="21600" y="21721"/>
                </a:lnTo>
                <a:lnTo>
                  <a:pt x="0" y="21721"/>
                </a:lnTo>
                <a:close/>
              </a:path>
              <a:path fill="lightenLess" w="21600" h="217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21">
                <a:moveTo>
                  <a:pt x="21600" y="0"/>
                </a:moveTo>
                <a:lnTo>
                  <a:pt x="21600" y="21721"/>
                </a:lnTo>
                <a:lnTo>
                  <a:pt x="20200" y="20321"/>
                </a:lnTo>
                <a:lnTo>
                  <a:pt x="20200" y="1400"/>
                </a:lnTo>
                <a:close/>
              </a:path>
              <a:path fill="darkenLess" w="21600" h="21721">
                <a:moveTo>
                  <a:pt x="21600" y="21721"/>
                </a:moveTo>
                <a:lnTo>
                  <a:pt x="0" y="21721"/>
                </a:lnTo>
                <a:lnTo>
                  <a:pt x="1400" y="20321"/>
                </a:lnTo>
                <a:lnTo>
                  <a:pt x="20200" y="20321"/>
                </a:lnTo>
                <a:close/>
              </a:path>
              <a:path fill="lighten" w="21600" h="21721">
                <a:moveTo>
                  <a:pt x="0" y="2172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21"/>
                </a:lnTo>
                <a:close/>
              </a:path>
              <a:path fill="darken" w="21600" h="21721">
                <a:moveTo>
                  <a:pt x="3794" y="7553"/>
                </a:moveTo>
                <a:lnTo>
                  <a:pt x="7301" y="7553"/>
                </a:lnTo>
                <a:lnTo>
                  <a:pt x="7301" y="12888"/>
                </a:lnTo>
                <a:cubicBezTo>
                  <a:pt x="7301" y="13811"/>
                  <a:pt x="8102" y="14542"/>
                  <a:pt x="9138" y="14542"/>
                </a:cubicBezTo>
                <a:lnTo>
                  <a:pt x="10800" y="14542"/>
                </a:lnTo>
                <a:cubicBezTo>
                  <a:pt x="11836" y="14542"/>
                  <a:pt x="12636" y="13811"/>
                  <a:pt x="12636" y="12888"/>
                </a:cubicBezTo>
                <a:lnTo>
                  <a:pt x="12636" y="7553"/>
                </a:lnTo>
                <a:lnTo>
                  <a:pt x="10800" y="7553"/>
                </a:lnTo>
                <a:lnTo>
                  <a:pt x="14308" y="4045"/>
                </a:lnTo>
                <a:lnTo>
                  <a:pt x="17981" y="7553"/>
                </a:lnTo>
                <a:lnTo>
                  <a:pt x="16144" y="7553"/>
                </a:lnTo>
                <a:lnTo>
                  <a:pt x="16144" y="12888"/>
                </a:lnTo>
                <a:cubicBezTo>
                  <a:pt x="16144" y="15656"/>
                  <a:pt x="13568" y="18215"/>
                  <a:pt x="10800" y="18215"/>
                </a:cubicBezTo>
                <a:lnTo>
                  <a:pt x="9138" y="18215"/>
                </a:lnTo>
                <a:cubicBezTo>
                  <a:pt x="6370" y="18215"/>
                  <a:pt x="3794" y="15656"/>
                  <a:pt x="3794" y="1288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5071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ЛЕТНИЙ ТЕА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"/>
          <p:cNvSpPr/>
          <p:nvPr/>
        </p:nvSpPr>
        <p:spPr>
          <a:xfrm>
            <a:off x="8604360" y="260280"/>
            <a:ext cx="322200" cy="324000"/>
          </a:xfrm>
          <a:custGeom>
            <a:avLst/>
            <a:gdLst>
              <a:gd name="textAreaLeft" fmla="*/ 20880 w 322200"/>
              <a:gd name="textAreaRight" fmla="*/ 301320 w 32220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721">
                <a:moveTo>
                  <a:pt x="0" y="0"/>
                </a:moveTo>
                <a:lnTo>
                  <a:pt x="21600" y="0"/>
                </a:lnTo>
                <a:lnTo>
                  <a:pt x="21600" y="21721"/>
                </a:lnTo>
                <a:lnTo>
                  <a:pt x="0" y="21721"/>
                </a:lnTo>
                <a:close/>
              </a:path>
              <a:path fill="lightenLess" w="21600" h="217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21">
                <a:moveTo>
                  <a:pt x="21600" y="0"/>
                </a:moveTo>
                <a:lnTo>
                  <a:pt x="21600" y="21721"/>
                </a:lnTo>
                <a:lnTo>
                  <a:pt x="20200" y="20321"/>
                </a:lnTo>
                <a:lnTo>
                  <a:pt x="20200" y="1400"/>
                </a:lnTo>
                <a:close/>
              </a:path>
              <a:path fill="darkenLess" w="21600" h="21721">
                <a:moveTo>
                  <a:pt x="21600" y="21721"/>
                </a:moveTo>
                <a:lnTo>
                  <a:pt x="0" y="21721"/>
                </a:lnTo>
                <a:lnTo>
                  <a:pt x="1400" y="20321"/>
                </a:lnTo>
                <a:lnTo>
                  <a:pt x="20200" y="20321"/>
                </a:lnTo>
                <a:close/>
              </a:path>
              <a:path fill="lighten" w="21600" h="21721">
                <a:moveTo>
                  <a:pt x="0" y="2172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21"/>
                </a:lnTo>
                <a:close/>
              </a:path>
              <a:path fill="darken" w="21600" h="21721">
                <a:moveTo>
                  <a:pt x="3794" y="7553"/>
                </a:moveTo>
                <a:lnTo>
                  <a:pt x="7301" y="7553"/>
                </a:lnTo>
                <a:lnTo>
                  <a:pt x="7301" y="12888"/>
                </a:lnTo>
                <a:cubicBezTo>
                  <a:pt x="7301" y="13811"/>
                  <a:pt x="8102" y="14542"/>
                  <a:pt x="9138" y="14542"/>
                </a:cubicBezTo>
                <a:lnTo>
                  <a:pt x="10800" y="14542"/>
                </a:lnTo>
                <a:cubicBezTo>
                  <a:pt x="11836" y="14542"/>
                  <a:pt x="12636" y="13811"/>
                  <a:pt x="12636" y="12888"/>
                </a:cubicBezTo>
                <a:lnTo>
                  <a:pt x="12636" y="7553"/>
                </a:lnTo>
                <a:lnTo>
                  <a:pt x="10800" y="7553"/>
                </a:lnTo>
                <a:lnTo>
                  <a:pt x="14308" y="4045"/>
                </a:lnTo>
                <a:lnTo>
                  <a:pt x="17981" y="7553"/>
                </a:lnTo>
                <a:lnTo>
                  <a:pt x="16144" y="7553"/>
                </a:lnTo>
                <a:lnTo>
                  <a:pt x="16144" y="12888"/>
                </a:lnTo>
                <a:cubicBezTo>
                  <a:pt x="16144" y="15656"/>
                  <a:pt x="13568" y="18215"/>
                  <a:pt x="10800" y="18215"/>
                </a:cubicBezTo>
                <a:lnTo>
                  <a:pt x="9138" y="18215"/>
                </a:lnTo>
                <a:cubicBezTo>
                  <a:pt x="6370" y="18215"/>
                  <a:pt x="3794" y="15656"/>
                  <a:pt x="3794" y="1288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летний теаьр"/>
          <p:cNvPicPr/>
          <p:nvPr/>
        </p:nvPicPr>
        <p:blipFill>
          <a:blip r:embed="rId2"/>
          <a:stretch/>
        </p:blipFill>
        <p:spPr>
          <a:xfrm>
            <a:off x="1187280" y="1341360"/>
            <a:ext cx="654696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5071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АМЯТНИК М. И. НЕДЕЛИ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"/>
          <p:cNvSpPr/>
          <p:nvPr/>
        </p:nvSpPr>
        <p:spPr>
          <a:xfrm>
            <a:off x="8604360" y="260280"/>
            <a:ext cx="322200" cy="324000"/>
          </a:xfrm>
          <a:custGeom>
            <a:avLst/>
            <a:gdLst>
              <a:gd name="textAreaLeft" fmla="*/ 20880 w 322200"/>
              <a:gd name="textAreaRight" fmla="*/ 301320 w 32220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721">
                <a:moveTo>
                  <a:pt x="0" y="0"/>
                </a:moveTo>
                <a:lnTo>
                  <a:pt x="21600" y="0"/>
                </a:lnTo>
                <a:lnTo>
                  <a:pt x="21600" y="21721"/>
                </a:lnTo>
                <a:lnTo>
                  <a:pt x="0" y="21721"/>
                </a:lnTo>
                <a:close/>
              </a:path>
              <a:path fill="lightenLess" w="21600" h="217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21">
                <a:moveTo>
                  <a:pt x="21600" y="0"/>
                </a:moveTo>
                <a:lnTo>
                  <a:pt x="21600" y="21721"/>
                </a:lnTo>
                <a:lnTo>
                  <a:pt x="20200" y="20321"/>
                </a:lnTo>
                <a:lnTo>
                  <a:pt x="20200" y="1400"/>
                </a:lnTo>
                <a:close/>
              </a:path>
              <a:path fill="darkenLess" w="21600" h="21721">
                <a:moveTo>
                  <a:pt x="21600" y="21721"/>
                </a:moveTo>
                <a:lnTo>
                  <a:pt x="0" y="21721"/>
                </a:lnTo>
                <a:lnTo>
                  <a:pt x="1400" y="20321"/>
                </a:lnTo>
                <a:lnTo>
                  <a:pt x="20200" y="20321"/>
                </a:lnTo>
                <a:close/>
              </a:path>
              <a:path fill="lighten" w="21600" h="21721">
                <a:moveTo>
                  <a:pt x="0" y="2172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21"/>
                </a:lnTo>
                <a:close/>
              </a:path>
              <a:path fill="darken" w="21600" h="21721">
                <a:moveTo>
                  <a:pt x="3794" y="7553"/>
                </a:moveTo>
                <a:lnTo>
                  <a:pt x="7301" y="7553"/>
                </a:lnTo>
                <a:lnTo>
                  <a:pt x="7301" y="12888"/>
                </a:lnTo>
                <a:cubicBezTo>
                  <a:pt x="7301" y="13811"/>
                  <a:pt x="8102" y="14542"/>
                  <a:pt x="9138" y="14542"/>
                </a:cubicBezTo>
                <a:lnTo>
                  <a:pt x="10800" y="14542"/>
                </a:lnTo>
                <a:cubicBezTo>
                  <a:pt x="11836" y="14542"/>
                  <a:pt x="12636" y="13811"/>
                  <a:pt x="12636" y="12888"/>
                </a:cubicBezTo>
                <a:lnTo>
                  <a:pt x="12636" y="7553"/>
                </a:lnTo>
                <a:lnTo>
                  <a:pt x="10800" y="7553"/>
                </a:lnTo>
                <a:lnTo>
                  <a:pt x="14308" y="4045"/>
                </a:lnTo>
                <a:lnTo>
                  <a:pt x="17981" y="7553"/>
                </a:lnTo>
                <a:lnTo>
                  <a:pt x="16144" y="7553"/>
                </a:lnTo>
                <a:lnTo>
                  <a:pt x="16144" y="12888"/>
                </a:lnTo>
                <a:cubicBezTo>
                  <a:pt x="16144" y="15656"/>
                  <a:pt x="13568" y="18215"/>
                  <a:pt x="10800" y="18215"/>
                </a:cubicBezTo>
                <a:lnTo>
                  <a:pt x="9138" y="18215"/>
                </a:lnTo>
                <a:cubicBezTo>
                  <a:pt x="6370" y="18215"/>
                  <a:pt x="3794" y="15656"/>
                  <a:pt x="3794" y="1288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неделин"/>
          <p:cNvPicPr/>
          <p:nvPr/>
        </p:nvPicPr>
        <p:blipFill>
          <a:blip r:embed="rId2"/>
          <a:stretch/>
        </p:blipFill>
        <p:spPr>
          <a:xfrm>
            <a:off x="1547640" y="1413000"/>
            <a:ext cx="612000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07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ЛОЩАДЬ ИМЕНИ В. И. ЛЕН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8604360" y="260280"/>
            <a:ext cx="322200" cy="324000"/>
          </a:xfrm>
          <a:custGeom>
            <a:avLst/>
            <a:gdLst>
              <a:gd name="textAreaLeft" fmla="*/ 20880 w 322200"/>
              <a:gd name="textAreaRight" fmla="*/ 301320 w 32220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721">
                <a:moveTo>
                  <a:pt x="0" y="0"/>
                </a:moveTo>
                <a:lnTo>
                  <a:pt x="21600" y="0"/>
                </a:lnTo>
                <a:lnTo>
                  <a:pt x="21600" y="21721"/>
                </a:lnTo>
                <a:lnTo>
                  <a:pt x="0" y="21721"/>
                </a:lnTo>
                <a:close/>
              </a:path>
              <a:path fill="lightenLess" w="21600" h="217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21">
                <a:moveTo>
                  <a:pt x="21600" y="0"/>
                </a:moveTo>
                <a:lnTo>
                  <a:pt x="21600" y="21721"/>
                </a:lnTo>
                <a:lnTo>
                  <a:pt x="20200" y="20321"/>
                </a:lnTo>
                <a:lnTo>
                  <a:pt x="20200" y="1400"/>
                </a:lnTo>
                <a:close/>
              </a:path>
              <a:path fill="darkenLess" w="21600" h="21721">
                <a:moveTo>
                  <a:pt x="21600" y="21721"/>
                </a:moveTo>
                <a:lnTo>
                  <a:pt x="0" y="21721"/>
                </a:lnTo>
                <a:lnTo>
                  <a:pt x="1400" y="20321"/>
                </a:lnTo>
                <a:lnTo>
                  <a:pt x="20200" y="20321"/>
                </a:lnTo>
                <a:close/>
              </a:path>
              <a:path fill="lighten" w="21600" h="21721">
                <a:moveTo>
                  <a:pt x="0" y="2172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21"/>
                </a:lnTo>
                <a:close/>
              </a:path>
              <a:path fill="darken" w="21600" h="21721">
                <a:moveTo>
                  <a:pt x="3794" y="7553"/>
                </a:moveTo>
                <a:lnTo>
                  <a:pt x="7301" y="7553"/>
                </a:lnTo>
                <a:lnTo>
                  <a:pt x="7301" y="12888"/>
                </a:lnTo>
                <a:cubicBezTo>
                  <a:pt x="7301" y="13811"/>
                  <a:pt x="8102" y="14542"/>
                  <a:pt x="9138" y="14542"/>
                </a:cubicBezTo>
                <a:lnTo>
                  <a:pt x="10800" y="14542"/>
                </a:lnTo>
                <a:cubicBezTo>
                  <a:pt x="11836" y="14542"/>
                  <a:pt x="12636" y="13811"/>
                  <a:pt x="12636" y="12888"/>
                </a:cubicBezTo>
                <a:lnTo>
                  <a:pt x="12636" y="7553"/>
                </a:lnTo>
                <a:lnTo>
                  <a:pt x="10800" y="7553"/>
                </a:lnTo>
                <a:lnTo>
                  <a:pt x="14308" y="4045"/>
                </a:lnTo>
                <a:lnTo>
                  <a:pt x="17981" y="7553"/>
                </a:lnTo>
                <a:lnTo>
                  <a:pt x="16144" y="7553"/>
                </a:lnTo>
                <a:lnTo>
                  <a:pt x="16144" y="12888"/>
                </a:lnTo>
                <a:cubicBezTo>
                  <a:pt x="16144" y="15656"/>
                  <a:pt x="13568" y="18215"/>
                  <a:pt x="10800" y="18215"/>
                </a:cubicBezTo>
                <a:lnTo>
                  <a:pt x="9138" y="18215"/>
                </a:lnTo>
                <a:cubicBezTo>
                  <a:pt x="6370" y="18215"/>
                  <a:pt x="3794" y="15656"/>
                  <a:pt x="3794" y="1288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ленин"/>
          <p:cNvPicPr/>
          <p:nvPr/>
        </p:nvPicPr>
        <p:blipFill>
          <a:blip r:embed="rId2"/>
          <a:stretch/>
        </p:blipFill>
        <p:spPr>
          <a:xfrm>
            <a:off x="468360" y="1484280"/>
            <a:ext cx="5184720" cy="3265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админ"/>
          <p:cNvPicPr/>
          <p:nvPr/>
        </p:nvPicPr>
        <p:blipFill>
          <a:blip r:embed="rId3"/>
          <a:stretch/>
        </p:blipFill>
        <p:spPr>
          <a:xfrm>
            <a:off x="4427640" y="3522600"/>
            <a:ext cx="4321080" cy="29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8T22:59:07Z</dcterms:created>
  <dc:creator>HomeCenter</dc:creator>
  <dc:description/>
  <dc:language>en-US</dc:language>
  <cp:lastModifiedBy>HomeCenter</cp:lastModifiedBy>
  <dcterms:modified xsi:type="dcterms:W3CDTF">2013-01-27T22:29:54Z</dcterms:modified>
  <cp:revision>8</cp:revision>
  <dc:subject/>
  <dc:title>Этот город самый лучший город на Земле</dc:title>
</cp:coreProperties>
</file>