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png" ContentType="image/png"/>
  <Override PartName="/ppt/media/image9.jpeg" ContentType="image/jpeg"/>
  <Override PartName="/ppt/media/image7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gif" ContentType="image/gif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8.gif" ContentType="image/gif"/>
  <Override PartName="/ppt/media/image18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08B7-AD3B-4D65-90F1-DC9E976D5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CA84-4ECD-4F2E-986D-B5D16C68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AA15-3010-45CA-A2F2-250ECF152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EC16-E4C9-4357-BD3A-C7EDA3BFA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68C5-C258-40BC-9102-7992AAA8A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E7DF-1A51-47D8-890F-EEE49626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54ED-2077-46CF-B2FA-46C33FFF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10EB-A968-4261-ABAE-2CCEA1FF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F977-9DAC-412C-84B9-BE7CB15B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F14B-6B4F-4E44-9CC8-B0BFECA8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E123-0267-405D-8B7C-BB153562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1233-CCD0-4B01-B9B6-9052399F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3CCB-CBF0-49A0-8D1F-EB1FB918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8B1F-49F2-4B15-95BB-FEAAC03E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4CA0-E845-40BC-9565-B129B6F4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EA71-8F32-4552-B94B-8C15F312B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0D1D-0207-439D-8063-184A491AF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D64C-FEA1-425B-AD35-E85B1215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4ED6-96B2-4899-BA96-4851326E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DB34-E544-4A11-922D-FD3E8955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DBFC-2982-4D8B-BCFD-97E3F487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8C03-22F2-4CD7-B313-CF8FCD8F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6B59-C7F8-4985-B36C-00676BCD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131D-97B8-41AA-9600-75665EBE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A2B2-D4E3-4076-BD1C-07154823F5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F3EE-FFB6-416F-A48A-6546D4BF3C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zhurnal.lib.ru/img/a/asket_a/a7-2/bxp58601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jagannath.ru/upload/iblock/71b/17955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МБОУ СОШ</a:t>
            </a:r>
            <a:br>
              <a:rPr sz="2800"/>
            </a:b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 с. Варфоломеевка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94920" y="4572000"/>
            <a:ext cx="678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полнили: учащиеся 5 кл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уководитель :Хафизова А.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3048120"/>
            <a:ext cx="32004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«Глазури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Оформление салатов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69608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477120" y="3581280"/>
            <a:ext cx="2286000" cy="27432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80880" y="3352680"/>
            <a:ext cx="2819520" cy="2895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3048120" y="990720"/>
            <a:ext cx="3124080" cy="2209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3429000" y="3581280"/>
            <a:ext cx="2819520" cy="2667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формление салат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3962520" cy="3733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267080" y="1752480"/>
            <a:ext cx="4534200" cy="3810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Блюда из яиц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09680" y="1576440"/>
            <a:ext cx="4419720" cy="4519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3760" y="244080"/>
            <a:ext cx="35082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                 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Яйца-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4767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Яйца -пищевой продукт ,имеющий высокую ценность, обладающий нежным, приятным вкусом. Средняя масса куриного яйца 52г(от40до76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 виду птицы различают яйца куриные, гусиные. Утиные, индюшачьи. Наиболее ценными являются куриные яйц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 яйце содержатся все питательные вещества, необходимые для жизнедеятельности человека: вода-74%, белки-12,6%, жиры-11,5%, углеводы-0,6%, минеральные вещества-1%, витамины А,Е, В1,В2.Д.Энергетическая ценность 100г куриных яиц составляет 157 кка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17" descr="Картинка 8 из 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3962520"/>
            <a:ext cx="2590920" cy="2547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895480" y="228600"/>
            <a:ext cx="2210040" cy="1828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228600" y="228600"/>
            <a:ext cx="2514600" cy="190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6324480" y="1295280"/>
            <a:ext cx="228600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пределение качества яиц просвечиванием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929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Яйца бывают диетические и столовые. Диетические яйца поступают в продажу не позднее 5-7суток после снесения. В домашних условиях яйца хранят в холодильнике на средней полке или с внутренней стороны дверцы не более двух недель. Есть еще один простой способ для определения качества яиц. В стакан наливают воду, растворяют в ней столовую ложку соли и опускают туда яйца. Свежее яйцо опустится на дно стакана, недостаточно свежее будет плавать чуть выше дна, а недоброкачественное -на поверхности жидкост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чество яиц можно просвечивании в несвежих яйцах видные пят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324480" y="3276720"/>
            <a:ext cx="2514600" cy="2895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200400" y="4800600"/>
            <a:ext cx="2590920" cy="20574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72000" y="609588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0" y="144"/>
                  <a:pt x="176" y="0"/>
                  <a:pt x="192" y="0"/>
                </a:cubicBezTo>
                <a:cubicBezTo>
                  <a:pt x="208" y="0"/>
                  <a:pt x="0" y="144"/>
                  <a:pt x="0" y="144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 Black"/>
              </a:rPr>
              <a:t>Правила безопасности труда</a:t>
            </a: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838080" y="1905120"/>
            <a:ext cx="8006760" cy="4189680"/>
            <a:chOff x="838080" y="1905120"/>
            <a:chExt cx="8006760" cy="4189680"/>
          </a:xfrm>
        </p:grpSpPr>
        <p:cxnSp>
          <p:nvCxnSpPr>
            <p:cNvPr id="119" name="_s43020"/>
            <p:cNvCxnSpPr>
              <a:stCxn id="120" idx="0"/>
              <a:endCxn id="121" idx="2"/>
            </p:cNvCxnSpPr>
            <p:nvPr/>
          </p:nvCxnSpPr>
          <p:spPr>
            <a:xfrm flipV="1" rot="16200000">
              <a:off x="5823360" y="2597760"/>
              <a:ext cx="838440" cy="2802960"/>
            </a:xfrm>
            <a:prstGeom prst="bentConnector3">
              <a:avLst>
                <a:gd name="adj1" fmla="val 1361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2" name="_s43019"/>
            <p:cNvCxnSpPr>
              <a:stCxn id="123" idx="0"/>
              <a:endCxn id="121" idx="2"/>
            </p:cNvCxnSpPr>
            <p:nvPr/>
          </p:nvCxnSpPr>
          <p:spPr>
            <a:xfrm flipV="1">
              <a:off x="4841280" y="3580200"/>
              <a:ext cx="3240" cy="838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4" name="_s43018"/>
            <p:cNvCxnSpPr>
              <a:stCxn id="125" idx="0"/>
              <a:endCxn id="121" idx="2"/>
            </p:cNvCxnSpPr>
            <p:nvPr/>
          </p:nvCxnSpPr>
          <p:spPr>
            <a:xfrm flipH="1" flipV="1" rot="5400000">
              <a:off x="3021120" y="2598120"/>
              <a:ext cx="838440" cy="2802960"/>
            </a:xfrm>
            <a:prstGeom prst="bentConnector3">
              <a:avLst>
                <a:gd name="adj1" fmla="val 1361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1" name="_s43014"/>
            <p:cNvSpPr/>
            <p:nvPr/>
          </p:nvSpPr>
          <p:spPr>
            <a:xfrm>
              <a:off x="3640320" y="1905120"/>
              <a:ext cx="2401920" cy="16758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Яйца или смесь яиц и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молока на горячую сковороду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вылить осторожно, чтобы н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разбрызгивалось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растопленное масл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43015"/>
            <p:cNvSpPr/>
            <p:nvPr/>
          </p:nvSpPr>
          <p:spPr>
            <a:xfrm>
              <a:off x="838080" y="4419000"/>
              <a:ext cx="2401920" cy="16758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Горячую сковороду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брать прихватко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или сковородником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_s43016"/>
            <p:cNvSpPr/>
            <p:nvPr/>
          </p:nvSpPr>
          <p:spPr>
            <a:xfrm>
              <a:off x="3640320" y="4419000"/>
              <a:ext cx="2401920" cy="16758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Воду для варки яиц н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доливать д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краев кастрюл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_s43017"/>
            <p:cNvSpPr/>
            <p:nvPr/>
          </p:nvSpPr>
          <p:spPr>
            <a:xfrm>
              <a:off x="6442920" y="4419000"/>
              <a:ext cx="2401920" cy="16758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Крышку с горячей посуд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Снимать прихваткой 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Открывать от себ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Постепенно, чтобы н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Обжечься паром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1143720" y="2056680"/>
              <a:ext cx="1976400" cy="1908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Приготовление вареных яиц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838080" y="1917720"/>
            <a:ext cx="8006760" cy="4162680"/>
            <a:chOff x="838080" y="1917720"/>
            <a:chExt cx="8006760" cy="4162680"/>
          </a:xfrm>
        </p:grpSpPr>
        <p:cxnSp>
          <p:nvCxnSpPr>
            <p:cNvPr id="129" name="_s19470"/>
            <p:cNvCxnSpPr>
              <a:stCxn id="130" idx="0"/>
              <a:endCxn id="131" idx="2"/>
            </p:cNvCxnSpPr>
            <p:nvPr/>
          </p:nvCxnSpPr>
          <p:spPr>
            <a:xfrm flipV="1" rot="16200000">
              <a:off x="5826240" y="2597040"/>
              <a:ext cx="833040" cy="2802960"/>
            </a:xfrm>
            <a:prstGeom prst="bentConnector3">
              <a:avLst>
                <a:gd name="adj1" fmla="val 1271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2" name="_s19469"/>
            <p:cNvCxnSpPr>
              <a:stCxn id="133" idx="0"/>
              <a:endCxn id="131" idx="2"/>
            </p:cNvCxnSpPr>
            <p:nvPr/>
          </p:nvCxnSpPr>
          <p:spPr>
            <a:xfrm flipV="1">
              <a:off x="4841280" y="3582360"/>
              <a:ext cx="3240" cy="833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4" name="_s19468"/>
            <p:cNvCxnSpPr>
              <a:stCxn id="135" idx="0"/>
              <a:endCxn id="131" idx="2"/>
            </p:cNvCxnSpPr>
            <p:nvPr/>
          </p:nvCxnSpPr>
          <p:spPr>
            <a:xfrm flipH="1" flipV="1" rot="5400000">
              <a:off x="3023640" y="2597400"/>
              <a:ext cx="833040" cy="2802960"/>
            </a:xfrm>
            <a:prstGeom prst="bentConnector3">
              <a:avLst>
                <a:gd name="adj1" fmla="val 1271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1" name="_s19464"/>
            <p:cNvSpPr/>
            <p:nvPr/>
          </p:nvSpPr>
          <p:spPr>
            <a:xfrm>
              <a:off x="3640320" y="1917720"/>
              <a:ext cx="2401920" cy="1665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Проверить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качество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яиц и вымыть их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_s19465"/>
            <p:cNvSpPr/>
            <p:nvPr/>
          </p:nvSpPr>
          <p:spPr>
            <a:xfrm>
              <a:off x="838080" y="4415400"/>
              <a:ext cx="2401920" cy="1665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Вскипятить воду и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опустить в нее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корзиночку с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яйцами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19466"/>
            <p:cNvSpPr/>
            <p:nvPr/>
          </p:nvSpPr>
          <p:spPr>
            <a:xfrm>
              <a:off x="3640320" y="4415400"/>
              <a:ext cx="2401920" cy="1665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Варить яйца при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кипении: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всмятку-3-3.5мин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«мешочек»-4-4.5мин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вкрутую-8-10мин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_s19467"/>
            <p:cNvSpPr/>
            <p:nvPr/>
          </p:nvSpPr>
          <p:spPr>
            <a:xfrm>
              <a:off x="6442920" y="4415400"/>
              <a:ext cx="2401920" cy="1665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Вынуть яйца,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сполоснуть холодной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водой. Положить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на тарелку,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подать на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стол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6" name="Picture 15" descr="Картинка 1 из 27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398280" y="2114280"/>
              <a:ext cx="2299320" cy="1838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иготовление яичницы-глазунь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838080" y="1906560"/>
            <a:ext cx="8006760" cy="4174200"/>
            <a:chOff x="838080" y="1906560"/>
            <a:chExt cx="8006760" cy="4174200"/>
          </a:xfrm>
        </p:grpSpPr>
        <p:cxnSp>
          <p:nvCxnSpPr>
            <p:cNvPr id="139" name="_s32781"/>
            <p:cNvCxnSpPr>
              <a:stCxn id="140" idx="0"/>
              <a:endCxn id="141" idx="2"/>
            </p:cNvCxnSpPr>
            <p:nvPr/>
          </p:nvCxnSpPr>
          <p:spPr>
            <a:xfrm flipV="1" rot="16200000">
              <a:off x="5501520" y="2915280"/>
              <a:ext cx="835560" cy="2155680"/>
            </a:xfrm>
            <a:prstGeom prst="bentConnector3">
              <a:avLst>
                <a:gd name="adj1" fmla="val 1366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2" name="_s32780"/>
            <p:cNvCxnSpPr>
              <a:stCxn id="143" idx="0"/>
              <a:endCxn id="141" idx="2"/>
            </p:cNvCxnSpPr>
            <p:nvPr/>
          </p:nvCxnSpPr>
          <p:spPr>
            <a:xfrm flipH="1" flipV="1" rot="5400000">
              <a:off x="3345480" y="2915280"/>
              <a:ext cx="835560" cy="2156400"/>
            </a:xfrm>
            <a:prstGeom prst="bentConnector3">
              <a:avLst>
                <a:gd name="adj1" fmla="val 1366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1" name="_s32776"/>
            <p:cNvSpPr/>
            <p:nvPr/>
          </p:nvSpPr>
          <p:spPr>
            <a:xfrm>
              <a:off x="2994120" y="1906560"/>
              <a:ext cx="3695400" cy="16696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Проверить качество яиц, вымыть их.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Зелень перебрать, промыть,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мелко нарезать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32777"/>
            <p:cNvSpPr/>
            <p:nvPr/>
          </p:nvSpPr>
          <p:spPr>
            <a:xfrm>
              <a:off x="838080" y="4411080"/>
              <a:ext cx="3695400" cy="16696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На горячую сковородку с разогретым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маслом выпустить яйца, не нарушая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при этом пленку желтка.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Посолить белок и жарить на среднем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огне 2-3 мин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32778"/>
            <p:cNvSpPr/>
            <p:nvPr/>
          </p:nvSpPr>
          <p:spPr>
            <a:xfrm>
              <a:off x="5149440" y="4411080"/>
              <a:ext cx="3695400" cy="16696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Разрезать готовую яичницу на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Порции, выложить на тарелки,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Украсить зеленью и подать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на стол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838080" y="2057400"/>
              <a:ext cx="2057040" cy="2283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705720" y="2362320"/>
            <a:ext cx="1752480" cy="1218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38512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Приготовление омлета натурального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838080" y="1917720"/>
            <a:ext cx="8006760" cy="4162680"/>
            <a:chOff x="838080" y="1917720"/>
            <a:chExt cx="8006760" cy="4162680"/>
          </a:xfrm>
        </p:grpSpPr>
        <p:cxnSp>
          <p:nvCxnSpPr>
            <p:cNvPr id="148" name="_s34830"/>
            <p:cNvCxnSpPr>
              <a:stCxn id="149" idx="0"/>
              <a:endCxn id="150" idx="2"/>
            </p:cNvCxnSpPr>
            <p:nvPr/>
          </p:nvCxnSpPr>
          <p:spPr>
            <a:xfrm flipV="1" rot="16200000">
              <a:off x="5826240" y="2597040"/>
              <a:ext cx="833040" cy="2802960"/>
            </a:xfrm>
            <a:prstGeom prst="bentConnector3">
              <a:avLst>
                <a:gd name="adj1" fmla="val 1370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1" name="_s34829"/>
            <p:cNvCxnSpPr>
              <a:stCxn id="152" idx="0"/>
              <a:endCxn id="150" idx="2"/>
            </p:cNvCxnSpPr>
            <p:nvPr/>
          </p:nvCxnSpPr>
          <p:spPr>
            <a:xfrm flipV="1">
              <a:off x="4841280" y="3582360"/>
              <a:ext cx="3240" cy="833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3" name="_s34828"/>
            <p:cNvCxnSpPr>
              <a:stCxn id="154" idx="0"/>
              <a:endCxn id="150" idx="2"/>
            </p:cNvCxnSpPr>
            <p:nvPr/>
          </p:nvCxnSpPr>
          <p:spPr>
            <a:xfrm flipH="1" flipV="1" rot="5400000">
              <a:off x="3023640" y="2597400"/>
              <a:ext cx="833040" cy="2802960"/>
            </a:xfrm>
            <a:prstGeom prst="bentConnector3">
              <a:avLst>
                <a:gd name="adj1" fmla="val 1370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50" name="_s34824"/>
            <p:cNvSpPr/>
            <p:nvPr/>
          </p:nvSpPr>
          <p:spPr>
            <a:xfrm>
              <a:off x="3640320" y="1917720"/>
              <a:ext cx="2401920" cy="1665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Проверить качество яиц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вымыть их. Зелень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Перебрать, промыть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и нарезать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34825"/>
            <p:cNvSpPr/>
            <p:nvPr/>
          </p:nvSpPr>
          <p:spPr>
            <a:xfrm>
              <a:off x="838080" y="4415400"/>
              <a:ext cx="2401920" cy="1665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риготовить яично –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молочную смесь, вылить н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Разогретую с маслом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сковороду и жарить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омешива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_s34826"/>
            <p:cNvSpPr/>
            <p:nvPr/>
          </p:nvSpPr>
          <p:spPr>
            <a:xfrm>
              <a:off x="3640320" y="4415400"/>
              <a:ext cx="2401920" cy="1665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Как только масс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начнет густеть, края е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завернуть с двух сторон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к середине в вид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пирожк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_s34827"/>
            <p:cNvSpPr/>
            <p:nvPr/>
          </p:nvSpPr>
          <p:spPr>
            <a:xfrm>
              <a:off x="6442920" y="4415400"/>
              <a:ext cx="2401920" cy="1665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Положить готовый омлет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На тарелку, полить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растопленным маслом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посыпать зеленью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и подать на стол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6704640" y="2361960"/>
              <a:ext cx="1753920" cy="1521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Посуда и приспособления для приготовления блюд из яиц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8077320" cy="4343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 армакова</cp:lastModifiedBy>
  <dcterms:modified xsi:type="dcterms:W3CDTF">2013-01-29T06:26:23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