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9.jpeg" ContentType="image/jpe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8.gif" ContentType="image/gif"/>
  <Override PartName="/ppt/media/image18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865-6BED-44D2-A32C-FEEF21A0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0EEA-5199-4BBF-AF84-2662F490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CF9-A255-47B7-A06F-C3873098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69D-50E5-4591-A62D-B0F57D3D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A79B-1016-4BF1-92CE-6DBCC628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8F14-66E2-4373-8446-D627380B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AAF6-FA18-44B3-983F-0BBA1233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846B-FA39-4049-BDBF-84678352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08D8-DF13-45A6-A008-842A6131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FC93-CB85-45BB-B5F5-070A0E8F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59CB-D193-4886-9387-39705B88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D4D1-D0B2-45DE-BFF3-51CC487F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6567-546D-48A6-A55B-9CFAD466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76DD-E0F5-4E7A-81EB-600567A3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834C-50F0-4270-908D-667A2915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D5EB-8986-49A4-884A-A399AB4F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4CD7-A871-4CDC-ACEF-C7E7D03E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82F-1271-42CC-93BF-B34F644E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AD2-8038-4744-B185-AE771012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A46-F1F3-497E-8704-712DF481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8D9-63F2-49A7-9A6F-1D14F86A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0486-7965-4BAC-8A91-CFC72EF3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BA7-0E11-4BE5-8D23-EE075CAF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064-B27B-4FEC-A168-0F0FEAAA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7BBC-EFCA-4624-832A-BA6CDFCDE0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6CD4-B815-457C-AB49-523113D038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zhurnal.lib.ru/img/a/asket_a/a7-2/bxp58601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agannath.ru/upload/iblock/71b/17955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МБОУ СОШ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 с. Варфоломеевк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94920" y="4572000"/>
            <a:ext cx="678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или: учащиеся 5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уководитель :Хафизова А.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3048120"/>
            <a:ext cx="32004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«Глазур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формление салат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6960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477120" y="358128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80880" y="3352680"/>
            <a:ext cx="2819520" cy="2895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048120" y="990720"/>
            <a:ext cx="3124080" cy="2209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3429000" y="3581280"/>
            <a:ext cx="2819520" cy="266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формление салат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3962520" cy="3733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4534200" cy="3810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Блюда из яиц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09680" y="1576440"/>
            <a:ext cx="4419720" cy="451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3760" y="244080"/>
            <a:ext cx="35082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           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Яйца-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767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Яйца -пищевой продукт ,имеющий высокую ценность, обладающий нежным, приятным вкусом. Средняя масса куриного яйца 52г(от40до76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 виду птицы различают яйца куриные, гусиные. Утиные, индюшачьи. Наиболее ценными являются куриные яй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яйце содержатся все питательные вещества, необходимые для жизнедеятельности человека: вода-74%, белки-12,6%, жиры-11,5%, углеводы-0,6%, минеральные вещества-1%, витамины А,Е, В1,В2.Д.Энергетическая ценность 100г куриных яиц составляет 157 кка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7" descr="Картинка 8 из 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3962520"/>
            <a:ext cx="2590920" cy="2547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895480" y="228600"/>
            <a:ext cx="221004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251460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324480" y="1295280"/>
            <a:ext cx="228600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ределение качества яиц просвечиванием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929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Яйца бывают диетические и столовые. Диетические яйца поступают в продажу не позднее 5-7суток после снесения. В домашних условиях яйца хранят в холодильнике на средней полке или с внутренней стороны дверцы не более двух недель. Есть еще один простой способ для определения качества яиц. В стакан наливают воду, растворяют в ней столовую ложку соли и опускают туда яйца. Свежее яйцо опустится на дно стакана, недостаточно свежее будет плавать чуть выше дна, а недоброкачественное -на поверхности жидкос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чество яиц можно просвечивании в несвежих яйцах видные пят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514600" cy="289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00400" y="480060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609588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0" y="144"/>
                  <a:pt x="176" y="0"/>
                  <a:pt x="192" y="0"/>
                </a:cubicBezTo>
                <a:cubicBezTo>
                  <a:pt x="208" y="0"/>
                  <a:pt x="0" y="144"/>
                  <a:pt x="0" y="144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Правила безопасности труда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838080" y="1905120"/>
            <a:ext cx="8006760" cy="4189680"/>
            <a:chOff x="838080" y="1905120"/>
            <a:chExt cx="8006760" cy="4189680"/>
          </a:xfrm>
        </p:grpSpPr>
        <p:cxnSp>
          <p:nvCxnSpPr>
            <p:cNvPr id="119" name="_s43020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5823360" y="2597760"/>
              <a:ext cx="838440" cy="2802960"/>
            </a:xfrm>
            <a:prstGeom prst="bentConnector3">
              <a:avLst>
                <a:gd name="adj1" fmla="val 136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43019"/>
            <p:cNvCxnSpPr>
              <a:stCxn id="123" idx="0"/>
              <a:endCxn id="121" idx="2"/>
            </p:cNvCxnSpPr>
            <p:nvPr/>
          </p:nvCxnSpPr>
          <p:spPr>
            <a:xfrm flipV="1">
              <a:off x="4841280" y="3580200"/>
              <a:ext cx="3240" cy="838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4" name="_s43018"/>
            <p:cNvCxnSpPr>
              <a:stCxn id="125" idx="0"/>
              <a:endCxn id="121" idx="2"/>
            </p:cNvCxnSpPr>
            <p:nvPr/>
          </p:nvCxnSpPr>
          <p:spPr>
            <a:xfrm flipH="1" flipV="1" rot="5400000">
              <a:off x="3021120" y="2598120"/>
              <a:ext cx="838440" cy="2802960"/>
            </a:xfrm>
            <a:prstGeom prst="bentConnector3">
              <a:avLst>
                <a:gd name="adj1" fmla="val 136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1" name="_s43014"/>
            <p:cNvSpPr/>
            <p:nvPr/>
          </p:nvSpPr>
          <p:spPr>
            <a:xfrm>
              <a:off x="3640320" y="190512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Яйца или смесь яиц 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молока на горячую сковороду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вылить осторожно, чтобы н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разбрызгивалось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растопленное масл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43015"/>
            <p:cNvSpPr/>
            <p:nvPr/>
          </p:nvSpPr>
          <p:spPr>
            <a:xfrm>
              <a:off x="838080" y="441900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Горячую сковороду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брать прихватко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или сковороднико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43016"/>
            <p:cNvSpPr/>
            <p:nvPr/>
          </p:nvSpPr>
          <p:spPr>
            <a:xfrm>
              <a:off x="3640320" y="441900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Воду для варки яиц н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доливать д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краев кастрюл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43017"/>
            <p:cNvSpPr/>
            <p:nvPr/>
          </p:nvSpPr>
          <p:spPr>
            <a:xfrm>
              <a:off x="6442920" y="441900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Крышку с горячей посуд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Снимать прихваткой 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Открывать от себ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остепенно, чтобы н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Обжечься паро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143720" y="2056680"/>
              <a:ext cx="1976400" cy="190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Приготовление вареных яиц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38080" y="1917720"/>
            <a:ext cx="8006760" cy="4162680"/>
            <a:chOff x="838080" y="1917720"/>
            <a:chExt cx="8006760" cy="4162680"/>
          </a:xfrm>
        </p:grpSpPr>
        <p:cxnSp>
          <p:nvCxnSpPr>
            <p:cNvPr id="129" name="_s19470"/>
            <p:cNvCxnSpPr>
              <a:stCxn id="130" idx="0"/>
              <a:endCxn id="131" idx="2"/>
            </p:cNvCxnSpPr>
            <p:nvPr/>
          </p:nvCxnSpPr>
          <p:spPr>
            <a:xfrm flipV="1" rot="16200000">
              <a:off x="5826240" y="2597040"/>
              <a:ext cx="833040" cy="2802960"/>
            </a:xfrm>
            <a:prstGeom prst="bentConnector3">
              <a:avLst>
                <a:gd name="adj1" fmla="val 1271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9469"/>
            <p:cNvCxnSpPr>
              <a:stCxn id="133" idx="0"/>
              <a:endCxn id="131" idx="2"/>
            </p:cNvCxnSpPr>
            <p:nvPr/>
          </p:nvCxnSpPr>
          <p:spPr>
            <a:xfrm flipV="1">
              <a:off x="4841280" y="3582360"/>
              <a:ext cx="3240" cy="833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4" name="_s19468"/>
            <p:cNvCxnSpPr>
              <a:stCxn id="135" idx="0"/>
              <a:endCxn id="131" idx="2"/>
            </p:cNvCxnSpPr>
            <p:nvPr/>
          </p:nvCxnSpPr>
          <p:spPr>
            <a:xfrm flipH="1" flipV="1" rot="5400000">
              <a:off x="3023640" y="2597400"/>
              <a:ext cx="833040" cy="2802960"/>
            </a:xfrm>
            <a:prstGeom prst="bentConnector3">
              <a:avLst>
                <a:gd name="adj1" fmla="val 1271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1" name="_s19464"/>
            <p:cNvSpPr/>
            <p:nvPr/>
          </p:nvSpPr>
          <p:spPr>
            <a:xfrm>
              <a:off x="3640320" y="1917720"/>
              <a:ext cx="2401920" cy="1665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роверить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качество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яиц и вымыть их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19465"/>
            <p:cNvSpPr/>
            <p:nvPr/>
          </p:nvSpPr>
          <p:spPr>
            <a:xfrm>
              <a:off x="838080" y="4415400"/>
              <a:ext cx="2401920" cy="1665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Вскипятить воду 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опустить в не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корзиночку с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яйцам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9466"/>
            <p:cNvSpPr/>
            <p:nvPr/>
          </p:nvSpPr>
          <p:spPr>
            <a:xfrm>
              <a:off x="3640320" y="4415400"/>
              <a:ext cx="2401920" cy="1665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Варить яйца пр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кипении: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всмятку-3-3.5мин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«мешочек»-4-4.5мин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вкрутую-8-10мин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9467"/>
            <p:cNvSpPr/>
            <p:nvPr/>
          </p:nvSpPr>
          <p:spPr>
            <a:xfrm>
              <a:off x="6442920" y="4415400"/>
              <a:ext cx="2401920" cy="1665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Вынуть яйца,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сполоснуть холодно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водой. Положить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на тарелку,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одать н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стол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6" name="Picture 15" descr="Картинка 1 из 27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398280" y="2114280"/>
              <a:ext cx="2299320" cy="1838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иготовление яичницы-глазунь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38080" y="1906560"/>
            <a:ext cx="8006760" cy="4174200"/>
            <a:chOff x="838080" y="1906560"/>
            <a:chExt cx="8006760" cy="4174200"/>
          </a:xfrm>
        </p:grpSpPr>
        <p:cxnSp>
          <p:nvCxnSpPr>
            <p:cNvPr id="139" name="_s32781"/>
            <p:cNvCxnSpPr>
              <a:stCxn id="140" idx="0"/>
              <a:endCxn id="141" idx="2"/>
            </p:cNvCxnSpPr>
            <p:nvPr/>
          </p:nvCxnSpPr>
          <p:spPr>
            <a:xfrm flipV="1" rot="16200000">
              <a:off x="5501520" y="2915280"/>
              <a:ext cx="835560" cy="2155680"/>
            </a:xfrm>
            <a:prstGeom prst="bentConnector3">
              <a:avLst>
                <a:gd name="adj1" fmla="val 1366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32780"/>
            <p:cNvCxnSpPr>
              <a:stCxn id="143" idx="0"/>
              <a:endCxn id="141" idx="2"/>
            </p:cNvCxnSpPr>
            <p:nvPr/>
          </p:nvCxnSpPr>
          <p:spPr>
            <a:xfrm flipH="1" flipV="1" rot="5400000">
              <a:off x="3345480" y="2915280"/>
              <a:ext cx="835560" cy="2156400"/>
            </a:xfrm>
            <a:prstGeom prst="bentConnector3">
              <a:avLst>
                <a:gd name="adj1" fmla="val 1366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1" name="_s32776"/>
            <p:cNvSpPr/>
            <p:nvPr/>
          </p:nvSpPr>
          <p:spPr>
            <a:xfrm>
              <a:off x="2994120" y="1906560"/>
              <a:ext cx="3695400" cy="1669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Проверить качество яиц, вымыть их.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Зелень перебрать, промыть,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мелко нарезать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32777"/>
            <p:cNvSpPr/>
            <p:nvPr/>
          </p:nvSpPr>
          <p:spPr>
            <a:xfrm>
              <a:off x="838080" y="4411080"/>
              <a:ext cx="3695400" cy="1669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На горячую сковородку с разогретым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маслом выпустить яйца, не наруша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при этом пленку желтка.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Посолить белок и жарить на среднем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огне 2-3 мин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32778"/>
            <p:cNvSpPr/>
            <p:nvPr/>
          </p:nvSpPr>
          <p:spPr>
            <a:xfrm>
              <a:off x="5149440" y="4411080"/>
              <a:ext cx="3695400" cy="1669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Разрезать готовую яичницу на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Порции, выложить на тарелки,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Украсить зеленью и подать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на стол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838080" y="2057400"/>
              <a:ext cx="2057040" cy="228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2362320"/>
            <a:ext cx="1752480" cy="1218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3851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Приготовление омлета натурального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838080" y="1917720"/>
            <a:ext cx="8006760" cy="4162680"/>
            <a:chOff x="838080" y="1917720"/>
            <a:chExt cx="8006760" cy="4162680"/>
          </a:xfrm>
        </p:grpSpPr>
        <p:cxnSp>
          <p:nvCxnSpPr>
            <p:cNvPr id="148" name="_s34830"/>
            <p:cNvCxnSpPr>
              <a:stCxn id="149" idx="0"/>
              <a:endCxn id="150" idx="2"/>
            </p:cNvCxnSpPr>
            <p:nvPr/>
          </p:nvCxnSpPr>
          <p:spPr>
            <a:xfrm flipV="1" rot="16200000">
              <a:off x="5826240" y="2597040"/>
              <a:ext cx="833040" cy="2802960"/>
            </a:xfrm>
            <a:prstGeom prst="bentConnector3">
              <a:avLst>
                <a:gd name="adj1" fmla="val 1370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34829"/>
            <p:cNvCxnSpPr>
              <a:stCxn id="152" idx="0"/>
              <a:endCxn id="150" idx="2"/>
            </p:cNvCxnSpPr>
            <p:nvPr/>
          </p:nvCxnSpPr>
          <p:spPr>
            <a:xfrm flipV="1">
              <a:off x="4841280" y="3582360"/>
              <a:ext cx="3240" cy="833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34828"/>
            <p:cNvCxnSpPr>
              <a:stCxn id="154" idx="0"/>
              <a:endCxn id="150" idx="2"/>
            </p:cNvCxnSpPr>
            <p:nvPr/>
          </p:nvCxnSpPr>
          <p:spPr>
            <a:xfrm flipH="1" flipV="1" rot="5400000">
              <a:off x="3023640" y="2597400"/>
              <a:ext cx="833040" cy="2802960"/>
            </a:xfrm>
            <a:prstGeom prst="bentConnector3">
              <a:avLst>
                <a:gd name="adj1" fmla="val 1370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0" name="_s34824"/>
            <p:cNvSpPr/>
            <p:nvPr/>
          </p:nvSpPr>
          <p:spPr>
            <a:xfrm>
              <a:off x="3640320" y="1917720"/>
              <a:ext cx="2401920" cy="1665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роверить качество яиц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вымыть их. Зелень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еребрать, промы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и нарезать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34825"/>
            <p:cNvSpPr/>
            <p:nvPr/>
          </p:nvSpPr>
          <p:spPr>
            <a:xfrm>
              <a:off x="838080" y="4415400"/>
              <a:ext cx="2401920" cy="1665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риготовить яично –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молочную смесь, вылить н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Разогретую с масло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сковороду и жари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омешив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34826"/>
            <p:cNvSpPr/>
            <p:nvPr/>
          </p:nvSpPr>
          <p:spPr>
            <a:xfrm>
              <a:off x="3640320" y="4415400"/>
              <a:ext cx="2401920" cy="1665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Как только масс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начнет густеть, края е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завернуть с двух сторон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к середине в вид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ирожк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34827"/>
            <p:cNvSpPr/>
            <p:nvPr/>
          </p:nvSpPr>
          <p:spPr>
            <a:xfrm>
              <a:off x="6442920" y="4415400"/>
              <a:ext cx="2401920" cy="1665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оложить готовый омлет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На тарелку, полить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растопленным маслом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осыпать зеленью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и подать на стол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6704640" y="2361960"/>
              <a:ext cx="1753920" cy="1521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осуда и приспособления для приготовления блюд из яиц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077320" cy="43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 армакова</cp:lastModifiedBy>
  <dcterms:modified xsi:type="dcterms:W3CDTF">2013-01-29T06:26:2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