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C06-74D1-4C10-9C69-E95810D2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AE4-55CA-4FF3-933A-AE5CF35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6C7-A198-427B-8EC8-BD7F0891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ACC-59D1-4DBF-B161-64C0B8B2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C172-22D5-41BD-8D2E-62F79A7A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C25-6E7A-4EF5-A95D-CCF50032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9F59-6EAC-4122-B678-4456D74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AD3-D548-42F7-86A6-A5B7B11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1A9-D36F-4513-8F1B-0B8D1A7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5005-67A9-4BD8-BD2F-CC31E3DC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AF33-D7F3-4343-B8E4-AC26A99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B2F-F0AA-419E-BF93-DF619399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921F-0BB8-4424-997A-0C3A98A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2C11-9B31-401A-9DF9-296FC25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DDBB-7C10-477C-B7FC-3E9A0FF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566B-85A4-42E2-9C28-D60D5922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1077-CCE5-4F8C-B98B-A20FC9B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30F-B65A-4851-AD4F-BA52522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1B4-897E-4CA3-B29A-527907D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9BE-AD82-49A6-9DE0-B59098E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B55-D3DA-4AB2-AAA0-8A0A549B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0F2-C91B-49BF-A689-01F0980D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F65-B95B-48AD-A745-B2490FC0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F32-C605-479E-83F0-6BA65D6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4B3-78DE-4E91-B492-DB0CD5C4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465D-6C33-4739-BE37-B390E830C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онкурс памятников родному языку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4967280" cy="256716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13372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справка 003"/>
          <p:cNvPicPr/>
          <p:nvPr/>
        </p:nvPicPr>
        <p:blipFill>
          <a:blip r:embed="rId1"/>
          <a:stretch/>
        </p:blipFill>
        <p:spPr>
          <a:xfrm>
            <a:off x="3780000" y="404640"/>
            <a:ext cx="4930560" cy="59040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46" name="Rectangle 8"/>
          <p:cNvSpPr/>
          <p:nvPr/>
        </p:nvSpPr>
        <p:spPr>
          <a:xfrm>
            <a:off x="250920" y="35604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ванова Дар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Сушинская Виктория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684360" y="4005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Бурлева Екатери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9 «Б»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608720" cy="58323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a30"/>
                </a:solidFill>
                <a:latin typeface="Times New Roman"/>
              </a:rPr>
              <a:t>Самый неисчерпаемый прое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356000" y="602136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Гончаров Дмитрий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85840" y="187380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Русский язык неисчерпаемо богат и все обогащается с быстротой поражающ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.Горь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справка 004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45896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539640" y="6191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Калушина Валерия 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справка 008"/>
          <p:cNvPicPr/>
          <p:nvPr/>
        </p:nvPicPr>
        <p:blipFill>
          <a:blip r:embed="rId1"/>
          <a:stretch/>
        </p:blipFill>
        <p:spPr>
          <a:xfrm>
            <a:off x="285840" y="1428840"/>
            <a:ext cx="5106960" cy="421488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55" name="Rectangle 8"/>
          <p:cNvSpPr/>
          <p:nvPr/>
        </p:nvSpPr>
        <p:spPr>
          <a:xfrm>
            <a:off x="0" y="358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Самый поэтический</a:t>
            </a:r>
            <a:r>
              <a:rPr b="1" lang="en-US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643720" y="1596600"/>
            <a:ext cx="3500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Русский язык - это прежде всего Пушкин — нерушимый причал русского языка. Это Лермонтов, Лесков, Чехов, Горьк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.Н.Толст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571464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Савельев Никола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9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справка 001"/>
          <p:cNvPicPr/>
          <p:nvPr/>
        </p:nvPicPr>
        <p:blipFill>
          <a:blip r:embed="rId1"/>
          <a:stretch/>
        </p:blipFill>
        <p:spPr>
          <a:xfrm>
            <a:off x="357120" y="1071720"/>
            <a:ext cx="3500640" cy="453996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59" name="Прямоугольник 5"/>
          <p:cNvSpPr/>
          <p:nvPr/>
        </p:nvSpPr>
        <p:spPr>
          <a:xfrm>
            <a:off x="1253880" y="3571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Самый  выразительный</a:t>
            </a:r>
            <a:r>
              <a:rPr b="1" lang="en-US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214880" y="2015280"/>
            <a:ext cx="47149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a30"/>
                </a:solidFill>
                <a:latin typeface="Times New Roman"/>
                <a:ea typeface="Calibri"/>
              </a:rPr>
              <a:t>Нет таких звуков, красок, образов и мыслей - сложных и простых, - для которых не нашлось бы в нашем языке точного выраж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da30"/>
                </a:solidFill>
                <a:latin typeface="Times New Roman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fdda30"/>
                </a:solidFill>
                <a:latin typeface="Times New Roman"/>
                <a:ea typeface="Calibri"/>
              </a:rPr>
              <a:t>К. Г. Пауст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a30"/>
                </a:solidFill>
                <a:latin typeface="Times New Roman"/>
              </a:rPr>
              <a:t>Самый  мировой  прое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214880" y="1714680"/>
            <a:ext cx="4713120" cy="33573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163" name="Прямоугольник 7"/>
          <p:cNvSpPr/>
          <p:nvPr/>
        </p:nvSpPr>
        <p:spPr>
          <a:xfrm>
            <a:off x="4286160" y="564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Шиленкова Мар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9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806120"/>
            <a:ext cx="392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Русский язык должен стать мировым языком. Настанет время (и оно не за горами),— русский язык начнут изучать по всем меридианам земного ш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.Н.Т</a:t>
            </a:r>
            <a:r>
              <a:rPr b="0" i="1" lang="en-US" sz="2800" spc="-1" strike="noStrike" u="sng">
                <a:solidFill>
                  <a:srgbClr val="fdda30"/>
                </a:solidFill>
                <a:uFillTx/>
                <a:latin typeface="Times New Roman"/>
                <a:ea typeface="Times New Roman"/>
              </a:rPr>
              <a:t>олст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00720" y="1125000"/>
            <a:ext cx="46432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В 2005 год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в городе Ульяновске установлен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амятни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букве Ё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51640" y="4869000"/>
            <a:ext cx="2225520" cy="15843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176720" cy="574848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еред открытием памятника был объявлен конкурс на лучший эскиз. На конкурс прислали смешные, утилитарные, лирические эски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2674800" cy="249228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pic>
        <p:nvPicPr>
          <p:cNvPr id="128" name="Picture 14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2881440" cy="24620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3745080" cy="29052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30" name="Rectangle 10"/>
          <p:cNvSpPr/>
          <p:nvPr/>
        </p:nvSpPr>
        <p:spPr>
          <a:xfrm>
            <a:off x="0" y="1890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Главный приз – установка памятника в Ульяновске– достался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художнику Александру Зинину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По его задумке буква Ё на постаменте в точности повторяет самую первую букву Ё – именно такую, какой она увидела свет впервые в слове «слёзы». Увеличенная буква воспроизводит даже все неровности того первого типографского оттиска 1797 года. До этого же звук, передаваемый буквой Ё, записывался двумя знаками, например, «слiозы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1835280" cy="11970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 мае 2007 года в Белгороде в рамках Дней российской литературы был открыт памятник «Русское слово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600720" cy="27558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3708360" y="1915920"/>
            <a:ext cx="52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ec94"/>
                </a:solidFill>
                <a:latin typeface="Times New Roman"/>
              </a:rPr>
              <a:t>Памятник работы белгородского скульптора </a:t>
            </a:r>
            <a:r>
              <a:rPr b="1" lang="en-US" sz="2200" spc="-1" strike="noStrike" u="sng">
                <a:solidFill>
                  <a:srgbClr val="feec94"/>
                </a:solidFill>
                <a:uFillTx/>
                <a:latin typeface="Times New Roman"/>
              </a:rPr>
              <a:t>Анатолия Шишкова</a:t>
            </a:r>
            <a:r>
              <a:rPr b="0" lang="en-US" sz="2200" spc="-1" strike="noStrike">
                <a:solidFill>
                  <a:srgbClr val="feec94"/>
                </a:solidFill>
                <a:latin typeface="Times New Roman"/>
              </a:rPr>
              <a:t> выполнен в виде четырехметровой бронзовой Библии, на раскрытой странице которой выделяются буквы русского алфавита. Над книгой - голубь, несущий золотое перо - символ благой вести. Венчают памятник слова из Евангелия - "В начале было слово...". Памятник отражает дух величия и нерушимости русского языка и его связь с православными ценностям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Памятник букве "Ў"</a:t>
            </a:r>
            <a:br>
              <a:rPr sz="3200"/>
            </a:b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в городе Полоцке (Белоруссия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692520" cy="41418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610080" cy="37782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Памятник родному языку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в Тбилиси (Грузия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476360" y="2031840"/>
            <a:ext cx="6120000" cy="42674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84360" y="1928880"/>
            <a:ext cx="7632720" cy="420192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41" name="Rectangle 4"/>
          <p:cNvSpPr/>
          <p:nvPr/>
        </p:nvSpPr>
        <p:spPr>
          <a:xfrm>
            <a:off x="324000" y="333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Памятник родному язы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в городе Нахичевань  (Азербайджан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ши проек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376440" y="62283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Дулова Анна  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8" descr="справка 002"/>
          <p:cNvPicPr/>
          <p:nvPr/>
        </p:nvPicPr>
        <p:blipFill>
          <a:blip r:embed="rId1"/>
          <a:stretch/>
        </p:blipFill>
        <p:spPr>
          <a:xfrm>
            <a:off x="1042920" y="1197000"/>
            <a:ext cx="7416720" cy="49226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14:27Z</dcterms:created>
  <dc:creator>Alex</dc:creator>
  <dc:description/>
  <dc:language>en-US</dc:language>
  <cp:lastModifiedBy>Alex</cp:lastModifiedBy>
  <dcterms:modified xsi:type="dcterms:W3CDTF">2012-11-26T19:02:18Z</dcterms:modified>
  <cp:revision>16</cp:revision>
  <dc:subject/>
  <dc:title>Слайд 1</dc:title>
</cp:coreProperties>
</file>