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DE4-99AD-4F56-B7E7-64AC0D26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E88-885C-4828-9E04-02A92A04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EDA-8394-408B-96DF-C9E5A685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C88-0381-4D29-A18A-743DC30A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7A5-D0AB-440D-9407-A09AC2C8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8068-FBB9-498F-AB4B-297714EA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880E-83B0-4E98-A548-EB544602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7268-A33C-499B-900B-58F1B310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379F-268A-4A93-83BB-0FDA3CD0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D565-F22E-428A-BDB0-B9AEE70A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35E4-9BC0-467E-90ED-713D1CA7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C9B-FD40-417F-843C-A96E3798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DEA8-174B-447E-A365-9B069A09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FA5B-E8E1-43A4-A39B-F9880F8D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739-74DC-40A6-9F20-D5100E42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57B0-DA68-496D-8D8B-AEEF77D5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5556-59EF-442D-9E4E-B5B2BE5B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34F-1AA8-47E9-A4F6-8B561293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412-2EFA-4E8B-961D-E549B3D1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B6D-AEE2-46D5-B165-B51FFB2E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187-905B-4CB5-AB4C-897A2578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8DE-8B91-4C52-A6F7-DFD07E6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64C-AE40-4634-92C2-F8DB39FF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6D6-B229-4A67-8944-010405C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E0EA-0760-49BA-8112-CE7B854D4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D0E0-6FA0-418D-BA96-C1FD5BCED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Конкурс памятников родному языку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4967280" cy="256716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213372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справка 003"/>
          <p:cNvPicPr/>
          <p:nvPr/>
        </p:nvPicPr>
        <p:blipFill>
          <a:blip r:embed="rId1"/>
          <a:stretch/>
        </p:blipFill>
        <p:spPr>
          <a:xfrm>
            <a:off x="3780000" y="404640"/>
            <a:ext cx="4930560" cy="59040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46" name="Rectangle 8"/>
          <p:cNvSpPr/>
          <p:nvPr/>
        </p:nvSpPr>
        <p:spPr>
          <a:xfrm>
            <a:off x="250920" y="35604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Иванова Дар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Сушинская Виктория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11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684360" y="40050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Бурлева Екатери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9 «Б»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608720" cy="58323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a30"/>
                </a:solidFill>
                <a:latin typeface="Times New Roman"/>
              </a:rPr>
              <a:t>Самый неисчерпаемый проект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4356000" y="602136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Гончаров Дмитрий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11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285840" y="1873800"/>
            <a:ext cx="378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Русский язык неисчерпаемо богат и все обогащается с быстротой поражающ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.Горь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9" descr="справка 004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458964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539640" y="6191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Калушина Валерия 11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справка 008"/>
          <p:cNvPicPr/>
          <p:nvPr/>
        </p:nvPicPr>
        <p:blipFill>
          <a:blip r:embed="rId1"/>
          <a:stretch/>
        </p:blipFill>
        <p:spPr>
          <a:xfrm>
            <a:off x="285840" y="1428840"/>
            <a:ext cx="5106960" cy="421488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55" name="Rectangle 8"/>
          <p:cNvSpPr/>
          <p:nvPr/>
        </p:nvSpPr>
        <p:spPr>
          <a:xfrm>
            <a:off x="0" y="358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Самый поэтический</a:t>
            </a:r>
            <a:r>
              <a:rPr b="1" lang="en-US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проек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643720" y="1596600"/>
            <a:ext cx="35002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Русский язык - это прежде всего Пушкин — нерушимый причал русского языка. Это Лермонтов, Лесков, Чехов, Горьк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.Н.Толст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571464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Савельев Никола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9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справка 001"/>
          <p:cNvPicPr/>
          <p:nvPr/>
        </p:nvPicPr>
        <p:blipFill>
          <a:blip r:embed="rId1"/>
          <a:stretch/>
        </p:blipFill>
        <p:spPr>
          <a:xfrm>
            <a:off x="357120" y="1071720"/>
            <a:ext cx="3500640" cy="453996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59" name="Прямоугольник 5"/>
          <p:cNvSpPr/>
          <p:nvPr/>
        </p:nvSpPr>
        <p:spPr>
          <a:xfrm>
            <a:off x="1253880" y="357120"/>
            <a:ext cx="69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Самый  выразительный</a:t>
            </a:r>
            <a:r>
              <a:rPr b="1" lang="en-US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проек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214880" y="2015280"/>
            <a:ext cx="47149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a30"/>
                </a:solidFill>
                <a:latin typeface="Times New Roman"/>
                <a:ea typeface="Calibri"/>
              </a:rPr>
              <a:t>Нет таких звуков, красок, образов и мыслей - сложных и простых, - для которых не нашлось бы в нашем языке точного выраж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dda30"/>
                </a:solidFill>
                <a:latin typeface="Times New Roman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fdda30"/>
                </a:solidFill>
                <a:latin typeface="Times New Roman"/>
                <a:ea typeface="Calibri"/>
              </a:rPr>
              <a:t>К. Г. Паустов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a30"/>
                </a:solidFill>
                <a:latin typeface="Times New Roman"/>
              </a:rPr>
              <a:t>Самый  мировой  проект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4214880" y="1714680"/>
            <a:ext cx="4713120" cy="33573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163" name="Прямоугольник 7"/>
          <p:cNvSpPr/>
          <p:nvPr/>
        </p:nvSpPr>
        <p:spPr>
          <a:xfrm>
            <a:off x="4286160" y="564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Шиленкова Мар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9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806120"/>
            <a:ext cx="3929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a30"/>
                </a:solidFill>
                <a:latin typeface="Times New Roman"/>
                <a:ea typeface="Times New Roman"/>
              </a:rPr>
              <a:t>Русский язык должен стать мировым языком. Настанет время (и оно не за горами),— русский язык начнут изучать по всем меридианам земного ша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.Н.Т</a:t>
            </a:r>
            <a:r>
              <a:rPr b="0" i="1" lang="en-US" sz="2800" spc="-1" strike="noStrike" u="sng">
                <a:solidFill>
                  <a:srgbClr val="fdda30"/>
                </a:solidFill>
                <a:uFillTx/>
                <a:latin typeface="Times New Roman"/>
                <a:ea typeface="Times New Roman"/>
              </a:rPr>
              <a:t>олст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00720" y="1125000"/>
            <a:ext cx="46432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В 2005 году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в городе Ульяновске установлен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памятни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букве Ё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51640" y="4869000"/>
            <a:ext cx="2225520" cy="15843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25" name="Picture 8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176720" cy="574848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еред открытием памятника был объявлен конкурс на лучший эскиз. На конкурс прислали смешные, утилитарные, лирические эски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2674800" cy="249228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pic>
        <p:nvPicPr>
          <p:cNvPr id="128" name="Picture 14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2881440" cy="246204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3745080" cy="29052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30" name="Rectangle 10"/>
          <p:cNvSpPr/>
          <p:nvPr/>
        </p:nvSpPr>
        <p:spPr>
          <a:xfrm>
            <a:off x="0" y="18900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Главный приз – установка памятника в Ульяновске– достался </a:t>
            </a: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художнику Александру Зинину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По его задумке буква Ё на постаменте в точности повторяет самую первую букву Ё – именно такую, какой она увидела свет впервые в слове «слёзы». Увеличенная буква воспроизводит даже все неровности того первого типографского оттиска 1797 года. До этого же звук, передаваемый буквой Ё, записывался двумя знаками, например, «слiозы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1" descr=""/>
          <p:cNvPicPr/>
          <p:nvPr/>
        </p:nvPicPr>
        <p:blipFill>
          <a:blip r:embed="rId2"/>
          <a:stretch/>
        </p:blipFill>
        <p:spPr>
          <a:xfrm>
            <a:off x="1042920" y="4292640"/>
            <a:ext cx="1835280" cy="11970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 мае 2007 года в Белгороде в рамках Дней российской литературы был открыт памятник «Русское слово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600720" cy="27558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34" name=""/>
          <p:cNvSpPr txBox="1"/>
          <p:nvPr/>
        </p:nvSpPr>
        <p:spPr>
          <a:xfrm>
            <a:off x="3708360" y="1915920"/>
            <a:ext cx="526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ec94"/>
                </a:solidFill>
                <a:latin typeface="Times New Roman"/>
              </a:rPr>
              <a:t>Памятник работы белгородского скульптора </a:t>
            </a:r>
            <a:r>
              <a:rPr b="1" lang="en-US" sz="2200" spc="-1" strike="noStrike" u="sng">
                <a:solidFill>
                  <a:srgbClr val="feec94"/>
                </a:solidFill>
                <a:uFillTx/>
                <a:latin typeface="Times New Roman"/>
              </a:rPr>
              <a:t>Анатолия Шишкова</a:t>
            </a:r>
            <a:r>
              <a:rPr b="0" lang="en-US" sz="2200" spc="-1" strike="noStrike">
                <a:solidFill>
                  <a:srgbClr val="feec94"/>
                </a:solidFill>
                <a:latin typeface="Times New Roman"/>
              </a:rPr>
              <a:t> выполнен в виде четырехметровой бронзовой Библии, на раскрытой странице которой выделяются буквы русского алфавита. Над книгой - голубь, несущий золотое перо - символ благой вести. Венчают памятник слова из Евангелия - "В начале было слово...". Памятник отражает дух величия и нерушимости русского языка и его связь с православными ценностями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Памятник букве "Ў"</a:t>
            </a:r>
            <a:br>
              <a:rPr sz="3200"/>
            </a:b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в городе Полоцке (Белоруссия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3692520" cy="41418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3610080" cy="377820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Памятник родному языку </a:t>
            </a:r>
            <a:br>
              <a:rPr sz="3600"/>
            </a:b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в Тбилиси (Грузия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476360" y="2031840"/>
            <a:ext cx="6120000" cy="426744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684360" y="1928880"/>
            <a:ext cx="7632720" cy="420192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  <p:sp>
        <p:nvSpPr>
          <p:cNvPr id="141" name="Rectangle 4"/>
          <p:cNvSpPr/>
          <p:nvPr/>
        </p:nvSpPr>
        <p:spPr>
          <a:xfrm>
            <a:off x="324000" y="333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Памятник родному язык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в городе Нахичевань  (Азербайджан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аши проек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3376440" y="622836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Дулова Анна  11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8" descr="справка 002"/>
          <p:cNvPicPr/>
          <p:nvPr/>
        </p:nvPicPr>
        <p:blipFill>
          <a:blip r:embed="rId1"/>
          <a:stretch/>
        </p:blipFill>
        <p:spPr>
          <a:xfrm>
            <a:off x="1042920" y="1197000"/>
            <a:ext cx="7416720" cy="4922640"/>
          </a:xfrm>
          <a:prstGeom prst="rect">
            <a:avLst/>
          </a:prstGeom>
          <a:ln w="15840">
            <a:solidFill>
              <a:srgbClr val="33cccc"/>
            </a:solidFill>
            <a:miter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14:27Z</dcterms:created>
  <dc:creator>Alex</dc:creator>
  <dc:description/>
  <dc:language>en-US</dc:language>
  <cp:lastModifiedBy>Alex</cp:lastModifiedBy>
  <dcterms:modified xsi:type="dcterms:W3CDTF">2012-11-26T19:02:18Z</dcterms:modified>
  <cp:revision>16</cp:revision>
  <dc:subject/>
  <dc:title>Слайд 1</dc:title>
</cp:coreProperties>
</file>