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49A-D000-434C-AFAD-3A5D50C6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A41-701E-4679-89D4-53C44F15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1D9-59AF-4C91-933C-F44BF5BF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4F3-5553-4C3A-967B-310DABB8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8B46-80B8-466F-A5F3-D09108E5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E125-8724-4716-A097-F744304C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2D0E-8858-4A3F-9B39-2BE3D8F0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1F60-4702-45AF-A793-48644E6E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782C-DA1D-4180-9DD6-36FE6A38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ABEB-56F5-42DE-A406-A68BE4B3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8D00-58FF-4A37-BC12-6A7E3F46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F69-A537-4CAB-840E-54615FE6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FFC4-0475-48DA-8B87-B6E28735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A3AC-493C-422A-B110-41613BBE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1852-36E6-4A5F-B928-81A4318A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FA9A-D376-4567-98D4-F1C2F073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D6B3-944A-47E8-BC15-78E2E8C0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C27-5F87-4CD1-92BC-2E2C59AD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D1B-5421-4126-B73C-5FE70A7D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85B-F330-4A43-BF07-1A4A4F92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ADF-71CA-45C5-B573-6A63BD7B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C25-7389-4FA3-BD5A-96901E8D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755-A178-4BEB-9A54-E915A655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680-30B2-4BE0-B8EC-2DB3CCBA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e1"/>
            </a:gs>
            <a:gs pos="100000">
              <a:srgbClr val="3d3d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5DD7-B836-4BF6-9B01-0D02A58FB9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e1"/>
            </a:gs>
            <a:gs pos="100000">
              <a:srgbClr val="3d3d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63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63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030B-21A6-4CD7-8396-3F401E9A81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e1"/>
            </a:gs>
            <a:gs pos="100000">
              <a:srgbClr val="3d3d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 Narrow"/>
              </a:rPr>
              <a:t>Мой взгляд на воспитание</a:t>
            </a: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..У всех на виду твоё имя - учитель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И спрос с тебя строгий, и честь высо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                                                   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С.Осипов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 rot="21085200">
            <a:off x="6300720" y="5084640"/>
            <a:ext cx="18306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23,-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23,-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6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23,-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23,-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e1"/>
            </a:gs>
            <a:gs pos="100000">
              <a:srgbClr val="3d3d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 Narrow"/>
              </a:rPr>
              <a:t>Общечеловеческие ценности</a:t>
            </a: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5019840" y="3417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1341360"/>
            <a:ext cx="1872000" cy="1152720"/>
          </a:xfrm>
          <a:prstGeom prst="foldedCorner">
            <a:avLst>
              <a:gd name="adj" fmla="val 12500"/>
            </a:avLst>
          </a:prstGeom>
          <a:solidFill>
            <a:srgbClr val="8585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7280" y="2637000"/>
            <a:ext cx="1871640" cy="1152360"/>
          </a:xfrm>
          <a:prstGeom prst="foldedCorner">
            <a:avLst>
              <a:gd name="adj" fmla="val 12500"/>
            </a:avLst>
          </a:prstGeom>
          <a:solidFill>
            <a:srgbClr val="8585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4005360"/>
            <a:ext cx="1871640" cy="1152360"/>
          </a:xfrm>
          <a:prstGeom prst="foldedCorner">
            <a:avLst>
              <a:gd name="adj" fmla="val 12500"/>
            </a:avLst>
          </a:prstGeom>
          <a:solidFill>
            <a:srgbClr val="8585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5445000"/>
            <a:ext cx="1871640" cy="1152720"/>
          </a:xfrm>
          <a:prstGeom prst="foldedCorner">
            <a:avLst>
              <a:gd name="adj" fmla="val 12500"/>
            </a:avLst>
          </a:prstGeom>
          <a:solidFill>
            <a:srgbClr val="8585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1413000"/>
            <a:ext cx="1872000" cy="1152360"/>
          </a:xfrm>
          <a:prstGeom prst="foldedCorner">
            <a:avLst>
              <a:gd name="adj" fmla="val 12500"/>
            </a:avLst>
          </a:prstGeom>
          <a:solidFill>
            <a:srgbClr val="8585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2708280"/>
            <a:ext cx="1871640" cy="1152360"/>
          </a:xfrm>
          <a:prstGeom prst="foldedCorner">
            <a:avLst>
              <a:gd name="adj" fmla="val 12500"/>
            </a:avLst>
          </a:prstGeom>
          <a:solidFill>
            <a:srgbClr val="8585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56360" y="4005360"/>
            <a:ext cx="1871640" cy="1152360"/>
          </a:xfrm>
          <a:prstGeom prst="foldedCorner">
            <a:avLst>
              <a:gd name="adj" fmla="val 12500"/>
            </a:avLst>
          </a:prstGeom>
          <a:solidFill>
            <a:srgbClr val="8585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р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5445000"/>
            <a:ext cx="1871640" cy="1152720"/>
          </a:xfrm>
          <a:prstGeom prst="foldedCorner">
            <a:avLst>
              <a:gd name="adj" fmla="val 12500"/>
            </a:avLst>
          </a:prstGeom>
          <a:solidFill>
            <a:srgbClr val="8585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илосер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e1"/>
            </a:gs>
            <a:gs pos="100000">
              <a:srgbClr val="3d3d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 Narrow"/>
              </a:rPr>
              <a:t>Школа - семья</a:t>
            </a: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60487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e1"/>
            </a:gs>
            <a:gs pos="100000">
              <a:srgbClr val="3d3d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Narrow"/>
              </a:rPr>
              <a:t>Участие в школьном проекте «Сыны Отечества»</a:t>
            </a:r>
            <a:endParaRPr b="0" lang="en-US" sz="3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522000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e1"/>
            </a:gs>
            <a:gs pos="100000">
              <a:srgbClr val="3d3d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 Narrow"/>
              </a:rPr>
              <a:t>Мы сами…</a:t>
            </a: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76360" y="3284640"/>
            <a:ext cx="4140360" cy="3105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059280" y="270828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292720" y="1989000"/>
            <a:ext cx="3851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e1"/>
            </a:gs>
            <a:gs pos="100000">
              <a:srgbClr val="3d3d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258920" y="2421000"/>
            <a:ext cx="28796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397cb"/>
                    </a:gs>
                    <a:gs pos="50000">
                      <a:srgbClr val="ff66ff"/>
                    </a:gs>
                    <a:gs pos="100000">
                      <a:srgbClr val="6397cb"/>
                    </a:gs>
                  </a:gsLst>
                  <a:lin ang="5400000"/>
                </a:gradFill>
                <a:latin typeface="Monotype Corsiva"/>
              </a:rPr>
              <a:t>Умен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397cb"/>
                  </a:gs>
                  <a:gs pos="50000">
                    <a:srgbClr val="ff66ff"/>
                  </a:gs>
                  <a:gs pos="100000">
                    <a:srgbClr val="6397cb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397cb"/>
                    </a:gs>
                    <a:gs pos="50000">
                      <a:srgbClr val="ff66ff"/>
                    </a:gs>
                    <a:gs pos="100000">
                      <a:srgbClr val="6397cb"/>
                    </a:gs>
                  </a:gsLst>
                  <a:lin ang="5400000"/>
                </a:gradFill>
                <a:latin typeface="Monotype Corsiva"/>
              </a:rPr>
              <a:t>воспитател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397cb"/>
                  </a:gs>
                  <a:gs pos="50000">
                    <a:srgbClr val="ff66ff"/>
                  </a:gs>
                  <a:gs pos="100000">
                    <a:srgbClr val="6397cb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397cb"/>
                    </a:gs>
                    <a:gs pos="50000">
                      <a:srgbClr val="ff66ff"/>
                    </a:gs>
                    <a:gs pos="100000">
                      <a:srgbClr val="6397cb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397cb"/>
                    </a:gs>
                    <a:gs pos="50000">
                      <a:srgbClr val="ff66ff"/>
                    </a:gs>
                    <a:gs pos="100000">
                      <a:srgbClr val="6397cb"/>
                    </a:gs>
                  </a:gsLst>
                  <a:lin ang="5400000"/>
                </a:gradFill>
                <a:latin typeface="Monotype Corsiva"/>
              </a:rPr>
              <a:t>детских ду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397cb"/>
                  </a:gs>
                  <a:gs pos="50000">
                    <a:srgbClr val="ff66ff"/>
                  </a:gs>
                  <a:gs pos="100000">
                    <a:srgbClr val="6397cb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765000"/>
            <a:ext cx="2952720" cy="1368720"/>
          </a:xfrm>
          <a:prstGeom prst="wedgeRectCallout">
            <a:avLst>
              <a:gd name="adj1" fmla="val -34569"/>
              <a:gd name="adj2" fmla="val 7181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гнос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4941720"/>
            <a:ext cx="2952720" cy="1368720"/>
          </a:xfrm>
          <a:prstGeom prst="wedgeRectCallout">
            <a:avLst>
              <a:gd name="adj1" fmla="val -12796"/>
              <a:gd name="adj2" fmla="val -7818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следователь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2781360"/>
            <a:ext cx="2953080" cy="1368360"/>
          </a:xfrm>
          <a:prstGeom prst="wedgeRectCallout">
            <a:avLst>
              <a:gd name="adj1" fmla="val -65268"/>
              <a:gd name="adj2" fmla="val 1415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1052640"/>
            <a:ext cx="2952720" cy="1368360"/>
          </a:xfrm>
          <a:prstGeom prst="wedgeRectCallout">
            <a:avLst>
              <a:gd name="adj1" fmla="val -68495"/>
              <a:gd name="adj2" fmla="val 322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изатор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4508640"/>
            <a:ext cx="2953080" cy="1368360"/>
          </a:xfrm>
          <a:prstGeom prst="wedgeRectCallout">
            <a:avLst>
              <a:gd name="adj1" fmla="val -55537"/>
              <a:gd name="adj2" fmla="val 299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вор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e1"/>
            </a:gs>
            <a:gs pos="100000">
              <a:srgbClr val="3d3d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 Narrow"/>
              </a:rPr>
              <a:t>Мой взгляд на воспитание</a:t>
            </a: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58920" y="25142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Edwardian Script ITC"/>
              </a:rPr>
              <a:t>Не навреди,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а уже потом –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научи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омоги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направь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e1"/>
            </a:gs>
            <a:gs pos="100000">
              <a:srgbClr val="3d3d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 Narrow"/>
              </a:rPr>
              <a:t>Мой взгляд на воспитание</a:t>
            </a:r>
            <a:endParaRPr b="0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..У всех на виду твоё имя - учитель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И спрос с тебя строгий, и честь высо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                                                   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С.Осипов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 rot="21085200">
            <a:off x="6300720" y="5084640"/>
            <a:ext cx="18306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23,-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23,-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6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23,-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23,-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2:32:29Z</dcterms:created>
  <dc:creator>User</dc:creator>
  <dc:description/>
  <dc:language>en-US</dc:language>
  <cp:lastModifiedBy>User</cp:lastModifiedBy>
  <dcterms:modified xsi:type="dcterms:W3CDTF">2008-02-18T10:10:03Z</dcterms:modified>
  <cp:revision>6</cp:revision>
  <dc:subject/>
  <dc:title>Слайд 1</dc:title>
</cp:coreProperties>
</file>