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E67-C350-423F-8F5C-E4BAFB17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2C2-9690-4A3C-8E6B-AFD84510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34D-5814-4A58-A856-58474DD1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489-EC70-4FFD-BC17-95DB4BEF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5095-7BFE-454C-9FE0-AB7701A9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549F-CD70-4569-A9AC-C3EC3900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FE9E-5505-40CF-A31B-118E538C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E94A-9D3F-457E-B60B-69DDD954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5C6E-0B89-47C1-B95E-812AE56F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F2D-2AD5-4A64-B61F-F738AB6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E24E-4382-470D-ACC8-60E8BDC4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7BC-0F58-4BEB-B01F-0273078E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0ADA-7236-4DA9-99F9-BF34734A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B0A5-6686-496B-981E-F141673B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4E1E-0139-4F9D-BC84-3F0A12CC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3EE1-7870-4C8A-9A81-080985B7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7E08-AD1B-4785-B303-E1C4CA3B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863-DFFF-4BE6-BE4B-8A15FB5B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FDA-CBF7-4C76-AC6A-C8B0A2A2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41B-2903-418D-A8FA-FAE70DC2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429-31AA-437C-A3F6-5FC8D308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352-5434-4E21-81AD-6DE005E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07E-F8C4-41FC-9194-06603BEC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032-55C4-4290-8DF2-D1F80D22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027-21BB-4ED3-80EB-4461332096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39EF-AC9F-4FD7-BC0B-75B9BAA70C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3645000"/>
            <a:ext cx="8353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Речной - поселок геологов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4764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716360" y="270828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95280" y="260280"/>
            <a:ext cx="8497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, учащиеся Речной школы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нимаемся исследовательской работой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 изучению геологических памятников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дамовского района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0920" y="2166840"/>
            <a:ext cx="8893080" cy="4691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979640" y="260280"/>
            <a:ext cx="5616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верим -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ш поселок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удет жить!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map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333360"/>
            <a:ext cx="9144000" cy="6275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432000" cy="347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04000" y="1052640"/>
            <a:ext cx="1170000" cy="119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47640" y="213372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4000" y="476280"/>
            <a:ext cx="8353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Месторождение пьезокварца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было открыто в 1954 году,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а в 1956 - уже появились первые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землянки и дома...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78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2376360" cy="1779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2376360" cy="176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47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 rot="20639400">
            <a:off x="468000" y="2421000"/>
            <a:ext cx="3240000" cy="2274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 rot="20577600">
            <a:off x="1476360" y="4076280"/>
            <a:ext cx="3311640" cy="225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4751280" y="4635360"/>
            <a:ext cx="4392720" cy="2222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788000" y="2492280"/>
            <a:ext cx="4174920" cy="2009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6920" y="1557360"/>
            <a:ext cx="7274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 1974 году население поселк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величилось до 1200 человек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76720" y="260280"/>
            <a:ext cx="5616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роизводство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тремительно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расширялось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044960"/>
            <a:ext cx="4211640" cy="2813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391440" y="1989000"/>
            <a:ext cx="2752560" cy="486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9280" y="2565360"/>
            <a:ext cx="1944720" cy="1281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564000" y="5229360"/>
            <a:ext cx="2736720" cy="1446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3889440" cy="267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970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273480"/>
            <a:ext cx="5211720" cy="3584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56360" y="692280"/>
            <a:ext cx="3887640" cy="5732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50920" y="404640"/>
            <a:ext cx="48258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Была построена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автоматическая линия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о обогащению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льного кварца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9160" cy="393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780000" y="260280"/>
            <a:ext cx="48258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сталл "Малютка"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есом 734кг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находится в музее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г.Екатеринбурга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20154000">
            <a:off x="5003280" y="3933720"/>
            <a:ext cx="2303640" cy="2571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20136600">
            <a:off x="2410920" y="378936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708360" y="2852640"/>
            <a:ext cx="5184720" cy="1127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59092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504200" y="4076640"/>
            <a:ext cx="16398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284720" y="260280"/>
            <a:ext cx="4859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тели поселка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сегда отличались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доровым образом жизни!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2513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80000" y="4506840"/>
            <a:ext cx="5364000" cy="2351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6000" y="2492280"/>
            <a:ext cx="3348000" cy="2373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2556000" y="2421000"/>
            <a:ext cx="3120840" cy="2017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4286160"/>
            <a:ext cx="3708360" cy="2571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0" y="2637000"/>
            <a:ext cx="2521080" cy="15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260280"/>
            <a:ext cx="8675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результате перестройки в 80-х годах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енно-промышленный комплекс был сокращен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промышленное производство в поселке остановлено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48156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2:39:07Z</dcterms:created>
  <dc:creator>Зеленкова</dc:creator>
  <dc:description/>
  <dc:language>en-US</dc:language>
  <cp:lastModifiedBy>Зеленкова</cp:lastModifiedBy>
  <dcterms:modified xsi:type="dcterms:W3CDTF">2013-02-02T15:13:38Z</dcterms:modified>
  <cp:revision>8</cp:revision>
  <dc:subject/>
  <dc:title>Слайд 1</dc:title>
</cp:coreProperties>
</file>