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90F-06BE-4163-AB1D-10A078AA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181-1405-4615-BF3B-6DF84F63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A81-0DC3-4262-BD91-C6816046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93C-5465-4AA0-8D4E-D959FCE0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2CFA-F586-4D36-AAA1-B328ECC9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3B86-0EED-48F1-B553-F24EEAD9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6A8D-6DB3-4355-9611-E746D096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8CE1-C67D-449D-8E5B-C32541ED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4C91-80EA-4F64-B7D9-B008C772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55CD-F149-4322-9307-822EE3F7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E111-F719-45F1-81C6-628FD04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E11-AD0E-4BDA-8EE4-EA7467AF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6EDD-BD69-4BF6-B4C8-F3403BB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80F7-5BBF-4756-B273-A9BC03F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D613-C1F2-48E0-ABB9-99E1EE7D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19C4-97F6-4E4F-9C87-9DB03187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4AEF-621E-452F-B4D6-1F4C41CE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8EC-C917-4B1B-86F3-05F73953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FF1-E9C0-420B-B6EB-617ACE53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B06-2A7A-490F-ABCD-75D50C02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9CA-80A1-4C79-B0BB-6E2ED044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7E9-E18E-41AA-8E7F-607F29F8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26B-4197-488A-9B82-B6B09139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46D-E811-4B8A-9D26-D641057D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54C6-E5F2-46A6-89AA-8E5AEF91DB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9467-AB89-4386-B439-8A03778569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8000" y="3573360"/>
            <a:ext cx="4608360" cy="3070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звитие творческой активности учащихся в процессе изучения химии в коллективных, групповых, индивидуальных формах обуч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356000" y="2997360"/>
            <a:ext cx="464364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Результаты итоговой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8360" y="1413000"/>
          <a:ext cx="8351640" cy="493848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0680"/>
                <a:gridCol w="1392120"/>
                <a:gridCol w="13921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аттес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щихся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от общего чис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 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/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/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468360" y="1413000"/>
            <a:ext cx="8351640" cy="4968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Творческ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946240"/>
                <a:gridCol w="1056240"/>
                <a:gridCol w="1056960"/>
                <a:gridCol w="1056600"/>
                <a:gridCol w="1056240"/>
                <a:gridCol w="1056960"/>
              </a:tblGrid>
              <a:tr h="34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творческих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щихся (в % к общему числ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/05 у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/06 у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/07 у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/08 у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/09 у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о-конспе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лады-сооб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е прое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стендов и стенных газ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внеклассных тематически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о внеклассных тематических мероприят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164040"/>
                          <a:tab algn="l" pos="3840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468360" y="1557360"/>
            <a:ext cx="8207280" cy="4608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692280"/>
          <a:ext cx="8785440" cy="5989680"/>
        </p:xfrm>
        <a:graphic>
          <a:graphicData uri="http://schemas.openxmlformats.org/drawingml/2006/table">
            <a:tbl>
              <a:tblPr/>
              <a:tblGrid>
                <a:gridCol w="1149480"/>
                <a:gridCol w="2298600"/>
                <a:gridCol w="3078360"/>
                <a:gridCol w="2259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неуроч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,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жения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Химический кружок для 8-9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лективный курс «Химический край – Оренбургская область» для 10-11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школьной и районной олимпиадах, организация тематических вечеров, экскурсия на Джусинское месторождение и оформление отч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есто в районной химической олимпиаде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районном конкурсе творческих про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Химический кружок для 8-9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лективный курс «Решение задач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школьной и районной олимпиадах, организация школьных тематических веч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йонной олимпиаде показали лучшие результаты (50% вып. задан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/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Химический кружок для 8-9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лективный курс «Решение задач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9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школьной и районной олимпиадах, участие в школьном конкурсе «Ломоносовские университеты», в школьном «Дне науки», организация тематических веч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есто в районном конкурсе творческих работ по э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/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Химический кружок для 8-9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лективный курс «Решение задач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9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школьной и районной олимпиадах, участие в школьном «Дне науки», участие во Всероссийском Фестивале «Портфолио», организация тематических веч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персональных Диплома Фестиваля исследовательских и творческих работ учащихся «Портфолио 2008/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42920" y="115560"/>
            <a:ext cx="30351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51640" y="115920"/>
            <a:ext cx="3384360" cy="2592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588000" y="3068640"/>
            <a:ext cx="2408400" cy="345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3094200" cy="3960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132000" y="1739880"/>
            <a:ext cx="3527640" cy="2155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50920" y="4076640"/>
            <a:ext cx="1788840" cy="2565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2102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8000" y="3357360"/>
            <a:ext cx="885672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Творческие способности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комплекс интеллектуальных и личностных характеристик, позволяющих человеку продуктивно действовать в ситуациях новизны, неопределенности, неполноты исходных данных и отсутствия четкого алгоритма решения проблем  и получать результаты, обладающих новизной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4392360" cy="3295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45600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В качестве основного условия развития творческой активности учащих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ы предлагаем использова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лективные, групповые и индивидуальные формы учебной деятельности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особствующие не просто воспроизведению знаний учащимися, а творческому их применению при самостоятельной работе и работе в группах сменного состава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19280" y="3573360"/>
            <a:ext cx="637524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Алгоритм действий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для развития твор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Научиться анализировать  систему (предмет, процесс). Надо уметь строить  и анализировать схемы «Состав -Связи- Взаимодействие» 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2. Научиться так называемому «широкому» мышлению.  Надо уметь любую систему рассматривать не отдельно, изолированно, а видеть её составные части и те системы, в которые входит наш объект анализа.  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3. Научиться Анализу развития систем.  Определять влияющие на развитие системы факторы внешней среды и внутренние  ресурсы.  Определять антисистемы (конкурентов) и параллельные системы (дружеские), их тенденции развития. Определять - чтобы избегать или использовать в своих целях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4. Уметь правильно ставить задачи в конкретной ситуации  и видеть пути  их решени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5. Использовать высокий уровень воображения, фантазии. Уметь  «привязывать»  нестандартные решения к  конкретным условиям. Бывает, что в фантастической идее содержится рациональное зерно. Но чтобы его найти, надо обладать  особым навыком - «творческого критика». 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6. Уметь реализовывать решения. Особенность методологии  обучения творческому мышлению в том, что человек, обучаясь анализировать и решать  различные нестандартные задачи, меняет не только мышление.  Человек учится СТРОИТЬ свои отношения  наиболее оптимальным образом - для достижений своих целей. При этом он, конечно, учитывает наличие разнообразных целей, направлений развития, ресурсов и у своего окруж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овременные образовательные технологии, способствующие активному обу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блемное обуч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центрированное обуч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дульное обуч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вивающее обуч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фференцированное обуч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ктивное (контекстное) обуч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гровое обуч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учение развитию критического мышл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ри изучении химии основой является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одчинение учебно-воспитательного процесса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рактическому интересу к предмету,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умению оценивать значение изучаемого материала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для конкретной це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активные формы обу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роки с измененными способами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роки, опирающиеся на фантази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роки, имитирующие какие-либо занятия         или виды рабо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роки с игровой состязательной основ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роки, предусматривающие трансформацию стандартных способов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атические предметные неде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3354480" cy="4740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етод проек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педагогическая технология, ориентированная не на интеграцию фактических знаний, а на их применени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иобретение новых. Активное включение школьника в создание тех или иных проектов дает ему возможность осваивать новые способы человеческой деятельности в социо­культурной среде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16360" y="4365720"/>
            <a:ext cx="3097440" cy="2328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651640" y="2133720"/>
            <a:ext cx="3369960" cy="2146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41054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85672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Внеклассная работа – учебная деятельность, которую учащиеся добровольно выполняют под руководством учителя во внеурочное время, сверх учебного пла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132000" y="2133720"/>
            <a:ext cx="5904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жной задачей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неклассных занятий по хим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является развитие у учащихс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ения самостоятельно работать с литературой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навыков экспериментальной работы в лаборатор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3341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ffcccc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ритерии оценки результативности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тие познавательного интереса учащихся и, как следствие, участие во внеклассных мероприятиях по химии, занятия в химическом кружке, выполнение творческих работ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ышение процента качества знаний учащихся по результатам обу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астие в школьных и районных олимпиадах, заочных творческих конкурсах федерального уров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бор дисциплины в качестве выпускного экзамена и хорошие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тие умений самостоятельно добывать знания и применять их в практ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бор специальностей с «химическим» уклоном и отсутствие проблем при дальнейшем обучении, осознание уважительного отношения к представителям производительного тру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6:37:24Z</dcterms:created>
  <dc:creator>Зеленкова</dc:creator>
  <dc:description/>
  <dc:language>en-US</dc:language>
  <cp:lastModifiedBy>Зеленкова</cp:lastModifiedBy>
  <dcterms:modified xsi:type="dcterms:W3CDTF">2013-02-02T15:05:04Z</dcterms:modified>
  <cp:revision>5</cp:revision>
  <dc:subject/>
  <dc:title>Развитие творческой активности учащихся в процессе изучения химии в коллективных, групповых, индивидуальных формах обучения.</dc:title>
</cp:coreProperties>
</file>