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AC1-8480-4475-AE46-C99A982F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A1F-5C8D-4613-949B-4B9DCC36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B7E-227D-4CEC-8906-63EFA3A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84E-60E0-4591-9965-3E32BD30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4602-EDAE-4476-B425-AE8D82ED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D50-36C2-4B52-BB66-340B48C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94F-7527-4F30-A7E3-0D86B089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0C7-E9EE-411C-BD4E-80EBD08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68C-FC9A-4BF5-8104-9F5191DD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427-11F2-4AD1-A2E1-F3B314E3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FBBE-A26F-46E6-B015-8A7FE18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FDC-B6B0-4E2B-A2CB-F1300805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3EC2-4252-4D0C-BAFA-2B5C342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B46-F08F-4CCA-8190-7A14C76A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244-83E5-4385-8D76-3B49E9F3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F61D-D471-404A-B48B-3DA0C1C3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EE51-3364-4B27-8E90-8A59F56F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9DB-0C67-4007-9565-C4E9A64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46A-3836-42F3-AF7E-F548076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ECC-1EA6-4869-87C0-C87DEAC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649-F95C-49E0-95D5-848FE78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B1B-B0B5-432D-9464-607A912E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5AB-73A0-4642-9865-2DC3142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C40-C83C-459E-8B0B-B3AC943A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B2C8-94DD-4A61-B032-E7C338BE22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D4C-6D65-4F46-B7D8-94D54B8415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8064360" cy="220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Типичные ошибки в сочинениях по прочитанному тексту </a:t>
            </a:r>
            <a:r>
              <a:rPr b="1" i="1" lang="en-US" sz="4000" spc="-1" strike="noStrike">
                <a:solidFill>
                  <a:srgbClr val="000000"/>
                </a:solidFill>
                <a:latin typeface="Kozuka Mincho Pro B"/>
              </a:rPr>
              <a:t>(201</a:t>
            </a: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1</a:t>
            </a:r>
            <a:r>
              <a:rPr b="1" i="1" lang="en-US" sz="4000" spc="-1" strike="noStrike">
                <a:solidFill>
                  <a:srgbClr val="000000"/>
                </a:solidFill>
                <a:latin typeface="Kozuka Mincho Pro B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ozuka Mincho Pro B"/>
              </a:rPr>
              <a:t>год)</a:t>
            </a:r>
            <a:br>
              <a:rPr sz="4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Анна Сергеевна Максимовская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Учитель русского языка и литерату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Kozuka Mincho Pro B"/>
              </a:rPr>
              <a:t>МОУ «СОШ №3» г.Южноуральск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главным акцентом Чуковского я соглас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сем виноват алкоголь, в результате которого человек превращается в растение. Которое сольют в удобрение. А она, удача, не в чем не винова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йдя через мучительные пытки, защищая свою Родину, проливая свою кровь, они молчали, как беззащитные рыб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 так как они (молодежь) физически очень маленькие, они не могут поднять себя с кров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й прадед погиб без ве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а проблема задела меня за самое и живое и я хотел бы обговорить ее в сочин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сть – это не то, что мы постепенно теряем.  И мы ждем, когда смерть протянет нам свою костлявую ру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ирали люди, как правило, от любви к родине, а не от страх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а позиция автора занимает хорошую точку зр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е мнение на этот текст не вполне устойчив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их сердцах стучал стук побе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ворачивается в то далекое дет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жизни нужно расположиться на саму себ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лючительный патриотизм блуждал среди еле дышащих солда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чувствовал чувство долга своей стране, а у меня внутри есть чувство настоящего мужчи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ружба Саньки к рассказчику гораздо больше, чем у автора к Сань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исывается глубоко ранимая проблема человече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пишет кровью своей душ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знь словно одеяло, которым тебя накрывают с головой, а материал для его создания является наше дет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ый снег накрыл землю как жених невес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важн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меть крепкую, уверенную в себе дружб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алкиваться на свои чувства, которые ведут впере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кст о двух кровяных брать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адал в такие ситуации, что хотелось отпустить ру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ужно достойно пройти свой путь до конца своих жизненных секун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26920" y="980640"/>
            <a:ext cx="7624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считаю, что автор очень тронутый,               хороший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автора наверняка душа с телом расставались, когда он описывал послевоенную вес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улыбается своим собственным мысл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р пишет на восклицательных и повествовательных интонац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го позиция на эту проблему в том, что люди более старшие должны заботиться о менее младш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юди не ценят чужого добра, пока сами на себе его не опробу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и поступки роняли его достои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724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на окружающих все рав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думав над этим вопросом, ко мне сам собой пришел выв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нужно серьезно об этом задуматься и стать подобрее относиться друг к друг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е губить хоть и животную, но все равно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акова разбирается в значении милосердия как лексическом, так и принципиальн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еще хорошо, что у нас есть толковые словари, которые помогут нам пояснит, что, зачем и ку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авал свою жизнь всю до кап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696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ились до последнего пульса на их ру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имоверные усилия наших солдат преклонили чашу весов на нашу сторон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готов защищать родину голой грудь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ужели зря пролилось столько пота и кров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я лошадей пожертвовала своей плод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 затрагивает тему дружеских инстинк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ня содрогнул этот отрыв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рой с головы до ног увлечен любимым заняти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устовский в данном произведении стучит в сердца чита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7696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выращиваем животность, чтобы снова убить. С другой стороны, не мы так захотели выстроить пищевую цепь, а сама природа. Природа, защищая сына, нанесла себе повреж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ади понимали, что такое жизнь и надо прожить ее с честью, чтоб им не было потом мучительно боль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автором я полностью согласен, так как очень тяжело жить, зная, что тебя все любят и уваж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ли бы Бездомный был более деликатным.     Он бы не попал в психиатрическую клини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же многие люди в нашем селе называют собак Каштанками, а это говорит о мно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этом отрывке говорится о том, каким был   «дрессированным» А.П. Чехов, и мне жаль, что из жизни ушел такой хороший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отрю на Чехова, вспоминаю Ломонос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анд был воспитан так же, как и Чех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ыновья Тараса возвращаются в свою деревню после учебы в институте. И продолжают там жить, как будто и не уезжа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помним Герона, жителя Древней Греции. Именно  он, в очередной раз находясь в ванной, понял, что существует сила выталкивания. Я думаю, многим не раз приходилось лежать ванной и до жизни Герона, и после. Но к нам судьба и удача не повернулас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 время войны в Кусе женщины делали заготовки на зиму, рубили капусту в одном корыте по очереди, хотя оно принадлежало одной из н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ргументом важности дружбы является песня  «С голубого ручейка начинается рек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27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Основные ошибки в сочинениях выпускников 2010 года можно классифицировать следующим образом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064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фограф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мматическ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чев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язанные с незнанием художественных произвед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шибки, связанные с незнанием истор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ер мужской дружбы Путин и Медведев.           Они так сдружились, что даже стали передавать пост президе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ж любит жену. Жена любит мужа. И это горе они пронесли через вс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знецов – автор текста, а по совместительству участник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я – это святые люди, им нужно ставить памятник. И светлая им памят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уковский  известный русский писатель таких знаменитых произведений, как «Тараканищ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77040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связанные с незнанием художественных произвед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ов – великий поэт, и очень жаль, что он не выступал со своими стих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ов знаменит такими произведениями, как «Лошадиная фамилия», «Антоновские яблоки», «Шенел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тивопоставить Онегину можно Сонечку Мармеладову из романа Лермонтова «Герой нашего времени», который благодаря скромности был антиподом Печор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оизведении Гоголя «Мертвые души» Базаров был слишком горд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ассказе Шарикова «Собачье сердце»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омане Остафьева «Царь-рыбешка» герой однажды поймал огромную осетр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 Чаадаев из романа Айтматова «И дольше века длится ден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нвизг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овести Солженицына «Один день Ивана Васильевич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есть Шолохова «Судьба одного челове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ибоедов «Ванечка – мой сынок» (речь идет о «Судьбе человека» М. Шолохов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 патриотизма очень  часто встречается в творчестве Толстого, Болконского и это очень длинный спис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.В. Лермонтов «Война и мир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 пример из «Тихого Дона» Шолохова. Болконский имел хорошую связь с дуб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устовский «Василий Теркин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сть «Иван Теркин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изведение М. Булгакова «Понтий Пилат – прокурор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нчаров «Обломо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рк Твен «20 тысяч лье под водой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го семеро отважных девушек и их старшина Басков гоняли 16 немцев по лес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помним рассказ не помню какого автора и названия, где жили два брата. Один помог другому, а другой нет. Его мучила сове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 Болконский, оказавшись в бою, испугавшись, просто кинул свой пистолет и убеж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олеон вылечил Балконск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оизведении «Герасим и муму» Герасим проявил милосердие и спас мум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немой герой и муму стали хорошими товарищами. Ведь он не стал его топить, проявив милосерд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расим повесился после своего поступ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ля кого не секрет, что Горький написал «Герой нашего време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нгиз Айтма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конский в конце романа практически погиб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696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ть произведение «Абломов». Его автор Достоевский. В этом рассказе автор показал, как человек деградировал, загнал себя в комнату, на дев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хочу оставить без внимания еще одно произведение Лермонтова «Собачье сердце». Сколько мучений претерпела собака за свою жизнь! И в итоге нашелся человек, у которого забрали сердце и он не смог оставить это равнодушным. В итоге собаки не стало, а ее сердце осталось жи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связанные с незнанием истор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кая Отечественная война 1812 г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.В. Путин родился в маленькой убогой деревень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примеру, Зоя Космодемьяновская и Павлик Морозов. Много фашистов погибли от рук этих дво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имер хочу привести обычного мальчика Павлика Морозова, который во время одного из сражений Второй Мировой войны, ценой собственной жизни ради других подорвал танк. Еще один подобный пример связан с фильмом «Тарас Бульб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т примеры героизма в Великой Отечественной вой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ван Сусанин, Протопоп Аввакум из одноименного жи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я Космедимьянская, Гостелло, Андрей Соколов и Виктор Талалахин, совершивший таран немецкого самоле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я Космоденьяновская героически погибла в ноябре в тысяча девятьсот первом г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нерал Карабыш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имер приведу Ивана Сусанина, который увел немцев глубоко в лес  ценой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рфографические 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771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ъчерта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-поси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кобстр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8000" y="2204640"/>
            <a:ext cx="345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Ща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д домн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410184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фто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ребрац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уч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взрос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цкие, отвецтвеность, Бретская креп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9280" y="2060640"/>
            <a:ext cx="35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вай-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вольно-т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как 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с м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мыс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размышл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ое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рл-Марк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27640" y="1989000"/>
            <a:ext cx="424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че не помог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тцанская друж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ра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тому-ч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360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 стализ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за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и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ер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и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ущи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почуствова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зднаю точ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луч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ои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ммин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та-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 что ни бу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ггетиру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к не у ж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наказан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Щит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нтерв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Грамматическ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хая, их нею, ихан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вошня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чтожест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взял и опёк девуш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ащиваем живот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же самые эгоисты сталкиваются над проблемой другого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П. Чехов был хороший писатель, но умер рано.  В сегодняшней жизни таких едениц на плане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у от кого расчитывать помощ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Речевы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ошиб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сто слышу говорят мол родился в рубашке, также слышу и антонимы это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просто идут неправильными путями,          а некоторые складывают руки и жду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дь даже сыр в мышеловке лежит не за бесплат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с пустого места ему приснилась периодическая система. А в состоянии эффек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 добился достяжения при помощи труда. Это мы можем пронаблюдать в сказ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лотая рыб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8:02:52Z</dcterms:created>
  <dc:creator>Vladimir</dc:creator>
  <dc:description/>
  <dc:language>en-US</dc:language>
  <cp:lastModifiedBy>Admin</cp:lastModifiedBy>
  <dcterms:modified xsi:type="dcterms:W3CDTF">2013-02-06T15:18:32Z</dcterms:modified>
  <cp:revision>27</cp:revision>
  <dc:subject/>
  <dc:title>Типичные ошибки в сочинениях по прочитанному тексту</dc:title>
</cp:coreProperties>
</file>