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6A7BE-4E54-4BFB-9A08-71E702C32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67AB8-89F8-46D6-8C7C-020ED1294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A67E9-6B79-4F73-ABFB-991771B1E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33AB1-D9EF-41F6-A514-EDE2D5E20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2694D-857B-4C81-B12F-C9208FCED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20F6B-FACE-439F-BF4E-7341F6235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B9597-62CF-4B54-95B1-66C6BA030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C6DFB-45A0-4201-B045-94534C8B9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66134-DF9C-4362-ABA0-D15F10097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51BB1-969C-4046-943C-168C0E4E3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31E30-ACAD-49F9-A1EC-9C1159CE0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81152-6461-492B-A30B-36E880AE8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850B0-F0D0-4EE0-9FCE-A1CBA7750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81BE2-ED74-4AE3-8CC2-DF05289D0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71841-0C55-464C-9EBF-F7F8F9968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4234A-F795-447D-9D0F-D1644F430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2D4B8-9989-4789-9586-4EA06CE98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B4D76-148A-4B4D-A73E-DD4D0EF6A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E7BD8-A1A0-4FC3-BA1E-ED53FCD35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0F70E-A2EF-4C04-B7D9-5300EBC2E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659FA-B4DD-4095-8C6B-D639CEC77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7CDCC-0C26-47EC-A0EC-306F1C8D2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9B20D-3C44-4C9C-ABD4-E80668755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02591-34C5-4A7A-B9DA-451AFE389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9306"/>
            </a:gs>
            <a:gs pos="100000">
              <a:srgbClr val="fac12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ea9306"/>
                </a:gs>
                <a:gs pos="50000">
                  <a:srgbClr val="fac120"/>
                </a:gs>
                <a:gs pos="100000">
                  <a:srgbClr val="ea930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ea9306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ea9306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ea9306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ac120"/>
                </a:gs>
                <a:gs pos="100000">
                  <a:srgbClr val="ff99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ac120"/>
                </a:gs>
                <a:gs pos="100000">
                  <a:srgbClr val="73580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ac120"/>
                </a:gs>
                <a:gs pos="100000">
                  <a:srgbClr val="73580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25203"/>
                </a:gs>
                <a:gs pos="100000">
                  <a:srgbClr val="ea930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ac120"/>
                </a:gs>
                <a:gs pos="100000">
                  <a:srgbClr val="ea930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ea9306"/>
                </a:gs>
                <a:gs pos="50000">
                  <a:srgbClr val="fac120"/>
                </a:gs>
                <a:gs pos="100000">
                  <a:srgbClr val="ea930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dd1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dd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6666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84ED5-595F-408D-80B4-6B0C5A7C66C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9306"/>
            </a:gs>
            <a:gs pos="100000">
              <a:srgbClr val="fac12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ea9306"/>
                </a:gs>
                <a:gs pos="50000">
                  <a:srgbClr val="fac120"/>
                </a:gs>
                <a:gs pos="100000">
                  <a:srgbClr val="ea930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ea9306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ea9306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ea9306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ac120"/>
                </a:gs>
                <a:gs pos="100000">
                  <a:srgbClr val="ff99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ac120"/>
                </a:gs>
                <a:gs pos="100000">
                  <a:srgbClr val="73580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ac120"/>
                </a:gs>
                <a:gs pos="100000">
                  <a:srgbClr val="73580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25203"/>
                </a:gs>
                <a:gs pos="100000">
                  <a:srgbClr val="ea930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ac120"/>
                </a:gs>
                <a:gs pos="100000">
                  <a:srgbClr val="ea930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ea9306"/>
                </a:gs>
                <a:gs pos="50000">
                  <a:srgbClr val="fac120"/>
                </a:gs>
                <a:gs pos="100000">
                  <a:srgbClr val="ea930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dd1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DB451-0C94-4277-B816-571EBBB8C85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666633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9306"/>
            </a:gs>
            <a:gs pos="100000">
              <a:srgbClr val="fac12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u="sng">
                <a:solidFill>
                  <a:srgbClr val="660033"/>
                </a:solidFill>
                <a:uFillTx/>
                <a:latin typeface="Blackadder ITC"/>
              </a:rPr>
              <a:t>Волшебная страна подлежащего!</a:t>
            </a:r>
            <a:br>
              <a:rPr sz="4800"/>
            </a:br>
            <a:br>
              <a:rPr sz="4800"/>
            </a:br>
            <a:r>
              <a:rPr b="1" lang="en-US" sz="4800" spc="-1" strike="noStrike">
                <a:solidFill>
                  <a:srgbClr val="660033"/>
                </a:solidFill>
                <a:latin typeface="Blackadder ITC"/>
              </a:rPr>
              <a:t>Вопросы к подлежащему</a:t>
            </a:r>
            <a:endParaRPr b="1" lang="en-US" sz="48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2286000" y="4572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Подготовила: Попова Е. А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9306"/>
            </a:gs>
            <a:gs pos="100000">
              <a:srgbClr val="fac12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660033"/>
                </a:solidFill>
                <a:latin typeface="Times New Roman"/>
              </a:rPr>
              <a:t>Граф Подлежащее</a:t>
            </a: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080808"/>
                </a:solidFill>
                <a:latin typeface="Times New Roman"/>
              </a:rPr>
              <a:t>Главный член предложения, отвечающий на вопрос кто? или что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i="1" lang="ru-RU" sz="4000" spc="-1" strike="noStrike" u="sng">
                <a:solidFill>
                  <a:srgbClr val="660033"/>
                </a:solidFill>
                <a:uFillTx/>
                <a:latin typeface="Times New Roman"/>
              </a:rPr>
              <a:t>Закон Графства гласит: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3200" spc="-1" strike="noStrike">
                <a:solidFill>
                  <a:srgbClr val="080808"/>
                </a:solidFill>
                <a:latin typeface="Times New Roman"/>
              </a:rPr>
              <a:t>Вопрос к подлежащему начинается с вопросительного слова </a:t>
            </a:r>
            <a:r>
              <a:rPr b="0" lang="en-US" sz="3200" spc="-1" strike="noStrike">
                <a:solidFill>
                  <a:srgbClr val="080808"/>
                </a:solidFill>
                <a:latin typeface="Times New Roman"/>
              </a:rPr>
              <a:t>who </a:t>
            </a:r>
            <a:r>
              <a:rPr b="0" lang="ru-RU" sz="3200" spc="-1" strike="noStrike">
                <a:solidFill>
                  <a:srgbClr val="080808"/>
                </a:solidFill>
                <a:latin typeface="Times New Roman"/>
              </a:rPr>
              <a:t>или </a:t>
            </a:r>
            <a:r>
              <a:rPr b="0" lang="en-US" sz="3200" spc="-1" strike="noStrike">
                <a:solidFill>
                  <a:srgbClr val="080808"/>
                </a:solidFill>
                <a:latin typeface="Times New Roman"/>
              </a:rPr>
              <a:t>what</a:t>
            </a:r>
            <a:r>
              <a:rPr b="0" lang="ru-RU" sz="3200" spc="-1" strike="noStrike">
                <a:solidFill>
                  <a:srgbClr val="080808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660033"/>
                </a:solidFill>
                <a:uFillTx/>
                <a:latin typeface="Times New Roman"/>
              </a:rPr>
              <a:t>Порядок слов предложения: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" y="5105520"/>
            <a:ext cx="1676520" cy="1066680"/>
          </a:xfrm>
          <a:prstGeom prst="ellipse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181480"/>
            <a:ext cx="2361960" cy="990720"/>
          </a:xfrm>
          <a:prstGeom prst="flowChartExtra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105520" y="4952880"/>
            <a:ext cx="2057400" cy="1219320"/>
          </a:xfrm>
          <a:prstGeom prst="pentagon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7391520" y="4800600"/>
            <a:ext cx="1444680" cy="182556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838080" y="5410080"/>
            <a:ext cx="106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33"/>
                </a:solidFill>
                <a:latin typeface="Times New Roman"/>
              </a:rPr>
              <a:t>Wh - 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895480" y="58672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33"/>
                </a:solidFill>
                <a:latin typeface="Times New Roman"/>
              </a:rPr>
              <a:t>сказуемо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410080" y="5334120"/>
            <a:ext cx="1447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33"/>
                </a:solidFill>
                <a:latin typeface="Times New Roman"/>
              </a:rPr>
              <a:t>Дополните льные член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9306"/>
            </a:gs>
            <a:gs pos="100000">
              <a:srgbClr val="fac12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660033"/>
                </a:solidFill>
                <a:latin typeface="Times New Roman"/>
              </a:rPr>
              <a:t>Графство порядка слов</a:t>
            </a:r>
            <a:endParaRPr b="1" lang="en-US" sz="5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660033"/>
                </a:solidFill>
                <a:latin typeface="Times New Roman"/>
              </a:rPr>
              <a:t>Ben lives in Moscow.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660033"/>
                </a:solidFill>
                <a:latin typeface="Times New Roman"/>
              </a:rPr>
              <a:t>Who lives in Moscow?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660033"/>
                </a:solidFill>
                <a:latin typeface="Times New Roman"/>
              </a:rPr>
              <a:t>Cody lives in England.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660033"/>
                </a:solidFill>
                <a:latin typeface="Times New Roman"/>
              </a:rPr>
              <a:t>Who lives in England?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9306"/>
            </a:gs>
            <a:gs pos="100000">
              <a:srgbClr val="fac12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4800" spc="-1" strike="noStrike">
                <a:solidFill>
                  <a:srgbClr val="660033"/>
                </a:solidFill>
                <a:latin typeface="Times New Roman"/>
              </a:rPr>
              <a:t>The fox is red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660033"/>
                </a:solidFill>
                <a:latin typeface="Times New Roman"/>
              </a:rPr>
              <a:t>What is red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660033"/>
                </a:solidFill>
                <a:latin typeface="Times New Roman"/>
              </a:rPr>
              <a:t>The flower is beautiful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660033"/>
                </a:solidFill>
                <a:latin typeface="Times New Roman"/>
              </a:rPr>
              <a:t>What is beautiful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9306"/>
            </a:gs>
            <a:gs pos="100000">
              <a:srgbClr val="fac12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33"/>
                </a:solidFill>
                <a:latin typeface="Baskerville Old Face"/>
              </a:rPr>
              <a:t>Nikita’s my brother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33"/>
                </a:solidFill>
                <a:latin typeface="Baskerville Old Face"/>
              </a:rPr>
              <a:t>Who is my brother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33"/>
                </a:solidFill>
                <a:latin typeface="Baskerville Old Face"/>
              </a:rPr>
              <a:t>Maxim lives in Vladimir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33"/>
                </a:solidFill>
                <a:latin typeface="Baskerville Old Face"/>
              </a:rPr>
              <a:t>Who lives in Vladimir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33"/>
                </a:solidFill>
                <a:latin typeface="Baskerville Old Face"/>
              </a:rPr>
              <a:t>Moscow is my favourite city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33"/>
                </a:solidFill>
                <a:latin typeface="Baskerville Old Face"/>
              </a:rPr>
              <a:t>What is my favourite city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1-11-07T20:31:09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