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1C82-6201-4F78-853F-3EC7C701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E16-518B-4E3E-979B-F7C9F4A1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BAC-7502-44C2-9086-90F6C27F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4A4-BF7D-4A1E-9799-040EDF7A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4EED-21F6-40C4-95F3-868D78CC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3F14-FFD7-41F6-802D-190D274D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1EBA-A2B5-4B01-9089-690F85B9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7874-89AC-491E-872E-52A16CB1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6E80-A2D7-4F83-8310-9DA0D2C0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27FC-1720-4527-8E3B-E8042B37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AAD7-D8B6-4239-B7C5-10D8A019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F31-B8DF-4E27-A1C5-CA2FCD4E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AF3E-FE76-4D64-A9B5-F5108C8E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1EFB-1022-4A69-BB2C-127B9C57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DFA9-A6AB-4008-92E1-7414F729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F322-4272-43E1-B27B-2B3786BC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BD99-1AEB-4FEA-8E1C-8FF1530F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ECD-A995-4E68-8718-BEF08335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FC4-1F8F-480B-BA6E-10B110BD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ABB-D8D9-4C57-ADD6-57185617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B04-22AF-4167-83C1-87B19B4D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43D-3FB3-498A-8427-7064A7B6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E8E-0E2A-4A33-8BC0-159D459A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F8B-A85E-49F3-B916-A0BD0A62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3422-5FD2-4904-9907-6E129631D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5399-6148-4D29-8F0B-9BB1744C6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660033"/>
                </a:solidFill>
                <a:uFillTx/>
                <a:latin typeface="Blackadder ITC"/>
              </a:rPr>
              <a:t>Волшебная страна подлежащего!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660033"/>
                </a:solidFill>
                <a:latin typeface="Blackadder ITC"/>
              </a:rPr>
              <a:t>Вопросы к подлежащему</a:t>
            </a:r>
            <a:endParaRPr b="1" lang="en-US" sz="48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2860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готовила: Попова Е. 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Times New Roman"/>
              </a:rPr>
              <a:t>Граф Подлежащее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80808"/>
                </a:solidFill>
                <a:latin typeface="Times New Roman"/>
              </a:rPr>
              <a:t>Главный член предложения, отвечающий на вопрос кто? или что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Закон Графства гласит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80808"/>
                </a:solidFill>
                <a:latin typeface="Times New Roman"/>
              </a:rPr>
              <a:t>Вопрос к подлежащему начинается с вопросительного слова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who </a:t>
            </a:r>
            <a:r>
              <a:rPr b="0" lang="ru-RU" sz="3200" spc="-1" strike="noStrike">
                <a:solidFill>
                  <a:srgbClr val="080808"/>
                </a:solidFill>
                <a:latin typeface="Times New Roman"/>
              </a:rPr>
              <a:t>или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what</a:t>
            </a:r>
            <a:r>
              <a:rPr b="0" lang="ru-RU" sz="32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Порядок слов предложения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5105520"/>
            <a:ext cx="1676520" cy="1066680"/>
          </a:xfrm>
          <a:prstGeom prst="ellipse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2361960" cy="990720"/>
          </a:xfrm>
          <a:prstGeom prst="flowChartExtra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4952880"/>
            <a:ext cx="2057400" cy="1219320"/>
          </a:xfrm>
          <a:prstGeom prst="pentagon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391520" y="4800600"/>
            <a:ext cx="1444680" cy="1825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080" y="54100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Wh -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сказуем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53341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ополните льные чл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33"/>
                </a:solidFill>
                <a:latin typeface="Times New Roman"/>
              </a:rPr>
              <a:t>Графство порядка слов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Times New Roman"/>
              </a:rPr>
              <a:t>Ben lives in Moscow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Times New Roman"/>
              </a:rPr>
              <a:t>Who lives in Moscow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Times New Roman"/>
              </a:rPr>
              <a:t>Cody lives in England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Times New Roman"/>
              </a:rPr>
              <a:t>Who lives in England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660033"/>
                </a:solidFill>
                <a:latin typeface="Times New Roman"/>
              </a:rPr>
              <a:t>The fox is red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33"/>
                </a:solidFill>
                <a:latin typeface="Times New Roman"/>
              </a:rPr>
              <a:t>What is red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33"/>
                </a:solidFill>
                <a:latin typeface="Times New Roman"/>
              </a:rPr>
              <a:t>The flower is beautiful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33"/>
                </a:solidFill>
                <a:latin typeface="Times New Roman"/>
              </a:rPr>
              <a:t>What is beautiful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Baskerville Old Face"/>
              </a:rPr>
              <a:t>Nikita’s my broth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Baskerville Old Face"/>
              </a:rPr>
              <a:t>Who is my broth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Baskerville Old Face"/>
              </a:rPr>
              <a:t>Maxim lives in Vladimi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Baskerville Old Face"/>
              </a:rPr>
              <a:t>Who lives in Vladimi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Baskerville Old Face"/>
              </a:rPr>
              <a:t>Moscow is my favourite cit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Baskerville Old Face"/>
              </a:rPr>
              <a:t>What is my favourite cit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07T20:31:0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