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9.png" ContentType="image/png"/>
  <Override PartName="/ppt/media/image13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 CY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15D5-B0F5-40AC-B2E4-7C427ED99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EB13-6DE9-4C72-9EAC-2105C2C34801}" type="slidenum">
              <a:rPr b="0" lang="en-US" sz="1200" spc="-1" strike="noStrike">
                <a:solidFill>
                  <a:srgbClr val="000000"/>
                </a:solidFill>
                <a:latin typeface="Geneva C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FB30-0572-43DC-A507-0DCCC5C18DDF}" type="slidenum">
              <a:rPr b="0" lang="en-US" sz="1200" spc="-1" strike="noStrike">
                <a:solidFill>
                  <a:srgbClr val="000000"/>
                </a:solidFill>
                <a:latin typeface="Geneva C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9E6-287E-4CFA-A411-4CF61A8F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ED0-137B-48F7-B941-EBD7A798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1C6-F6CF-4225-AC0A-FB487E03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F22-3E01-4895-ADA0-45A9D311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7BC1-9C28-4ED1-B717-5C188EB1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AC5B-473A-4DC3-860D-5F72EF3B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4E1E-6005-4F03-B9D4-CC9409BA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7500-3528-469D-AF58-27D88DEA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1363-7E8D-4B77-9D98-F7753B31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8388-84D8-4C9A-A651-871DDEF1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0B89-B99B-4C5D-BE95-6664B3CA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C92-5AE8-41A8-B259-0CF356AE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E413-B6E5-48DC-ADC4-6D7235B5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1FFC-752F-45B1-B840-A608EAEB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95FC-E9FA-4661-AFD4-76E2D30E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3D06-7EF5-4D36-B351-2649454E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FB02-9424-4A1E-9596-937FB99B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FC076-02CC-49C4-9322-B8CF65F4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A70E2-CC9C-407F-A19E-F9DE58CA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26D93-C68B-4BF7-B647-B0CB71E9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65DF-49C2-4138-8A9B-81BF89C9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498D9-EF19-4F4D-998B-B98B2A2C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29F-C1B4-4CD6-AF01-4643BE9A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93540-6C1B-485A-B51A-4505F1C5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8B1C7-7C25-4810-8A7E-EA10C8DB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A818-9E39-4B9B-AC39-6272F2E7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49BA4-B901-4A94-B160-D0AF30CA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C5DC6-31D0-46BC-9FBA-A1A0437C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2ADC-BE7A-4713-8247-54D36E17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4222C-684C-4ADA-817C-D136A050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7FF8F-F661-4412-B7EF-AC17C9AF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52E5E-1BE3-4C45-806B-5F35EC19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3D0E-842D-4A1C-9915-04EDCEA5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D1C-A3AB-4891-9CDC-B254DF8A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C13A0-9946-44DE-9E92-FF64519B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040D2-B696-417C-9B65-6DD2038A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57702-AFEC-4B97-9784-869AE815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35C4F-4894-4A88-ABCC-6E059B7A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BBC76-70DE-45C2-971E-31DC88BA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6657F-DA7F-4D64-A7EA-3900428A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43CC6-7353-45F1-92EE-0D9492B5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D25E7-64D4-415C-91C7-9BBB26A3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FA63D-2AA3-46EA-8875-719B87F0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045-228A-4B99-B43E-1C6F3163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756-8C86-49E0-8A82-A7185E3D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97C-D0AF-4CC1-9F99-1D549741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735-CEEC-4170-A6D5-2B2E3D2C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C9A-66C5-4076-9780-0E4B63CB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1839-3C3A-45B2-9DA4-52620A27290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 CY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 CY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 CY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 CY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3D7A-E159-424F-AACB-BD0C6482489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 CY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 CY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099C-2305-472E-B3C7-C5EA93CD5AF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9158-97D4-4A8E-A65E-FDD73348749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689040" y="609480"/>
            <a:ext cx="7772400" cy="2292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85520" y="3714840"/>
            <a:ext cx="80391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13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13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13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img5"/>
          <p:cNvPicPr/>
          <p:nvPr/>
        </p:nvPicPr>
        <p:blipFill>
          <a:blip r:embed="rId2"/>
          <a:srcRect l="0" t="7901" r="0" b="0"/>
          <a:stretch/>
        </p:blipFill>
        <p:spPr>
          <a:xfrm>
            <a:off x="2771640" y="2720880"/>
            <a:ext cx="3529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4617b"/>
                </a:solidFill>
                <a:latin typeface="Geneva CY"/>
              </a:rPr>
              <a:t>Функции белко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 CY"/>
              </a:rPr>
              <a:t>Ферментатив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 CY"/>
              </a:rPr>
              <a:t>Структур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neva CY"/>
              </a:rPr>
              <a:t>Двигатель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 CY"/>
              </a:rPr>
              <a:t>Транспорт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 CY"/>
              </a:rPr>
              <a:t>Защит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 CY"/>
              </a:rPr>
              <a:t>Регулятор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 CY"/>
              </a:rPr>
              <a:t>Энергетическ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Ферментативная функц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лковые молекулы ферментов способны ускорять течение биохимических реакций в клетке в сотни миллионов раз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643280" y="1893960"/>
            <a:ext cx="40435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0" y="365040"/>
            <a:ext cx="8783640" cy="15001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4714920" y="2786040"/>
            <a:ext cx="39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Белки входят в состав абсолютно всех </a:t>
            </a:r>
            <a:r>
              <a:rPr b="0" lang="ru-RU" sz="2400" spc="-1" strike="noStrike">
                <a:solidFill>
                  <a:srgbClr val="000000"/>
                </a:solidFill>
                <a:latin typeface="Geneva CY"/>
              </a:rPr>
              <a:t>органоидов клетки</a:t>
            </a: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 и мембран. Из белковых молекул могут состоять целые части организма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238" name="Picture 5" descr="_x000c_struk018.jpg                                                   00037073_x000b_iBook_507_X                    BB20CF7F:"/>
          <p:cNvPicPr/>
          <p:nvPr/>
        </p:nvPicPr>
        <p:blipFill>
          <a:blip r:embed="rId2"/>
          <a:stretch/>
        </p:blipFill>
        <p:spPr>
          <a:xfrm>
            <a:off x="380880" y="1828800"/>
            <a:ext cx="4254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212760" y="573120"/>
            <a:ext cx="8645400" cy="11034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357120" y="292896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Благодаря белкам сокращаются все мышцы и работают двигательные органоиды клеток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241" name="Picture 5" descr="&#13;aktmio019.jpg                                                  00037073_x000b_iBook_507_X                    BB20CF7F:"/>
          <p:cNvPicPr/>
          <p:nvPr/>
        </p:nvPicPr>
        <p:blipFill>
          <a:blip r:embed="rId2"/>
          <a:srcRect l="6986" t="4589" r="6646" b="3219"/>
          <a:stretch/>
        </p:blipFill>
        <p:spPr>
          <a:xfrm>
            <a:off x="6019920" y="1447920"/>
            <a:ext cx="2743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285840" y="706320"/>
            <a:ext cx="8650080" cy="14335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5786280" y="2286000"/>
            <a:ext cx="2895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Транспорт веществ из клетки и внутрь ее - это тоже задача белковых молекул.</a:t>
            </a:r>
            <a:r>
              <a:rPr b="0" lang="ru-RU" sz="2400" spc="-1" strike="noStrike">
                <a:solidFill>
                  <a:srgbClr val="000000"/>
                </a:solidFill>
                <a:latin typeface="Geneva CY"/>
              </a:rPr>
              <a:t> Так гемоглобин переносит кислород из легких к клеткам других тканей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428760" y="200016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4335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4"/>
          <p:cNvSpPr/>
          <p:nvPr/>
        </p:nvSpPr>
        <p:spPr>
          <a:xfrm>
            <a:off x="500040" y="278604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Особые белки - </a:t>
            </a:r>
            <a:r>
              <a:rPr b="0" i="1" lang="en-US" sz="2400" spc="-1" strike="noStrike">
                <a:solidFill>
                  <a:srgbClr val="000000"/>
                </a:solidFill>
                <a:latin typeface="Geneva CY"/>
              </a:rPr>
              <a:t>антитела</a:t>
            </a: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 ответственны за то, что клетки иммунной системы распознают и уничтожают чужеродные структуры во внутренней среде организма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2"/>
          <a:stretch/>
        </p:blipFill>
        <p:spPr>
          <a:xfrm>
            <a:off x="4535640" y="2500200"/>
            <a:ext cx="42274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8229600" cy="14446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609480" y="25146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Одним из примеров подобного биологически активного белка является инсулин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Он регулирует содержание глюкозы в крови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neva CY"/>
              </a:rPr>
              <a:t>При недостатке инсулина в организме возникают заболевание, известное как сахарный диабет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tangle 2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4335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3"/>
          <p:cNvSpPr/>
          <p:nvPr/>
        </p:nvSpPr>
        <p:spPr>
          <a:xfrm>
            <a:off x="914400" y="25146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Молекулы белков содержат связи, богатые энергией, поэтому в крайних случаях (при остром недостатке углеводов и липидов) белки и аминокислоты могут расщепляться с высвобождением энергии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Белки в пищ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203040" y="1690560"/>
            <a:ext cx="84409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Calibri"/>
              </a:rPr>
              <a:t>Необходимое количество белка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4" descr="14-4"/>
          <p:cNvPicPr/>
          <p:nvPr/>
        </p:nvPicPr>
        <p:blipFill>
          <a:blip r:embed="rId1"/>
          <a:stretch/>
        </p:blipFill>
        <p:spPr>
          <a:xfrm>
            <a:off x="468360" y="1268280"/>
            <a:ext cx="3824280" cy="4896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03032008food5-04"/>
          <p:cNvPicPr/>
          <p:nvPr/>
        </p:nvPicPr>
        <p:blipFill>
          <a:blip r:embed="rId2"/>
          <a:stretch/>
        </p:blipFill>
        <p:spPr>
          <a:xfrm>
            <a:off x="5076720" y="1773360"/>
            <a:ext cx="295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onstantia"/>
              </a:rPr>
              <a:t>Цель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-79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учить структуру и функции белка, выяснить роль белка в клетк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Что такое жизнь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Я всегда говорил и не устаю повторять, что мир бы не мог существовать, если бы был так просто устроен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ёт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4" descr="4DB74E76-79C2-4278-86EB-3955175EC5A9_w320_s"/>
          <p:cNvPicPr/>
          <p:nvPr/>
        </p:nvPicPr>
        <p:blipFill>
          <a:blip r:embed="rId1"/>
          <a:stretch/>
        </p:blipFill>
        <p:spPr>
          <a:xfrm>
            <a:off x="4932360" y="1773360"/>
            <a:ext cx="3681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7086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857760" y="1643040"/>
            <a:ext cx="504000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2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Жизнь есть способ существования белковых тел, существенным моментом которого является постоянный обмен веществ с окружающей их внешней природой, причем с прекращением этого обмена веществ прекращается и сама жизнь, что приводит к разложению белка»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  <a:p>
            <a:pPr marL="272880" indent="208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Ф.Энгельс)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endParaRPr b="0" lang="en-US" sz="26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209" name="Picture 4" descr="Engels"/>
          <p:cNvPicPr/>
          <p:nvPr/>
        </p:nvPicPr>
        <p:blipFill>
          <a:blip r:embed="rId1"/>
          <a:stretch/>
        </p:blipFill>
        <p:spPr>
          <a:xfrm>
            <a:off x="539640" y="1628640"/>
            <a:ext cx="33642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Geneva CY"/>
              </a:rPr>
              <a:t>Первичная структура бел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9480" indent="-24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яет собой линейную цепь аминокислот, расположенных в определенной последовательности и соединенных между собой пептидными связями. Она уникальна для любого белка и определяет его форму, свойства и функ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4857840" y="3429000"/>
            <a:ext cx="36957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900108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4617b"/>
                </a:solidFill>
                <a:latin typeface="Geneva CY"/>
              </a:rPr>
              <a:t>Вторичная структура белка - спираль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никает в результате образования водородных связей между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H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группами разных аминокислотных остатков полипептидной цеп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5072040" y="1143000"/>
            <a:ext cx="29289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Geneva CY"/>
              </a:rPr>
              <a:t>Третичная структура белка - глобул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2360" indent="-252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яет собой причудливую, но для каждого белка специфическую конфигурацию, имеющую вид клубка. Прочность данной структуры обеспечивается ионными, водородными и дисульфидными связя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4929120" y="2286000"/>
            <a:ext cx="33717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304920" y="365040"/>
            <a:ext cx="8699400" cy="15130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285840" y="1785960"/>
            <a:ext cx="371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neva CY"/>
              </a:rPr>
              <a:t>Характерна не для всех белков. Она возникает в результате соединения нескольких глобул в сложный комплекс. Например гемоглобин в крови человека представляет комплекс из 4 таких субъединиц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2"/>
          <a:stretch/>
        </p:blipFill>
        <p:spPr>
          <a:xfrm>
            <a:off x="4286160" y="2357280"/>
            <a:ext cx="46245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Денатурация -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5680" indent="-26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трата белковой молекулой своей природной структуры. Она может возникать под воздействием температуры, химических веществ, обезвоживания, облучения и других фактор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4786200" y="2286000"/>
            <a:ext cx="36403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8229600" cy="14083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428760" y="2071800"/>
            <a:ext cx="75722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Белковые молекулы благодаря особенностям своей структуры и разнообразию организации способны выполнять самые разнообразные функции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Это самые главные рабочие молекулы в любом живом организме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0:30:06Z</dcterms:created>
  <dc:creator>ms45</dc:creator>
  <dc:description/>
  <dc:language>en-US</dc:language>
  <cp:lastModifiedBy>Анита</cp:lastModifiedBy>
  <dcterms:modified xsi:type="dcterms:W3CDTF">2012-11-14T19:56:17Z</dcterms:modified>
  <cp:revision>33</cp:revision>
  <dc:subject/>
  <dc:title>Белки и аминокислоты</dc:title>
</cp:coreProperties>
</file>