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3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 CY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D3C5-3EB8-4520-987D-4F5FCFF5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0A3-1BC6-4528-A117-80D23E313742}" type="slidenum">
              <a:rPr b="0" lang="en-US" sz="1200" spc="-1" strike="noStrike">
                <a:solidFill>
                  <a:srgbClr val="000000"/>
                </a:solidFill>
                <a:latin typeface="Geneva C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808-6C43-4D18-8A57-5E0C00AC5A9D}" type="slidenum">
              <a:rPr b="0" lang="en-US" sz="1200" spc="-1" strike="noStrike">
                <a:solidFill>
                  <a:srgbClr val="000000"/>
                </a:solidFill>
                <a:latin typeface="Geneva CY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989-D0BF-4C67-BF21-13DE28F8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BF7-83F9-4A99-9F77-0B5332D3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22A-BD54-4100-9130-B174613D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715-C716-4FB1-B6F9-F0DEF29F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60A-7581-41DA-9162-32E71D48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F17-2F58-4D4B-941F-FB1017E8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268F-8BA4-433A-8ED0-B2AEE23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613E-DA58-4551-8B85-7267B86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4A6-EE36-4DA9-82AF-1537AC7E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6871-C6EE-4D5D-B368-A1089E92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CCE0-93CF-4471-9031-C1BB264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0BB-2577-480D-BDC7-586B6D5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5B49-29CA-4BB2-8218-67F4613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1F9-4558-42C1-8512-69EEE7B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62F9-9341-4A46-A4EC-E4B527F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490-FB76-4319-BB2E-E2AC4210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66F3-6AB0-4FC5-9D19-5DE06F41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807B-EFA1-495B-BA65-2DEA5A51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C953-2FC4-4D88-B728-8549D94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D954-4452-48BD-A662-BC56EE9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4911-688F-46EF-B5EB-0FE7C77A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3DA2-0AD8-4C4D-ABA0-0ED0BA2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A6F-1BCD-4DA5-AE2B-C7E43FEE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0351-3B90-4266-807D-4D6DA4A6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170B-7F18-4DEE-A865-6FF98B6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10BB-590E-40B4-8E57-85F89E40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FB63-05F1-4AA7-9E9F-329C067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00A2-B4B1-42D3-880D-DE00F88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4243-BC70-41A0-909A-A73931E8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6040-372C-4B56-BD78-562B14FE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0DD7-B5DF-4178-925B-DB4962F2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74AA-051E-4ABF-9559-0A985E7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1C27-FC6C-4694-B153-B279AEB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062-0047-436F-90A4-0ACC5C6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C699D-7501-4F32-A543-D8B9A5FE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D74F-92D1-4CFE-93F5-DBAF0B41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A88C-7BBD-4C9B-9F42-0423EE1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06F9-CC94-4B02-957D-8C64750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7BB6-9E8B-434B-A796-11B3300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B98E-D50F-473B-9011-1AC7EE04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362B-830F-4ECC-9697-2C3A65A7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8A55-BDB7-4920-ABB3-557410D7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360E-C27A-4781-A73B-E2A50447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2C6-62E1-47E2-AF91-DB035BEB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019-4A92-44C5-B791-F612088B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197-2904-42D9-9C63-5FB31BF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BE8-F392-486C-AA28-15F8453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A9C-202E-4E42-8C04-B83D94DE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E647-969C-46F9-B5EF-6A36165806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9B3-67FF-463D-ACD1-8AFF8AC1ADA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Geneva CY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41E7-E85F-4B8C-87F5-EA11099AFF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8A1A-3BF2-4CD1-9043-AF603E1E92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2292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80391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13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13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13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img5"/>
          <p:cNvPicPr/>
          <p:nvPr/>
        </p:nvPicPr>
        <p:blipFill>
          <a:blip r:embed="rId2"/>
          <a:srcRect l="0" t="7901" r="0" b="0"/>
          <a:stretch/>
        </p:blipFill>
        <p:spPr>
          <a:xfrm>
            <a:off x="2771640" y="2720880"/>
            <a:ext cx="352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Geneva CY"/>
              </a:rPr>
              <a:t>Функции белк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Ферментатив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Структур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neva CY"/>
              </a:rPr>
              <a:t>Двигатель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Транспорт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Защит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Регулятор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neva CY"/>
              </a:rPr>
              <a:t>Энергетическ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Ферментативная функ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лковые молекулы ферментов способны ускорять течение биохимических реакций в клетке в сотни миллионов раз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43280" y="1893960"/>
            <a:ext cx="40435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0" y="365040"/>
            <a:ext cx="8783640" cy="15001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4714920" y="2786040"/>
            <a:ext cx="39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Белки входят в состав абсолютно всех 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органоидов клетки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 и мембран. Из белковых молекул могут состоять целые части организма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38" name="Picture 5" descr="_x000c_struk018.jpg                                                   00037073_x000b_iBook_507_X                    BB20CF7F:"/>
          <p:cNvPicPr/>
          <p:nvPr/>
        </p:nvPicPr>
        <p:blipFill>
          <a:blip r:embed="rId2"/>
          <a:stretch/>
        </p:blipFill>
        <p:spPr>
          <a:xfrm>
            <a:off x="380880" y="1828800"/>
            <a:ext cx="4254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12760" y="573120"/>
            <a:ext cx="8645400" cy="1103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357120" y="29289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Благодаря белкам сокращаются все мышцы и работают двигательные органоиды клеток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41" name="Picture 5" descr="&#13;aktmio019.jpg                                                  00037073_x000b_iBook_507_X                    BB20CF7F:"/>
          <p:cNvPicPr/>
          <p:nvPr/>
        </p:nvPicPr>
        <p:blipFill>
          <a:blip r:embed="rId2"/>
          <a:srcRect l="6986" t="4589" r="6646" b="3219"/>
          <a:stretch/>
        </p:blipFill>
        <p:spPr>
          <a:xfrm>
            <a:off x="6019920" y="1447920"/>
            <a:ext cx="2743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85840" y="706320"/>
            <a:ext cx="8650080" cy="1433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786280" y="2286000"/>
            <a:ext cx="2895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Транспорт веществ из клетки и внутрь ее - это тоже задача белковых молекул.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 Так гемоглобин переносит кислород из легких к клеткам других тканей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428760" y="200016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335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500040" y="278604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Особые белки - </a:t>
            </a:r>
            <a:r>
              <a:rPr b="0" i="1" lang="en-US" sz="2400" spc="-1" strike="noStrike">
                <a:solidFill>
                  <a:srgbClr val="000000"/>
                </a:solidFill>
                <a:latin typeface="Geneva CY"/>
              </a:rPr>
              <a:t>антитела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 ответственны за то, что клетки иммунной системы распознают и уничтожают чужеродные структуры во внутренней среде организма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4535640" y="2500200"/>
            <a:ext cx="4227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609480" y="2514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Одним из примеров подобного биологически активного белка является инсулин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Он регулирует содержание глюкозы в крови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При недостатке инсулина в организме возникают заболевание, известное как сахарный диабет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433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914400" y="25146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Молекулы белков содержат связи, богатые энергией, поэтому в крайних случаях (при остром недостатке углеводов и липидов) белки и аминокислоты могут расщепляться с высвобождением энергии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Белки в пищ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03040" y="1690560"/>
            <a:ext cx="8440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alibri"/>
              </a:rPr>
              <a:t>Необходимое количество белк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4" descr="14-4"/>
          <p:cNvPicPr/>
          <p:nvPr/>
        </p:nvPicPr>
        <p:blipFill>
          <a:blip r:embed="rId1"/>
          <a:stretch/>
        </p:blipFill>
        <p:spPr>
          <a:xfrm>
            <a:off x="468360" y="1268280"/>
            <a:ext cx="3824280" cy="4896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03032008food5-04"/>
          <p:cNvPicPr/>
          <p:nvPr/>
        </p:nvPicPr>
        <p:blipFill>
          <a:blip r:embed="rId2"/>
          <a:stretch/>
        </p:blipFill>
        <p:spPr>
          <a:xfrm>
            <a:off x="5076720" y="177336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onstantia"/>
              </a:rPr>
              <a:t>Цел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структуру и функции белка, выяснить роль белка в клетк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Что такое жизнь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Я всегда говорил и не устаю повторять, что мир бы не мог существовать, если бы был так просто устроен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ёт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4" descr="4DB74E76-79C2-4278-86EB-3955175EC5A9_w320_s"/>
          <p:cNvPicPr/>
          <p:nvPr/>
        </p:nvPicPr>
        <p:blipFill>
          <a:blip r:embed="rId1"/>
          <a:stretch/>
        </p:blipFill>
        <p:spPr>
          <a:xfrm>
            <a:off x="4932360" y="1773360"/>
            <a:ext cx="3681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857760" y="1643040"/>
            <a:ext cx="50400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2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Жизнь есть способ существования белковых тел, существенным моментом которого является постоянный обмен веществ с окружающей их внешней природой, причем с прекращением этого обмена веществ прекращается и сама жизнь, что приводит к разложению белка»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marL="272880" indent="208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Ф.Энгельс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6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09" name="Picture 4" descr="Engels"/>
          <p:cNvPicPr/>
          <p:nvPr/>
        </p:nvPicPr>
        <p:blipFill>
          <a:blip r:embed="rId1"/>
          <a:stretch/>
        </p:blipFill>
        <p:spPr>
          <a:xfrm>
            <a:off x="539640" y="1628640"/>
            <a:ext cx="3364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Geneva CY"/>
              </a:rPr>
              <a:t>Первичная структура бел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9480" indent="-24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линейную цепь аминокислот, расположенных в определенной последовательности и соединенных между собой пептидными связями. Она уникальна для любого белка и определяет его форму, свойства и функ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857840" y="3429000"/>
            <a:ext cx="36957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0010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Geneva CY"/>
              </a:rPr>
              <a:t>Вторичная структура белка - спираль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никает в результате образования водородных связей между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группами разных аминокислотных остатков полипептидной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5072040" y="1143000"/>
            <a:ext cx="29289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Geneva CY"/>
              </a:rPr>
              <a:t>Третичная структура белка - глобу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2360" indent="-252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причудливую, но для каждого белка специфическую конфигурацию, имеющую вид клубка. Прочность данной структуры обеспечивается ионными, водородными и дисульфидными связ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4929120" y="2286000"/>
            <a:ext cx="3371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04920" y="365040"/>
            <a:ext cx="8699400" cy="1513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85840" y="178596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Характерна не для всех белков. Она возникает в результате соединения нескольких глобул в сложный комплекс. Например гемоглобин в крови человека представляет комплекс из 4 таких субъединиц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4286160" y="2357280"/>
            <a:ext cx="4624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Денатурация -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568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трата белковой молекулой своей природной структуры. Она может возникать под воздействием температуры, химических веществ, обезвоживания, облучения и других факто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3640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428760" y="2071800"/>
            <a:ext cx="757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Белковые молекулы благодаря особенностям своей структуры и разнообразию организации способны выполнять самые разнообразные функции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Это самые главные рабочие молекулы в любом живом организме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0:30:06Z</dcterms:created>
  <dc:creator>ms45</dc:creator>
  <dc:description/>
  <dc:language>en-US</dc:language>
  <cp:lastModifiedBy>Анита</cp:lastModifiedBy>
  <dcterms:modified xsi:type="dcterms:W3CDTF">2012-11-14T19:56:17Z</dcterms:modified>
  <cp:revision>33</cp:revision>
  <dc:subject/>
  <dc:title>Белки и аминокислоты</dc:title>
</cp:coreProperties>
</file>