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49E-18BE-4F28-A53D-6E3018C5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385-F482-46AD-A0A2-79CB3E92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07C-1F92-4F08-81E1-25DA97F0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E69-2106-4178-91D6-C1EA26F9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8A3-888B-4558-A223-EDE35AB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CC0-217E-4778-B6BB-315710C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EF2-9DAE-4D5E-BACD-6AED44B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CAB-8EB8-424F-95DC-78D38B95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2F8-3B31-41C2-B218-854ACAC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F6D-B2FE-44E9-A42A-EFD1FB1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971-894F-4B53-83EB-3256344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DEE-ED24-4BAD-BB79-1502B453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0CC1-99AA-4FA6-8B59-CDEC730819D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БЫ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Я 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Х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Ф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1920" y="51051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ХО</a:t>
            </a:r>
            <a:r>
              <a:rPr b="0" lang="ru-RU" sz="8500" spc="-1" strike="noStrike">
                <a:solidFill>
                  <a:srgbClr val="99cc00"/>
                </a:solidFill>
                <a:latin typeface="Arial"/>
              </a:rPr>
              <a:t>ЛО</a:t>
            </a:r>
            <a:r>
              <a:rPr b="0" lang="ru-RU" sz="85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ЛЬ</a:t>
            </a:r>
            <a:r>
              <a:rPr b="0" lang="ru-RU" sz="85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ru-RU" sz="85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Э</a:t>
            </a:r>
            <a:r>
              <a:rPr b="0" lang="ru-RU" sz="77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77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7700" spc="-1" strike="noStrike">
                <a:solidFill>
                  <a:srgbClr val="99cc00"/>
                </a:solidFill>
                <a:latin typeface="Arial"/>
              </a:rPr>
              <a:t>П</a:t>
            </a:r>
            <a:r>
              <a:rPr b="0" lang="ru-RU" sz="7700" spc="-1" strike="noStrike">
                <a:solidFill>
                  <a:srgbClr val="006600"/>
                </a:solidFill>
                <a:latin typeface="Arial"/>
              </a:rPr>
              <a:t>ЛИ</a:t>
            </a:r>
            <a:r>
              <a:rPr b="0" lang="ru-RU" sz="77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МИ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ВО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0" lang="ru-RU" sz="7500" spc="-1" strike="noStrike">
                <a:solidFill>
                  <a:srgbClr val="99cc00"/>
                </a:solidFill>
                <a:latin typeface="Arial"/>
              </a:rPr>
              <a:t>Я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ПЕ</a:t>
            </a:r>
            <a:r>
              <a:rPr b="0" lang="ru-RU" sz="7500" spc="-1" strike="noStrike">
                <a:solidFill>
                  <a:srgbClr val="006600"/>
                </a:solidFill>
                <a:latin typeface="Arial"/>
              </a:rPr>
              <a:t>Ч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М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ПЬ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933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З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ПЫ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Ю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ФЕ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6:30:24Z</dcterms:created>
  <dc:creator>Walid Khallaf</dc:creator>
  <dc:description/>
  <dc:language>en-US</dc:language>
  <cp:lastModifiedBy>Elena Danilova</cp:lastModifiedBy>
  <dcterms:modified xsi:type="dcterms:W3CDTF">2005-12-24T08:26:03Z</dcterms:modified>
  <cp:revision>20</cp:revision>
  <dc:subject/>
  <dc:title>Slide 1</dc:title>
</cp:coreProperties>
</file>