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A20-30FB-4001-9A4D-FCAF9172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537-814F-442C-8D91-05B5CF70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9A1E7-24CA-418A-9D06-7FB66E5F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8C8D0-A280-4B23-8DB8-884E94BA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336E2-BD32-44D6-8EA3-8351895E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00BBD-6816-4DED-BAEF-D0E40D47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95D7C-CB9D-49F8-99A1-8AB768D6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81930-D4DA-4BA3-BF28-3839F69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78394-2025-4880-97F9-EA2D93F9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2B0CA-D981-4908-8C2F-76FBF94D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10D41-737D-44D0-992F-2672F986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A1063-B36F-46A9-A9A7-D1B1BAC7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AC7-AFAA-424A-8DFD-18ABDFC9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B0D5D-A4CD-49A9-A15C-1DE8CF15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F4CA8-6E09-4278-90A5-ED74D93A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992D6-F34B-472A-A644-24163CAD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03014-2943-4DBB-921C-5144BFAD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19426-53E2-463D-91C1-705C1B21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C910D-4269-43E2-BB36-E60FE2CB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2BBE8-A195-4546-A5B3-8D3AD2AE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D23F5-602B-40D3-9F87-8F3094CD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B8E84-507D-458C-96A2-9129A163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79C07-FC14-442A-A92A-1780AFC9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0E6-D8A9-4AF6-9693-BC5B34DC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F935C-5ACD-4F84-9646-9F07D431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B4103-675F-4413-9321-BE4F47A3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279B3-ED28-4E96-B1A5-D25809E3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A8579-7826-4190-9007-8169D388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7CDB5-42D9-4807-8A30-C94F5E87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E8DFC-0038-40F4-86FB-A2114CFF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15C11-693B-4116-BFA7-7DF4050F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DF6CF-CD73-4730-82F4-DA41105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6AA32-418F-422B-B902-7EEDCB9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3A60E-8573-45F8-B7FC-121417ED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C1BB-1228-4651-8A6C-3944B5DC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8A9CE-F42A-4CF8-85DF-3EDA974C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52CBD-5985-43BD-9738-0C9A0A29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9E561-9016-4830-8564-947F4478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5D43B-187E-48EF-ABD7-EA3A08F1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5EEAC-FA5A-470F-8801-E9A2BBE3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C5837-AE7C-4D18-BC14-EDC4415E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05EF1-12C2-425D-A3EB-EDF1EB1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DDDDE-7009-407F-A914-31CDFF8B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47986-780B-4F5E-94AA-DE91D17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D4F10-CC1F-465E-8CCF-DB7E8600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52A44-4D2C-42AD-AC99-2847DDA5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94C37-74F1-43A5-9BB6-D218638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2BF90-D7DE-44BE-B9F5-4DA0E1BC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5916C-924B-4B04-8B4D-1C97D57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014DC-D97D-4DF9-A62B-E9610F33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641F2-D644-4647-99D7-259A5B78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84810-7832-4D53-98A7-F46D4F49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78F60-B401-4EA2-BCC7-E677262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15E93-4C50-4D7D-9563-2ED1C399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0EA8A-EE37-41CC-9A5E-F2B0A78A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120CA-95D3-46AE-B317-35CC59E7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1FD-891E-4623-BD4E-327EAB7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469B3-EAF1-4317-AF8D-A8DD926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34CE5-5952-49E0-897B-0E48FB6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D3A81-B8EB-4385-A765-0FB94FF4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A14FD-A1A9-4118-A6EA-F655A47F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30816-243E-48D0-A074-A48F2904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3EC0-07F5-4455-9B9F-7EA972B3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8A50-CE4E-4626-835D-9191DEFE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AF590-300D-48A2-AC9F-E68E7FE5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9146-2BE8-44D1-B33A-F19C6DC7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C7A0-A63A-4186-A338-9BF3EB30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5C2-8A0F-4999-87BE-06E0C8E0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14F4-DCD7-488B-80C3-8C788533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5D28-D527-453F-96C7-CD33685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8C56-1810-45C1-ADA5-3445C17E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CE3D-02F0-4AAC-9B86-1DDDBAF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195F-9C00-4E6B-8EEF-93ABB0C5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EC64-E7DE-486A-BFF8-546E7DFD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0967-9833-4D4C-BEDF-CC123C71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C4E1-2963-49BC-A520-61B3FFEA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5696-B501-40A3-AD7B-33347141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C69A-10F2-4ED3-B4C7-23FBF44C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E0F-5639-4ED0-BC80-321DD543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33853-49FC-4D8E-BBB6-B222AD9F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36F5-8CD8-4022-BD6A-F63ECDAA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76BB-5949-4E85-B822-CBCCE47B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1DDE-876E-4EB7-B90E-EC0D5BC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6EC81-B610-44F0-9E6F-F540B3F8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6D51-D0E6-4DEB-A863-66449775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B908-22A5-40C8-94A4-895BE7F5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4A1DD-D565-45E3-8A87-E5136A01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6341-C8CE-4206-BE38-0254353F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E5DFD-1282-41F1-81E3-6BFB49F1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ACB-CE59-464D-A00B-8359074C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A9B7C-A636-4495-8E36-10A55E52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D9B7-1E7D-45EE-ADCA-AF5AD5C0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B290F-D224-48C0-981E-359FE0BB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EF2C-88F9-47FD-AB6B-D1E66039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0ABE2-16B2-448D-A63F-2FCB149D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2DD62-6348-4DF1-99B6-60946B1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7F72-D5C0-4166-8220-4E269277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87E8-4076-4D8B-9359-8B8D00F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35E5C-DA43-4268-ACE5-75DC0124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6F7C4-7047-4E9C-870D-2DB72CDE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D02-7120-46BE-9C3D-97EE7556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39617-5F49-4CB3-8DAD-D266C887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774AA-21D4-45FE-9F46-70B18A3F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AB3B0-8806-4A31-BAE9-B3CBE412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34B48-E1A5-4B10-83EB-C38FA6F0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189E4-9ED4-4DCE-A868-7C7194ED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75964-0D4A-424F-9E25-9DCAE799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DB9F7-8283-4EFF-910B-0E5D69CE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5489A-783F-4C16-8F66-ED0902B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B999F-36F7-4A0C-AE16-5BAFEE0E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9E35E-2234-42D1-B258-EC1C4893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F99-179D-482D-9AFC-25C96DC1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9E0FA-B0F7-496C-A6C8-EA89CB5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177C9-4896-48A4-8C06-96185DF3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5561F-094F-4888-AD1B-E3B59394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1B4E0-5F73-4E8B-B769-1874D34B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ABD48-F30C-47F7-8CEB-283B8591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9B2C-305E-4FE8-9BBD-DE9A985A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2E158-0542-4612-B217-4D66CE29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B98E2-58DB-4936-AAC7-563E712E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A4796-C384-422D-AEC4-CEE25ED2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62EAC-C0B6-4AF1-B34C-6F5B1CF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333-36A4-41B4-81C1-E4FB42A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9FF24-769C-42C7-B2F2-919002A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1523B-3927-4715-B412-A1D1760E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9C2B-3DE3-4CD4-8A7C-810F880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F015-F8F2-43B5-9D2C-A1242054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18163-3879-4AB5-B06A-E72BC269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21364-20D0-4D2D-9C40-076C5742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982E-B434-4A98-A82D-17562003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7E6A-E1DC-414F-8CBD-C86CEDB1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06B83-7226-49E1-88E2-3CB52D1A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9FAC0-25D5-46B9-A348-9BFD5A59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C9A-6686-4A46-907F-8B45EC30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D8755-BE6D-4362-A4E7-64B0F629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838CF-3B9A-4D31-963E-9427563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8EDDD-C662-41E0-B5B8-83B5ACD8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50D29-F965-416E-B6B3-44069A94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7C9F0-A389-49A6-8D1B-02BF86B0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3BB62-C9C3-4AB4-B130-B2B20605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2D55D-B889-4131-AE08-014B1CBD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69AD1-BB97-4ACD-BF5C-D955ACBC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04D85-AF07-4EC1-BB2D-47B5EFD5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05B10-E570-40FD-A9BE-7EFF4322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FADE-B59A-4E35-BB6E-BDDB11A6A8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deb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0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6B87-22C2-4FF3-8ECD-4DBAD94B85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7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7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B3F8-F9A8-41CA-9587-61B33C39C1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2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817F-7391-4D48-828C-9EE831BC64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A284-C4E4-4696-ABD4-6AB14B019B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ED76-75C1-4CB2-8FD5-D5D14C2289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FEAC-8F11-4026-B70D-B1FD144ECC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42E6-2DCD-4A46-99F5-93B2223297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deb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5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62C1-6951-46D1-90C6-E1D7EA109C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2A4D-C967-444F-A37E-A7FF9F0765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F5CA-E070-4F02-8AF5-23D13BAA29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2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52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deb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5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61A-5B3D-4B67-99F5-751B55FF9E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6.xml"/><Relationship Id="rId13" Type="http://schemas.openxmlformats.org/officeDocument/2006/relationships/slide" Target="slide8.xml"/><Relationship Id="rId14" Type="http://schemas.openxmlformats.org/officeDocument/2006/relationships/slide" Target="slide10.xml"/><Relationship Id="rId15" Type="http://schemas.openxmlformats.org/officeDocument/2006/relationships/slide" Target="slide12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" Target="slide32.xml"/><Relationship Id="rId35" Type="http://schemas.openxmlformats.org/officeDocument/2006/relationships/slide" Target="slide33.xml"/><Relationship Id="rId36" Type="http://schemas.openxmlformats.org/officeDocument/2006/relationships/slide" Target="slide34.xml"/><Relationship Id="rId37" Type="http://schemas.openxmlformats.org/officeDocument/2006/relationships/slide" Target="slide35.xml"/><Relationship Id="rId38" Type="http://schemas.openxmlformats.org/officeDocument/2006/relationships/slide" Target="slide36.xml"/><Relationship Id="rId39" Type="http://schemas.openxmlformats.org/officeDocument/2006/relationships/slide" Target="slide37.xml"/><Relationship Id="rId40" Type="http://schemas.openxmlformats.org/officeDocument/2006/relationships/slide" Target="slide38.xml"/><Relationship Id="rId41" Type="http://schemas.openxmlformats.org/officeDocument/2006/relationships/slide" Target="slide39.xml"/><Relationship Id="rId42" Type="http://schemas.openxmlformats.org/officeDocument/2006/relationships/slide" Target="slide40.xml"/><Relationship Id="rId43" Type="http://schemas.openxmlformats.org/officeDocument/2006/relationships/slide" Target="slide41.xml"/><Relationship Id="rId44" Type="http://schemas.openxmlformats.org/officeDocument/2006/relationships/slide" Target="slide42.xml"/><Relationship Id="rId45" Type="http://schemas.openxmlformats.org/officeDocument/2006/relationships/slide" Target="slide43.xml"/><Relationship Id="rId46" Type="http://schemas.openxmlformats.org/officeDocument/2006/relationships/slide" Target="slide44.xml"/><Relationship Id="rId47" Type="http://schemas.openxmlformats.org/officeDocument/2006/relationships/slide" Target="slide45.xml"/><Relationship Id="rId48" Type="http://schemas.openxmlformats.org/officeDocument/2006/relationships/slide" Target="slide46.xml"/><Relationship Id="rId49" Type="http://schemas.openxmlformats.org/officeDocument/2006/relationships/slide" Target="slide47.xml"/><Relationship Id="rId50" Type="http://schemas.openxmlformats.org/officeDocument/2006/relationships/slide" Target="slide48.xml"/><Relationship Id="rId51" Type="http://schemas.openxmlformats.org/officeDocument/2006/relationships/slide" Target="slide49.xml"/><Relationship Id="rId52" Type="http://schemas.openxmlformats.org/officeDocument/2006/relationships/slide" Target="slide50.xml"/><Relationship Id="rId53" Type="http://schemas.openxmlformats.org/officeDocument/2006/relationships/slide" Target="slide51.xml"/><Relationship Id="rId54" Type="http://schemas.openxmlformats.org/officeDocument/2006/relationships/slide" Target="slide52.xml"/><Relationship Id="rId55" Type="http://schemas.openxmlformats.org/officeDocument/2006/relationships/slide" Target="slide53.xml"/><Relationship Id="rId5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н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авлови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Чех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Прямоугольник 3" descr=""/>
          <p:cNvPicPr/>
          <p:nvPr/>
        </p:nvPicPr>
        <p:blipFill>
          <a:blip r:embed="rId1"/>
          <a:stretch/>
        </p:blipFill>
        <p:spPr>
          <a:xfrm>
            <a:off x="2262240" y="1554120"/>
            <a:ext cx="6680160" cy="24084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rcRect l="4462" t="2631" r="10943" b="2631"/>
          <a:stretch/>
        </p:blipFill>
        <p:spPr>
          <a:xfrm>
            <a:off x="1143000" y="4648320"/>
            <a:ext cx="150804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7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то такие Фёдор Тимофеич и Иван Иваныч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от и гу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8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Незнакомец говорил своим питомцам, что надо жить..(как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Дру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2362320" y="91440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ощущала Каштанка в то время, когда хозяин уезжал куда-то и забирал с собой кота и гу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2362320" y="48769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Тос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9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Каштанка с трудом узнала своего нового хозяина в цир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"/>
          <p:cNvSpPr/>
          <p:nvPr/>
        </p:nvSpPr>
        <p:spPr>
          <a:xfrm>
            <a:off x="2438280" y="48006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был в гри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звали отставного генерала- майо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лексей Булде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0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ой недуг мучил генера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Болел з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0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ая фамилия была у акцизн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в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1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ие фамилии все вспоми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Лошади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17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ую сумму пообещал генерал тому, кто первым вспомнит нужную фамил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"/>
          <p:cNvSpPr/>
          <p:nvPr/>
        </p:nvSpPr>
        <p:spPr>
          <a:xfrm>
            <a:off x="2209680" y="5334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5 руб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генерал должен был послать акцизно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Телеграм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Вертикальный свиток 1"/>
          <p:cNvSpPr/>
          <p:nvPr/>
        </p:nvSpPr>
        <p:spPr>
          <a:xfrm>
            <a:off x="2057400" y="533520"/>
            <a:ext cx="1752480" cy="609588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Вертикальный свиток 2"/>
          <p:cNvSpPr/>
          <p:nvPr/>
        </p:nvSpPr>
        <p:spPr>
          <a:xfrm>
            <a:off x="3809880" y="533520"/>
            <a:ext cx="1752840" cy="6095880"/>
          </a:xfrm>
          <a:prstGeom prst="verticalScroll">
            <a:avLst>
              <a:gd name="adj" fmla="val 12500"/>
            </a:avLst>
          </a:prstGeom>
          <a:solidFill>
            <a:srgbClr val="707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Вертикальный свиток 3"/>
          <p:cNvSpPr/>
          <p:nvPr/>
        </p:nvSpPr>
        <p:spPr>
          <a:xfrm>
            <a:off x="5562720" y="533520"/>
            <a:ext cx="1752480" cy="6095880"/>
          </a:xfrm>
          <a:prstGeom prst="verticalScroll">
            <a:avLst>
              <a:gd name="adj" fmla="val 125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Вертикальный свиток 4"/>
          <p:cNvSpPr/>
          <p:nvPr/>
        </p:nvSpPr>
        <p:spPr>
          <a:xfrm>
            <a:off x="7238880" y="533520"/>
            <a:ext cx="1752840" cy="6095880"/>
          </a:xfrm>
          <a:prstGeom prst="verticalScroll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Вертикальный свиток 5"/>
          <p:cNvSpPr/>
          <p:nvPr/>
        </p:nvSpPr>
        <p:spPr>
          <a:xfrm>
            <a:off x="380880" y="533520"/>
            <a:ext cx="1752840" cy="6095880"/>
          </a:xfrm>
          <a:prstGeom prst="verticalScroll">
            <a:avLst>
              <a:gd name="adj" fmla="val 12500"/>
            </a:avLst>
          </a:prstGeom>
          <a:solidFill>
            <a:srgbClr val="ca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TextBox 6" descr=""/>
          <p:cNvPicPr/>
          <p:nvPr/>
        </p:nvPicPr>
        <p:blipFill>
          <a:blip r:embed="rId1"/>
          <a:stretch/>
        </p:blipFill>
        <p:spPr>
          <a:xfrm>
            <a:off x="731880" y="907920"/>
            <a:ext cx="1272960" cy="5426280"/>
          </a:xfrm>
          <a:prstGeom prst="rect">
            <a:avLst/>
          </a:prstGeom>
          <a:ln w="0">
            <a:noFill/>
          </a:ln>
        </p:spPr>
      </p:pic>
      <p:pic>
        <p:nvPicPr>
          <p:cNvPr id="688" name="TextBox 7" descr=""/>
          <p:cNvPicPr/>
          <p:nvPr/>
        </p:nvPicPr>
        <p:blipFill>
          <a:blip r:embed="rId2"/>
          <a:stretch/>
        </p:blipFill>
        <p:spPr>
          <a:xfrm>
            <a:off x="2273400" y="987480"/>
            <a:ext cx="1725480" cy="5572080"/>
          </a:xfrm>
          <a:prstGeom prst="rect">
            <a:avLst/>
          </a:prstGeom>
          <a:ln w="0">
            <a:noFill/>
          </a:ln>
        </p:spPr>
      </p:pic>
      <p:pic>
        <p:nvPicPr>
          <p:cNvPr id="689" name="TextBox 8" descr=""/>
          <p:cNvPicPr/>
          <p:nvPr/>
        </p:nvPicPr>
        <p:blipFill>
          <a:blip r:embed="rId3"/>
          <a:stretch/>
        </p:blipFill>
        <p:spPr>
          <a:xfrm>
            <a:off x="4157640" y="1054080"/>
            <a:ext cx="1504800" cy="5280120"/>
          </a:xfrm>
          <a:prstGeom prst="rect">
            <a:avLst/>
          </a:prstGeom>
          <a:ln w="0">
            <a:noFill/>
          </a:ln>
        </p:spPr>
      </p:pic>
      <p:pic>
        <p:nvPicPr>
          <p:cNvPr id="690" name="TextBox 9" descr=""/>
          <p:cNvPicPr/>
          <p:nvPr/>
        </p:nvPicPr>
        <p:blipFill>
          <a:blip r:embed="rId4"/>
          <a:stretch/>
        </p:blipFill>
        <p:spPr>
          <a:xfrm>
            <a:off x="5883120" y="987480"/>
            <a:ext cx="1194120" cy="5267160"/>
          </a:xfrm>
          <a:prstGeom prst="rect">
            <a:avLst/>
          </a:prstGeom>
          <a:ln w="0">
            <a:noFill/>
          </a:ln>
        </p:spPr>
      </p:pic>
      <p:pic>
        <p:nvPicPr>
          <p:cNvPr id="691" name="TextBox 10" descr=""/>
          <p:cNvPicPr/>
          <p:nvPr/>
        </p:nvPicPr>
        <p:blipFill>
          <a:blip r:embed="rId5"/>
          <a:stretch/>
        </p:blipFill>
        <p:spPr>
          <a:xfrm>
            <a:off x="7765920" y="1139760"/>
            <a:ext cx="1036800" cy="519444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12">
            <a:hlinkClick r:id="rId6" action="ppaction://hlinksldjump"/>
          </p:cNvPr>
          <p:cNvSpPr/>
          <p:nvPr/>
        </p:nvSpPr>
        <p:spPr>
          <a:xfrm>
            <a:off x="685800" y="838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23">
            <a:hlinkClick r:id="rId7" action="ppaction://hlinksldjump"/>
          </p:cNvPr>
          <p:cNvSpPr/>
          <p:nvPr/>
        </p:nvSpPr>
        <p:spPr>
          <a:xfrm>
            <a:off x="1219320" y="838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24">
            <a:hlinkClick r:id="rId8" action="ppaction://hlinksldjump"/>
          </p:cNvPr>
          <p:cNvSpPr/>
          <p:nvPr/>
        </p:nvSpPr>
        <p:spPr>
          <a:xfrm>
            <a:off x="1219320" y="1981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25">
            <a:hlinkClick r:id="rId9" action="ppaction://hlinksldjump"/>
          </p:cNvPr>
          <p:cNvSpPr/>
          <p:nvPr/>
        </p:nvSpPr>
        <p:spPr>
          <a:xfrm>
            <a:off x="1219320" y="3124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26">
            <a:hlinkClick r:id="rId10" action="ppaction://hlinksldjump"/>
          </p:cNvPr>
          <p:cNvSpPr/>
          <p:nvPr/>
        </p:nvSpPr>
        <p:spPr>
          <a:xfrm>
            <a:off x="1219320" y="4267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27">
            <a:hlinkClick r:id="rId11" action="ppaction://hlinksldjump"/>
          </p:cNvPr>
          <p:cNvSpPr/>
          <p:nvPr/>
        </p:nvSpPr>
        <p:spPr>
          <a:xfrm>
            <a:off x="1219320" y="5410080"/>
            <a:ext cx="53316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28">
            <a:hlinkClick r:id="rId12" action="ppaction://hlinksldjump"/>
          </p:cNvPr>
          <p:cNvSpPr/>
          <p:nvPr/>
        </p:nvSpPr>
        <p:spPr>
          <a:xfrm>
            <a:off x="685800" y="1981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29">
            <a:hlinkClick r:id="rId13" action="ppaction://hlinksldjump"/>
          </p:cNvPr>
          <p:cNvSpPr/>
          <p:nvPr/>
        </p:nvSpPr>
        <p:spPr>
          <a:xfrm>
            <a:off x="685800" y="3124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30">
            <a:hlinkClick r:id="rId14" action="ppaction://hlinksldjump"/>
          </p:cNvPr>
          <p:cNvSpPr/>
          <p:nvPr/>
        </p:nvSpPr>
        <p:spPr>
          <a:xfrm>
            <a:off x="685800" y="4267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31">
            <a:hlinkClick r:id="rId15" action="ppaction://hlinksldjump"/>
          </p:cNvPr>
          <p:cNvSpPr/>
          <p:nvPr/>
        </p:nvSpPr>
        <p:spPr>
          <a:xfrm>
            <a:off x="685800" y="5410080"/>
            <a:ext cx="5335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34">
            <a:hlinkClick r:id="rId16" action="ppaction://hlinksldjump"/>
          </p:cNvPr>
          <p:cNvSpPr/>
          <p:nvPr/>
        </p:nvSpPr>
        <p:spPr>
          <a:xfrm>
            <a:off x="2438280" y="838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35">
            <a:hlinkClick r:id="rId17" action="ppaction://hlinksldjump"/>
          </p:cNvPr>
          <p:cNvSpPr/>
          <p:nvPr/>
        </p:nvSpPr>
        <p:spPr>
          <a:xfrm>
            <a:off x="2971800" y="838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36">
            <a:hlinkClick r:id="rId18" action="ppaction://hlinksldjump"/>
          </p:cNvPr>
          <p:cNvSpPr/>
          <p:nvPr/>
        </p:nvSpPr>
        <p:spPr>
          <a:xfrm>
            <a:off x="2438280" y="1981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37">
            <a:hlinkClick r:id="rId19" action="ppaction://hlinksldjump"/>
          </p:cNvPr>
          <p:cNvSpPr/>
          <p:nvPr/>
        </p:nvSpPr>
        <p:spPr>
          <a:xfrm>
            <a:off x="2971800" y="1981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38">
            <a:hlinkClick r:id="rId20" action="ppaction://hlinksldjump"/>
          </p:cNvPr>
          <p:cNvSpPr/>
          <p:nvPr/>
        </p:nvSpPr>
        <p:spPr>
          <a:xfrm>
            <a:off x="2438280" y="3124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39">
            <a:hlinkClick r:id="rId21" action="ppaction://hlinksldjump"/>
          </p:cNvPr>
          <p:cNvSpPr/>
          <p:nvPr/>
        </p:nvSpPr>
        <p:spPr>
          <a:xfrm>
            <a:off x="2971800" y="3124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40">
            <a:hlinkClick r:id="rId22" action="ppaction://hlinksldjump"/>
          </p:cNvPr>
          <p:cNvSpPr/>
          <p:nvPr/>
        </p:nvSpPr>
        <p:spPr>
          <a:xfrm>
            <a:off x="2438280" y="4267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41">
            <a:hlinkClick r:id="rId23" action="ppaction://hlinksldjump"/>
          </p:cNvPr>
          <p:cNvSpPr/>
          <p:nvPr/>
        </p:nvSpPr>
        <p:spPr>
          <a:xfrm>
            <a:off x="2971800" y="4267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42">
            <a:hlinkClick r:id="rId24" action="ppaction://hlinksldjump"/>
          </p:cNvPr>
          <p:cNvSpPr/>
          <p:nvPr/>
        </p:nvSpPr>
        <p:spPr>
          <a:xfrm>
            <a:off x="2438280" y="5410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43">
            <a:hlinkClick r:id="rId25" action="ppaction://hlinksldjump"/>
          </p:cNvPr>
          <p:cNvSpPr/>
          <p:nvPr/>
        </p:nvSpPr>
        <p:spPr>
          <a:xfrm>
            <a:off x="2971800" y="5410080"/>
            <a:ext cx="533520" cy="1143000"/>
          </a:xfrm>
          <a:prstGeom prst="rect">
            <a:avLst/>
          </a:prstGeom>
          <a:solidFill>
            <a:srgbClr val="707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44">
            <a:hlinkClick r:id="rId26" action="ppaction://hlinksldjump"/>
          </p:cNvPr>
          <p:cNvSpPr/>
          <p:nvPr/>
        </p:nvSpPr>
        <p:spPr>
          <a:xfrm>
            <a:off x="4191120" y="838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46">
            <a:hlinkClick r:id="rId27" action="ppaction://hlinksldjump"/>
          </p:cNvPr>
          <p:cNvSpPr/>
          <p:nvPr/>
        </p:nvSpPr>
        <p:spPr>
          <a:xfrm>
            <a:off x="4724280" y="838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47">
            <a:hlinkClick r:id="rId28" action="ppaction://hlinksldjump"/>
          </p:cNvPr>
          <p:cNvSpPr/>
          <p:nvPr/>
        </p:nvSpPr>
        <p:spPr>
          <a:xfrm>
            <a:off x="4191120" y="1981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оугольник 48">
            <a:hlinkClick r:id="rId29" action="ppaction://hlinksldjump"/>
          </p:cNvPr>
          <p:cNvSpPr/>
          <p:nvPr/>
        </p:nvSpPr>
        <p:spPr>
          <a:xfrm>
            <a:off x="4724280" y="1981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оугольник 49">
            <a:hlinkClick r:id="rId30" action="ppaction://hlinksldjump"/>
          </p:cNvPr>
          <p:cNvSpPr/>
          <p:nvPr/>
        </p:nvSpPr>
        <p:spPr>
          <a:xfrm>
            <a:off x="4191120" y="3124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50">
            <a:hlinkClick r:id="rId31" action="ppaction://hlinksldjump"/>
          </p:cNvPr>
          <p:cNvSpPr/>
          <p:nvPr/>
        </p:nvSpPr>
        <p:spPr>
          <a:xfrm>
            <a:off x="4724280" y="3124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51">
            <a:hlinkClick r:id="rId32" action="ppaction://hlinksldjump"/>
          </p:cNvPr>
          <p:cNvSpPr/>
          <p:nvPr/>
        </p:nvSpPr>
        <p:spPr>
          <a:xfrm>
            <a:off x="4191120" y="4267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52">
            <a:hlinkClick r:id="rId33" action="ppaction://hlinksldjump"/>
          </p:cNvPr>
          <p:cNvSpPr/>
          <p:nvPr/>
        </p:nvSpPr>
        <p:spPr>
          <a:xfrm>
            <a:off x="4724280" y="4267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оугольник 53">
            <a:hlinkClick r:id="rId34" action="ppaction://hlinksldjump"/>
          </p:cNvPr>
          <p:cNvSpPr/>
          <p:nvPr/>
        </p:nvSpPr>
        <p:spPr>
          <a:xfrm>
            <a:off x="4191120" y="5410080"/>
            <a:ext cx="53316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54">
            <a:hlinkClick r:id="rId35" action="ppaction://hlinksldjump"/>
          </p:cNvPr>
          <p:cNvSpPr/>
          <p:nvPr/>
        </p:nvSpPr>
        <p:spPr>
          <a:xfrm>
            <a:off x="4724280" y="5410080"/>
            <a:ext cx="53352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55">
            <a:hlinkClick r:id="rId36" action="ppaction://hlinksldjump"/>
          </p:cNvPr>
          <p:cNvSpPr/>
          <p:nvPr/>
        </p:nvSpPr>
        <p:spPr>
          <a:xfrm>
            <a:off x="5943600" y="838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56">
            <a:hlinkClick r:id="rId37" action="ppaction://hlinksldjump"/>
          </p:cNvPr>
          <p:cNvSpPr/>
          <p:nvPr/>
        </p:nvSpPr>
        <p:spPr>
          <a:xfrm>
            <a:off x="6477120" y="838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57">
            <a:hlinkClick r:id="rId38" action="ppaction://hlinksldjump"/>
          </p:cNvPr>
          <p:cNvSpPr/>
          <p:nvPr/>
        </p:nvSpPr>
        <p:spPr>
          <a:xfrm>
            <a:off x="5943600" y="1981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58">
            <a:hlinkClick r:id="rId39" action="ppaction://hlinksldjump"/>
          </p:cNvPr>
          <p:cNvSpPr/>
          <p:nvPr/>
        </p:nvSpPr>
        <p:spPr>
          <a:xfrm>
            <a:off x="6477120" y="1981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59">
            <a:hlinkClick r:id="rId40" action="ppaction://hlinksldjump"/>
          </p:cNvPr>
          <p:cNvSpPr/>
          <p:nvPr/>
        </p:nvSpPr>
        <p:spPr>
          <a:xfrm>
            <a:off x="5943600" y="3124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60">
            <a:hlinkClick r:id="rId41" action="ppaction://hlinksldjump"/>
          </p:cNvPr>
          <p:cNvSpPr/>
          <p:nvPr/>
        </p:nvSpPr>
        <p:spPr>
          <a:xfrm>
            <a:off x="6477120" y="3124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61">
            <a:hlinkClick r:id="rId42" action="ppaction://hlinksldjump"/>
          </p:cNvPr>
          <p:cNvSpPr/>
          <p:nvPr/>
        </p:nvSpPr>
        <p:spPr>
          <a:xfrm>
            <a:off x="5943600" y="4267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62">
            <a:hlinkClick r:id="rId43" action="ppaction://hlinksldjump"/>
          </p:cNvPr>
          <p:cNvSpPr/>
          <p:nvPr/>
        </p:nvSpPr>
        <p:spPr>
          <a:xfrm>
            <a:off x="6477120" y="4267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63">
            <a:hlinkClick r:id="rId44" action="ppaction://hlinksldjump"/>
          </p:cNvPr>
          <p:cNvSpPr/>
          <p:nvPr/>
        </p:nvSpPr>
        <p:spPr>
          <a:xfrm>
            <a:off x="5943600" y="5410080"/>
            <a:ext cx="53352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64">
            <a:hlinkClick r:id="rId45" action="ppaction://hlinksldjump"/>
          </p:cNvPr>
          <p:cNvSpPr/>
          <p:nvPr/>
        </p:nvSpPr>
        <p:spPr>
          <a:xfrm>
            <a:off x="6477120" y="5410080"/>
            <a:ext cx="533160" cy="1143000"/>
          </a:xfrm>
          <a:prstGeom prst="rect">
            <a:avLst/>
          </a:prstGeom>
          <a:solidFill>
            <a:srgbClr val="9c9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оугольник 65">
            <a:hlinkClick r:id="rId46" action="ppaction://hlinksldjump"/>
          </p:cNvPr>
          <p:cNvSpPr/>
          <p:nvPr/>
        </p:nvSpPr>
        <p:spPr>
          <a:xfrm>
            <a:off x="7620120" y="914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оугольник 66">
            <a:hlinkClick r:id="rId47" action="ppaction://hlinksldjump"/>
          </p:cNvPr>
          <p:cNvSpPr/>
          <p:nvPr/>
        </p:nvSpPr>
        <p:spPr>
          <a:xfrm>
            <a:off x="8153280" y="914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оугольник 67">
            <a:hlinkClick r:id="rId48" action="ppaction://hlinksldjump"/>
          </p:cNvPr>
          <p:cNvSpPr/>
          <p:nvPr/>
        </p:nvSpPr>
        <p:spPr>
          <a:xfrm>
            <a:off x="7620120" y="2057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оугольник 68">
            <a:hlinkClick r:id="rId49" action="ppaction://hlinksldjump"/>
          </p:cNvPr>
          <p:cNvSpPr/>
          <p:nvPr/>
        </p:nvSpPr>
        <p:spPr>
          <a:xfrm>
            <a:off x="8153280" y="2057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69">
            <a:hlinkClick r:id="rId50" action="ppaction://hlinksldjump"/>
          </p:cNvPr>
          <p:cNvSpPr/>
          <p:nvPr/>
        </p:nvSpPr>
        <p:spPr>
          <a:xfrm>
            <a:off x="7620120" y="3200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70">
            <a:hlinkClick r:id="rId51" action="ppaction://hlinksldjump"/>
          </p:cNvPr>
          <p:cNvSpPr/>
          <p:nvPr/>
        </p:nvSpPr>
        <p:spPr>
          <a:xfrm>
            <a:off x="8153280" y="3200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71">
            <a:hlinkClick r:id="rId52" action="ppaction://hlinksldjump"/>
          </p:cNvPr>
          <p:cNvSpPr/>
          <p:nvPr/>
        </p:nvSpPr>
        <p:spPr>
          <a:xfrm>
            <a:off x="7620120" y="4343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оугольник 72">
            <a:hlinkClick r:id="rId53" action="ppaction://hlinksldjump"/>
          </p:cNvPr>
          <p:cNvSpPr/>
          <p:nvPr/>
        </p:nvSpPr>
        <p:spPr>
          <a:xfrm>
            <a:off x="8153280" y="4343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73">
            <a:hlinkClick r:id="rId54" action="ppaction://hlinksldjump"/>
          </p:cNvPr>
          <p:cNvSpPr/>
          <p:nvPr/>
        </p:nvSpPr>
        <p:spPr>
          <a:xfrm>
            <a:off x="7620120" y="5486400"/>
            <a:ext cx="53316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74">
            <a:hlinkClick r:id="rId55" action="ppaction://hlinksldjump"/>
          </p:cNvPr>
          <p:cNvSpPr/>
          <p:nvPr/>
        </p:nvSpPr>
        <p:spPr>
          <a:xfrm>
            <a:off x="8153280" y="5486400"/>
            <a:ext cx="533520" cy="114300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2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ие методы лечения зубной боли предлагали генералу домочадц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5"/>
          <p:cNvSpPr/>
          <p:nvPr/>
        </p:nvSpPr>
        <p:spPr>
          <a:xfrm>
            <a:off x="1523880" y="44956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кладывать табачную копоть, скипидар, керосин, мазать щёку йодом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3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В каком городе жил акцизн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ар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3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помогло Евсеичу вспомнить нужную фамил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Доктор попросил продать ему 5 четвертей ов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генерал вылечил свой больной зу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рвал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4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 какому мастеру в ученики отдали Вань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апожнику Аляхи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5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ем служил дедушка Ван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очным сторожем у госп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5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За что Ванька получил выволочку от хозя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а то что уснул когда качал их ребё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6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«неправильно» Ванька чистил рыб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 хво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Откуда Ваня знал грамо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Его научила хозяйка мамы Ольга Игнатьев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7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ой адрес указал Ванька на конвер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5"/>
          <p:cNvSpPr/>
          <p:nvPr/>
        </p:nvSpPr>
        <p:spPr>
          <a:xfrm>
            <a:off x="2362320" y="449568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 деревню дедушке и добавил – Константину Макары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3429000" y="762120"/>
            <a:ext cx="1689120" cy="2133360"/>
          </a:xfrm>
          <a:prstGeom prst="rect">
            <a:avLst/>
          </a:prstGeom>
          <a:ln w="0">
            <a:noFill/>
          </a:ln>
        </p:spPr>
      </p:pic>
      <p:pic>
        <p:nvPicPr>
          <p:cNvPr id="743" name="Прямоугольник 8" descr=""/>
          <p:cNvPicPr/>
          <p:nvPr/>
        </p:nvPicPr>
        <p:blipFill>
          <a:blip r:embed="rId2"/>
          <a:stretch/>
        </p:blipFill>
        <p:spPr>
          <a:xfrm>
            <a:off x="1176480" y="2773440"/>
            <a:ext cx="6419880" cy="34988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2" descr="звезды"/>
          <p:cNvPicPr/>
          <p:nvPr/>
        </p:nvPicPr>
        <p:blipFill>
          <a:blip r:embed="rId3"/>
          <a:stretch/>
        </p:blipFill>
        <p:spPr>
          <a:xfrm>
            <a:off x="6934320" y="1219320"/>
            <a:ext cx="1674720" cy="15238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2" descr="звезды"/>
          <p:cNvPicPr/>
          <p:nvPr/>
        </p:nvPicPr>
        <p:blipFill>
          <a:blip r:embed="rId4"/>
          <a:stretch/>
        </p:blipFill>
        <p:spPr>
          <a:xfrm>
            <a:off x="1066680" y="1066680"/>
            <a:ext cx="16750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77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Ваня хотел, чтобы дедушка попросил для него у Ольги Игнатьевны с ёл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5"/>
          <p:cNvSpPr/>
          <p:nvPr/>
        </p:nvSpPr>
        <p:spPr>
          <a:xfrm>
            <a:off x="2286000" y="5181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олочёный ор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8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аня просил дедушку забрать его из Моск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Хозяева его били и плохо корми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8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входило в обязанности дедушки Вани перед Новым год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Ходить в лес и срубить ёл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9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то помогал дедушке сторожи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аштанка и Вью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89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звали товарища, с которым приехал Волод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Чечевицы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02" name="TextBox 4"/>
          <p:cNvSpPr/>
          <p:nvPr/>
        </p:nvSpPr>
        <p:spPr>
          <a:xfrm>
            <a:off x="2286000" y="533520"/>
            <a:ext cx="655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ечевицын был некрасив и если бы не какая-то часть его гардероба, то он походил бы на кухаркиного сына. 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5"/>
          <p:cNvSpPr/>
          <p:nvPr/>
        </p:nvSpPr>
        <p:spPr>
          <a:xfrm>
            <a:off x="2209680" y="56386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имназическая кур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0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девочки считали Чечевицына умным и учёным челове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всё время молчал и о чём-то дум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1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ем занималась семья Володи до и после приезда мальчи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отовили бахрому и цветы для ё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1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ую книгу постоянно разглядывали мальч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еографический атл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ое прозвище придумал себе Чечевицын и как он называл Волод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5"/>
          <p:cNvSpPr/>
          <p:nvPr/>
        </p:nvSpPr>
        <p:spPr>
          <a:xfrm>
            <a:off x="2362320" y="449568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Монтигомо Ястребиный Коготь , бледнолицый брат 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4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 какой породе собак принадлежала Каштан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омесь такса с дворняж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2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уда хотели сбежать мальч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 Калифор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3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олодя вечером накануне сочельника расплакал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мысленно прощался с род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37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 назначенное время Володя отказался ехать с Чечевицыны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5"/>
          <p:cNvSpPr/>
          <p:nvPr/>
        </p:nvSpPr>
        <p:spPr>
          <a:xfrm>
            <a:off x="1219320" y="4876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говорил, что ему жалко маму, а на самом деле он просто струс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4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Где нашли мальчиков, и что они там дел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 Гостином дворе хотели купить поро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4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олчица вздрагивала от каждого шу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5"/>
          <p:cNvSpPr/>
          <p:nvPr/>
        </p:nvSpPr>
        <p:spPr>
          <a:xfrm>
            <a:off x="2362320" y="449568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а была слабого здоровья, старая, мните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52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автор говорит на мо том, что сторож Игнат возможно когда-то служил механи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5"/>
          <p:cNvSpPr/>
          <p:nvPr/>
        </p:nvSpPr>
        <p:spPr>
          <a:xfrm>
            <a:off x="1295280" y="54100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н давал себе команды: «Стоп машина! Полный ход!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5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то заставило волчицу идти к человек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5"/>
          <p:cNvSpPr/>
          <p:nvPr/>
        </p:nvSpPr>
        <p:spPr>
          <a:xfrm>
            <a:off x="1143000" y="44956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олод. Она была у же старая и не могла поймать себе добычу в ле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6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волчица пробралась в хле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оделала дырку в кры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6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ую добычу принесла волчица из хле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Щенка Арап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7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ой признак глупых собак отмечает автор у Белолоб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Бугор на л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52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Каштанка вела себя на улице, когда они с хозяином относили зака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5"/>
          <p:cNvSpPr/>
          <p:nvPr/>
        </p:nvSpPr>
        <p:spPr>
          <a:xfrm>
            <a:off x="2362320" y="449568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райне неприлично: прыгала, лаяла, забегала во дворы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77" name="TextBox 4"/>
          <p:cNvSpPr/>
          <p:nvPr/>
        </p:nvSpPr>
        <p:spPr>
          <a:xfrm>
            <a:off x="2362320" y="144792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В чем волчица видела пользу для своих детей от игры со щен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Игра приучает хватать добы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8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Почему волчица не съела щен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т него сильно пахло пси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87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щенок спас волчиц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5"/>
          <p:cNvSpPr/>
          <p:nvPr/>
        </p:nvSpPr>
        <p:spPr>
          <a:xfrm>
            <a:off x="2362320" y="365760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Игнат подумал, что это Белолобый делает дырки в крыше х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992" name="TextBox 4"/>
          <p:cNvSpPr/>
          <p:nvPr/>
        </p:nvSpPr>
        <p:spPr>
          <a:xfrm>
            <a:off x="2362320" y="14479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Чему Игнат учил Белолобог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5"/>
          <p:cNvSpPr/>
          <p:nvPr/>
        </p:nvSpPr>
        <p:spPr>
          <a:xfrm>
            <a:off x="2362320" y="44956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ходить на улицу через дверь, а не крыш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Управляющая кнопка: справка 6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8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57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  Каштанка потеряла своего хозя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"/>
          <p:cNvSpPr/>
          <p:nvPr/>
        </p:nvSpPr>
        <p:spPr>
          <a:xfrm>
            <a:off x="2286000" y="42670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о улице шёл полк солдата, Каштанка лаяла на них и потеряла из виду хозя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62" name="TextBox 4"/>
          <p:cNvSpPr/>
          <p:nvPr/>
        </p:nvSpPr>
        <p:spPr>
          <a:xfrm>
            <a:off x="2362320" y="1447920"/>
            <a:ext cx="579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На какие две части Каштанка делила всё человече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"/>
          <p:cNvSpPr/>
          <p:nvPr/>
        </p:nvSpPr>
        <p:spPr>
          <a:xfrm>
            <a:off x="2209680" y="41911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Хозяев- которые могли бить её, и заказчиков, которых она сама могла кусать за но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67" name="TextBox 4"/>
          <p:cNvSpPr/>
          <p:nvPr/>
        </p:nvSpPr>
        <p:spPr>
          <a:xfrm>
            <a:off x="2362320" y="1447920"/>
            <a:ext cx="579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О чём размышляла Каштанка, когда оставалась одна ночью у нового хозя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5"/>
          <p:cNvSpPr/>
          <p:nvPr/>
        </p:nvSpPr>
        <p:spPr>
          <a:xfrm>
            <a:off x="1905120" y="53341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де лучше: у столяра или незнаком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"/>
          <p:cNvPicPr/>
          <p:nvPr/>
        </p:nvPicPr>
        <p:blipFill>
          <a:blip r:embed="rId1"/>
          <a:srcRect l="4457" t="2637" r="10953" b="2637"/>
          <a:stretch/>
        </p:blipFill>
        <p:spPr>
          <a:xfrm>
            <a:off x="228600" y="685800"/>
            <a:ext cx="1689120" cy="2133720"/>
          </a:xfrm>
          <a:prstGeom prst="rect">
            <a:avLst/>
          </a:prstGeom>
          <a:ln w="0">
            <a:noFill/>
          </a:ln>
        </p:spPr>
      </p:pic>
      <p:sp>
        <p:nvSpPr>
          <p:cNvPr id="772" name="TextBox 4"/>
          <p:cNvSpPr/>
          <p:nvPr/>
        </p:nvSpPr>
        <p:spPr>
          <a:xfrm>
            <a:off x="2362320" y="14479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e5"/>
                </a:solidFill>
                <a:latin typeface="Arial"/>
              </a:rPr>
              <a:t>Какую кличку придумал незнакомец Каштан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5"/>
          <p:cNvSpPr/>
          <p:nvPr/>
        </p:nvSpPr>
        <p:spPr>
          <a:xfrm>
            <a:off x="23623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Тё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Управляющая кнопка: справка 6">
            <a:hlinkClick r:id="rId2" action="ppaction://hlinksldjump"/>
          </p:cNvPr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006" h="21600">
                <a:moveTo>
                  <a:pt x="14609" y="14281"/>
                </a:moveTo>
                <a:lnTo>
                  <a:pt x="14609" y="12323"/>
                </a:lnTo>
                <a:cubicBezTo>
                  <a:pt x="14609" y="11496"/>
                  <a:pt x="14939" y="10800"/>
                  <a:pt x="15540" y="10800"/>
                </a:cubicBezTo>
                <a:cubicBezTo>
                  <a:pt x="16671" y="10800"/>
                  <a:pt x="17568" y="9434"/>
                  <a:pt x="17568" y="7849"/>
                </a:cubicBezTo>
                <a:cubicBezTo>
                  <a:pt x="17568" y="5534"/>
                  <a:pt x="15714" y="3794"/>
                  <a:pt x="13503" y="3794"/>
                </a:cubicBezTo>
                <a:cubicBezTo>
                  <a:pt x="11292" y="3794"/>
                  <a:pt x="9621" y="5534"/>
                  <a:pt x="9621" y="7849"/>
                </a:cubicBezTo>
                <a:lnTo>
                  <a:pt x="11475" y="7849"/>
                </a:lnTo>
                <a:cubicBezTo>
                  <a:pt x="11475" y="6709"/>
                  <a:pt x="12398" y="5821"/>
                  <a:pt x="13503" y="5821"/>
                </a:cubicBezTo>
                <a:cubicBezTo>
                  <a:pt x="14609" y="5821"/>
                  <a:pt x="15540" y="6709"/>
                  <a:pt x="15540" y="7849"/>
                </a:cubicBezTo>
                <a:cubicBezTo>
                  <a:pt x="15540" y="8589"/>
                  <a:pt x="15070" y="9320"/>
                  <a:pt x="14609" y="9320"/>
                </a:cubicBezTo>
                <a:cubicBezTo>
                  <a:pt x="13503" y="9320"/>
                  <a:pt x="12398" y="10800"/>
                  <a:pt x="12398" y="12323"/>
                </a:cubicBezTo>
                <a:lnTo>
                  <a:pt x="12398" y="14281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7"/>
          <p:cNvSpPr/>
          <p:nvPr/>
        </p:nvSpPr>
        <p:spPr>
          <a:xfrm>
            <a:off x="228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а</cp:lastModifiedBy>
  <dcterms:modified xsi:type="dcterms:W3CDTF">2010-01-16T02:04:58Z</dcterms:modified>
  <cp:revision>23</cp:revision>
  <dc:subject/>
  <dc:title>Слайд 1</dc:title>
</cp:coreProperties>
</file>