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486-8C20-41D9-9622-46DB9D85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34B-A35B-486A-A892-9BE6B36E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4494D-5D1B-41F6-B3ED-7DA50A15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64F30-CB87-40D7-8AE7-97AFE6A1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6C190-864A-4227-94FC-DE57BF67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1B45A-7C57-412E-9859-9825335F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6A097-B743-463A-8CF8-6206AF4B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CFB41-0710-4634-B616-46725166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26696-0F4E-4137-B9E8-C080E5A1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D7E63-BED7-47AF-A196-430830E8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E056B-1CCA-4B4D-A566-E1EBB448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709AC-D747-41E8-B95D-8066978E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3B2-CBD9-47D6-A6C4-C21A3FC3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32130-1B03-4258-914B-FA271ED4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C9772-0566-4C7B-BC57-584E214E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11840-0F6D-4758-A42D-CC5397AF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92122-DAAF-4BBB-A43D-F724F2F9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1296C-5D60-436B-9F0F-9449EA8C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3665A-A73E-4078-B321-A9E1A764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14C5A-DE90-481F-86D4-8A450378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5479F-3C94-4669-BE26-36037852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01AAC-E8D8-4B6E-B3B2-82AE56FF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7D2E5-C81F-442E-85BC-0A702C4B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843-D022-4F4B-B6F5-50EFDF89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0D879-60BC-4CEB-94FD-99E095F2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FC78A-8F8D-4625-B2EA-F9B74E52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631E0-4841-478F-889D-96373D9A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EE835-F0B1-4F43-996C-BD8DBD2D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4F47C-D154-445C-BA48-4AE8CF16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9C9E9-58F2-48A3-8121-4BF667EB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531A7-F23D-48CD-B6E4-D3D06220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EAEAE-0C4D-464A-B650-25DAB457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498F0-6C0A-4A31-B9C6-E38C0E76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30389-CA89-4503-A498-8E9A5F94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DC036-BE29-4552-99F5-BFFA487C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1DF68-6CAE-481A-8378-4CD629B1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4E282-EF37-49C1-A555-DF6C2B79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3E27C-1796-46B7-9167-BC144B0B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C43A1-014C-4EB5-83C4-041777A4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0E88D-1231-45FA-9432-BAA3D01D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E5ECF-872A-4E44-A15A-86827F28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AB206-C155-4E78-B6AE-DE0D60CD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BFF75-0696-48B0-851D-028D0E09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67BB9-26D5-4A96-985B-6EA718ED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FC5BA-AB42-46E3-AD64-FCD1B34C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839D2-A176-45CD-B531-224AA099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E561B-1800-4EC5-AAEB-75DC2C4E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F1675-A64F-4ADD-96C9-E1A1154A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2CABC-9966-49E7-956D-81BB70BF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17FEF-E8B2-4BB4-A536-9949D788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ABB20-2B5B-40AA-8652-1BA6A527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89BCE-67A1-4D5B-881F-EAF6622C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08FF5-8B19-4F31-A5CB-02599FC3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52934-B38C-4D47-A587-3D4D024C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02C4F-0A4E-4756-A90B-38A55E70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3E989-58F1-4DA6-B0B1-482F1FE9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0A6-02A2-40C1-A7F9-82AB8E05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A9EDB-2E45-436B-B9A8-D254AD7C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12A9B-CFA1-45FA-98A1-81E6A2C9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598F3-7135-4479-84AE-44FD657A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4D904-F374-4DDC-AEB2-5CE9E45D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F7A24-6F58-42FF-9BE0-6F06CED9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7FA42-85C8-4FCF-BDB6-344B7FC8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787A5-07C2-4FA8-B76A-957D8AAB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EAD8-618B-4169-B337-84DBFB10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37A95-835E-42FF-8AF0-0C68FDFF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D75CA-A66E-479A-9276-50AF7B06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6ED-4779-473B-96CB-92B3AE42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0E4E7-1EEA-4E83-8242-9FE84363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9443-B8CD-4EFB-BBAA-CF815B9F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847EF-52FD-467C-A774-F9B0D223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AE78-5E87-4E02-AD2A-E821009D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EE6E9-9322-424E-9E66-44040795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ECEF-0924-45AD-BCB4-34CBF0F1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FD34B-B143-417F-95E0-AAF97FAC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86CD5-256B-45AF-90C7-FC5A65DB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CE7D0-A6D1-4651-B61A-DE545C46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A869D-5B9E-4521-AE7A-C91F8382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72A-3F8F-4DAF-8782-7C54A8A9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4B0E0-0651-4256-8EF2-A8BEF7BE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0C26F-83B6-4B4F-8283-EC775421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5ED40-05A2-4EFA-9CC8-B558152F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2877B-B3B9-45FE-BA65-0239C0E2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7A0FD-512B-4137-8A02-D066E178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99AB5-F49A-4051-897C-1EA931A3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66F8C-5240-4F53-98C3-A01186D2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AE377-4753-4924-99CA-02BE0EF8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A0E05-D52B-47E4-88BA-503C78BB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36FF0-1486-4C50-BA01-B8BA47DA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B00-D37D-4E52-A3A1-4313CCC9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F2B91-FE64-46E4-B02B-DA973671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F633E-E79A-483C-9EBE-C5863D40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DE325-9DE3-4B12-A3D1-DA295BFE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2EFEE-8C5B-42C6-ACAE-4678F7EE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D674C-E8F5-402C-B451-F22F2349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C956B-1084-4D0E-B6E1-C366C061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CF69A-8458-4A9D-8179-F84FE6ED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7E1D4-4E18-4396-A965-EEB98A13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03B13-CE8A-47D0-A1B4-3167FE15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387D3-C276-4B18-9214-1E3AF539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A08-6E94-4208-A631-E7FF13B7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2A3A9-D413-4C9A-ACDF-168B64FD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73D310-D0E4-4411-B429-0829ACDE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5634F-2AE0-42E3-BC97-38CCA19B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3F448-4BCF-48C8-89B4-722C42BF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32141-5E92-44D0-887B-E35235A9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907DF-74A1-421D-8A3F-AD609517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B295D-2102-452A-9F57-DB50DF7B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23F73-74CC-4ADC-BAAC-4BBD53E0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1A86DB-0B9F-44BC-B7CE-0972F4D1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0B588-DF8E-472C-A788-92501E49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022-B610-4925-95C7-B90AE342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1B8C60-159D-43FB-B256-A56F2EAE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50C45-7C3D-4825-9FFF-15071A93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BA0DBE-EB23-4481-8EFA-64843C13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DD0ED-C1CB-4339-8111-9FB9D9F1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3789A-BD87-4F40-A4D3-FE018303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273B0-D1E9-45D6-B1CF-E623B646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22447-76F4-4C65-B09A-1C431CBC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63E42-9E5F-410B-875B-3E1BB3B5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FE7FE-3A16-4A8B-AC20-C8171309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8C9F6-D554-4786-9F8E-3B1529EA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59B-AC7F-43B4-B206-9F362A79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090AE-70C8-48FC-84FD-DCF4B239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03B80-6AB8-4437-99BF-20FFAE04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5E65A-2FE0-480C-A1AE-2FB49539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958AD-6D01-4C96-9492-390A0C2B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7D8BF-ABCD-485F-A051-1868E2C2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552F0-BB2E-43E4-8C6E-03FB96C3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C4834-2003-4671-80CE-FDC18624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418D3-3BF6-4704-9253-93A7A0E8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7B116-BA1D-4512-9434-598FD39E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12849-C4B9-481B-83B9-CDC7FC2A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A26-8F63-44C3-9D8C-A8543848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81626-3119-438D-978A-8F47B9CC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E8099-8A8E-42A6-95C6-57AFE4AB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86746-620D-4C94-A92D-DE5AD2A1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762A0-5155-4DC2-B2A1-911F2BA1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D7146-55A3-4F1D-9B17-CADF1424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D1666-468E-40AE-8779-78648878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677F6-7879-4ADF-8E18-519431B6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22557-6D99-4660-8918-B262057D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731DC-28A4-4D72-A27C-EAFA5FCD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29E29-4641-442A-AC4E-40F1ED2B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C880-C464-4DAA-9AE3-36CFC7098C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deb6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0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0593-7881-4E19-AD46-2A8E392721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7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7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F792-F917-4C74-8EDD-BD7A257A00E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2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43E0-1913-4BC8-AB24-6401C9C272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3B8D-75D5-4F8B-A6C6-D08B598E47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5A35-B4CD-499D-AC24-E3F92B4278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B85B-9201-46CA-9315-D87D4A4AE5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D0D0-AE05-48FB-B1BC-2090A6A418D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deb6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2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5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25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2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2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9D69-6E09-4604-AEE5-A3BA9D609F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0B26-DB78-44AB-80A2-56F45A5E23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5F83-242C-4DA0-AEE8-6185FED4CB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42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4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452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456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8C58-4229-4EBE-BF9A-4800A6FC1F5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6.xml"/><Relationship Id="rId13" Type="http://schemas.openxmlformats.org/officeDocument/2006/relationships/slide" Target="slide8.xml"/><Relationship Id="rId14" Type="http://schemas.openxmlformats.org/officeDocument/2006/relationships/slide" Target="slide10.xml"/><Relationship Id="rId15" Type="http://schemas.openxmlformats.org/officeDocument/2006/relationships/slide" Target="slide12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slide" Target="slide33.xml"/><Relationship Id="rId36" Type="http://schemas.openxmlformats.org/officeDocument/2006/relationships/slide" Target="slide34.xml"/><Relationship Id="rId37" Type="http://schemas.openxmlformats.org/officeDocument/2006/relationships/slide" Target="slide35.xml"/><Relationship Id="rId38" Type="http://schemas.openxmlformats.org/officeDocument/2006/relationships/slide" Target="slide36.xml"/><Relationship Id="rId39" Type="http://schemas.openxmlformats.org/officeDocument/2006/relationships/slide" Target="slide37.xml"/><Relationship Id="rId40" Type="http://schemas.openxmlformats.org/officeDocument/2006/relationships/slide" Target="slide38.xml"/><Relationship Id="rId41" Type="http://schemas.openxmlformats.org/officeDocument/2006/relationships/slide" Target="slide39.xml"/><Relationship Id="rId42" Type="http://schemas.openxmlformats.org/officeDocument/2006/relationships/slide" Target="slide40.xml"/><Relationship Id="rId43" Type="http://schemas.openxmlformats.org/officeDocument/2006/relationships/slide" Target="slide41.xml"/><Relationship Id="rId44" Type="http://schemas.openxmlformats.org/officeDocument/2006/relationships/slide" Target="slide42.xml"/><Relationship Id="rId45" Type="http://schemas.openxmlformats.org/officeDocument/2006/relationships/slide" Target="slide43.xml"/><Relationship Id="rId46" Type="http://schemas.openxmlformats.org/officeDocument/2006/relationships/slide" Target="slide44.xml"/><Relationship Id="rId47" Type="http://schemas.openxmlformats.org/officeDocument/2006/relationships/slide" Target="slide45.xml"/><Relationship Id="rId48" Type="http://schemas.openxmlformats.org/officeDocument/2006/relationships/slide" Target="slide46.xml"/><Relationship Id="rId49" Type="http://schemas.openxmlformats.org/officeDocument/2006/relationships/slide" Target="slide47.xml"/><Relationship Id="rId50" Type="http://schemas.openxmlformats.org/officeDocument/2006/relationships/slide" Target="slide48.xml"/><Relationship Id="rId51" Type="http://schemas.openxmlformats.org/officeDocument/2006/relationships/slide" Target="slide49.xml"/><Relationship Id="rId52" Type="http://schemas.openxmlformats.org/officeDocument/2006/relationships/slide" Target="slide50.xml"/><Relationship Id="rId53" Type="http://schemas.openxmlformats.org/officeDocument/2006/relationships/slide" Target="slide51.xml"/><Relationship Id="rId54" Type="http://schemas.openxmlformats.org/officeDocument/2006/relationships/slide" Target="slide52.xml"/><Relationship Id="rId55" Type="http://schemas.openxmlformats.org/officeDocument/2006/relationships/slide" Target="slide53.xml"/><Relationship Id="rId5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Ан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авлович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Чех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Прямоугольник 3" descr=""/>
          <p:cNvPicPr/>
          <p:nvPr/>
        </p:nvPicPr>
        <p:blipFill>
          <a:blip r:embed="rId1"/>
          <a:stretch/>
        </p:blipFill>
        <p:spPr>
          <a:xfrm>
            <a:off x="2262240" y="1554120"/>
            <a:ext cx="6680160" cy="24084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rcRect l="4462" t="2631" r="10943" b="2631"/>
          <a:stretch/>
        </p:blipFill>
        <p:spPr>
          <a:xfrm>
            <a:off x="1143000" y="4648320"/>
            <a:ext cx="150804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7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то такие Фёдор Тимофеич и Иван Иваныч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Кот и гу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82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Незнакомец говорил своим питомцам, что надо жить..(как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Друж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87" name="TextBox 4"/>
          <p:cNvSpPr/>
          <p:nvPr/>
        </p:nvSpPr>
        <p:spPr>
          <a:xfrm>
            <a:off x="2362320" y="914400"/>
            <a:ext cx="5790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то ощущала Каштанка в то время, когда хозяин уезжал куда-то и забирал с собой кота и гу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5"/>
          <p:cNvSpPr/>
          <p:nvPr/>
        </p:nvSpPr>
        <p:spPr>
          <a:xfrm>
            <a:off x="2362320" y="48769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Тос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92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Почему Каштанка с трудом узнала своего нового хозяина в цир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5"/>
          <p:cNvSpPr/>
          <p:nvPr/>
        </p:nvSpPr>
        <p:spPr>
          <a:xfrm>
            <a:off x="2438280" y="48006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н был в гри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 звали отставного генерала- майо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Алексей Булде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0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ой недуг мучил генера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Болел з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07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ая фамилия была у акцизно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в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1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ие фамилии все вспоми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Лошади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17" name="TextBox 4"/>
          <p:cNvSpPr/>
          <p:nvPr/>
        </p:nvSpPr>
        <p:spPr>
          <a:xfrm>
            <a:off x="2362320" y="1447920"/>
            <a:ext cx="5790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ую сумму пообещал генерал тому, кто первым вспомнит нужную фамили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5"/>
          <p:cNvSpPr/>
          <p:nvPr/>
        </p:nvSpPr>
        <p:spPr>
          <a:xfrm>
            <a:off x="2209680" y="53341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5 руб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22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то генерал должен был послать акцизно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Телеграм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Вертикальный свиток 1"/>
          <p:cNvSpPr/>
          <p:nvPr/>
        </p:nvSpPr>
        <p:spPr>
          <a:xfrm>
            <a:off x="2057400" y="533520"/>
            <a:ext cx="1752480" cy="609588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Вертикальный свиток 2"/>
          <p:cNvSpPr/>
          <p:nvPr/>
        </p:nvSpPr>
        <p:spPr>
          <a:xfrm>
            <a:off x="3809880" y="533520"/>
            <a:ext cx="1752840" cy="6095880"/>
          </a:xfrm>
          <a:prstGeom prst="verticalScroll">
            <a:avLst>
              <a:gd name="adj" fmla="val 12500"/>
            </a:avLst>
          </a:prstGeom>
          <a:solidFill>
            <a:srgbClr val="707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Вертикальный свиток 3"/>
          <p:cNvSpPr/>
          <p:nvPr/>
        </p:nvSpPr>
        <p:spPr>
          <a:xfrm>
            <a:off x="5562720" y="533520"/>
            <a:ext cx="1752480" cy="6095880"/>
          </a:xfrm>
          <a:prstGeom prst="verticalScroll">
            <a:avLst>
              <a:gd name="adj" fmla="val 125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Вертикальный свиток 4"/>
          <p:cNvSpPr/>
          <p:nvPr/>
        </p:nvSpPr>
        <p:spPr>
          <a:xfrm>
            <a:off x="7238880" y="533520"/>
            <a:ext cx="1752840" cy="6095880"/>
          </a:xfrm>
          <a:prstGeom prst="verticalScroll">
            <a:avLst>
              <a:gd name="adj" fmla="val 125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Вертикальный свиток 5"/>
          <p:cNvSpPr/>
          <p:nvPr/>
        </p:nvSpPr>
        <p:spPr>
          <a:xfrm>
            <a:off x="380880" y="533520"/>
            <a:ext cx="1752840" cy="6095880"/>
          </a:xfrm>
          <a:prstGeom prst="verticalScroll">
            <a:avLst>
              <a:gd name="adj" fmla="val 12500"/>
            </a:avLst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TextBox 6" descr=""/>
          <p:cNvPicPr/>
          <p:nvPr/>
        </p:nvPicPr>
        <p:blipFill>
          <a:blip r:embed="rId1"/>
          <a:stretch/>
        </p:blipFill>
        <p:spPr>
          <a:xfrm>
            <a:off x="731880" y="907920"/>
            <a:ext cx="1272960" cy="5426280"/>
          </a:xfrm>
          <a:prstGeom prst="rect">
            <a:avLst/>
          </a:prstGeom>
          <a:ln w="0">
            <a:noFill/>
          </a:ln>
        </p:spPr>
      </p:pic>
      <p:pic>
        <p:nvPicPr>
          <p:cNvPr id="688" name="TextBox 7" descr=""/>
          <p:cNvPicPr/>
          <p:nvPr/>
        </p:nvPicPr>
        <p:blipFill>
          <a:blip r:embed="rId2"/>
          <a:stretch/>
        </p:blipFill>
        <p:spPr>
          <a:xfrm>
            <a:off x="2273400" y="987480"/>
            <a:ext cx="1725480" cy="5572080"/>
          </a:xfrm>
          <a:prstGeom prst="rect">
            <a:avLst/>
          </a:prstGeom>
          <a:ln w="0">
            <a:noFill/>
          </a:ln>
        </p:spPr>
      </p:pic>
      <p:pic>
        <p:nvPicPr>
          <p:cNvPr id="689" name="TextBox 8" descr=""/>
          <p:cNvPicPr/>
          <p:nvPr/>
        </p:nvPicPr>
        <p:blipFill>
          <a:blip r:embed="rId3"/>
          <a:stretch/>
        </p:blipFill>
        <p:spPr>
          <a:xfrm>
            <a:off x="4157640" y="1054080"/>
            <a:ext cx="1504800" cy="5280120"/>
          </a:xfrm>
          <a:prstGeom prst="rect">
            <a:avLst/>
          </a:prstGeom>
          <a:ln w="0">
            <a:noFill/>
          </a:ln>
        </p:spPr>
      </p:pic>
      <p:pic>
        <p:nvPicPr>
          <p:cNvPr id="690" name="TextBox 9" descr=""/>
          <p:cNvPicPr/>
          <p:nvPr/>
        </p:nvPicPr>
        <p:blipFill>
          <a:blip r:embed="rId4"/>
          <a:stretch/>
        </p:blipFill>
        <p:spPr>
          <a:xfrm>
            <a:off x="5883120" y="987480"/>
            <a:ext cx="1194120" cy="5267160"/>
          </a:xfrm>
          <a:prstGeom prst="rect">
            <a:avLst/>
          </a:prstGeom>
          <a:ln w="0">
            <a:noFill/>
          </a:ln>
        </p:spPr>
      </p:pic>
      <p:pic>
        <p:nvPicPr>
          <p:cNvPr id="691" name="TextBox 10" descr=""/>
          <p:cNvPicPr/>
          <p:nvPr/>
        </p:nvPicPr>
        <p:blipFill>
          <a:blip r:embed="rId5"/>
          <a:stretch/>
        </p:blipFill>
        <p:spPr>
          <a:xfrm>
            <a:off x="7765920" y="1139760"/>
            <a:ext cx="1036800" cy="5194440"/>
          </a:xfrm>
          <a:prstGeom prst="rect">
            <a:avLst/>
          </a:prstGeom>
          <a:ln w="0">
            <a:noFill/>
          </a:ln>
        </p:spPr>
      </p:pic>
      <p:sp>
        <p:nvSpPr>
          <p:cNvPr id="692" name="Прямоугольник 12">
            <a:hlinkClick r:id="rId6" action="ppaction://hlinksldjump"/>
          </p:cNvPr>
          <p:cNvSpPr/>
          <p:nvPr/>
        </p:nvSpPr>
        <p:spPr>
          <a:xfrm>
            <a:off x="685800" y="838080"/>
            <a:ext cx="53352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оугольник 23">
            <a:hlinkClick r:id="rId7" action="ppaction://hlinksldjump"/>
          </p:cNvPr>
          <p:cNvSpPr/>
          <p:nvPr/>
        </p:nvSpPr>
        <p:spPr>
          <a:xfrm>
            <a:off x="1219320" y="838080"/>
            <a:ext cx="53316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24">
            <a:hlinkClick r:id="rId8" action="ppaction://hlinksldjump"/>
          </p:cNvPr>
          <p:cNvSpPr/>
          <p:nvPr/>
        </p:nvSpPr>
        <p:spPr>
          <a:xfrm>
            <a:off x="1219320" y="1981080"/>
            <a:ext cx="53316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оугольник 25">
            <a:hlinkClick r:id="rId9" action="ppaction://hlinksldjump"/>
          </p:cNvPr>
          <p:cNvSpPr/>
          <p:nvPr/>
        </p:nvSpPr>
        <p:spPr>
          <a:xfrm>
            <a:off x="1219320" y="3124080"/>
            <a:ext cx="53316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26">
            <a:hlinkClick r:id="rId10" action="ppaction://hlinksldjump"/>
          </p:cNvPr>
          <p:cNvSpPr/>
          <p:nvPr/>
        </p:nvSpPr>
        <p:spPr>
          <a:xfrm>
            <a:off x="1219320" y="4267080"/>
            <a:ext cx="53316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27">
            <a:hlinkClick r:id="rId11" action="ppaction://hlinksldjump"/>
          </p:cNvPr>
          <p:cNvSpPr/>
          <p:nvPr/>
        </p:nvSpPr>
        <p:spPr>
          <a:xfrm>
            <a:off x="1219320" y="5410080"/>
            <a:ext cx="53316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оугольник 28">
            <a:hlinkClick r:id="rId12" action="ppaction://hlinksldjump"/>
          </p:cNvPr>
          <p:cNvSpPr/>
          <p:nvPr/>
        </p:nvSpPr>
        <p:spPr>
          <a:xfrm>
            <a:off x="685800" y="1981080"/>
            <a:ext cx="53352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29">
            <a:hlinkClick r:id="rId13" action="ppaction://hlinksldjump"/>
          </p:cNvPr>
          <p:cNvSpPr/>
          <p:nvPr/>
        </p:nvSpPr>
        <p:spPr>
          <a:xfrm>
            <a:off x="685800" y="3124080"/>
            <a:ext cx="53352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30">
            <a:hlinkClick r:id="rId14" action="ppaction://hlinksldjump"/>
          </p:cNvPr>
          <p:cNvSpPr/>
          <p:nvPr/>
        </p:nvSpPr>
        <p:spPr>
          <a:xfrm>
            <a:off x="685800" y="4267080"/>
            <a:ext cx="53352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31">
            <a:hlinkClick r:id="rId15" action="ppaction://hlinksldjump"/>
          </p:cNvPr>
          <p:cNvSpPr/>
          <p:nvPr/>
        </p:nvSpPr>
        <p:spPr>
          <a:xfrm>
            <a:off x="685800" y="5410080"/>
            <a:ext cx="53352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34">
            <a:hlinkClick r:id="rId16" action="ppaction://hlinksldjump"/>
          </p:cNvPr>
          <p:cNvSpPr/>
          <p:nvPr/>
        </p:nvSpPr>
        <p:spPr>
          <a:xfrm>
            <a:off x="2438280" y="838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35">
            <a:hlinkClick r:id="rId17" action="ppaction://hlinksldjump"/>
          </p:cNvPr>
          <p:cNvSpPr/>
          <p:nvPr/>
        </p:nvSpPr>
        <p:spPr>
          <a:xfrm>
            <a:off x="2971800" y="838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36">
            <a:hlinkClick r:id="rId18" action="ppaction://hlinksldjump"/>
          </p:cNvPr>
          <p:cNvSpPr/>
          <p:nvPr/>
        </p:nvSpPr>
        <p:spPr>
          <a:xfrm>
            <a:off x="2438280" y="1981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оугольник 37">
            <a:hlinkClick r:id="rId19" action="ppaction://hlinksldjump"/>
          </p:cNvPr>
          <p:cNvSpPr/>
          <p:nvPr/>
        </p:nvSpPr>
        <p:spPr>
          <a:xfrm>
            <a:off x="2971800" y="1981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оугольник 38">
            <a:hlinkClick r:id="rId20" action="ppaction://hlinksldjump"/>
          </p:cNvPr>
          <p:cNvSpPr/>
          <p:nvPr/>
        </p:nvSpPr>
        <p:spPr>
          <a:xfrm>
            <a:off x="2438280" y="3124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оугольник 39">
            <a:hlinkClick r:id="rId21" action="ppaction://hlinksldjump"/>
          </p:cNvPr>
          <p:cNvSpPr/>
          <p:nvPr/>
        </p:nvSpPr>
        <p:spPr>
          <a:xfrm>
            <a:off x="2971800" y="3124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40">
            <a:hlinkClick r:id="rId22" action="ppaction://hlinksldjump"/>
          </p:cNvPr>
          <p:cNvSpPr/>
          <p:nvPr/>
        </p:nvSpPr>
        <p:spPr>
          <a:xfrm>
            <a:off x="2438280" y="4267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41">
            <a:hlinkClick r:id="rId23" action="ppaction://hlinksldjump"/>
          </p:cNvPr>
          <p:cNvSpPr/>
          <p:nvPr/>
        </p:nvSpPr>
        <p:spPr>
          <a:xfrm>
            <a:off x="2971800" y="4267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оугольник 42">
            <a:hlinkClick r:id="rId24" action="ppaction://hlinksldjump"/>
          </p:cNvPr>
          <p:cNvSpPr/>
          <p:nvPr/>
        </p:nvSpPr>
        <p:spPr>
          <a:xfrm>
            <a:off x="2438280" y="5410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оугольник 43">
            <a:hlinkClick r:id="rId25" action="ppaction://hlinksldjump"/>
          </p:cNvPr>
          <p:cNvSpPr/>
          <p:nvPr/>
        </p:nvSpPr>
        <p:spPr>
          <a:xfrm>
            <a:off x="2971800" y="5410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оугольник 44">
            <a:hlinkClick r:id="rId26" action="ppaction://hlinksldjump"/>
          </p:cNvPr>
          <p:cNvSpPr/>
          <p:nvPr/>
        </p:nvSpPr>
        <p:spPr>
          <a:xfrm>
            <a:off x="4191120" y="838080"/>
            <a:ext cx="53316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ямоугольник 46">
            <a:hlinkClick r:id="rId27" action="ppaction://hlinksldjump"/>
          </p:cNvPr>
          <p:cNvSpPr/>
          <p:nvPr/>
        </p:nvSpPr>
        <p:spPr>
          <a:xfrm>
            <a:off x="4724280" y="838080"/>
            <a:ext cx="53352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47">
            <a:hlinkClick r:id="rId28" action="ppaction://hlinksldjump"/>
          </p:cNvPr>
          <p:cNvSpPr/>
          <p:nvPr/>
        </p:nvSpPr>
        <p:spPr>
          <a:xfrm>
            <a:off x="4191120" y="1981080"/>
            <a:ext cx="53316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оугольник 48">
            <a:hlinkClick r:id="rId29" action="ppaction://hlinksldjump"/>
          </p:cNvPr>
          <p:cNvSpPr/>
          <p:nvPr/>
        </p:nvSpPr>
        <p:spPr>
          <a:xfrm>
            <a:off x="4724280" y="1981080"/>
            <a:ext cx="53352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оугольник 49">
            <a:hlinkClick r:id="rId30" action="ppaction://hlinksldjump"/>
          </p:cNvPr>
          <p:cNvSpPr/>
          <p:nvPr/>
        </p:nvSpPr>
        <p:spPr>
          <a:xfrm>
            <a:off x="4191120" y="3124080"/>
            <a:ext cx="53316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оугольник 50">
            <a:hlinkClick r:id="rId31" action="ppaction://hlinksldjump"/>
          </p:cNvPr>
          <p:cNvSpPr/>
          <p:nvPr/>
        </p:nvSpPr>
        <p:spPr>
          <a:xfrm>
            <a:off x="4724280" y="3124080"/>
            <a:ext cx="53352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оугольник 51">
            <a:hlinkClick r:id="rId32" action="ppaction://hlinksldjump"/>
          </p:cNvPr>
          <p:cNvSpPr/>
          <p:nvPr/>
        </p:nvSpPr>
        <p:spPr>
          <a:xfrm>
            <a:off x="4191120" y="4267080"/>
            <a:ext cx="53316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оугольник 52">
            <a:hlinkClick r:id="rId33" action="ppaction://hlinksldjump"/>
          </p:cNvPr>
          <p:cNvSpPr/>
          <p:nvPr/>
        </p:nvSpPr>
        <p:spPr>
          <a:xfrm>
            <a:off x="4724280" y="4267080"/>
            <a:ext cx="53352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Прямоугольник 53">
            <a:hlinkClick r:id="rId34" action="ppaction://hlinksldjump"/>
          </p:cNvPr>
          <p:cNvSpPr/>
          <p:nvPr/>
        </p:nvSpPr>
        <p:spPr>
          <a:xfrm>
            <a:off x="4191120" y="5410080"/>
            <a:ext cx="53316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оугольник 54">
            <a:hlinkClick r:id="rId35" action="ppaction://hlinksldjump"/>
          </p:cNvPr>
          <p:cNvSpPr/>
          <p:nvPr/>
        </p:nvSpPr>
        <p:spPr>
          <a:xfrm>
            <a:off x="4724280" y="5410080"/>
            <a:ext cx="53352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оугольник 55">
            <a:hlinkClick r:id="rId36" action="ppaction://hlinksldjump"/>
          </p:cNvPr>
          <p:cNvSpPr/>
          <p:nvPr/>
        </p:nvSpPr>
        <p:spPr>
          <a:xfrm>
            <a:off x="5943600" y="838080"/>
            <a:ext cx="53352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оугольник 56">
            <a:hlinkClick r:id="rId37" action="ppaction://hlinksldjump"/>
          </p:cNvPr>
          <p:cNvSpPr/>
          <p:nvPr/>
        </p:nvSpPr>
        <p:spPr>
          <a:xfrm>
            <a:off x="6477120" y="838080"/>
            <a:ext cx="53316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оугольник 57">
            <a:hlinkClick r:id="rId38" action="ppaction://hlinksldjump"/>
          </p:cNvPr>
          <p:cNvSpPr/>
          <p:nvPr/>
        </p:nvSpPr>
        <p:spPr>
          <a:xfrm>
            <a:off x="5943600" y="1981080"/>
            <a:ext cx="53352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58">
            <a:hlinkClick r:id="rId39" action="ppaction://hlinksldjump"/>
          </p:cNvPr>
          <p:cNvSpPr/>
          <p:nvPr/>
        </p:nvSpPr>
        <p:spPr>
          <a:xfrm>
            <a:off x="6477120" y="1981080"/>
            <a:ext cx="53316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оугольник 59">
            <a:hlinkClick r:id="rId40" action="ppaction://hlinksldjump"/>
          </p:cNvPr>
          <p:cNvSpPr/>
          <p:nvPr/>
        </p:nvSpPr>
        <p:spPr>
          <a:xfrm>
            <a:off x="5943600" y="3124080"/>
            <a:ext cx="53352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60">
            <a:hlinkClick r:id="rId41" action="ppaction://hlinksldjump"/>
          </p:cNvPr>
          <p:cNvSpPr/>
          <p:nvPr/>
        </p:nvSpPr>
        <p:spPr>
          <a:xfrm>
            <a:off x="6477120" y="3124080"/>
            <a:ext cx="53316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оугольник 61">
            <a:hlinkClick r:id="rId42" action="ppaction://hlinksldjump"/>
          </p:cNvPr>
          <p:cNvSpPr/>
          <p:nvPr/>
        </p:nvSpPr>
        <p:spPr>
          <a:xfrm>
            <a:off x="5943600" y="4267080"/>
            <a:ext cx="53352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оугольник 62">
            <a:hlinkClick r:id="rId43" action="ppaction://hlinksldjump"/>
          </p:cNvPr>
          <p:cNvSpPr/>
          <p:nvPr/>
        </p:nvSpPr>
        <p:spPr>
          <a:xfrm>
            <a:off x="6477120" y="4267080"/>
            <a:ext cx="53316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63">
            <a:hlinkClick r:id="rId44" action="ppaction://hlinksldjump"/>
          </p:cNvPr>
          <p:cNvSpPr/>
          <p:nvPr/>
        </p:nvSpPr>
        <p:spPr>
          <a:xfrm>
            <a:off x="5943600" y="5410080"/>
            <a:ext cx="53352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64">
            <a:hlinkClick r:id="rId45" action="ppaction://hlinksldjump"/>
          </p:cNvPr>
          <p:cNvSpPr/>
          <p:nvPr/>
        </p:nvSpPr>
        <p:spPr>
          <a:xfrm>
            <a:off x="6477120" y="5410080"/>
            <a:ext cx="53316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Прямоугольник 65">
            <a:hlinkClick r:id="rId46" action="ppaction://hlinksldjump"/>
          </p:cNvPr>
          <p:cNvSpPr/>
          <p:nvPr/>
        </p:nvSpPr>
        <p:spPr>
          <a:xfrm>
            <a:off x="7620120" y="914400"/>
            <a:ext cx="53316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Прямоугольник 66">
            <a:hlinkClick r:id="rId47" action="ppaction://hlinksldjump"/>
          </p:cNvPr>
          <p:cNvSpPr/>
          <p:nvPr/>
        </p:nvSpPr>
        <p:spPr>
          <a:xfrm>
            <a:off x="8153280" y="914400"/>
            <a:ext cx="53352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Прямоугольник 67">
            <a:hlinkClick r:id="rId48" action="ppaction://hlinksldjump"/>
          </p:cNvPr>
          <p:cNvSpPr/>
          <p:nvPr/>
        </p:nvSpPr>
        <p:spPr>
          <a:xfrm>
            <a:off x="7620120" y="2057400"/>
            <a:ext cx="53316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Прямоугольник 68">
            <a:hlinkClick r:id="rId49" action="ppaction://hlinksldjump"/>
          </p:cNvPr>
          <p:cNvSpPr/>
          <p:nvPr/>
        </p:nvSpPr>
        <p:spPr>
          <a:xfrm>
            <a:off x="8153280" y="2057400"/>
            <a:ext cx="53352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оугольник 69">
            <a:hlinkClick r:id="rId50" action="ppaction://hlinksldjump"/>
          </p:cNvPr>
          <p:cNvSpPr/>
          <p:nvPr/>
        </p:nvSpPr>
        <p:spPr>
          <a:xfrm>
            <a:off x="7620120" y="3200400"/>
            <a:ext cx="53316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оугольник 70">
            <a:hlinkClick r:id="rId51" action="ppaction://hlinksldjump"/>
          </p:cNvPr>
          <p:cNvSpPr/>
          <p:nvPr/>
        </p:nvSpPr>
        <p:spPr>
          <a:xfrm>
            <a:off x="8153280" y="3200400"/>
            <a:ext cx="53352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Прямоугольник 71">
            <a:hlinkClick r:id="rId52" action="ppaction://hlinksldjump"/>
          </p:cNvPr>
          <p:cNvSpPr/>
          <p:nvPr/>
        </p:nvSpPr>
        <p:spPr>
          <a:xfrm>
            <a:off x="7620120" y="4343400"/>
            <a:ext cx="53316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Прямоугольник 72">
            <a:hlinkClick r:id="rId53" action="ppaction://hlinksldjump"/>
          </p:cNvPr>
          <p:cNvSpPr/>
          <p:nvPr/>
        </p:nvSpPr>
        <p:spPr>
          <a:xfrm>
            <a:off x="8153280" y="4343400"/>
            <a:ext cx="53352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Прямоугольник 73">
            <a:hlinkClick r:id="rId54" action="ppaction://hlinksldjump"/>
          </p:cNvPr>
          <p:cNvSpPr/>
          <p:nvPr/>
        </p:nvSpPr>
        <p:spPr>
          <a:xfrm>
            <a:off x="7620120" y="5486400"/>
            <a:ext cx="53316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оугольник 74">
            <a:hlinkClick r:id="rId55" action="ppaction://hlinksldjump"/>
          </p:cNvPr>
          <p:cNvSpPr/>
          <p:nvPr/>
        </p:nvSpPr>
        <p:spPr>
          <a:xfrm>
            <a:off x="8153280" y="5486400"/>
            <a:ext cx="53352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27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ие методы лечения зубной боли предлагали генералу домочадц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5"/>
          <p:cNvSpPr/>
          <p:nvPr/>
        </p:nvSpPr>
        <p:spPr>
          <a:xfrm>
            <a:off x="1523880" y="44956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рикладывать табачную копоть, скипидар, керосин, мазать щёку йодом 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3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В каком городе жил акцизны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ара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3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то помогло Евсеичу вспомнить нужную фамили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Доктор попросил продать ему 5 четвертей ов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4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 генерал вылечил свой больной зуб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ырвал 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4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 какому мастеру в ученики отдали Вань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апожнику Аляхи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5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ем служил дедушка Ван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Ночным сторожем у госп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5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За что Ванька получил выволочку от хозя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За то что уснул когда качал их ребё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6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 «неправильно» Ванька чистил ры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 хво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67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Откуда Ваня знал грамот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Его научила хозяйка мамы Ольга Игнатьев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7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ой адрес указал Ванька на конвер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5"/>
          <p:cNvSpPr/>
          <p:nvPr/>
        </p:nvSpPr>
        <p:spPr>
          <a:xfrm>
            <a:off x="2362320" y="4495680"/>
            <a:ext cx="57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На деревню дедушке и добавил – Константину Макарыч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3429000" y="762120"/>
            <a:ext cx="1689120" cy="2133360"/>
          </a:xfrm>
          <a:prstGeom prst="rect">
            <a:avLst/>
          </a:prstGeom>
          <a:ln w="0">
            <a:noFill/>
          </a:ln>
        </p:spPr>
      </p:pic>
      <p:pic>
        <p:nvPicPr>
          <p:cNvPr id="743" name="Прямоугольник 8" descr=""/>
          <p:cNvPicPr/>
          <p:nvPr/>
        </p:nvPicPr>
        <p:blipFill>
          <a:blip r:embed="rId2"/>
          <a:stretch/>
        </p:blipFill>
        <p:spPr>
          <a:xfrm>
            <a:off x="1176480" y="2773440"/>
            <a:ext cx="6419880" cy="34988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2" descr="звезды"/>
          <p:cNvPicPr/>
          <p:nvPr/>
        </p:nvPicPr>
        <p:blipFill>
          <a:blip r:embed="rId3"/>
          <a:stretch/>
        </p:blipFill>
        <p:spPr>
          <a:xfrm>
            <a:off x="6934320" y="1219320"/>
            <a:ext cx="1674720" cy="15238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2" descr="звезды"/>
          <p:cNvPicPr/>
          <p:nvPr/>
        </p:nvPicPr>
        <p:blipFill>
          <a:blip r:embed="rId4"/>
          <a:stretch/>
        </p:blipFill>
        <p:spPr>
          <a:xfrm>
            <a:off x="1066680" y="1066680"/>
            <a:ext cx="167508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77" name="TextBox 4"/>
          <p:cNvSpPr/>
          <p:nvPr/>
        </p:nvSpPr>
        <p:spPr>
          <a:xfrm>
            <a:off x="2362320" y="1447920"/>
            <a:ext cx="5790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то Ваня хотел, чтобы дедушка попросил для него у Ольги Игнатьевны с ёл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5"/>
          <p:cNvSpPr/>
          <p:nvPr/>
        </p:nvSpPr>
        <p:spPr>
          <a:xfrm>
            <a:off x="2286000" y="51814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Золочёный оре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82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Почему Ваня просил дедушку забрать его из Моск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Хозяева его били и плохо корми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87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то входило в обязанности дедушки Вани перед Новым год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Ходить в лес и срубить ёл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9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то помогал дедушке сторожи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Каштанка и Вью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9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 звали товарища, с которым приехал Волод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Чечевицы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02" name="TextBox 4"/>
          <p:cNvSpPr/>
          <p:nvPr/>
        </p:nvSpPr>
        <p:spPr>
          <a:xfrm>
            <a:off x="2286000" y="533520"/>
            <a:ext cx="6553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ечевицын был некрасив и если бы не какая-то часть его гардероба, то он походил бы на кухаркиного сына. Что э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5"/>
          <p:cNvSpPr/>
          <p:nvPr/>
        </p:nvSpPr>
        <p:spPr>
          <a:xfrm>
            <a:off x="2209680" y="56386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Гимназическая кур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07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Почему девочки считали Чечевицына умным и учёным человек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н всё время молчал и о чём-то дум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12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ем занималась семья Володи до и после приезда мальчик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Готовили бахрому и цветы для ёл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17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ую книгу постоянно разглядывали мальчи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Географический атл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22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ое прозвище придумал себе Чечевицын и как он называл Волод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5"/>
          <p:cNvSpPr/>
          <p:nvPr/>
        </p:nvSpPr>
        <p:spPr>
          <a:xfrm>
            <a:off x="2362320" y="4495680"/>
            <a:ext cx="57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Монтигомо Ястребиный Коготь , бледнолицый брат 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4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 какой породе собак принадлежала Каштан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омесь такса с дворняж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27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уда хотели сбежать мальчи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 Калифор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32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Почему Володя вечером накануне сочельника расплакал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н мысленно прощался с род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37" name="TextBox 4"/>
          <p:cNvSpPr/>
          <p:nvPr/>
        </p:nvSpPr>
        <p:spPr>
          <a:xfrm>
            <a:off x="2362320" y="1447920"/>
            <a:ext cx="5790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Почему в назначенное время Володя отказался ехать с Чечевицыны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5"/>
          <p:cNvSpPr/>
          <p:nvPr/>
        </p:nvSpPr>
        <p:spPr>
          <a:xfrm>
            <a:off x="1219320" y="48769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н говорил, что ему жалко маму, а на самом деле он просто струси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42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Где нашли мальчиков, и что они там дел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 Гостином дворе хотели купить поро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4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Почему волчица вздрагивала от каждого шу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5"/>
          <p:cNvSpPr/>
          <p:nvPr/>
        </p:nvSpPr>
        <p:spPr>
          <a:xfrm>
            <a:off x="2362320" y="4495680"/>
            <a:ext cx="57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на была слабого здоровья, старая, мнитель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52" name="TextBox 4"/>
          <p:cNvSpPr/>
          <p:nvPr/>
        </p:nvSpPr>
        <p:spPr>
          <a:xfrm>
            <a:off x="2362320" y="1447920"/>
            <a:ext cx="5790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Почему автор говорит на мо том, что сторож Игнат возможно когда-то служил механик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Box 5"/>
          <p:cNvSpPr/>
          <p:nvPr/>
        </p:nvSpPr>
        <p:spPr>
          <a:xfrm>
            <a:off x="1295280" y="54100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н давал себе команды: «Стоп машина! Полный ход!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5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то заставило волчицу идти к челове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5"/>
          <p:cNvSpPr/>
          <p:nvPr/>
        </p:nvSpPr>
        <p:spPr>
          <a:xfrm>
            <a:off x="1143000" y="449568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Голод. Она была у же старая и не могла поймать себе добычу в лес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6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 волчица пробралась в хле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роделала дырку в крыш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6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ую добычу принесла волчица из хле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Щенка Арап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72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ой признак глупых собак отмечает автор у Белолобо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Бугор на лб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52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 Каштанка вела себя на улице, когда они с хозяином относили заказ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5"/>
          <p:cNvSpPr/>
          <p:nvPr/>
        </p:nvSpPr>
        <p:spPr>
          <a:xfrm>
            <a:off x="2362320" y="4495680"/>
            <a:ext cx="57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Крайне неприлично: прыгала, лаяла, забегала во дворы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77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В чем волчица видела пользу для своих детей от игры со щенк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Игра приучает хватать добыч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8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Почему волчица не съела щен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т него сильно пахло псин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87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 щенок спас волчиц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5"/>
          <p:cNvSpPr/>
          <p:nvPr/>
        </p:nvSpPr>
        <p:spPr>
          <a:xfrm>
            <a:off x="2362320" y="3657600"/>
            <a:ext cx="57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Игнат подумал, что это Белолобый делает дырки в крыше хле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9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ему Игнат учил Белолобого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ыходить на улицу через дверь, а не крыш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5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  Каштанка потеряла своего хозя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5"/>
          <p:cNvSpPr/>
          <p:nvPr/>
        </p:nvSpPr>
        <p:spPr>
          <a:xfrm>
            <a:off x="2286000" y="42670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о улице шёл полк солдата, Каштанка лаяла на них и потеряла из виду хозя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62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На какие две части Каштанка делила всё человече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"/>
          <p:cNvSpPr/>
          <p:nvPr/>
        </p:nvSpPr>
        <p:spPr>
          <a:xfrm>
            <a:off x="2209680" y="419112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Хозяев- которые могли бить её, и заказчиков, которых она сама могла кусать за но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67" name="TextBox 4"/>
          <p:cNvSpPr/>
          <p:nvPr/>
        </p:nvSpPr>
        <p:spPr>
          <a:xfrm>
            <a:off x="2362320" y="1447920"/>
            <a:ext cx="5790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О чём размышляла Каштанка, когда оставалась одна ночью у нового хозя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5"/>
          <p:cNvSpPr/>
          <p:nvPr/>
        </p:nvSpPr>
        <p:spPr>
          <a:xfrm>
            <a:off x="1905120" y="53341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Где лучше: у столяра или незнаком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72" name="TextBox 4"/>
          <p:cNvSpPr/>
          <p:nvPr/>
        </p:nvSpPr>
        <p:spPr>
          <a:xfrm>
            <a:off x="2362320" y="14479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ую кличку придумал незнакомец Каштан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Тё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а</cp:lastModifiedBy>
  <dcterms:modified xsi:type="dcterms:W3CDTF">2010-01-16T02:04:58Z</dcterms:modified>
  <cp:revision>23</cp:revision>
  <dc:subject/>
  <dc:title>Слайд 1</dc:title>
</cp:coreProperties>
</file>