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071-5D40-4EFA-9FAC-BE144EA1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202-DD60-40B1-BDD6-A4F3365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F2B-5647-4A47-AE49-4F3D995E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0FA-2247-458D-A06D-D6657C7D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9E9-7A96-4531-93F7-2AB10C9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961-9012-41F1-BAB2-A7525FD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DA2-AEA7-4B13-B7CC-0F7C3C3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BA8-BB62-4E6F-B538-BB2B0A2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D80-DA0A-4C9E-893C-1BEEA211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83B-CE62-4382-A6DC-CF0FC95E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69F-C5A3-4D81-861D-D4E399F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633-5BD2-48AB-9E1B-F6F2B53F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3E0-7E16-46C2-AFC4-3092DE2E9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45760" y="1571760"/>
            <a:ext cx="79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Физминутка для но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Esli_s_drugom_vishel.mp3" descr=""/>
          <p:cNvPicPr/>
          <p:nvPr/>
        </p:nvPicPr>
        <p:blipFill>
          <a:blip r:embed="rId1"/>
          <a:stretch/>
        </p:blipFill>
        <p:spPr>
          <a:xfrm>
            <a:off x="7929720" y="857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www.nivagold.ru/raznoe1/tansy/PhotoAlbum1/Photo%20015.gif"/>
          <p:cNvPicPr/>
          <p:nvPr/>
        </p:nvPicPr>
        <p:blipFill>
          <a:blip r:embed="rId2"/>
          <a:stretch/>
        </p:blipFill>
        <p:spPr>
          <a:xfrm>
            <a:off x="2428920" y="3143160"/>
            <a:ext cx="4282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5:16:51Z</dcterms:created>
  <dc:creator>Рустемка</dc:creator>
  <dc:description/>
  <dc:language>en-US</dc:language>
  <cp:lastModifiedBy>Рустемка</cp:lastModifiedBy>
  <dcterms:modified xsi:type="dcterms:W3CDTF">2009-07-05T09:38:25Z</dcterms:modified>
  <cp:revision>7</cp:revision>
  <dc:subject/>
  <dc:title>Слайд 1</dc:title>
</cp:coreProperties>
</file>