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C29-1D70-488F-8FFB-4258CF29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3DB-FE90-4D70-88AD-FF7E47A1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44C-8860-42CB-8DBD-E3975061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B62-2B54-4E92-B437-924E259B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6CEC-22C8-4D44-AE67-71D776E6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D6B8-466A-4BDC-A184-2E93BB8F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85FD-4D25-479B-952F-57A79917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F773-B4F7-47C6-8FE4-4C4BF1EE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B354-E1A0-481D-8B71-97442E0E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C1C6-4628-47A7-B591-7470749A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6713-24A3-4294-98C7-1AD9590A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AF6-45DB-4302-95B5-E2AC795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8437-DFBF-4CDA-B331-4ADC852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833E-F269-474E-9AF7-AEBEC2E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763B-7625-42B5-9CDB-D02A1E57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299D-99B0-4B92-9768-489A1906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EE00-24FB-48FC-87C2-06FFD46F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37A5-72C8-4EAC-B305-196C466B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DE51-D61A-4A08-91BE-CE0BA1ED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C3D7-5A8E-4901-ABC3-20E93C2D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CAE4-06F8-434F-BE8C-C9BA89F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2258-37CA-411A-B5F5-93861C10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F48-63BC-4352-A689-FD987599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CDE8-36CD-402A-AD5D-96AB12BD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0360-23CA-4C11-8BA3-32D4C27E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88D9-928B-46D1-983D-02BF08CC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3F0B-D80C-43DB-AC5B-1766FD5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311C-23E2-420C-965B-C5DB3110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D0A8-FCDA-4439-8695-3A8D44AB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234C-F5D6-49D6-9767-BE2622F8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C0B6-F646-4CDD-8E60-DD382373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2B0FF-BABF-41A0-9A66-E01343F7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FEEE-7251-46CE-880F-91F1F260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73E-908B-4BFE-8B02-21E0D2C1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C871-7E5E-4319-B301-6B6DE375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9ED3-656B-4940-8A7B-CFC0C2E3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76035-FA87-44D2-B9EB-58EEA0A2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E8E6-41DC-413E-BB05-2943CFDB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528E4-3B17-4B2B-B008-3B6FB01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D109-A7A1-4AF4-B8C9-A306DC74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62EC-B8CD-4FE8-85A0-9D1E8A6B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3AF5-5D80-4F1C-B5E9-FA8A1A24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6691A-1531-44C5-ABA4-8BCFDCBD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0F5E-72E6-4038-99F8-4E097D8A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87D-1BAB-44A5-A2D5-392FDD82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6E2E1-F648-4DD5-B5C9-F5BC4E25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74C8A-0950-4621-8153-E0F4C40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72207-9F39-48E1-9B8A-4C9AFC24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4E9D8-43A0-4A71-B1A4-EF9A16F6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2BBCF-03B1-4056-B51E-80277E2A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1C3E-1956-4E9D-87B1-A9A5E817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9E37-E8DD-4400-BD7D-9008D15C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B9A3-A5C5-4644-B0DB-CCF8C0AA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0BF2-17E5-4456-8809-E9D65F57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2C6E-D970-4B16-86A1-03A0B19F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18F-39C6-4470-9E45-AED7E22C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60A9-5B9D-452D-89A8-7008F300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570-2F97-46DF-B58D-518D90E4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F73-E09C-43DA-AE2B-5160ABDB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B22-CDFB-4C34-B720-C5ED40F7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A771-86A4-4BB8-9206-C66AAE925C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DC11-40BF-4A9B-88D0-402291A22C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E373-5D71-4CC0-8390-57DC8FE63F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6E8C-119B-4736-B5B2-333BD5FCD5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EC52-974A-42A3-8362-52F9F69857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28600" y="1379160"/>
            <a:ext cx="8574120" cy="26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Гренада, Гренада, Гренада моя…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14760" y="3995280"/>
            <a:ext cx="698832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стория одной песни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84280" y="128160"/>
            <a:ext cx="4929120" cy="67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Как-то Семён Кирсанов прочел «Гренаду». Она ему очень понравилась. Он побежал с ней к Маяковскому. Маяковский бурно не реагировал, но оставил стихи у себ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Через несколько дней состоялся его вечер в Политехническом музее. Зал был переполнен. Я долго стоял, очень устал и отправился домой, не дождавшись конца. А вернувшийся позже сосед сказал мне: «Чего ж ты ушел? Маяковский читал наизусть твою „Гренаду“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3" name="Picture 2" descr="http://slovo.ws/bio/rus/Kirsanov_Semen_Isaakovich/450.jpg"/>
          <p:cNvPicPr/>
          <p:nvPr/>
        </p:nvPicPr>
        <p:blipFill>
          <a:blip r:embed="rId1"/>
          <a:stretch/>
        </p:blipFill>
        <p:spPr>
          <a:xfrm>
            <a:off x="8385120" y="268200"/>
            <a:ext cx="2381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88200" y="685800"/>
            <a:ext cx="5114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ладимир Маяковски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5" name="Picture 2" descr="http://relax.com.ua/wp-content/uploads/2012/02/mayakovsk.jpg"/>
          <p:cNvPicPr/>
          <p:nvPr/>
        </p:nvPicPr>
        <p:blipFill>
          <a:blip r:embed="rId1"/>
          <a:stretch/>
        </p:blipFill>
        <p:spPr>
          <a:xfrm>
            <a:off x="1174680" y="1098720"/>
            <a:ext cx="49640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484280" y="231840"/>
            <a:ext cx="5122800" cy="643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тихотворении речь идет об испанской провинции Гранада успех был оглушительным. Марина Цветаева в одном из своих писем Борису Пастернаку писала из Парижа: «Передай Светлову, что его „Гренада“ — мой любимый чуть не сказала лучший стих за все эти годы. У Есенина ни одного такого не было. Этого, впрочем, не говори, пусть Есенину мирно спится». Как-то «ко двору» пришлись поэтические строфы, когда вроде Гражданская война в России уже кончилась, а в Испании ещё и не начиналась – всё равно революционный дух что-нибудь сломать или переустроить, отвоевать или освободить, бередил умы многих молодых сорвиголов того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2" descr="http://www.stihi.ru/pics/2004/06/24-871.jpg"/>
          <p:cNvPicPr/>
          <p:nvPr/>
        </p:nvPicPr>
        <p:blipFill>
          <a:blip r:embed="rId1"/>
          <a:stretch/>
        </p:blipFill>
        <p:spPr>
          <a:xfrm>
            <a:off x="7201080" y="384120"/>
            <a:ext cx="3342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484280" y="219240"/>
            <a:ext cx="100188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общей сложности свыше 20 композиторов дерзнули положить стихи на свою музыку, например,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Г. Ляскунский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Юрий Чичков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ли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Юлий Мейтус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для Клавдии Шульженко. Тот же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Леонид Утёсов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использовал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"Гренаду"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в 1929 году для мелодекламации в программе своего «Теа-джаза», когда читал это стихотворение под джаз. И он же исполнял песню уже на музыку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онстантина Яковлевича Листова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 второй половине 1930-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84280" y="-360"/>
            <a:ext cx="5122800" cy="652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 algn="ctr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 когда и Испания погрузилась в лихолетье 1936—1939 годов, 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"Гренада"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стала одной из любимых песен Интернациональных бригад – боевых подразделений из Англии, Германии, Италии, Франции и СССР, воевавших на стороне народного фронта Испан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1" name="Picture 6" descr="http://www.linternaute.com/savoir/magazine/adolf-hitler/image/invasions-d-hitler-565496.jpg"/>
          <p:cNvPicPr/>
          <p:nvPr/>
        </p:nvPicPr>
        <p:blipFill>
          <a:blip r:embed="rId1"/>
          <a:stretch/>
        </p:blipFill>
        <p:spPr>
          <a:xfrm>
            <a:off x="6607080" y="1946160"/>
            <a:ext cx="5143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83920" y="181080"/>
            <a:ext cx="4775400" cy="654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ро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«Я хату покинул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ошёл воевать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Чтоб землю в Гренаде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Крестьянам отдать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ыли высечены на памятнике командиру 12-й Интербригады венгерскому писателю Мате Залка, погибшему в 1937 году. А в годы Второй Мировой войны песня «Гренада» была гимном заключенных концлагеря Маутхаузен, где до самого освобождения действовал отряд антифашистов под руководством в том числе легендарного советского разведчика Льва Израилевича Маневич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http://globalinfo.ua/image/companyMlogo/2010/07/28/pamyatnik_samedu_vurgunu.jpg"/>
          <p:cNvPicPr/>
          <p:nvPr/>
        </p:nvPicPr>
        <p:blipFill>
          <a:blip r:embed="rId1"/>
          <a:stretch/>
        </p:blipFill>
        <p:spPr>
          <a:xfrm>
            <a:off x="7500960" y="23083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2" descr="http://www.scrapbookpages.com/Mauthausen/MauthausenPhotos/OldPhotos/mauthausen27.jpg"/>
          <p:cNvPicPr/>
          <p:nvPr/>
        </p:nvPicPr>
        <p:blipFill>
          <a:blip r:embed="rId1"/>
          <a:stretch/>
        </p:blipFill>
        <p:spPr>
          <a:xfrm>
            <a:off x="1092240" y="349200"/>
            <a:ext cx="5294160" cy="3462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://wek.com.ua/img/ar/330_1714.jpg"/>
          <p:cNvPicPr/>
          <p:nvPr/>
        </p:nvPicPr>
        <p:blipFill>
          <a:blip r:embed="rId2"/>
          <a:stretch/>
        </p:blipFill>
        <p:spPr>
          <a:xfrm>
            <a:off x="6386400" y="2774880"/>
            <a:ext cx="49309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37400" y="5105520"/>
            <a:ext cx="3865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иктор Берковски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84280" y="231840"/>
            <a:ext cx="5664240" cy="63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 algn="ctr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звращаясь к композиторам, свою руку в написании музыки в 1977 году приложил даже 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Микаэл Таривердиев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сочинив цикл песен на стихи Светлова. Но самой известной и знаменитой всё-таки стала мелодия, написанная ранее в 1959 году бардом 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иктором Берковским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, впервые прозвучавшая на радио в 1965 году. Именно эту 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"Гренаду"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 и полюбила всем сердцем стран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0" name="Picture 2" descr="http://s013.radikal.ru/i323/1108/9b/b68e669f5ddd.jpg"/>
          <p:cNvPicPr/>
          <p:nvPr/>
        </p:nvPicPr>
        <p:blipFill>
          <a:blip r:embed="rId1"/>
          <a:stretch/>
        </p:blipFill>
        <p:spPr>
          <a:xfrm>
            <a:off x="8178840" y="469800"/>
            <a:ext cx="3324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7" name="Picture 2" descr="http://edu.kubannet.ru/dlrstore/00000c51-1000-4ddd-517d-3600483aebf5/objects/_tipy_geogr_00001026/2-3-polit-karta.png"/>
          <p:cNvPicPr/>
          <p:nvPr/>
        </p:nvPicPr>
        <p:blipFill>
          <a:blip r:embed="rId1"/>
          <a:stretch/>
        </p:blipFill>
        <p:spPr>
          <a:xfrm>
            <a:off x="498600" y="103320"/>
            <a:ext cx="97660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9" name="Объект 4" descr=""/>
          <p:cNvPicPr/>
          <p:nvPr/>
        </p:nvPicPr>
        <p:blipFill>
          <a:blip r:embed="rId1"/>
          <a:srcRect l="33139" t="20202" r="0" b="0"/>
          <a:stretch/>
        </p:blipFill>
        <p:spPr>
          <a:xfrm>
            <a:off x="1095480" y="223920"/>
            <a:ext cx="988524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ренад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1" name="Рисунок 1" descr=""/>
          <p:cNvPicPr/>
          <p:nvPr/>
        </p:nvPicPr>
        <p:blipFill>
          <a:blip r:embed="rId1"/>
          <a:stretch/>
        </p:blipFill>
        <p:spPr>
          <a:xfrm>
            <a:off x="3397320" y="2438280"/>
            <a:ext cx="6192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Гренада, Гренада, Гренада моя…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5" name="Picture 2" descr="http://www.stihi.ru/pics/2010/04/26/8936.jpg"/>
          <p:cNvPicPr/>
          <p:nvPr/>
        </p:nvPicPr>
        <p:blipFill>
          <a:blip r:embed="rId1"/>
          <a:stretch/>
        </p:blipFill>
        <p:spPr>
          <a:xfrm>
            <a:off x="1193760" y="2019240"/>
            <a:ext cx="3030480" cy="43513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3"/>
          <p:cNvSpPr/>
          <p:nvPr/>
        </p:nvSpPr>
        <p:spPr>
          <a:xfrm>
            <a:off x="4619520" y="363600"/>
            <a:ext cx="6970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ихаил Аркадьевич Шейнкман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(такова настоящая фамилия поэта) родился 4 (17-го по новому стилю) июня 1903 года в небогатой, как это ни странно, еврейской семье в городе Екатеринославе, носящего ныне имя Днепропетровск. С детства увлёкшись поэзией, Михаил Светлов на протяжении всей своей жизни остался верен юношескому выбор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8080" y="437760"/>
            <a:ext cx="10515600" cy="57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Михаил Светлов проделав путь от стихоплётчика, когда были напечатаны его первые вирши в 1917 году, в дальнейшем он побывал в должности главного редактора журнала «Юный пролетарий», отслужил в 1-м Екатеринославском полку в Гражданскую войну, а в 1923 году с друзьями переехал в Москву, где окончил рабфак, университет и Высший литературно-художественный институт имени Брюсова. В то время вышли первые книги молодого поэт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484280" y="425520"/>
            <a:ext cx="4788000" cy="628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сательно своего популярного творения, «стихотворения-маршала» 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"Гренада"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сам Михаил Аркадьевич вспоминал так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"В двадцать шестом году я проходил однажды днём по Тверской мимо кино «Арс» (там теперь помещается театр имени Станиславского). В глубине двора я увидел вывеску: «Гостиница „Гренада“. И у меня появилась шальная мысль — дай-ка я напишу какую-нибудь серенаду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Но в трамвае по дороге домой я пожалел истратить такое редкое слово на пустяки. Подходя к дому, я начал напевать: „Гренада, Гренада...“ Кто может так напевать? Не испанец же? Это было бы слишком примитивно. Тогда кто же? Когда я открыл дверь, я уже знал, кто так будет петь. Да, конечно же, мой родной украинский хлопец. Стихотворение было уже фактически готово, его оставалось только написать, что я и сдела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9" name="Picture 2" descr="http://img-fotki.yandex.ru/get/5314/38377844.8a/0_820b3_e5742a1f_orig.jpg"/>
          <p:cNvPicPr/>
          <p:nvPr/>
        </p:nvPicPr>
        <p:blipFill>
          <a:blip r:embed="rId1"/>
          <a:stretch/>
        </p:blipFill>
        <p:spPr>
          <a:xfrm>
            <a:off x="6676920" y="1455840"/>
            <a:ext cx="54244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484280" y="90360"/>
            <a:ext cx="10018800" cy="570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осле многих лет, исследуя своё тогдашнее состояние, я понимаю, что во мне накопилось к тому времени большое чувство интернационализма. Я по-боевому общался и с русскими, и с китайцами, и с латышами, и с людьми других национальностей. Нас объединило участие в гражданской войне. Надо было только включить первую скорость, и мой интернационализм пришёл в движение. Значит, главная гарантия успеха твоего будущего сочинения — это накопление чувств и, значит, твоего отношения к действитель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7:42:56Z</dcterms:created>
  <dc:creator>Марина Кургина</dc:creator>
  <dc:description/>
  <dc:language>en-US</dc:language>
  <cp:lastModifiedBy>Марина Кургина</cp:lastModifiedBy>
  <dcterms:modified xsi:type="dcterms:W3CDTF">2013-02-06T11:08:20Z</dcterms:modified>
  <cp:revision>9</cp:revision>
  <dc:subject/>
  <dc:title>Презентация PowerPoint</dc:title>
</cp:coreProperties>
</file>