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A6B-2B64-49A3-A761-7AD1272A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A21-A034-4641-B49D-49708B0F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06C-CD6A-43AF-AF00-3672265F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37C-B944-4265-83D8-89E6C653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B1C1-18B5-4A1A-8947-22D2BC1D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D381-BC32-4B77-B780-24310258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7888-D365-4454-AF88-F8A0ED2E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950F-7EB9-4CA0-BE76-94901A77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D12F-A400-4BCE-BAF4-2B5BFF8F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D5DD-5163-43F0-B592-C3F7FFEE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9713-3F6D-45DF-9628-C7F10A47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4A9-61FA-4DEB-99A1-F4783590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4921-486F-4182-96EF-5F3EA18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D009-8014-47D5-86C9-5D6ABA8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FC6C-609F-4F65-8D46-EE47EDE2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BDF7-CBB3-45FB-B6DB-283904A6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255F-0591-4C54-AEB3-602C5DA1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353F-D5C5-4C2E-9157-174E484F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9603-5E9C-446B-ACAA-1E4AFFD8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1119C-3ED5-4565-9CFC-7F845BAB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DC90-B8DB-4ACB-83FF-663E09AC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7CBD-5430-4534-BE4A-7838EE6E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1CA-05E3-4C53-807B-9C6E4AE6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B497-870E-4711-BE21-521A5BCF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0D96-43F1-4E89-8D9B-820AEBD6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A49E-1D2F-498C-85F4-911F459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DDDA-0F7E-4C5C-B9C9-748137B2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14A2-B142-4C5A-B42C-E2C9E79C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C1AD-9A55-48C4-A4F0-E8A2530B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5FFD-EC64-49D6-84A9-97F24FAE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7A53-68B0-4DF3-93F0-F6DCC4B3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498A6-385B-413F-A381-34AC79F5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90B7F-F192-4A7D-B68B-95C239AA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054-7FDE-43E3-8EF5-97928DBC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5DD2-1DB6-49C6-8A3F-1BFF396F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ED9D-A3DC-457C-9AD6-0A82ABF8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0236-5EF7-4181-82C4-CB1245B2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38807-BF40-42A3-A7C9-A981C9A1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0FE11-4194-4828-BCD5-0CDF09F3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2056-A873-4F8F-BA80-54D2D270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8A913-FAF3-49C6-AC21-D44D1075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A332-8FC6-44E4-95E1-599C1128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BCE0-8722-4033-ACDE-C894DD29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9AA9-8AF2-4462-8A28-EBB5B9DE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3AF-7FF3-4F9B-97B8-F3FED979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7D995-DF43-4014-A96F-3689A842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80E59-4CF8-40FC-AB07-60BCE611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2B9F-93DF-40CC-93E6-B91BC424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CA3CD-A47A-4AB9-ADA2-1F925B18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4A84A-DDFA-4561-A7A3-60DA01BB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9C12-003F-4CB7-9233-C1320A18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601FE-1966-435B-BA18-7D3FECA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F637-E5A3-4ACE-85B6-B93549F9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D4238-3BAD-48B8-A72E-E3673F26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BD086-EE12-4D29-981C-2E865F2B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F07-C1E5-4ECA-91DA-EB1FA583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B8BE0-ED13-4716-9DB0-B44CFAD1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411-B8CA-432B-AA25-4EF66113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CD5-9F44-456C-850E-D473B7CB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A87-357E-467B-8572-ACAC643F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2231-A3DE-4EF9-9567-341B6ECF71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8B38-9A1D-438B-8E23-2C83B153D4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0BF0-2317-4A95-85A5-C9C04B0DBA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1DA8-DB12-4314-9E7F-C67A73345C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5D4E-EC82-4B22-AFDA-91C5F7B73F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28600" y="1379160"/>
            <a:ext cx="8574120" cy="26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Гренада, Гренада, Гренада моя…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14760" y="3995280"/>
            <a:ext cx="698832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История одной песни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84280" y="128160"/>
            <a:ext cx="4929120" cy="67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Как-то Семён Кирсанов прочел «Гренаду». Она ему очень понравилась. Он побежал с ней к Маяковскому. Маяковский бурно не реагировал, но оставил стихи у себ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Через несколько дней состоялся его вечер в Политехническом музее. Зал был переполнен. Я долго стоял, очень устал и отправился домой, не дождавшись конца. А вернувшийся позже сосед сказал мне: «Чего ж ты ушел? Маяковский читал наизусть твою „Гренаду“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3" name="Picture 2" descr="http://slovo.ws/bio/rus/Kirsanov_Semen_Isaakovich/450.jpg"/>
          <p:cNvPicPr/>
          <p:nvPr/>
        </p:nvPicPr>
        <p:blipFill>
          <a:blip r:embed="rId1"/>
          <a:stretch/>
        </p:blipFill>
        <p:spPr>
          <a:xfrm>
            <a:off x="8385120" y="268200"/>
            <a:ext cx="2381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88200" y="685800"/>
            <a:ext cx="51148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ладимир Маяковски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5" name="Picture 2" descr="http://relax.com.ua/wp-content/uploads/2012/02/mayakovsk.jpg"/>
          <p:cNvPicPr/>
          <p:nvPr/>
        </p:nvPicPr>
        <p:blipFill>
          <a:blip r:embed="rId1"/>
          <a:stretch/>
        </p:blipFill>
        <p:spPr>
          <a:xfrm>
            <a:off x="1174680" y="1098720"/>
            <a:ext cx="49640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484280" y="231840"/>
            <a:ext cx="5122800" cy="643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71440" indent="-27144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тихотворении речь идет об испанской провинции Гранада успех был оглушительным. Марина Цветаева в одном из своих писем Борису Пастернаку писала из Парижа: «Передай Светлову, что его „Гренада“ — мой любимый чуть не сказала лучший стих за все эти годы. У Есенина ни одного такого не было. Этого, впрочем, не говори, пусть Есенину мирно спится». Как-то «ко двору» пришлись поэтические строфы, когда вроде Гражданская война в России уже кончилась, а в Испании ещё и не начиналась – всё равно революционный дух что-нибудь сломать или переустроить, отвоевать или освободить, бередил умы многих молодых сорвиголов того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2" descr="http://www.stihi.ru/pics/2004/06/24-871.jpg"/>
          <p:cNvPicPr/>
          <p:nvPr/>
        </p:nvPicPr>
        <p:blipFill>
          <a:blip r:embed="rId1"/>
          <a:stretch/>
        </p:blipFill>
        <p:spPr>
          <a:xfrm>
            <a:off x="7201080" y="384120"/>
            <a:ext cx="3342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484280" y="219240"/>
            <a:ext cx="100188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общей сложности свыше 20 композиторов дерзнули положить стихи на свою музыку, например,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Г. Ляскунский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Юрий Чичков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ли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Юлий Мейтус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для Клавдии Шульженко. Тот же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Леонид Утёсов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использовал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"Гренаду"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в 1929 году для мелодекламации в программе своего «Теа-джаза», когда читал это стихотворение под джаз. И он же исполнял песню уже на музыку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онстантина Яковлевича Листова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 второй половине 1930-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84280" y="-360"/>
            <a:ext cx="5122800" cy="652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 algn="ctr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 когда и Испания погрузилась в лихолетье 1936—1939 годов, 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"Гренада"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стала одной из любимых песен Интернациональных бригад – боевых подразделений из Англии, Германии, Италии, Франции и СССР, воевавших на стороне народного фронта Испан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1" name="Picture 6" descr="http://www.linternaute.com/savoir/magazine/adolf-hitler/image/invasions-d-hitler-565496.jpg"/>
          <p:cNvPicPr/>
          <p:nvPr/>
        </p:nvPicPr>
        <p:blipFill>
          <a:blip r:embed="rId1"/>
          <a:stretch/>
        </p:blipFill>
        <p:spPr>
          <a:xfrm>
            <a:off x="6607080" y="1946160"/>
            <a:ext cx="5143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83920" y="181080"/>
            <a:ext cx="4775400" cy="654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ро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«Я хату покинул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ошёл воевать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Чтоб землю в Гренаде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Крестьянам отдать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ыли высечены на памятнике командиру 12-й Интербригады венгерскому писателю Мате Залка, погибшему в 1937 году. А в годы Второй Мировой войны песня «Гренада» была гимном заключенных концлагеря Маутхаузен, где до самого освобождения действовал отряд антифашистов под руководством в том числе легендарного советского разведчика Льва Израилевича Маневич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http://globalinfo.ua/image/companyMlogo/2010/07/28/pamyatnik_samedu_vurgunu.jpg"/>
          <p:cNvPicPr/>
          <p:nvPr/>
        </p:nvPicPr>
        <p:blipFill>
          <a:blip r:embed="rId1"/>
          <a:stretch/>
        </p:blipFill>
        <p:spPr>
          <a:xfrm>
            <a:off x="7500960" y="23083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2" descr="http://www.scrapbookpages.com/Mauthausen/MauthausenPhotos/OldPhotos/mauthausen27.jpg"/>
          <p:cNvPicPr/>
          <p:nvPr/>
        </p:nvPicPr>
        <p:blipFill>
          <a:blip r:embed="rId1"/>
          <a:stretch/>
        </p:blipFill>
        <p:spPr>
          <a:xfrm>
            <a:off x="1092240" y="349200"/>
            <a:ext cx="5294160" cy="3462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http://wek.com.ua/img/ar/330_1714.jpg"/>
          <p:cNvPicPr/>
          <p:nvPr/>
        </p:nvPicPr>
        <p:blipFill>
          <a:blip r:embed="rId2"/>
          <a:stretch/>
        </p:blipFill>
        <p:spPr>
          <a:xfrm>
            <a:off x="6386400" y="2774880"/>
            <a:ext cx="49309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37400" y="5105520"/>
            <a:ext cx="3865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иктор Берковски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84280" y="231840"/>
            <a:ext cx="5664240" cy="63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 algn="ctr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звращаясь к композиторам, свою руку в написании музыки в 1977 году приложил даже 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Микаэл Таривердиев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сочинив цикл песен на стихи Светлова. Но самой известной и знаменитой всё-таки стала мелодия, написанная ранее в 1959 году бардом 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иктором Берковским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впервые прозвучавшая на радио в 1965 году. Именно эту 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"Гренаду"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и полюбила всем сердцем стран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0" name="Picture 2" descr="http://s013.radikal.ru/i323/1108/9b/b68e669f5ddd.jpg"/>
          <p:cNvPicPr/>
          <p:nvPr/>
        </p:nvPicPr>
        <p:blipFill>
          <a:blip r:embed="rId1"/>
          <a:stretch/>
        </p:blipFill>
        <p:spPr>
          <a:xfrm>
            <a:off x="8178840" y="469800"/>
            <a:ext cx="3324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7" name="Picture 2" descr="http://edu.kubannet.ru/dlrstore/00000c51-1000-4ddd-517d-3600483aebf5/objects/_tipy_geogr_00001026/2-3-polit-karta.png"/>
          <p:cNvPicPr/>
          <p:nvPr/>
        </p:nvPicPr>
        <p:blipFill>
          <a:blip r:embed="rId1"/>
          <a:stretch/>
        </p:blipFill>
        <p:spPr>
          <a:xfrm>
            <a:off x="498600" y="103320"/>
            <a:ext cx="97660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9" name="Объект 4" descr=""/>
          <p:cNvPicPr/>
          <p:nvPr/>
        </p:nvPicPr>
        <p:blipFill>
          <a:blip r:embed="rId1"/>
          <a:srcRect l="33139" t="20202" r="0" b="0"/>
          <a:stretch/>
        </p:blipFill>
        <p:spPr>
          <a:xfrm>
            <a:off x="1095480" y="223920"/>
            <a:ext cx="988524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Гренад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1" name="Рисунок 1" descr=""/>
          <p:cNvPicPr/>
          <p:nvPr/>
        </p:nvPicPr>
        <p:blipFill>
          <a:blip r:embed="rId1"/>
          <a:stretch/>
        </p:blipFill>
        <p:spPr>
          <a:xfrm>
            <a:off x="3397320" y="2438280"/>
            <a:ext cx="6192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Гренада, Гренада, Гренада моя…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5" name="Picture 2" descr="http://www.stihi.ru/pics/2010/04/26/8936.jpg"/>
          <p:cNvPicPr/>
          <p:nvPr/>
        </p:nvPicPr>
        <p:blipFill>
          <a:blip r:embed="rId1"/>
          <a:stretch/>
        </p:blipFill>
        <p:spPr>
          <a:xfrm>
            <a:off x="1193760" y="2019240"/>
            <a:ext cx="3030480" cy="43513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3"/>
          <p:cNvSpPr/>
          <p:nvPr/>
        </p:nvSpPr>
        <p:spPr>
          <a:xfrm>
            <a:off x="4619520" y="363600"/>
            <a:ext cx="6970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ихаил Аркадьевич Шейнкман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(такова настоящая фамилия поэта) родился 4 (17-го по новому стилю) июня 1903 года в небогатой, как это ни странно, еврейской семье в городе Екатеринославе, носящего ныне имя Днепропетровск. С детства увлёкшись поэзией, Михаил Светлов на протяжении всей своей жизни остался верен юношескому выбор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8080" y="437760"/>
            <a:ext cx="10515600" cy="57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Михаил Светлов проделав путь от стихоплётчика, когда были напечатаны его первые вирши в 1917 году, в дальнейшем он побывал в должности главного редактора журнала «Юный пролетарий», отслужил в 1-м Екатеринославском полку в Гражданскую войну, а в 1923 году с друзьями переехал в Москву, где окончил рабфак, университет и Высший литературно-художественный институт имени Брюсова. В то время вышли первые книги молодого поэт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484280" y="425520"/>
            <a:ext cx="4788000" cy="628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сательно своего популярного творения, «стихотворения-маршала» 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"Гренада"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сам Михаил Аркадьевич вспоминал так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"В двадцать шестом году я проходил однажды днём по Тверской мимо кино «Арс» (там теперь помещается театр имени Станиславского). В глубине двора я увидел вывеску: «Гостиница „Гренада“. И у меня появилась шальная мысль — дай-ка я напишу какую-нибудь серенаду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Но в трамвае по дороге домой я пожалел истратить такое редкое слово на пустяки. Подходя к дому, я начал напевать: „Гренада, Гренада...“ Кто может так напевать? Не испанец же? Это было бы слишком примитивно. Тогда кто же? Когда я открыл дверь, я уже знал, кто так будет петь. Да, конечно же, мой родной украинский хлопец. Стихотворение было уже фактически готово, его оставалось только написать, что я и сдела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9" name="Picture 2" descr="http://img-fotki.yandex.ru/get/5314/38377844.8a/0_820b3_e5742a1f_orig.jpg"/>
          <p:cNvPicPr/>
          <p:nvPr/>
        </p:nvPicPr>
        <p:blipFill>
          <a:blip r:embed="rId1"/>
          <a:stretch/>
        </p:blipFill>
        <p:spPr>
          <a:xfrm>
            <a:off x="6676920" y="1455840"/>
            <a:ext cx="54244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484280" y="90360"/>
            <a:ext cx="10018800" cy="570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осле многих лет, исследуя своё тогдашнее состояние, я понимаю, что во мне накопилось к тому времени большое чувство интернационализма. Я по-боевому общался и с русскими, и с китайцами, и с латышами, и с людьми других национальностей. Нас объединило участие в гражданской войне. Надо было только включить первую скорость, и мой интернационализм пришёл в движение. Значит, главная гарантия успеха твоего будущего сочинения — это накопление чувств и, значит, твоего отношения к действитель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7:42:56Z</dcterms:created>
  <dc:creator>Марина Кургина</dc:creator>
  <dc:description/>
  <dc:language>en-US</dc:language>
  <cp:lastModifiedBy>Марина Кургина</cp:lastModifiedBy>
  <dcterms:modified xsi:type="dcterms:W3CDTF">2013-02-06T11:08:20Z</dcterms:modified>
  <cp:revision>9</cp:revision>
  <dc:subject/>
  <dc:title>Презентация PowerPoint</dc:title>
</cp:coreProperties>
</file>