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D2F-B2D7-4212-A58B-01B9A5C1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DD8-6332-49CC-A0F0-FC608A6D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45F-7206-41BD-98A0-AA8CC23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180-4EDD-436B-9F03-6CAFFD37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EAF-F98C-492B-B87A-CD856931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28B-4292-46F6-848D-0D392EDB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159-6237-4D64-A85C-E40AAA97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048-B0E6-4B5D-9FC2-29D2C5D8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D50-4E70-4A0C-87F6-F991A6E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B51-F05E-4AA1-8EB0-EC12328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BB0-3873-46E8-B076-89CA274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66C-3541-4B4E-AA52-F40C29F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066B-4F41-444F-A9E4-C5B83412F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ляз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а родная 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4653000"/>
            <a:ext cx="2881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гафонов Е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стин Ив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ащиеся 6 «Г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БОУ СОШ №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е сведения о ре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язь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река в России. Протекает по территории Московской, Владимирской, Ивановской и Нижегородской областей. Берет свое начало на Клинско - Дмитреевской возвышенности и является притоком 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реки 686 км, площадь бассейна 42 500 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лязьме расположены такие города как: Владимир, Ковров, Вязники, Гороховец. Притоки: Судогда, Поля, Уча, Шерна, Теза, Лух. Питание реки смеш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248000" cy="43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2920" y="6093000"/>
            <a:ext cx="4038840" cy="7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язьма протекает через многие города, считая и наш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город Владими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334280" cy="4485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язьма – равнинная р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шрут проходит по Московской,Владимирской и Нижегородской областям. Клязьма (длина 674км) берет начало на Клинско-Дмитровской возвышенности и впадает в Оку слева в 85 км от Нижнего Новгорода. Река местами сильно петляет, течет среди холмистых берегов, которые постепенно повышаются к устью. Берега почти всюду лесистые, за исключением района гор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00720" y="1600200"/>
            <a:ext cx="431928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6453000"/>
            <a:ext cx="4038480" cy="9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реку Клязьма проходит множество мостов. Здесь мы     видим Владимирс - кий м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язьма на карти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21080" cy="33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художники изображали Клязьму на своих картинах. Например Василий Пол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бы в Клязь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400824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211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3280" y="3938760"/>
            <a:ext cx="4032360" cy="218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76720" y="321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Ёр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805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877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рл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852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ения Клязь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3938760"/>
            <a:ext cx="403236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3280" y="3938760"/>
            <a:ext cx="403236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03:56Z</dcterms:created>
  <dc:creator>User</dc:creator>
  <dc:description/>
  <dc:language>en-US</dc:language>
  <cp:lastModifiedBy>User</cp:lastModifiedBy>
  <dcterms:modified xsi:type="dcterms:W3CDTF">2012-02-28T05:56:27Z</dcterms:modified>
  <cp:revision>10</cp:revision>
  <dc:subject/>
  <dc:title>Клязьма</dc:title>
</cp:coreProperties>
</file>