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634-905C-43AE-8376-7AB6ACAD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814-B942-44C9-86F8-16351E1C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C43-8720-42F7-A4F5-4464363B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0CB-379A-4938-A207-8A2619DB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2D4-9B1E-4CDC-9F55-B68542F1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099A-E92D-4295-8BE3-EA9499EE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38F-9DC0-4CEC-9966-3D01A8F4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E5A-84A8-4F33-99B0-D55ADE81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A57-502A-4A5A-9ABC-38DC26ED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75D-383D-49C0-9723-F36603C8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237-EA97-4D25-9DA2-BF628D98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D8E-7FDE-437D-996F-EE67E0A7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94C5-6D9B-49A5-8EE9-003D3AE58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лязь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57336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ша родная р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4653000"/>
            <a:ext cx="28810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гафонов Ег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стин Ив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ащиеся 6 «Г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БОУ СОШ №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щие сведения о ре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язь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- река в России. Протекает по территории Московской, Владимирской, Ивановской и Нижегородской областей. Берет свое начало на Клинско - Дмитреевской возвышенности и является притоком 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реки 686 км, площадь бассейна 42 500 кв.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Клязьме расположены такие города как: Владимир, Ковров, Вязники, Гороховец. Притоки: Судогда, Поля, Уча, Шерна, Теза, Лух. Питание реки смеша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248000" cy="439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2920" y="6093000"/>
            <a:ext cx="4038840" cy="7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язьма протекает через многие города, считая и наш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город Владими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334280" cy="4485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язьма – равнинная р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шрут проходит по Московской,Владимирской и Нижегородской областям. Клязьма (длина 674км) берет начало на Клинско-Дмитровской возвышенности и впадает в Оку слева в 85 км от Нижнего Новгорода. Река местами сильно петляет, течет среди холмистых берегов, которые постепенно повышаются к устью. Берега почти всюду лесистые, за исключением района горо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00720" y="1600200"/>
            <a:ext cx="4319280" cy="4421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59280" y="6453000"/>
            <a:ext cx="4038480" cy="98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ез реку Клязьма проходит множество мостов. Здесь мы     видим Владимирс - кий м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язьма на картин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321080" cy="3384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4105440" cy="3381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51573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ие художники изображали Клязьму на своих картинах. Например Василий Поле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ыбы в Клязь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038480" cy="2087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4008240" cy="2187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4032360" cy="2116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643280" y="3938760"/>
            <a:ext cx="4032360" cy="2187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076720" y="3213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Ёр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5805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877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ерля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852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тения Клязь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4038480" cy="216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032360" cy="218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8360" y="3938760"/>
            <a:ext cx="4032360" cy="2187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643280" y="3938760"/>
            <a:ext cx="4032360" cy="2187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4:03:56Z</dcterms:created>
  <dc:creator>User</dc:creator>
  <dc:description/>
  <dc:language>en-US</dc:language>
  <cp:lastModifiedBy>User</cp:lastModifiedBy>
  <dcterms:modified xsi:type="dcterms:W3CDTF">2012-02-28T05:56:27Z</dcterms:modified>
  <cp:revision>10</cp:revision>
  <dc:subject/>
  <dc:title>Клязьма</dc:title>
</cp:coreProperties>
</file>