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40B-CAEC-4090-8266-EBF9C97B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D63-7792-4B19-A919-AE3B6E5A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2F8-2988-4559-B900-3C2678B9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10A-17B1-465E-9DE7-F2E807E9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C0B-4790-4ED6-B7EC-E8E40313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3B7-201D-4515-8D3C-84D1AB20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108-BF47-4D05-8451-B055B332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1DC-596F-4CD2-9FE7-4A5159F0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99C-7601-4EA1-9875-53CCBDD7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A55-43F0-4A8D-804F-CF7B26B4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CDB-2993-4D8E-A411-89829D15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171-806F-4109-BB06-812DC4D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190F-E48B-45C8-9CB9-8533DBCDE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5643720"/>
          </a:xfrm>
          <a:prstGeom prst="rect">
            <a:avLst/>
          </a:prstGeom>
          <a:solidFill>
            <a:srgbClr val="b9e1e5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Строение и работа сердца.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руги кровообращения</a:t>
            </a:r>
            <a:r>
              <a:rPr b="1" lang="en-US" sz="3600" spc="-1" strike="noStrike">
                <a:solidFill>
                  <a:srgbClr val="e23a1e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Овал 1"/>
          <p:cNvSpPr/>
          <p:nvPr/>
        </p:nvSpPr>
        <p:spPr>
          <a:xfrm>
            <a:off x="3059280" y="3500280"/>
            <a:ext cx="2500200" cy="242892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3276720" y="1916280"/>
            <a:ext cx="1942920" cy="857160"/>
          </a:xfrm>
          <a:prstGeom prst="rect">
            <a:avLst/>
          </a:prstGeom>
          <a:solidFill>
            <a:srgbClr val="a0f31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Дуга 5"/>
          <p:cNvSpPr/>
          <p:nvPr/>
        </p:nvSpPr>
        <p:spPr>
          <a:xfrm>
            <a:off x="3924360" y="2565360"/>
            <a:ext cx="2571840" cy="24494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Дуга 6"/>
          <p:cNvSpPr/>
          <p:nvPr/>
        </p:nvSpPr>
        <p:spPr>
          <a:xfrm flipH="1" rot="21359400">
            <a:off x="1906920" y="2421000"/>
            <a:ext cx="2430720" cy="2357280"/>
          </a:xfrm>
          <a:prstGeom prst="pie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7236000" y="335772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>
            <a:off x="7236000" y="429264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804000" y="350028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877080" y="429264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611280" y="2276640"/>
            <a:ext cx="18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5580000" y="2276640"/>
            <a:ext cx="187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3348000" y="198900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2124000" y="37162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4932360" y="350028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1"/>
          <p:cNvSpPr/>
          <p:nvPr/>
        </p:nvSpPr>
        <p:spPr>
          <a:xfrm>
            <a:off x="3564000" y="51577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авните свою работу с отве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Овал 1"/>
          <p:cNvSpPr/>
          <p:nvPr/>
        </p:nvSpPr>
        <p:spPr>
          <a:xfrm>
            <a:off x="1403280" y="3141720"/>
            <a:ext cx="2500560" cy="192888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835280" y="1628640"/>
            <a:ext cx="1944720" cy="857520"/>
          </a:xfrm>
          <a:prstGeom prst="rect">
            <a:avLst/>
          </a:prstGeom>
          <a:solidFill>
            <a:srgbClr val="a0f31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1763640" y="5373720"/>
            <a:ext cx="2016360" cy="792000"/>
          </a:xfrm>
          <a:prstGeom prst="rect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Дуга 4"/>
          <p:cNvSpPr/>
          <p:nvPr/>
        </p:nvSpPr>
        <p:spPr>
          <a:xfrm>
            <a:off x="6012000" y="2708280"/>
            <a:ext cx="2643120" cy="25718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Дуга 5"/>
          <p:cNvSpPr/>
          <p:nvPr/>
        </p:nvSpPr>
        <p:spPr>
          <a:xfrm>
            <a:off x="6084720" y="1916280"/>
            <a:ext cx="2571840" cy="20714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Дуга 6"/>
          <p:cNvSpPr/>
          <p:nvPr/>
        </p:nvSpPr>
        <p:spPr>
          <a:xfrm flipH="1">
            <a:off x="6947640" y="2205000"/>
            <a:ext cx="2357640" cy="2071800"/>
          </a:xfrm>
          <a:prstGeom prst="pie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уга 7"/>
          <p:cNvSpPr/>
          <p:nvPr/>
        </p:nvSpPr>
        <p:spPr>
          <a:xfrm flipH="1">
            <a:off x="6227640" y="2205000"/>
            <a:ext cx="2500560" cy="2571840"/>
          </a:xfrm>
          <a:prstGeom prst="pie">
            <a:avLst/>
          </a:prstGeom>
          <a:noFill/>
          <a:ln w="7632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9"/>
          <p:cNvSpPr/>
          <p:nvPr/>
        </p:nvSpPr>
        <p:spPr>
          <a:xfrm>
            <a:off x="7215120" y="257184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ая соединительная линия 10"/>
          <p:cNvSpPr/>
          <p:nvPr/>
        </p:nvSpPr>
        <p:spPr>
          <a:xfrm>
            <a:off x="7215120" y="357192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572160" y="271476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6858000" y="37861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468360" y="2492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3276720" y="2492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468360" y="486900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3564000" y="486900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1835280" y="170028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1835280" y="544500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положите круги, согласно закономерностям движения крови по кровеносным сосуд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3000240" y="2071800"/>
            <a:ext cx="2500560" cy="192888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357720" y="500040"/>
            <a:ext cx="2077920" cy="857160"/>
          </a:xfrm>
          <a:prstGeom prst="rect">
            <a:avLst/>
          </a:prstGeom>
          <a:solidFill>
            <a:srgbClr val="a0f31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276720" y="5229360"/>
            <a:ext cx="2079360" cy="1000080"/>
          </a:xfrm>
          <a:prstGeom prst="rect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Дуга 4"/>
          <p:cNvSpPr/>
          <p:nvPr/>
        </p:nvSpPr>
        <p:spPr>
          <a:xfrm>
            <a:off x="4071960" y="3143160"/>
            <a:ext cx="2643120" cy="25718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Дуга 5"/>
          <p:cNvSpPr/>
          <p:nvPr/>
        </p:nvSpPr>
        <p:spPr>
          <a:xfrm rot="544200">
            <a:off x="3995280" y="692280"/>
            <a:ext cx="2571840" cy="20714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Дуга 6"/>
          <p:cNvSpPr/>
          <p:nvPr/>
        </p:nvSpPr>
        <p:spPr>
          <a:xfrm flipH="1">
            <a:off x="1999440" y="714240"/>
            <a:ext cx="2357640" cy="2071800"/>
          </a:xfrm>
          <a:prstGeom prst="pie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Дуга 7"/>
          <p:cNvSpPr/>
          <p:nvPr/>
        </p:nvSpPr>
        <p:spPr>
          <a:xfrm flipH="1" rot="191400">
            <a:off x="1546560" y="3142800"/>
            <a:ext cx="2738520" cy="2571840"/>
          </a:xfrm>
          <a:prstGeom prst="pie">
            <a:avLst/>
          </a:prstGeom>
          <a:noFill/>
          <a:ln w="7632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9"/>
          <p:cNvSpPr/>
          <p:nvPr/>
        </p:nvSpPr>
        <p:spPr>
          <a:xfrm>
            <a:off x="7215120" y="257184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10"/>
          <p:cNvSpPr/>
          <p:nvPr/>
        </p:nvSpPr>
        <p:spPr>
          <a:xfrm>
            <a:off x="7215120" y="357192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572160" y="271476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6858000" y="37861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050920" y="1341360"/>
            <a:ext cx="18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4788000" y="1341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76364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5076720" y="4292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3348000" y="549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8"/>
          <p:cNvSpPr/>
          <p:nvPr/>
        </p:nvSpPr>
        <p:spPr>
          <a:xfrm>
            <a:off x="334800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пишите недостающие слова в пред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52560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3a1e"/>
                </a:solidFill>
                <a:latin typeface="Times New Roman"/>
              </a:rPr>
              <a:t>Большо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о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инается из левого _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овь выбрасывается в самую крупную артерию ____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артерии течет _____ кров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____ происходит газообме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 кровь  становится _____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_____ возвращается к серд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попадает в правое _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заканчивается _____ к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овообра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52560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3a1e"/>
                </a:solidFill>
                <a:latin typeface="Times New Roman"/>
              </a:rPr>
              <a:t>Малы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ы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инается в правом 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легочным ____  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ижется к легким. В 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исходит _____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озная кровь станови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 кровью. По легочным 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а движется к сердцу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упает в ______ предсердие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заканчивается ____ к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овообра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равните свою работу с ответ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45396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3a1e"/>
                </a:solidFill>
                <a:latin typeface="Times New Roman"/>
              </a:rPr>
              <a:t>Большо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988640"/>
            <a:ext cx="417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льшой круг кровообр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чинается из левого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желудоч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овь выбрасывается в саму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упную артерию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орт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артерии течет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ртериаль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овь. В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капиллярах орга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исходит газообм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ртериальн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ровь  станов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венозно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по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ве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вращается к сердцу и попадает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авое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предсерд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Т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канчивается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больш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р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овообращ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45396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3a1e"/>
                </a:solidFill>
                <a:latin typeface="Times New Roman"/>
              </a:rPr>
              <a:t>Малый круг кровообращ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4720" y="1988640"/>
            <a:ext cx="4041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лый круг кровообра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чинается в правом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желудочк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легочным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ртерия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кров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ижется к легким. В легк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исходит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газообме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нозная кровь станов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артериальн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ровью. П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егочным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ве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на движется к сердцу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ступает в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ле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редсерди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к заканчивается </a:t>
            </a:r>
            <a:r>
              <a:rPr b="1" lang="en-US" sz="1800" spc="-1" strike="noStrike">
                <a:solidFill>
                  <a:srgbClr val="e23a1e"/>
                </a:solidFill>
                <a:latin typeface="Times New Roman"/>
              </a:rPr>
              <a:t>малы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ру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овообращ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СТАНОВИТЕ  СООТВЕТСТВИЕ    между органами  и находимой в ней кров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ор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равните свою работу с отве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вое предсерд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ый желудо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вый желудо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гочная арт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те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ор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гочная в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Установите соответствие между понятиями и функци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9e1e5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йкоц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омбоц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тите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гоцит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ритроц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e6e0e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А)  </a:t>
            </a: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Введение лечебной сыворо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Б)  Перенос кисло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В)  Защита орган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Г)  Уничтожение микроб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Times New Roman"/>
              </a:rPr>
              <a:t>Д)  Свертывание кр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34160" cy="208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285840" y="4365720"/>
          <a:ext cx="8501040" cy="1349280"/>
        </p:xfrm>
        <a:graphic>
          <a:graphicData uri="http://schemas.openxmlformats.org/drawingml/2006/table">
            <a:tbl>
              <a:tblPr/>
              <a:tblGrid>
                <a:gridCol w="2857320"/>
                <a:gridCol w="2500560"/>
                <a:gridCol w="3143160"/>
              </a:tblGrid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кажите каждому понятию соответствующие призна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2" descr=""/>
          <p:cNvPicPr/>
          <p:nvPr/>
        </p:nvPicPr>
        <p:blipFill>
          <a:blip r:embed="rId1"/>
          <a:stretch/>
        </p:blipFill>
        <p:spPr>
          <a:xfrm>
            <a:off x="341280" y="281160"/>
            <a:ext cx="8534520" cy="208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285840" y="2500200"/>
          <a:ext cx="8501040" cy="3214800"/>
        </p:xfrm>
        <a:graphic>
          <a:graphicData uri="http://schemas.openxmlformats.org/drawingml/2006/table">
            <a:tbl>
              <a:tblPr/>
              <a:tblGrid>
                <a:gridCol w="2857320"/>
                <a:gridCol w="2500560"/>
                <a:gridCol w="3143160"/>
              </a:tblGrid>
              <a:tr h="32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х камер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предсердия (левое и право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желудочка (левое и право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паны (створчатые и полулунны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около 300 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ер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лля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кнут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руга кровообраще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ой кр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ый круг</a:t>
                      </a: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Овал 1"/>
          <p:cNvSpPr/>
          <p:nvPr/>
        </p:nvSpPr>
        <p:spPr>
          <a:xfrm>
            <a:off x="3214800" y="2286000"/>
            <a:ext cx="2214360" cy="1857240"/>
          </a:xfrm>
          <a:prstGeom prst="ellipse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3"/>
          <p:cNvCxnSpPr/>
          <p:nvPr/>
        </p:nvCxnSpPr>
        <p:spPr>
          <a:xfrm>
            <a:off x="1142640" y="3214800"/>
            <a:ext cx="2072520" cy="21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4"/>
          <p:cNvCxnSpPr/>
          <p:nvPr/>
        </p:nvCxnSpPr>
        <p:spPr>
          <a:xfrm>
            <a:off x="5428800" y="3057480"/>
            <a:ext cx="2001240" cy="151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3" name="TextBox 14"/>
          <p:cNvSpPr/>
          <p:nvPr/>
        </p:nvSpPr>
        <p:spPr>
          <a:xfrm>
            <a:off x="1116000" y="5661000"/>
            <a:ext cx="15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900000" y="5157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тавьте предложенные понятия в сх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Овал 1"/>
          <p:cNvSpPr/>
          <p:nvPr/>
        </p:nvSpPr>
        <p:spPr>
          <a:xfrm>
            <a:off x="3214800" y="2286000"/>
            <a:ext cx="2214360" cy="1857240"/>
          </a:xfrm>
          <a:prstGeom prst="ellipse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3"/>
          <p:cNvCxnSpPr/>
          <p:nvPr/>
        </p:nvCxnSpPr>
        <p:spPr>
          <a:xfrm>
            <a:off x="1142640" y="3214800"/>
            <a:ext cx="2072520" cy="21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4"/>
          <p:cNvCxnSpPr/>
          <p:nvPr/>
        </p:nvCxnSpPr>
        <p:spPr>
          <a:xfrm>
            <a:off x="5428800" y="3057480"/>
            <a:ext cx="2001240" cy="151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TextBox 14"/>
          <p:cNvSpPr/>
          <p:nvPr/>
        </p:nvSpPr>
        <p:spPr>
          <a:xfrm>
            <a:off x="5580000" y="3141720"/>
            <a:ext cx="15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И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258920" y="3357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ьте свои работы с ответом и объясните предложенную сх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вал 1"/>
          <p:cNvSpPr/>
          <p:nvPr/>
        </p:nvSpPr>
        <p:spPr>
          <a:xfrm>
            <a:off x="1619280" y="1341360"/>
            <a:ext cx="2500200" cy="235764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763640" y="5229360"/>
            <a:ext cx="2160720" cy="1000080"/>
          </a:xfrm>
          <a:prstGeom prst="rect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уга 4"/>
          <p:cNvSpPr/>
          <p:nvPr/>
        </p:nvSpPr>
        <p:spPr>
          <a:xfrm rot="10800000">
            <a:off x="5580000" y="2420280"/>
            <a:ext cx="2928960" cy="28796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Дуга 7"/>
          <p:cNvSpPr/>
          <p:nvPr/>
        </p:nvSpPr>
        <p:spPr>
          <a:xfrm flipH="1" rot="191400">
            <a:off x="5363280" y="1700280"/>
            <a:ext cx="3170520" cy="3168720"/>
          </a:xfrm>
          <a:prstGeom prst="pie">
            <a:avLst/>
          </a:prstGeom>
          <a:noFill/>
          <a:ln w="7632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9"/>
          <p:cNvSpPr/>
          <p:nvPr/>
        </p:nvSpPr>
        <p:spPr>
          <a:xfrm>
            <a:off x="7093080" y="1844640"/>
            <a:ext cx="114300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7093080" y="2565360"/>
            <a:ext cx="11430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6588000" y="19890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6732720" y="278136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755640" y="422100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3780000" y="414972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183528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780000" y="25653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755640" y="170028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050920" y="292428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положите круги, согласно закономерностям движения крови по кровеносным сосуд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Овал 1"/>
          <p:cNvSpPr/>
          <p:nvPr/>
        </p:nvSpPr>
        <p:spPr>
          <a:xfrm>
            <a:off x="2928960" y="1143000"/>
            <a:ext cx="2500200" cy="235728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3203640" y="5229360"/>
            <a:ext cx="2087640" cy="1000080"/>
          </a:xfrm>
          <a:prstGeom prst="rect">
            <a:avLst/>
          </a:prstGeom>
          <a:solidFill>
            <a:srgbClr val="1cf0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уга 4"/>
          <p:cNvSpPr/>
          <p:nvPr/>
        </p:nvSpPr>
        <p:spPr>
          <a:xfrm>
            <a:off x="3924360" y="2421000"/>
            <a:ext cx="3168720" cy="34592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Дуга 7"/>
          <p:cNvSpPr/>
          <p:nvPr/>
        </p:nvSpPr>
        <p:spPr>
          <a:xfrm flipH="1" rot="566400">
            <a:off x="755640" y="1628640"/>
            <a:ext cx="3805200" cy="3888000"/>
          </a:xfrm>
          <a:prstGeom prst="pie">
            <a:avLst/>
          </a:prstGeom>
          <a:noFill/>
          <a:ln w="7632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9"/>
          <p:cNvSpPr/>
          <p:nvPr/>
        </p:nvSpPr>
        <p:spPr>
          <a:xfrm>
            <a:off x="7215120" y="257184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10"/>
          <p:cNvSpPr/>
          <p:nvPr/>
        </p:nvSpPr>
        <p:spPr>
          <a:xfrm>
            <a:off x="7215120" y="357192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6877080" y="271476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6786720" y="37861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071720" y="42148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508720" y="422100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334800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5219640" y="256536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1692360" y="177336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3419640" y="27082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авните свою работу с отве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Овал 1"/>
          <p:cNvSpPr/>
          <p:nvPr/>
        </p:nvSpPr>
        <p:spPr>
          <a:xfrm>
            <a:off x="1619280" y="3933720"/>
            <a:ext cx="2500200" cy="2428920"/>
          </a:xfrm>
          <a:prstGeom prst="ellipse">
            <a:avLst/>
          </a:prstGeom>
          <a:solidFill>
            <a:srgbClr val="d933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1835280" y="2349360"/>
            <a:ext cx="2016000" cy="857520"/>
          </a:xfrm>
          <a:prstGeom prst="rect">
            <a:avLst/>
          </a:prstGeom>
          <a:solidFill>
            <a:srgbClr val="a0f31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Дуга 5"/>
          <p:cNvSpPr/>
          <p:nvPr/>
        </p:nvSpPr>
        <p:spPr>
          <a:xfrm>
            <a:off x="6300720" y="3284640"/>
            <a:ext cx="2571840" cy="228600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уга 6"/>
          <p:cNvSpPr/>
          <p:nvPr/>
        </p:nvSpPr>
        <p:spPr>
          <a:xfrm flipH="1" rot="10069800">
            <a:off x="6587280" y="2349360"/>
            <a:ext cx="2357640" cy="2357280"/>
          </a:xfrm>
          <a:prstGeom prst="pie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9"/>
          <p:cNvSpPr/>
          <p:nvPr/>
        </p:nvSpPr>
        <p:spPr>
          <a:xfrm>
            <a:off x="7215120" y="2571840"/>
            <a:ext cx="11430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0"/>
          <p:cNvSpPr/>
          <p:nvPr/>
        </p:nvSpPr>
        <p:spPr>
          <a:xfrm>
            <a:off x="7215120" y="357192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6572160" y="271476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Венозная кровь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6858000" y="37861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ртериальная кр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68360" y="3213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АРТ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564000" y="321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ОЧНАЯ 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1835280" y="2349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ПИЛЛЯ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ГК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468360" y="515772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авый желудоч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3924360" y="4076640"/>
            <a:ext cx="15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вое предсерд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2124000" y="55166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положите круги, согласно закономерностям движения крови по кровеносным сосуд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6:30:23Z</dcterms:created>
  <dc:creator>User</dc:creator>
  <dc:description/>
  <dc:language>en-US</dc:language>
  <cp:lastModifiedBy>SEC</cp:lastModifiedBy>
  <dcterms:modified xsi:type="dcterms:W3CDTF">2013-02-06T18:39:25Z</dcterms:modified>
  <cp:revision>11</cp:revision>
  <dc:subject/>
  <dc:title>Слайд 1</dc:title>
</cp:coreProperties>
</file>